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dt" idx="6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ftr" idx="6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 type="sldNum" idx="6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DFF71-661F-495C-9B9E-2978873CBC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CC160C-764F-479D-9345-FE44EB3E1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3100-CCA9-4F1E-88C3-94931A93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44B5-287D-40CF-917A-6657644A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A15881-915E-4825-8BFB-3CC38D53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0FC33A-8449-4F2C-B72A-210B9A8D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469677-C66F-42E7-8153-BEE77712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02F096-79E4-4FA8-A15F-2DB4C48C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7F9AA2-B605-42B5-B9AF-00DBE2A7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0D5CAF-2F72-4E24-AD0D-FBFB20BF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7B2673-54E7-4A92-9866-8222C623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64B358-C8FD-4298-96E2-1D5E06D3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E82870-A188-4E3E-BB8D-70201C0C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87AF5F-65F8-4D16-8ADD-7DF3D51E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76B2-5093-4AC3-85B2-790375B4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D4DD79-3752-4734-8EDC-18C5C6E5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B389A7-08B7-438E-99CE-7EA5B108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34D65E-9AAC-4515-AFC1-AC9F9797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A859F4-09A4-4BFF-B78C-EF913494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D3034E-4E41-426B-8581-993A2AE7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F045C5-F51A-43CB-AF4A-53BCDC89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BC4B6A-1A9E-4511-8D09-734CFF7F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DA5607-12F3-4AF4-AF14-85D4D242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BBD03A-2421-44AF-9155-57ED3C88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7D60C0-FA38-4D1F-B2C3-9D75B664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4BAA-4E89-416D-B0AC-D1961C67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E62B90-1EA5-4EEF-B029-A45E9002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A9A33D-54A9-4697-A191-2EC505DC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A7581E-7565-4B7A-B1DA-1CF72C6F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E5EB7A-7B12-44E4-87FE-8987A49F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A15986-75B3-4384-A129-856CE25A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848D36-5567-436B-8660-503383BE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ED47B3-0E94-46ED-9B3B-AFAAB2A2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655342-B981-4B4C-97A5-4E1B060E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B78718-3D57-4DEE-A3DA-16BF89D4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32C14D-903A-47C8-BE43-91669978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8858-1602-4291-A6AE-020D0C3D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2D72EB-F87D-4AB2-9C31-92ACA3EE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58AC53-9E58-40A8-A5E8-66A01614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1BA110-938B-42BC-BDF8-9CA4956C8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1A8E42-F086-4704-BDCB-9E62FFC0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6F65EA-2CD4-4B5C-B97A-E0E8D75D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ADAD0D-35BA-4390-A56D-BCECFEFD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9D1356-F3D4-4E53-8E0E-37D3D194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16CEE6-58A0-47D7-BFA3-548FE694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E94A48-656A-4284-90B6-7EBD6EE2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EAFC26-1647-40CE-B781-7068747F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D8E3-F48E-4892-9D13-826D7770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2F253B-2A8D-409C-ACE7-00FB5C4A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BB5283-977E-4D8F-BC37-9C4FB0E8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EE8AB1-959F-4EA6-A83C-99ECDE9C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985F75-2396-460B-8193-320C62E1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24F800-5200-4385-8655-785EF763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4770-270C-4C14-AE91-9830B301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FB79-633F-4473-A22C-24D1EBC8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08EC-EC06-47A8-8CC4-7472B304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B799-B3CB-46F0-BB3B-5AD69D49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723F-2E2A-4AF9-8F08-28D8C236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A81FB4-7E6E-457C-81A6-368A9414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678D1A-9F45-48E7-BAE5-8020CC4E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F766C-7309-476A-8331-12B867DD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D8F60C-E027-4882-9212-A7C6CBE4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FE7584-979E-45D3-8CD1-08C995C9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9D3145-B418-463E-8E3C-AFC3B868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B5F711-0EEB-45CF-B4A9-FA4340C8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CB3D-72CF-402B-A862-7FA2FDC3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54D1-B62A-4A22-BD2D-BF8298C8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6B5B49-F9E4-4061-BCEF-B6477E71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B4F2A5-E279-4691-9E28-6C3932DD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4310B4-D0BE-4AFE-B9BA-E24DD5AC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EC4CE5-409C-4514-975F-A679E9C3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24BB74-60D1-4C7D-8779-BA4DAC6C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E9AD184-0943-40FD-8B87-BCEC23BA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392899D-CAC4-4D67-837C-FEA0A070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7005184-4D54-470F-B02D-4EFBB17E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22018C6-918F-410F-B2CB-4EA7CD64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60044B9-8779-488A-BC1F-51474F60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2F58-60C4-4729-BB8B-1DF73811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5785C6-F3D3-4B3B-B724-D22D4391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7A1E6B-D1CA-41DF-BCF1-5597AD1F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1E9F11B-1E2C-45B7-838E-EAE590E9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F565DD0-6161-41FB-88A5-4F23F87A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613B907-75A3-4784-86ED-54935805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8F568D9-DD10-4F22-A266-54788A90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A829CC-FCFD-4A4E-9A86-64658C62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336B996-C706-4DA4-A089-4671D924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17A467-CCF1-42D4-AE17-35582623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BE1256F-6506-416A-AD8E-8B1B2773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30EC-309F-4684-AEDC-36AEEEB3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B783FC1-6E87-4630-BAB5-932626A1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4DEABE7-AF98-43D1-964C-54D1DE6B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55A9788-06AB-4C20-81ED-938A561D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277C2F5-8CC7-4A5E-8617-4B58590A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13FA06D-9EF8-46B9-9F50-578384BC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3BB4CA2-0D83-4210-87DD-31B1DA3C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6343FE0-19BA-43E7-B6DC-0BEE32AC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B6B3E66-6E14-4AA1-B576-20319D86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C9E4522-C169-4E51-9C1C-925C5C89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981300F-D572-49CC-96E5-DDAA4749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B483-7DE3-4642-89E9-96DE698D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D1AC314-4C35-4760-AFAC-ADB94CD8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BB2BC6C-5C75-4A36-B50A-59325CF4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26E0F0E-DDB7-408F-B92D-68748508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2E38A8B-59D7-4A43-A8EE-FD7102CF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A0339FE-D47D-44E8-A6F3-A7689DC6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98A6A79-DAAF-41F6-BD29-36F573BC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1249379-2034-46D5-9C49-1563A6EC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43F41DE-440C-4B63-B16E-2B977815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8F7A2D2-DC41-46D0-988A-109D129F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ED79BBC-FB01-4E91-B1E0-E52F344A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319F-7CC3-42F8-8D2F-211DDA6FD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6CE2079-F476-49E0-BDFA-35D72152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D53B63-1BAF-46AF-BF1C-21310C39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C3D45F-1562-4947-9309-762ECC47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921207-6554-4FAA-BEE2-55AE8868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E89243-71C1-411E-AB98-6ACD124B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B46710-B43C-4926-A76B-784B0BB5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F26524-A527-4488-8C60-C50A0708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48953C-6E4C-4008-B8CF-C77F2DBC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035414-D0B6-47EC-9F39-6A8B3D87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8AA895-0856-464B-852F-95F790A0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B8176-CF41-4556-B36D-4D556B02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74D259-32DC-4405-AAEE-D321BB2A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C66998-C79C-4CE9-AA22-05E6A63D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140D6E-E77A-47C5-A40C-F7AAA9BC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BAA6223-8568-4EA0-B8FA-0A4B21B3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F42176F-73BC-4872-A464-FC70D44E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48436ED-1927-49C2-93CD-23922497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E6C85C6-9F7D-4BB8-821A-E7BA0780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0A03ADD-9959-487A-B98F-862412F6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BED4B9C-5468-4E23-9717-904FBA9C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655D75E-9DFF-4248-9A2C-A1749264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49157-6C5C-4E1F-97A9-EB66A0F2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DD5C723-BEAC-481A-B38F-091E3F5A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DD06DB7-A4DF-4159-A81E-5522D0AD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B8413DC-653B-4970-ABBA-B1ED0CE9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13CA6BB-521B-4C06-A7EE-059EDD9E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372B55E-887D-4CB1-9FA5-B3681805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BC677C-F41A-49FA-ABBA-84A7F526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228042-C1FD-4760-A4A2-314D5B44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4D773E-4BFA-406B-84EB-5BDD75DD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DD4A63-7CD3-43C8-8DA1-0E211E36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E4C33B-8C6D-4002-BE4D-7DA1B589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DF777-8180-4A63-9E10-68FB5EE3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32307F-CC08-42ED-9BA3-D568B6AD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022601-43BC-462C-B45D-9A7660A6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2BF8D9-0B38-40A4-A99C-DC759425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5F1CF3-980A-468B-874D-4B006771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0E0C4D-CC57-4558-87FA-13A29712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20AB69-DFDC-4BE4-A65F-8942BFB1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E6BE71-1790-42DC-84DF-C5EEE2DF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0F764-2DD4-4B80-889D-07839A32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57AD9-653F-4C86-A198-94389753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D391-6AFB-46C9-B368-AFFF8E3D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62A63-5D75-4FBD-AD6C-FFDDBBC1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62752-A84E-489D-89CA-D0B8D143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C0F02-23C9-4283-A32D-D0DCAC79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AE4A5-28EB-4530-A133-435BAC07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6D2BF-041C-4BDF-B2D4-EFB167B8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12BB0-A8B4-471D-86D5-C201082B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A9807-FF57-4AB7-BB08-EA5A21CE0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76C9-118E-4CF7-8A27-21A85FB5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20B7-9A84-42C4-9E38-53D310C8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C270-A5BE-4665-8898-82E5FEC6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20CC73-1064-4A96-BE40-30597208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61008A-8200-4FCD-AF3B-F09CC7C0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B9F563-ACC5-4FB1-A260-FB5E8512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76FEA3-55A4-4776-8A89-190D69C6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61A427-45DD-40F4-9299-4DF45071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F1A81D-8D3D-410D-BF9D-42CB6376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AFF19A-6D9A-4840-B684-C621674E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612EC9-8165-456D-A082-D1A33122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E3B263-679C-4E16-A64D-B26E12FF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B7AA-392D-408A-B3E1-EB95878F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392E68-4B85-45CB-BDF4-D96D7F1D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FEFB91-4FEF-41B3-A50D-81918A6E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3915B0-0531-41D5-9E90-5F263780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06A466-E8CE-4F3F-B7A2-4167FA45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60CB0D-75E2-45CC-9B8D-A519F123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9F694C-FD63-4C4D-99F6-A0E17399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53383C-7791-420D-AA20-C6DF3EAE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F936E5-E099-43D6-8B78-CDED0F97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56948B-5340-442A-B867-B5BFFC50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863E7B-BE7D-4CC7-A153-FAFFB21F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1152-3821-4C81-B7D5-C00092D2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2F6701-B144-426F-B6C5-B9FE3376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88CDD1-077E-439A-9A96-4869A513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12771C-2B5E-409E-9594-720A161D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48EBD9-1AEA-4BBE-B1A9-77A4721A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D4CBE8-443B-47DE-A7B0-F4873D44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2AA382-223E-4121-BE6E-991624EA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0EA152-3405-43B1-B908-E953FB46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F9D245-0286-4BDB-8729-D56EC0BB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AD9FFF-C7F7-49BF-8CC9-7E3DD58A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AF88FC-5FBE-4745-9234-91B3CC57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659A-E99C-4407-A3A0-CE651BFD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87715F-ACF0-4C83-95A3-63D867CD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D66198-D9B3-4CE2-81D1-4BD431AA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D89497-A6D7-49EE-84BA-6266B8A2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9E74EA-85B0-460A-A811-C4971847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8467E1-F6B9-4606-9B42-74F11247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E44CF6-D5FC-42B0-A2F5-D49833AF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3CB668-092B-49EB-8218-D24097E6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0AE201-EB16-426E-A52E-25FC37D3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8A9A8E-CB39-446D-A7CD-681AB3D9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6CEA5E-C6C3-4885-A891-7C3CFE7C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788061-720F-4408-9D98-ABC73F8EB69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F093A-238E-45E0-B5C1-5357ADDDE0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648F8-A884-4821-ACF7-6861028E3CA8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6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CC3152-04EC-47B9-BDDD-D2D1B4ABDB9F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49A042-FC16-493C-B239-0D6293499228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F1203-11B6-41CF-9AC3-0131139296F1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ftr" idx="2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0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32045D-E857-414A-B5CB-8B87D0FE5775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1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2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BD8377-55ED-4594-B112-03A333A2692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65A50-67CA-4289-84F8-7047EF11A672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308509-4B57-484F-8E8D-22AE10992309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12514-C69A-415D-81AF-D203FB9EA212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ftr" idx="3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8A184D-6B7F-400F-A122-1A97315A322D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ftr" idx="3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3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F99212-008F-4006-B551-29ED615131BB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3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3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FDD860-A2BA-4F9F-A000-7CA7E1D39F08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3D8173-9F3F-4680-81AA-7A0CB0C422D6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4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836820-731A-4331-BF22-7B78446495FA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ftr" idx="4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7B0FA-AB13-403D-874B-2EDD4A78A444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sldNum" idx="4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5F029-F580-417C-BB41-208A11A27E7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ftr" idx="4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67C0F-D6B4-4F92-8456-7EC4CBCE25E5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D11BD-03A8-4AE6-8994-6D95E4BE2EF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58639E-4737-43DD-9DFD-00F743B33BA9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sldNum" idx="4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65DB26-8EE5-4B8F-91C9-DA466F7691B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ftr" idx="4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A068B8-07B3-499B-9063-54DDC0680BC3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A9149B-87CC-457C-BAA7-FF1A5D6E4C53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82EDE-3C22-4AC0-A074-8AD2A14996CA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sldNum" idx="5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3118C-A263-4C74-BB0F-676234C72933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ftr" idx="5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5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005C52-A23E-4908-A49E-59CAA3B1831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5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5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640427-E7D9-4951-8DDE-C4FD8B8937F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A8734F-12C7-45A1-AE19-A7A776C7D162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ftr" idx="5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BB79AD-19E9-4B14-A05B-87E20B8C5DFF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ftr" idx="5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B957A6-0372-4639-87A1-6CFEF9FAB4E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ftr" idx="6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4B2130-5973-446A-8AEA-7779B5606A8C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ftr" idx="6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3BD7C0-1060-431B-AF9E-2CE549A343AE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317803-6ACD-4E32-BC92-E19973964D3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7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F1D41-8092-4635-A477-9469B2393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A14AD-4838-4ABE-A05B-F3FE20D3DE70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5E7673-E9EB-4E23-9C75-59C1315BBFDF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17D6C-FA7B-439C-872A-CBA39FC58586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6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B17DD-7C17-4691-9337-5D9E5F5B1579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31F3CE-C3E4-4F46-9A80-903939A3C8DD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1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C0B45-6BFE-4C3C-9DB4-D303A19A223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D31EB-69AB-4959-9ED5-0713F5E56172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2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AF3305-232A-4238-BDFC-9F74EBCBE49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Group 13"/>
          <p:cNvGrpSpPr/>
          <p:nvPr/>
        </p:nvGrpSpPr>
        <p:grpSpPr>
          <a:xfrm>
            <a:off x="787320" y="2804760"/>
            <a:ext cx="7543800" cy="2932560"/>
            <a:chOff x="787320" y="2804760"/>
            <a:chExt cx="7543800" cy="2932560"/>
          </a:xfrm>
        </p:grpSpPr>
        <p:sp>
          <p:nvSpPr>
            <p:cNvPr id="1180" name="TextBox 9"/>
            <p:cNvSpPr/>
            <p:nvPr/>
          </p:nvSpPr>
          <p:spPr>
            <a:xfrm>
              <a:off x="787320" y="3082680"/>
              <a:ext cx="7543800" cy="26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oel Firest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 RO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chnical Advisory Committee (TAC) Me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908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an 29, 2015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chedul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Last ROS meet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Jan 8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Future ROS meet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eb 5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5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an 29, 2015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Action Items (Vote)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RRGRR005: Clarify Data Necessary for Planning Model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Recommended approval (unanimous) per RDWG repor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NOGRR136: Verifying QSE Capability to Operate in CFC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Recommended approval (unanimous) per OWG repor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NOGRR140: Posting of the ERCOT Geomagnetic Disturbance Operating Pla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Recommend approval (unanimous) per OWG repor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IA endorsed as submitt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  <a:ea typeface="Arial"/>
              </a:rPr>
              <a:t>Jan 29, 2015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Action Items (Update)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NPRR654: Discontinue Ancillary Service Requirement Methodology Assessment Repo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Endorsed as submitte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NPRR655: Discontinue Contingency List Changes Due to Weather Repo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Endorsed as submitte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NPRR661: Discontinue Posting Profile Data Evaluation Repo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Endorsed as submitte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NPRR657: Discontinue Backup Control Plan Submittal Results, Dispatch Instructions Compliance Metrics, and Backup Control Plan Test Dates and Results Summary Repor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Endorsed as submitte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NOGRR132: Automatic Under-Voltage and Under-Frequency Load Shedding Protection Systems – Load Restora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OS Remanded to OW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1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  <a:ea typeface="Arial"/>
              </a:rPr>
              <a:t>Jan 29, 2015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Economic Impacts of Outage Scheduling – Task Force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RCOT requested a new task force be created to evaluate market impacts related to equipment outage scheduling. 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RCOT will schedule a meeting in February to better define the issue and develop the task force scope for presentation at next ROS.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ask force would be a joint effort by ROS and WM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4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  <a:ea typeface="Arial"/>
              </a:rPr>
              <a:t>Jan 29, 2015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tatus of Assignmen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Resource Interconnection Handboo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raft Handbook distributed for commen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RCOT working on revised Draft Handboo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CDR and Planning Model Study Differenc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raft Whitepaper distributed for commen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dding more language to better explain differenc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Load Scaling Methodologies in Planning Stud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rafted PGRR language for ERCOT review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7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an 29, 2015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tatus of Assignmen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Voltage Reduction Repor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VRTF further explor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Implementation costs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Load participation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VRTF conducting survey with TDSP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0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an 29, 2015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Albracht, Brittney</cp:lastModifiedBy>
  <cp:lastPrinted>2013-01-30T23:16:36Z</cp:lastPrinted>
  <dcterms:modified xsi:type="dcterms:W3CDTF">2015-01-22T19:56:54Z</dcterms:modified>
  <cp:revision>795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