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C9A8-103E-4430-ACE5-6DF5E42BA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711B-5E17-4BCA-913D-CB308A8A3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DAC-C2C3-4A9E-8436-C36CC4A7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F39-A4CB-4E4C-9D9F-12A56076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C06-7901-4F0C-B9B4-E028539A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912-FB08-4F69-8988-9A5F53A5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580B-2570-4726-96DB-06840F28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C900-26BB-4686-8E35-92594376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CDDE-03E3-4505-A759-25C2251F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4F8E-7B5F-43A6-A59C-C2A2210A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7F13-064D-48F6-9A4B-59D95A7C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CDD5-48DE-4409-820D-216C9A40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D235-0BDE-451F-BA8B-E0FD4E54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647-D9C0-476A-B41B-3D69A397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F140-1742-4D1B-B567-FDF2D27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9E79-3714-4D55-91D9-8AB52AB5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D380-3A90-484F-A85B-6BDB7AB1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4A51-60C7-499E-9720-ABCD155E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D3E3-BCC7-4C61-98FB-38314901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1C07-447C-4033-A389-7FCCDFAD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D92D-C60E-4D69-9201-4C1748A0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082B-78CA-42F1-9AE9-FC3C6A56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DEF4-C24F-47A3-BC68-25C56F41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985F-ECA3-4AF0-8E57-15CA87ED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437-1B82-4C47-8A26-3E7AB4D0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8A15-1E6E-45A9-801E-A632745F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BFA3-3E05-4208-A4D2-45C0946F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4646-414B-4156-BD06-08E0219E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63A9-23EE-4F3B-89E0-146F4620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9F01-43FA-426D-9367-4E6F6543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5ABE-C69F-4436-9F32-0441DA44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25776-2596-42F6-8FE8-91BB8E14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03E-2956-4F1B-BB2E-ED68A270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79C-FF9F-4645-9A3F-6EAEA166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90F-041E-464E-8449-4E7B55E0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B1AE-84E3-47B6-BFF3-7782C82C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EDBC8-D32A-435F-B2C0-F691B8AC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2A989-8B5D-4F6B-B388-ADAA3904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EFF9F-C5C2-4933-9C7B-1C7A403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62B8-34A4-4718-BB2E-D0F20E56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DCE41-1738-4C25-A021-3BBFCF74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29473-0FDD-4D4E-A55F-0A38F71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5698-8B50-4BCB-BD88-25EA0934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83096-CAF1-4318-8F3B-A1236658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5B0-2436-499F-8CA0-12BD3FB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9680-5567-49B4-BF28-5F5F2744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5727F-8EDA-43EB-BF00-2D9F7DBD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F04B6-D38A-491E-92E7-A958C0B9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245DC-6C11-4E21-A004-28B8BCF0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42B19-4B7B-4D28-ADB6-FB34B52F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DC4F0-FC32-403E-A8C5-4E85CB0A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94A74-19F4-4C79-B2EC-2CF11DBD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7A25-4579-40A4-B88F-93D8A855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72EEF-23E7-4069-B31C-D30016E1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EB4E4-D267-4195-BCD8-CD015552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F3E-E2C4-4A4C-A511-581B1736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895D4-FE3F-4F32-84D3-9A64CB29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C19F1-B213-40F6-8A10-23500E04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060A6-AEA9-4A73-8767-20BF5F82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F5E90-C891-4F6B-8C5B-E122AA92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D6123-F386-4D1B-B049-B99D93D6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3382A-2E34-4C69-832F-E54C566B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08766-FFBF-40DA-B7EA-88F06203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473DF-2580-4AF4-BC35-907154EA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4D4BB-BB9D-419F-A953-472B8CE0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4153C-869A-40C0-807A-AA9BA9CA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5DB-6CB9-47B3-8106-B715F7FA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F232D-9863-4E96-A352-B2EBD3DD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BC7BB-1E79-4DFB-B221-A971185E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3422C-D712-4820-A268-FFAC6B26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667B2-F8F6-482D-BEEB-38E539E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11C0D-B90E-4C29-85BA-255C7CF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04641-5170-45FA-96E9-F7181165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286CE-7947-45B8-9BF5-D4163677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5AFE-7B3D-4A16-8698-5A6B4945B93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396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 Project Update – MP Online Data Entry Phase 1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797C8-50BD-4EAF-A72E-117B0C84AE5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42AAE3-1D05-4FE2-A2F1-8574CC354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2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79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 Project Update – MP Online Data Entry Phase 1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6EC7F-BF15-47DE-AAC5-326F0688163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1B6D8-8B1F-4E5E-A223-A9EAFD866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053C-C874-464A-ABF0-BBFB40BDA0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AE45-B34E-4FF0-B189-DF5F538BE3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 Project Update – MP Online Data Entry Phase 1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34CB5-1D14-4BA6-A486-ED3EDD82CA7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 Project Update – MP Online Data Entry Phase 1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32AC5-327D-4600-9E51-0C59B1F6B20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1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1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3821-32A6-4D27-BDB2-72B6FBE32A5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6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32AC-495D-4ED0-BC90-53CE098EE22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987A-4613-4C50-8F4E-4748F27B899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ftr" idx="1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ntent/meetings/rdwg/keydocs/2013/1204/MP_Online_Data_Requirements_Priorities_Consolidated_Posted.xls" TargetMode="External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2-4-14 Mee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RGRR00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kgroun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request adds a column to the glossary, identifying which data is required at the planning model stage of the generation interconnection proc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posed change supports Planning Guide Section 6.9, and the Interconnection Handboo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ons/Next Ste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DWG has reviewed the RRGRR, and will recommend approval, as revised by the RDWG, contingent upon final IA review at the 12-9-14 meet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n-Going Activ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 is expected to complete the review of the entire glossary at the next meeting, and will commence drafting a RRGRR to include all proposed changes to the glossar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dership nominations will be accepted at the next meeting, and results forwarded for the January ROS meet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13"/>
          <p:cNvGrpSpPr/>
          <p:nvPr/>
        </p:nvGrpSpPr>
        <p:grpSpPr>
          <a:xfrm>
            <a:off x="603360" y="1498680"/>
            <a:ext cx="7727760" cy="3567600"/>
            <a:chOff x="603360" y="1498680"/>
            <a:chExt cx="7727760" cy="3567600"/>
          </a:xfrm>
        </p:grpSpPr>
        <p:pic>
          <p:nvPicPr>
            <p:cNvPr id="535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603360" y="14986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TextBox 9"/>
            <p:cNvSpPr/>
            <p:nvPr/>
          </p:nvSpPr>
          <p:spPr>
            <a:xfrm>
              <a:off x="787320" y="3082680"/>
              <a:ext cx="754380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P Online Data Entry Phase 1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cott Middleton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S Updat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ember 04, 201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7" name="Straight Connector 12"/>
            <p:cNvSpPr/>
            <p:nvPr/>
          </p:nvSpPr>
          <p:spPr>
            <a:xfrm flipV="1">
              <a:off x="787320" y="2804760"/>
              <a:ext cx="628632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359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 Online Data Entry Phase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Objective &amp;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14280" y="1847880"/>
          <a:ext cx="8448840" cy="1782720"/>
        </p:xfrm>
        <a:graphic>
          <a:graphicData uri="http://schemas.openxmlformats.org/drawingml/2006/table">
            <a:tbl>
              <a:tblPr/>
              <a:tblGrid>
                <a:gridCol w="687600"/>
                <a:gridCol w="5551200"/>
                <a:gridCol w="2210040"/>
              </a:tblGrid>
              <a:tr h="304920"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61200">
                <a:tc gridSpan="3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6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an interface for MP Resource Asset registration (resource asset data and other registration requirement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 that phase 1 is focused only on resource registration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of M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of ERCOT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ng existing form data into an electronic form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304920" y="685800"/>
          <a:ext cx="8458200" cy="94464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 the processes and systems that support the current RARF spreadsheet with an online data entry syst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304920" y="4057560"/>
          <a:ext cx="8448480" cy="1333440"/>
        </p:xfrm>
        <a:graphic>
          <a:graphicData uri="http://schemas.openxmlformats.org/drawingml/2006/table">
            <a:tbl>
              <a:tblPr/>
              <a:tblGrid>
                <a:gridCol w="687240"/>
                <a:gridCol w="5551560"/>
                <a:gridCol w="2209680"/>
              </a:tblGrid>
              <a:tr h="304920"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 of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61200">
                <a:tc gridSpan="3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6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ng registration cont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 that there is the requirement to document the content, owner and system of 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79440" y="82872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 Online Data Entry Phase 1 is following 2 release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Model Management System (NMMS)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 Online Data Entry Ph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MMS Upgrade will establish the following (as it applies to MP Online Data Entry Phase 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les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 there are no roles or restrictions to who can see what in the NMMS (only ERCOT and TSPs currently use the syste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release will establish 3 primary roles (TSPs, REs and ERCOT) which can be extended if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hat this release will still only provide access to TSPs and ERCOT to the NMMS (spreadsheet still in place for resource registr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based user interface that is consistent with other ERCOT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bility enhancements and features that meets the requirements gathered from Market Participants (REs and TS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P Online Data Entry Phase 1 release will establish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es the Resource Asset Registration Form (RARF) spreadsheet and Service Reques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REs access to N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emaining Market requirements such as usability, reporting and filtering (see SCR 781 and thi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a comprehensive, more detailed l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79080" y="141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 Online Data Ent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79080" y="141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 Online Data Ent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28560" y="739800"/>
          <a:ext cx="8191440" cy="2900160"/>
        </p:xfrm>
        <a:graphic>
          <a:graphicData uri="http://schemas.openxmlformats.org/drawingml/2006/table">
            <a:tbl>
              <a:tblPr/>
              <a:tblGrid>
                <a:gridCol w="1067040"/>
                <a:gridCol w="571320"/>
                <a:gridCol w="819360"/>
                <a:gridCol w="819000"/>
                <a:gridCol w="819000"/>
                <a:gridCol w="819360"/>
                <a:gridCol w="819000"/>
                <a:gridCol w="819360"/>
                <a:gridCol w="809640"/>
                <a:gridCol w="82836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.’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.’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.’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.’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.’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.’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.’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.’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.’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Plan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Exec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Prod Mi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Online Plan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Online Exec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Online Prod Mi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</a:tr>
            </a:tbl>
          </a:graphicData>
        </a:graphic>
      </p:graphicFrame>
      <p:sp>
        <p:nvSpPr>
          <p:cNvPr id="546" name="Rectangle 4"/>
          <p:cNvSpPr/>
          <p:nvPr/>
        </p:nvSpPr>
        <p:spPr>
          <a:xfrm>
            <a:off x="1685880" y="1247760"/>
            <a:ext cx="571680" cy="14292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2266920" y="1657440"/>
            <a:ext cx="4238640" cy="14292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8" name="Picture 2" descr="C:\Users\smiddleton\AppData\Local\Microsoft\Windows\Temporary Internet Files\Content.IE5\34PQ6Z9C\MC900441310[1].png"/>
          <p:cNvPicPr/>
          <p:nvPr/>
        </p:nvPicPr>
        <p:blipFill>
          <a:blip r:embed="rId1"/>
          <a:stretch/>
        </p:blipFill>
        <p:spPr>
          <a:xfrm>
            <a:off x="6467400" y="1905120"/>
            <a:ext cx="390600" cy="39024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1"/>
          <p:cNvSpPr/>
          <p:nvPr/>
        </p:nvSpPr>
        <p:spPr>
          <a:xfrm>
            <a:off x="1685880" y="2428920"/>
            <a:ext cx="1876320" cy="14292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4386240" y="2824200"/>
            <a:ext cx="4329000" cy="14292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1" name="Picture 2" descr="C:\Users\smiddleton\AppData\Local\Microsoft\Windows\Temporary Internet Files\Content.IE5\34PQ6Z9C\MC900441310[1].png"/>
          <p:cNvPicPr/>
          <p:nvPr/>
        </p:nvPicPr>
        <p:blipFill>
          <a:blip r:embed="rId2"/>
          <a:stretch/>
        </p:blipFill>
        <p:spPr>
          <a:xfrm>
            <a:off x="8605800" y="315288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379440" y="375264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 Online Data Entry Phase 1 Schedule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a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il planning ha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of the Execution Phases will include Market training as part of the cutover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 Online Data Entry Phase 2 and 3 (MP Registration and Verifiable costs) planning start will be determined mid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07:30Z</dcterms:created>
  <dc:creator>NRGAdmin</dc:creator>
  <dc:description/>
  <dc:language>en-US</dc:language>
  <cp:lastModifiedBy>Taylor</cp:lastModifiedBy>
  <dcterms:modified xsi:type="dcterms:W3CDTF">2014-12-04T14:59:58Z</dcterms:modified>
  <cp:revision>4</cp:revision>
  <dc:subject/>
  <dc:title>RDWG Update to ROS</dc:title>
</cp:coreProperties>
</file>