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42E3-56FE-4213-B668-2F4E3A7C7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8985-7A3E-44C3-B41B-351A16492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6D05-0B99-492A-9455-AFFB8EB0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A12B-85A5-405A-8C29-EE6030FA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934-59DE-4C59-8826-B88CC822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6EB1-D024-4B3A-9DBD-8E91D8B4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39AE-0BF6-4BA2-B0BE-A7D0A543B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EB87-951D-4417-94D9-50448C50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70A3-59CE-42D3-8F0C-1D343EA4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9191-A9F9-4D33-A489-2863929F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5F45-4510-4F78-A597-5CA8829F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8CAF-A443-4600-A6B4-CA3A7BB1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C3E09-A095-4CCC-9311-AC136336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BD1-0F78-4D28-A947-177CD1DF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7E6B-9EFE-45E3-BC86-6438D88B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F152-D1C7-4CA8-8CC8-7D0F3546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B33E-A7C7-49F6-97EA-384E83F3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05F0-D691-45B9-A037-7ED7BD88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294A-5165-4E5F-A7F2-DBBC9070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EEA10-4EEE-4EAB-A6DF-B19239398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1B104-9405-436D-8DAE-59845A24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1B16C-BB6F-4D78-A4D8-41F4238E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A0233-FEB5-4DA2-9468-B6C1E9A9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8866F-1936-471D-9D2F-1E48678E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4900-1ABA-495E-8757-B01D6DAF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D4615-62D3-414F-9E25-D5BCCA15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407F8-21B7-4781-A4A2-DC2AACD0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DD7CB-0AB5-46A7-8360-8FCBA9A2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748DE-B99C-40E3-93A0-5564D36E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04A51-999D-450B-B0A2-E9DE0C5A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2143A-EAF2-45B1-8C19-D829BB38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797AA-2A01-47F6-8870-7ACA6D2E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7A14-9A89-4727-950B-68F2AFAE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DEE0-E0F8-41CD-BC35-46FA5E57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B550-25D4-46D0-9EB5-7BBCDDD2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D9B12-587D-4A40-A956-52914626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8F17B-2AE8-4891-82A1-A5AAE180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A2AD3-5AD0-42B0-87E4-476FCB69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B530E-7ECD-478F-BCCF-1477FEC7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DC752-FAD0-452F-8D9C-98343A8D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B44E2-DA3B-4C8C-AD9D-ADFC6FEF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387F4-D0BB-4C32-9434-991464C4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C1929-9F14-4648-A305-D1677A05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C7CDE-642D-4316-8FCD-3AF0FB5E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ABFA-0290-414B-88E0-CB30BD17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2CD10-B6D5-4CAE-BF09-EB123719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53C1B-8CF4-466A-9E5F-DC093AB6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45850-B6EB-42B9-89BA-3BB6093B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62986-3443-4C82-8EA2-BA9F9681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88ECB-E3F9-49C6-BF15-CA8F905E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9969C-407F-4D88-A51C-537DE78D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983E8-9939-44FB-B821-F51386A1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E71C3-F16B-482A-9083-A564311E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36450-21CD-4CFD-9C62-0C7297AE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7B630-8179-46AF-9A6D-B2E935A8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7C68-6322-4885-912A-EFC9C111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C25C4-1197-4587-AAE2-48A11128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DE30F-759C-47C2-B910-4DC05AED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34DDC-293A-4877-B84C-B468B918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B140F-C729-4768-9AC6-7F88DF9E1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AAC62-05F1-4E1A-BDBD-BDA8DAA2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A40B9-D60E-43EE-B619-B946708D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02205-5825-4DD9-AB6A-587AF3AC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DA470-4FA5-4805-93D2-E4219017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42015-566E-4AE8-86F6-E4E4A659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44A06-FDA3-44AB-834B-1ED9B63B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50B-CBC1-46C3-BCC5-AD386C41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8A36D-7A7C-4D9D-AD32-BF1D500B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D0373-3433-4CEC-AE43-B523E013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40084-E97A-4BAB-A563-29BC2786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59807-A8C0-4506-8FD3-504AC11D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FE87B-2F08-437E-B7AF-72015D5E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78AC5-E74D-4ADC-A2E0-8A324528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D6679-6EAF-4AA9-911A-23FED32A7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DC9E-28F5-464E-B722-D938D270A84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396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435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S Project Update – MP Online Data Entry Phase 1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42734-0D8D-4EB4-9939-BD8A4B98466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27CD0-1F38-4BE4-A730-5FA607703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ftr" idx="2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479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S Project Update – MP Online Data Entry Phase 1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B0B94-6E0F-4E01-B61C-F049CB2FB2E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3A45B-A46E-4207-86AC-48DDFADAA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2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6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888E-E1D1-48B1-8798-62F5C4CFAA3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E881-7D28-4E58-B604-F61D5FCAE12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S Project Update – MP Online Data Entry Phase 1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4B0DD-03D5-4649-9BA3-2C423547F79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7"/>
          <p:cNvSpPr/>
          <p:nvPr/>
        </p:nvSpPr>
        <p:spPr>
          <a:xfrm>
            <a:off x="1085760" y="6010200"/>
            <a:ext cx="686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S Project Update – MP Online Data Entry Phase 1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24EE4-F4B8-4E5A-AB40-8FDCC100D94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1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1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18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1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D17E-FAE2-4C5B-A826-245E395547E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6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6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68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6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E378-45C1-4014-8571-B2430985E79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C637-6FAF-4496-B2C4-1F663319CEA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ftr" idx="1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rcot.com/content/meetings/rdwg/keydocs/2013/1204/MP_Online_Data_Requirements_Priorities_Consolidated_Posted.xls" TargetMode="External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2-4-14 Meet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RGRR005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ckground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request adds a column to the glossary, identifying which data is required at the planning model stage of the generation interconnection proces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posed change supports Planning Guide Section 6.9, and the Interconnection Handbook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tions/Next Ste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DWG has reviewed the RRGRR, and will recommend approval, as revised by the RDWG, contingent upon final IA review at the 12-9-14 meet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n-Going Activit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group is expected to complete the review of the entire glossary at the next meeting, and will commence drafting a RRGRR to include all proposed changes to the glossary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dership nominations will be accepted at the next meeting, and results forwarded for the January ROS meet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13"/>
          <p:cNvGrpSpPr/>
          <p:nvPr/>
        </p:nvGrpSpPr>
        <p:grpSpPr>
          <a:xfrm>
            <a:off x="603360" y="1498680"/>
            <a:ext cx="7727760" cy="3567600"/>
            <a:chOff x="603360" y="1498680"/>
            <a:chExt cx="7727760" cy="3567600"/>
          </a:xfrm>
        </p:grpSpPr>
        <p:pic>
          <p:nvPicPr>
            <p:cNvPr id="535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603360" y="14986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TextBox 9"/>
            <p:cNvSpPr/>
            <p:nvPr/>
          </p:nvSpPr>
          <p:spPr>
            <a:xfrm>
              <a:off x="787320" y="3082680"/>
              <a:ext cx="7543800" cy="19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MP Online Data Entry Phase 1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Scott Middleton</a:t>
              </a:r>
              <a:endParaRPr b="0" lang="en-US" sz="20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S Update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cember 04, 2014</a:t>
              </a: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37" name="Straight Connector 12"/>
            <p:cNvSpPr/>
            <p:nvPr/>
          </p:nvSpPr>
          <p:spPr>
            <a:xfrm flipV="1">
              <a:off x="787320" y="2804760"/>
              <a:ext cx="628632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79080" y="0"/>
            <a:ext cx="853596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 Online Data Entry Phase 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Objective &amp;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314280" y="1847880"/>
          <a:ext cx="8448840" cy="1782720"/>
        </p:xfrm>
        <a:graphic>
          <a:graphicData uri="http://schemas.openxmlformats.org/drawingml/2006/table">
            <a:tbl>
              <a:tblPr/>
              <a:tblGrid>
                <a:gridCol w="687600"/>
                <a:gridCol w="5551200"/>
                <a:gridCol w="2210040"/>
              </a:tblGrid>
              <a:tr h="304920"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6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</a:tr>
              <a:tr h="61200">
                <a:tc gridSpan="3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6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an interface for MP Resource Asset registration (resource asset data and other registration requirement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 that phase 1 is focused only on resource registration 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of M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of ERCOT person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5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ng existing form data into an electronic form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0" name=""/>
          <p:cNvGraphicFramePr/>
          <p:nvPr/>
        </p:nvGraphicFramePr>
        <p:xfrm>
          <a:off x="304920" y="685800"/>
          <a:ext cx="8458200" cy="944640"/>
        </p:xfrm>
        <a:graphic>
          <a:graphicData uri="http://schemas.openxmlformats.org/drawingml/2006/table">
            <a:tbl>
              <a:tblPr/>
              <a:tblGrid>
                <a:gridCol w="8458200"/>
              </a:tblGrid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lace the processes and systems that support the current RARF spreadsheet with an online data entry syst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1" name=""/>
          <p:cNvGraphicFramePr/>
          <p:nvPr/>
        </p:nvGraphicFramePr>
        <p:xfrm>
          <a:off x="304920" y="4057560"/>
          <a:ext cx="8448480" cy="1333440"/>
        </p:xfrm>
        <a:graphic>
          <a:graphicData uri="http://schemas.openxmlformats.org/drawingml/2006/table">
            <a:tbl>
              <a:tblPr/>
              <a:tblGrid>
                <a:gridCol w="687240"/>
                <a:gridCol w="5551560"/>
                <a:gridCol w="2209680"/>
              </a:tblGrid>
              <a:tr h="304920"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 of Sco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7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</a:tr>
              <a:tr h="61200">
                <a:tc gridSpan="3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6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03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ng registration cont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 that there is the requirement to document the content, owner and system of 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79440" y="82872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 Online Data Entry Phase 1 is following 2 release 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Model Management System (NMMS) Up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P Online Data Entry Ph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MMS Upgrade will establish the following (as it applies to MP Online Data Entry Phase 1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les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 there are no roles or restrictions to who can see what in the NMMS (only ERCOT and TSPs currently use the syste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release will establish 3 primary roles (TSPs, REs and ERCOT) which can be extended if requi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286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hat this release will still only provide access to TSPs and ERCOT to the NMMS (spreadsheet still in place for resource registr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based user interface that is consistent with other ERCOT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bility enhancements and features that meets the requirements gathered from Market Participants (REs and TS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P Online Data Entry Phase 1 release will establish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minates the Resource Asset Registration Form (RARF) spreadsheet and Service Request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REs access to NM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remaining Market requirements such as usability, reporting and filtering (see SCR 781 and this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LIN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a comprehensive, more detailed li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79080" y="14112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 Online Data Entr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79080" y="14112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P Online Data Entr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628560" y="739800"/>
          <a:ext cx="8191440" cy="2900160"/>
        </p:xfrm>
        <a:graphic>
          <a:graphicData uri="http://schemas.openxmlformats.org/drawingml/2006/table">
            <a:tbl>
              <a:tblPr/>
              <a:tblGrid>
                <a:gridCol w="1067040"/>
                <a:gridCol w="571320"/>
                <a:gridCol w="819360"/>
                <a:gridCol w="819000"/>
                <a:gridCol w="819000"/>
                <a:gridCol w="819360"/>
                <a:gridCol w="819000"/>
                <a:gridCol w="819360"/>
                <a:gridCol w="809640"/>
                <a:gridCol w="828360"/>
              </a:tblGrid>
              <a:tr h="35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3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.’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3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.’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3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.’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3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.’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3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.’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3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.’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3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.’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3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.’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37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.’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8373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MS Plan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MS Execu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MS Prod Mi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Online Plann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Online Execu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9d5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Online Prod Mi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deb"/>
                    </a:solidFill>
                  </a:tcPr>
                </a:tc>
              </a:tr>
            </a:tbl>
          </a:graphicData>
        </a:graphic>
      </p:graphicFrame>
      <p:sp>
        <p:nvSpPr>
          <p:cNvPr id="546" name="Rectangle 4"/>
          <p:cNvSpPr/>
          <p:nvPr/>
        </p:nvSpPr>
        <p:spPr>
          <a:xfrm>
            <a:off x="1685880" y="1247760"/>
            <a:ext cx="571680" cy="142920"/>
          </a:xfrm>
          <a:prstGeom prst="rect">
            <a:avLst/>
          </a:prstGeom>
          <a:gradFill rotWithShape="0">
            <a:gsLst>
              <a:gs pos="0">
                <a:srgbClr val="009782"/>
              </a:gs>
              <a:gs pos="100000">
                <a:srgbClr val="a5e4d5"/>
              </a:gs>
            </a:gsLst>
            <a:lin ang="16200000"/>
          </a:gradFill>
          <a:ln w="9360">
            <a:solidFill>
              <a:srgbClr val="00837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Rectangle 9"/>
          <p:cNvSpPr/>
          <p:nvPr/>
        </p:nvSpPr>
        <p:spPr>
          <a:xfrm>
            <a:off x="2266920" y="1657440"/>
            <a:ext cx="4238640" cy="142920"/>
          </a:xfrm>
          <a:prstGeom prst="rect">
            <a:avLst/>
          </a:prstGeom>
          <a:gradFill rotWithShape="0">
            <a:gsLst>
              <a:gs pos="0">
                <a:srgbClr val="009782"/>
              </a:gs>
              <a:gs pos="100000">
                <a:srgbClr val="a5e4d5"/>
              </a:gs>
            </a:gsLst>
            <a:lin ang="16200000"/>
          </a:gradFill>
          <a:ln w="9360">
            <a:solidFill>
              <a:srgbClr val="00837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8" name="Picture 2" descr="C:\Users\smiddleton\AppData\Local\Microsoft\Windows\Temporary Internet Files\Content.IE5\34PQ6Z9C\MC900441310[1].png"/>
          <p:cNvPicPr/>
          <p:nvPr/>
        </p:nvPicPr>
        <p:blipFill>
          <a:blip r:embed="rId1"/>
          <a:stretch/>
        </p:blipFill>
        <p:spPr>
          <a:xfrm>
            <a:off x="6467400" y="1905120"/>
            <a:ext cx="390600" cy="39024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1"/>
          <p:cNvSpPr/>
          <p:nvPr/>
        </p:nvSpPr>
        <p:spPr>
          <a:xfrm>
            <a:off x="1685880" y="2428920"/>
            <a:ext cx="1876320" cy="142920"/>
          </a:xfrm>
          <a:prstGeom prst="rect">
            <a:avLst/>
          </a:prstGeom>
          <a:gradFill rotWithShape="0">
            <a:gsLst>
              <a:gs pos="0">
                <a:srgbClr val="009782"/>
              </a:gs>
              <a:gs pos="100000">
                <a:srgbClr val="a5e4d5"/>
              </a:gs>
            </a:gsLst>
            <a:lin ang="16200000"/>
          </a:gradFill>
          <a:ln w="9360">
            <a:solidFill>
              <a:srgbClr val="00837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Rectangle 12"/>
          <p:cNvSpPr/>
          <p:nvPr/>
        </p:nvSpPr>
        <p:spPr>
          <a:xfrm>
            <a:off x="4386240" y="2824200"/>
            <a:ext cx="4329000" cy="142920"/>
          </a:xfrm>
          <a:prstGeom prst="rect">
            <a:avLst/>
          </a:prstGeom>
          <a:gradFill rotWithShape="0">
            <a:gsLst>
              <a:gs pos="0">
                <a:srgbClr val="009782"/>
              </a:gs>
              <a:gs pos="100000">
                <a:srgbClr val="a5e4d5"/>
              </a:gs>
            </a:gsLst>
            <a:lin ang="16200000"/>
          </a:gradFill>
          <a:ln w="9360">
            <a:solidFill>
              <a:srgbClr val="00837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1" name="Picture 2" descr="C:\Users\smiddleton\AppData\Local\Microsoft\Windows\Temporary Internet Files\Content.IE5\34PQ6Z9C\MC900441310[1].png"/>
          <p:cNvPicPr/>
          <p:nvPr/>
        </p:nvPicPr>
        <p:blipFill>
          <a:blip r:embed="rId2"/>
          <a:stretch/>
        </p:blipFill>
        <p:spPr>
          <a:xfrm>
            <a:off x="8605800" y="315288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 txBox="1"/>
          <p:nvPr/>
        </p:nvSpPr>
        <p:spPr>
          <a:xfrm>
            <a:off x="379440" y="3752640"/>
            <a:ext cx="8229600" cy="21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 Online Data Entry Phase 1 Schedule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raf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til planning has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of the Execution Phases will include Market training as part of the cutover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 Online Data Entry Phase 2 and 3 (MP Registration and Verifiable costs) planning start will be determined mid-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07:30Z</dcterms:created>
  <dc:creator>NRGAdmin</dc:creator>
  <dc:description/>
  <dc:language>en-US</dc:language>
  <cp:lastModifiedBy>Taylor</cp:lastModifiedBy>
  <dcterms:modified xsi:type="dcterms:W3CDTF">2014-12-04T14:59:58Z</dcterms:modified>
  <cp:revision>4</cp:revision>
  <dc:subject/>
  <dc:title>RDWG Update to ROS</dc:title>
</cp:coreProperties>
</file>