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DD89D9-00CB-42A6-9BC0-939F8AAC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5D1D59-3AE9-463E-BB79-EBBD86BE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BDACEF5-1FC0-48D0-86B5-4D5A273F4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7E0134-88CC-463A-B24B-592589736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B74A679-0261-415F-96D9-EEE2C121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845-274A-4278-802F-CF74602C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F04-E11A-449B-927A-958EC53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7BA-F42B-4B2A-A5D6-602B51FA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3A1-F510-4DE0-BF8A-AFF56270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A49-1A5A-4491-A89E-28C5E26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BDE-FE2F-45B0-8440-783F08E9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50A-B6EB-4EED-8E25-A080D980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356-50BC-4AF8-841F-7E614538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7BD-1442-4F80-93B2-41A9ADE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CAB-BC99-46C7-BD48-8FC63E0A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F7F-224B-4D5B-AD65-C23EA441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DD2-10C9-4525-BE9B-0A518A18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0" t="0" r="38640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E82C-56B4-40D4-9205-CEC657AE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83AC-37FA-427B-9447-671F7A31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66424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 6,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NAESB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of Nov 21st NAESB accepted the business model presented and will add the changes to the next NAESB version (3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blication date of v3.0 became official as of December 18,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business practices for the place holder codes need to be developed, these codes will be included in a future NAESB version. ERCOT will work on the business case and return the results to TDTWG at a futur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433-3816-450B-9D2F-0A55A490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TWG Leadership nominations for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nominations to be submitted to ERCOT – Vikram Gu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A535-DCF8-4143-A558-496CAE5C5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7E8D-5E28-4E15-A100-A06A65CF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79F0-0E86-4C98-B9BE-A413C76C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ERCOT System Outages an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d Service Availability and MarkeTra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2015 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ERCOT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ERCOT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NAESB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1569600"/>
            <a:ext cx="83822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ERCOT System Outages and Fail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LA targets met for the month of Octobe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tail incidents or outages to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Data Transparency experienced delays in posting various reports on 10/11/14, 10/19/14, 10/21/14 and 10/28/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tail Release only scheduled outage on 12/6 and 12/7 involving some system mig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51814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1E1-7A5A-4FD0-BB81-A40B92669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requested ERCOT to provided a report on the root cause of the delayed posting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determined delays typically occurred when a large amount of data was received from a T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has asked TDSP’s to modify processes preventing large amount of data reaching ERCO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is also investigating a modification to correct the iss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B71E-BCA9-4461-A42B-19BDBCC5A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presented Service Availability and   MarkeTra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presented SLO for the month of October 2014 showing performance of ongoing slowness with the API Query List and API Update response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and TDSPs using API agreed to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 to the API Query Details or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Query List – ERCOT will investigate using MP XML and will consult with the TDSPs that use the API to determine if ERCOT can emulate the TDSP’s qu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Update – ERCOT will keep the current query and investigate adding a self-contained MarkeTrak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DD88-04F7-4097-AB5B-E4A3519A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5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presented SLO for the month of October 2014 showing performance of ongoing slowness with the API Query List and API Update response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analyzed the queries currently being used for SLA/SLO collection for API Query Detail, API Query List, API Update and G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and TDSPs using API agreed to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 to the API Query Details or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Query List – ERCOT will investigate using MP XML and will consult with the TDSPs that use the API to determine if ERCOT can emulate the TDSP’s qu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Update – ERCOT will keep the current query and investigate adding a self-contained MarkeTrak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and the MTTF agreed that no changes will be made at this time to the SLOs in the 2015 SLA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EEFE-FDBD-496E-A5B1-C12C9703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reviewed 2015 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present changes for 2015 Review under Section 2.1.2 Servi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weekend release schedule (5:00pm Saturday - 12:00am 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4B6-F3F6-4DB4-98B2-DEE27751E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1304640" cy="1590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Review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Internet Explor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s evaluating its external facing systems to determine what functionality would need to be modified to support a newer version of Internet Explorer running in compatibility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to provide more details on expected implementation at RMS on January 6, 201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firmed date to remove IE 8 support from ERCOT’s supported deplo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020E-49E0-447F-A326-5FA8058CB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Review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Test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TWG agreed to present only the recommendation to RMS, including some of the high-level data points from the white paper used to create the recomme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updated the language in the recommendation and submitted to TDTWG leadership for review prior to posting to the meeting webpage and distribution to the list ser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9297-6497-43B3-9123-52850B4C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Clifton, Susan</cp:lastModifiedBy>
  <cp:lastPrinted>2002-09-24T18:27:58Z</cp:lastPrinted>
  <dcterms:modified xsi:type="dcterms:W3CDTF">2015-01-05T15:20:07Z</dcterms:modified>
  <cp:revision>863</cp:revision>
  <dc:subject/>
  <dc:title>PowerPoint Presentation</dc:title>
</cp:coreProperties>
</file>