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EB3D-9D24-45EA-8855-90652E25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DE04-8166-4B21-87A8-B7DBDDE80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AFA1-06B7-44DE-A780-07DE196A4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26AD075-525F-496E-94E8-DE14E7B3D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A2627B-D2F3-43B0-9503-874990401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506E48-EE52-4C2C-B4D8-31E702916F7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0E6E0B5-72B3-46BF-ACBB-2E8434FD1D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B92F63-7B55-4288-BCF1-F2998E9767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BE2A51-9B81-4491-B8B4-D481E0CC1A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3DD486-EB98-4C13-A7AA-503071CC82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7BAA00-2E51-4133-9111-7E9F2ED38DC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2CF3738-F1DB-48AD-9857-3FD4782E0D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C272C8-5FEC-4B52-9A43-59D46AEF21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A126B11-200E-426A-8DF3-ED59483A3C9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2181261-4F3A-420A-B7E0-2003A756D9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3275659-AEB6-4CF4-B82F-58792C3B86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C5FBF-1167-401E-952F-170591D34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C9E22-3ADD-4E60-ABFF-78960D397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90507-8AC4-4D22-A45E-A61BD9CE1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85A1-691B-4FE2-AAFF-E0A613A2D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A3104-A6A8-4D4C-AA71-3507BB24C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E0BB0-7550-4954-98F0-9A5714F83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3FCAA-963E-4D88-A97F-2F299595D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24F732-6F64-43ED-B4E4-47F1094F3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208DC-7E60-4FD0-964E-7EB0D4038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45E94-18AB-47A4-92C7-8982B93D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56F57-0ECF-442F-B075-B68269D1E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7D390-B564-4403-8A32-14FA3CE64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69025-9463-4206-9087-A022D235A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EF0194D-0DE3-4907-A77A-8F73383E6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1D97F3-843E-46A3-96DD-30320435AA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E802EE-9779-4C66-A699-CC5BBBF15A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5D9B6D-1D7A-49F5-9AA5-3157FB47E9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C47292-2F47-4394-AC3E-008BD0988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86F010-7DFC-48B8-ACF7-A09C093FE1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F18315-DFDE-4C10-8D59-162DEED24D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DCF411-AD71-4A37-B3E3-C50B158FA6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E4BE84-C5DA-4ACA-BADA-506595F683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8917A-5C03-420B-B5D9-717B3A5EA0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51C076-7125-4AAD-919C-DD44357663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4530B7-7FE0-45C0-ADFD-64C988082E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6E3EAC-A573-4C5E-87F4-5ED791658E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CA87CE-19A9-492F-A78A-41A8F6757D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8B4FD3-AC7E-4E5A-8F03-4458DE3A631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D69DFB-170C-4152-8FAE-818865F67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2C7EE9-F522-46AA-B710-250822C67B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180D75-9BF4-429D-BF89-2A654EC5A2D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B6B45B-F850-4B33-8816-AFC6BE911D3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90B13D-E107-442D-B7DC-C3608E9C40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3B01D0-EC59-4BEB-B16F-06830AA74F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09D7D4-0426-4F26-BE89-3E5E62FC02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4F27C1-C2C6-4F0C-8121-8AF9A0EC32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A5D827-8B5F-4D4C-8DD4-5615F19D08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1B91AD-6C7F-4513-983D-7FE9DAC1D7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AC58CF-B2CB-4B3B-A7D1-39E0B3C005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C7C273-6EFF-455A-84A3-EEFEF236A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E7A56D8-95E4-4BC7-B915-EBB6011840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8D0C94-4A78-4D84-A48B-F0693C79107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6E1F94-859A-47C1-8F62-57891CA73B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8313CA-38E1-46D5-90D5-B93691806C4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91D874-CD51-4E64-BBFB-02DD124BC0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9690712-736D-4EA9-B4A5-E8E4FA6111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7CC25F-BC16-4FE5-97E4-CEA3150FAC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F8D65B-F4A1-4644-92A0-BDAA8E82D0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924B8D-3513-437E-AF17-D33726C9D0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E0F263-151F-4559-B3FA-F3C26B287D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6E76C0-68D5-473C-A198-75DE55EDE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18FD5A-8F36-4B4D-B243-2F90F7E2E5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CD354DB-E9F1-4541-9391-B08BD7F267E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A654DE4-1EEE-4F35-A315-4DAA94032ED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AAD1DB8-C27F-403F-A2CD-E8EDEE1FC3A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BA4C46-24D4-4493-B04A-C20C326511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302938-BB97-4554-84DE-737469351C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5387FB-8E0B-4ED7-84FE-3B8E07CE1B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D391CC-0587-49D8-AE43-C2B792C5DD6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5FEC66-8FFF-4087-AF85-46BABFFE51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79FF03-B5B8-4138-9CDF-D523B915F4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DAA283-367E-44FF-9244-A1EE3BB5B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869BE3-6957-476D-9974-6BCB5F2FF96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94DA38-787C-4BDF-AB2A-E90EDED778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857843-3975-473D-BC7A-BA5B5F5050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B1FDAA8-19AF-43A2-812C-C9F26D1C77D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1003B48-E47B-4CC6-A67B-D3FFB01AB2C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35343A-365F-4D97-96E6-354EC9BDE5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42F0B1-0EC8-4F78-8345-D37FC6365D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60BC616-5B6E-4250-AE07-B09F94121D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5C3A0C-7464-4AE4-A721-6C23EB038F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D519C6-D637-4733-848F-83EB5F0B222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583EF3-01D0-489D-9295-26DE0B8EF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8C7B4A-D8B1-4443-B0F5-14678CB763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82178D-5B3B-4888-9092-8FC7E6F8B0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FE7180-BD19-476C-A3A9-EE49F2391C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616DE3-DB6E-4903-BDA6-2CB9BC400F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E334CEC-5050-40A8-A700-265C3B9517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7B2EFCE-A7F4-4913-9FF2-7DA9C22044A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4C6675B-2F96-4984-A686-706DA32C9D8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7D9DBFF-99DB-466B-864B-0E5A1190488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6EB068-363D-436B-9BC0-B328305FF4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5CF3D6-7E9D-4C79-B95D-BD4680964C1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C9F0-81CB-464A-9DAE-76529B621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CDC3-E91D-472F-9A9C-45853816C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9C47-C802-454A-9727-07463DEC89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6CA1-BCF1-46B0-9DD3-15070292D9F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9F6E-71FD-4D26-AE8B-918988A39D9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A10D-A1D4-47A1-97CE-161A5770163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6B16-D598-4D0C-9599-5A7101DD465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43C4-FB1C-443E-BED3-D6F4F08908F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5C27-B7D5-4BE0-A30F-C7A6829FC72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December 18, 2014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6, 2015</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83BD-715A-436E-822C-72BEE4499B9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22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Board Update </a:t>
            </a:r>
            <a:endParaRPr b="0" lang="en-US" sz="3600" spc="-1" strike="noStrike">
              <a:solidFill>
                <a:srgbClr val="572314"/>
              </a:solidFill>
              <a:latin typeface="Gill Sans MT"/>
            </a:endParaRPr>
          </a:p>
        </p:txBody>
      </p:sp>
      <p:sp>
        <p:nvSpPr>
          <p:cNvPr id="424" name=""/>
          <p:cNvSpPr txBox="1"/>
          <p:nvPr/>
        </p:nvSpPr>
        <p:spPr>
          <a:xfrm>
            <a:off x="990720" y="-76320"/>
            <a:ext cx="8076960" cy="4267440"/>
          </a:xfrm>
          <a:prstGeom prst="rect">
            <a:avLst/>
          </a:prstGeom>
          <a:noFill/>
          <a:ln w="0">
            <a:noFill/>
          </a:ln>
        </p:spPr>
        <p:txBody>
          <a:bodyPr anchor="t">
            <a:normAutofit fontScale="63000"/>
          </a:bodyPr>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ll recommended voting items received by the Board from TAC were Approved during the December 9</a:t>
            </a:r>
            <a:r>
              <a:rPr b="1" lang="en-US" sz="2000" spc="-1" strike="noStrike" baseline="30000">
                <a:solidFill>
                  <a:srgbClr val="000000"/>
                </a:solidFill>
                <a:latin typeface="Gill Sans MT"/>
              </a:rPr>
              <a:t>th</a:t>
            </a:r>
            <a:r>
              <a:rPr b="1" lang="en-US" sz="2000" spc="-1" strike="noStrike">
                <a:solidFill>
                  <a:srgbClr val="000000"/>
                </a:solidFill>
                <a:latin typeface="Gill Sans MT"/>
              </a:rPr>
              <a:t> Board Meeting. </a:t>
            </a:r>
            <a:endParaRPr b="0" lang="en-US" sz="2000" spc="-1" strike="noStrike">
              <a:solidFill>
                <a:srgbClr val="000000"/>
              </a:solidFill>
              <a:latin typeface="Gill Sans MT"/>
            </a:endParaRPr>
          </a:p>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67 – Ancillary Service Redesign </a:t>
            </a:r>
            <a:endParaRPr b="0" lang="en-US" sz="2000" spc="-1" strike="noStrike">
              <a:solidFill>
                <a:srgbClr val="000000"/>
              </a:solidFill>
              <a:latin typeface="Gill Sans MT"/>
            </a:endParaRPr>
          </a:p>
          <a:p>
            <a:pPr lvl="1" marL="402840" indent="-148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quires 3,500 hours of development work including vendor support, which means implementation will not occur in less than 8 months.  This also means project’s timeframe to start should be April for 2015 year end implementation date.  </a:t>
            </a:r>
            <a:endParaRPr b="0" lang="en-US" sz="1800" spc="-1" strike="noStrike">
              <a:solidFill>
                <a:srgbClr val="000000"/>
              </a:solidFill>
              <a:latin typeface="Gill Sans MT"/>
            </a:endParaRPr>
          </a:p>
          <a:p>
            <a:pPr lvl="2" marL="558000" indent="-1440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MS will need to work to complete their tasks to allow NPRR667 implementation to go as planned. </a:t>
            </a:r>
            <a:endParaRPr b="0" lang="en-US" sz="1600" spc="-1" strike="noStrike">
              <a:solidFill>
                <a:srgbClr val="000000"/>
              </a:solidFill>
              <a:latin typeface="Gill Sans MT"/>
            </a:endParaRPr>
          </a:p>
          <a:p>
            <a:pPr lvl="2" marL="558000" indent="-1440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PRR667 status report will be discussed by TAC during the March 2015 TAC meeting </a:t>
            </a:r>
            <a:endParaRPr b="0" lang="en-US" sz="1600" spc="-1" strike="noStrike">
              <a:solidFill>
                <a:srgbClr val="000000"/>
              </a:solidFill>
              <a:latin typeface="Gill Sans MT"/>
            </a:endParaRPr>
          </a:p>
          <a:p>
            <a:pPr lvl="2" marL="558000" indent="-1440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29680" indent="-177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asonal Adjustment Factor</a:t>
            </a:r>
            <a:endParaRPr b="0" lang="en-US" sz="2000" spc="-1" strike="noStrike">
              <a:solidFill>
                <a:srgbClr val="000000"/>
              </a:solidFill>
              <a:latin typeface="Gill Sans MT"/>
            </a:endParaRPr>
          </a:p>
          <a:p>
            <a:pPr lvl="1" marL="402840" indent="-148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pic of discussion at the December Board.  MPs should talk to your Credit Working Group members to get this moving out of the Credit Working Group (CWG) .  The ERCOT Board is looking for a final  solution on the Seasonal Adjustment Factor. </a:t>
            </a:r>
            <a:endParaRPr b="0" lang="en-US" sz="1800" spc="-1" strike="noStrike">
              <a:solidFill>
                <a:srgbClr val="000000"/>
              </a:solidFill>
              <a:latin typeface="Gill Sans MT"/>
            </a:endParaRPr>
          </a:p>
          <a:p>
            <a:pPr lvl="2" marL="558000" indent="-144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690840" indent="-109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02840" indent="-148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02840" indent="-148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5AEE-A681-4B6C-A912-E1981AA71D2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a:t>
            </a:r>
            <a:endParaRPr b="0" lang="en-US" sz="4300" spc="-1" strike="noStrike">
              <a:solidFill>
                <a:srgbClr val="572314"/>
              </a:solidFill>
              <a:latin typeface="Gill Sans MT"/>
            </a:endParaRPr>
          </a:p>
        </p:txBody>
      </p:sp>
      <p:sp>
        <p:nvSpPr>
          <p:cNvPr id="429" name=""/>
          <p:cNvSpPr txBox="1"/>
          <p:nvPr/>
        </p:nvSpPr>
        <p:spPr>
          <a:xfrm>
            <a:off x="914400" y="685800"/>
            <a:ext cx="830592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42</a:t>
            </a:r>
            <a:r>
              <a:rPr b="0" lang="en-US" sz="2200" spc="-1" strike="noStrike">
                <a:solidFill>
                  <a:srgbClr val="000000"/>
                </a:solidFill>
                <a:latin typeface="Gill Sans MT"/>
              </a:rPr>
              <a:t>, Constraint Management During Energy Emergency Alerts  </a:t>
            </a:r>
            <a:r>
              <a:rPr b="1" lang="en-US" sz="2200" spc="-1" strike="noStrike">
                <a:solidFill>
                  <a:srgbClr val="000000"/>
                </a:solidFill>
                <a:latin typeface="Gill Sans MT"/>
              </a:rPr>
              <a:t>(Vote) </a:t>
            </a:r>
            <a:r>
              <a:rPr b="0" lang="en-US" sz="2200" spc="-1" strike="noStrike">
                <a:solidFill>
                  <a:srgbClr val="000000"/>
                </a:solidFill>
                <a:latin typeface="Gill Sans MT"/>
              </a:rPr>
              <a:t>– </a:t>
            </a:r>
            <a:r>
              <a:rPr b="0" lang="en-US" sz="2200" spc="-1" strike="noStrike">
                <a:solidFill>
                  <a:srgbClr val="c00000"/>
                </a:solidFill>
                <a:latin typeface="Gill Sans MT"/>
              </a:rPr>
              <a:t>Motion to Table awaiting associated NOGRR was approved by TAC </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45</a:t>
            </a:r>
            <a:r>
              <a:rPr b="0" lang="en-US" sz="2200" spc="-1" strike="noStrike">
                <a:solidFill>
                  <a:srgbClr val="000000"/>
                </a:solidFill>
                <a:latin typeface="Gill Sans MT"/>
              </a:rPr>
              <a:t>, Real-Time On-Line Capacity Revisions </a:t>
            </a:r>
            <a:r>
              <a:rPr b="1" lang="en-US" sz="2200" spc="-1" strike="noStrike">
                <a:solidFill>
                  <a:srgbClr val="000000"/>
                </a:solidFill>
                <a:latin typeface="Gill Sans MT"/>
              </a:rPr>
              <a:t>(Vote) </a:t>
            </a:r>
            <a:r>
              <a:rPr b="0" lang="en-US" sz="2200" spc="-1" strike="noStrike">
                <a:solidFill>
                  <a:srgbClr val="000000"/>
                </a:solidFill>
                <a:latin typeface="Gill Sans MT"/>
              </a:rPr>
              <a:t>– </a:t>
            </a:r>
            <a:r>
              <a:rPr b="0" lang="en-US" sz="2200" spc="-1" strike="noStrike">
                <a:solidFill>
                  <a:srgbClr val="c00000"/>
                </a:solidFill>
                <a:latin typeface="Gill Sans MT"/>
              </a:rPr>
              <a:t>Approved </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48</a:t>
            </a:r>
            <a:r>
              <a:rPr b="0" lang="en-US" sz="2200" spc="-1" strike="noStrike">
                <a:solidFill>
                  <a:srgbClr val="000000"/>
                </a:solidFill>
                <a:latin typeface="Gill Sans MT"/>
              </a:rPr>
              <a:t>, Remove References to Flowgate Rights </a:t>
            </a:r>
            <a:r>
              <a:rPr b="1" lang="en-US" sz="2200" spc="-1" strike="noStrike">
                <a:solidFill>
                  <a:srgbClr val="000000"/>
                </a:solidFill>
                <a:latin typeface="Gill Sans MT"/>
              </a:rPr>
              <a:t>(Vote) - </a:t>
            </a:r>
            <a:r>
              <a:rPr b="0" lang="en-US" sz="2200" spc="-1" strike="noStrike">
                <a:solidFill>
                  <a:srgbClr val="c00000"/>
                </a:solidFill>
                <a:latin typeface="Gill Sans MT"/>
              </a:rPr>
              <a:t>Approved </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58</a:t>
            </a:r>
            <a:r>
              <a:rPr b="0" lang="en-US" sz="2200" spc="-1" strike="noStrike">
                <a:solidFill>
                  <a:srgbClr val="000000"/>
                </a:solidFill>
                <a:latin typeface="Gill Sans MT"/>
              </a:rPr>
              <a:t>, Changes to Annual Reporting Requirements for RUC Payments Made to Resources with PPAs </a:t>
            </a:r>
            <a:r>
              <a:rPr b="1" lang="en-US" sz="2200" spc="-1" strike="noStrike">
                <a:solidFill>
                  <a:srgbClr val="000000"/>
                </a:solidFill>
                <a:latin typeface="Gill Sans MT"/>
              </a:rPr>
              <a:t>(Vote)- </a:t>
            </a:r>
            <a:r>
              <a:rPr b="0" lang="en-US" sz="2200" spc="-1" strike="noStrike">
                <a:solidFill>
                  <a:srgbClr val="c00000"/>
                </a:solidFill>
                <a:latin typeface="Gill Sans MT"/>
              </a:rPr>
              <a:t>Approved </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59</a:t>
            </a:r>
            <a:r>
              <a:rPr b="0" lang="en-US" sz="2200" spc="-1" strike="noStrike">
                <a:solidFill>
                  <a:srgbClr val="000000"/>
                </a:solidFill>
                <a:latin typeface="Gill Sans MT"/>
              </a:rPr>
              <a:t>, Discontinue RMR Cost Data Deviation Requests/Responses Report </a:t>
            </a:r>
            <a:r>
              <a:rPr b="1" lang="en-US" sz="2200" spc="-1" strike="noStrike">
                <a:solidFill>
                  <a:srgbClr val="000000"/>
                </a:solidFill>
                <a:latin typeface="Gill Sans MT"/>
              </a:rPr>
              <a:t>(Vote) - </a:t>
            </a:r>
            <a:r>
              <a:rPr b="0" lang="en-US" sz="2200" spc="-1" strike="noStrike">
                <a:solidFill>
                  <a:srgbClr val="c00000"/>
                </a:solidFill>
                <a:latin typeface="Gill Sans MT"/>
              </a:rPr>
              <a:t>Approved </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65</a:t>
            </a:r>
            <a:r>
              <a:rPr b="0" lang="en-US" sz="2200" spc="-1" strike="noStrike">
                <a:solidFill>
                  <a:srgbClr val="000000"/>
                </a:solidFill>
                <a:latin typeface="Gill Sans MT"/>
              </a:rPr>
              <a:t>, As-Built Clarification of Reliability Deployment Price Adder </a:t>
            </a:r>
            <a:r>
              <a:rPr b="1" lang="en-US" sz="2200" spc="-1" strike="noStrike">
                <a:solidFill>
                  <a:srgbClr val="000000"/>
                </a:solidFill>
                <a:latin typeface="Gill Sans MT"/>
              </a:rPr>
              <a:t>(Vote) - </a:t>
            </a:r>
            <a:r>
              <a:rPr b="0" lang="en-US" sz="2000" spc="-1" strike="noStrike">
                <a:solidFill>
                  <a:srgbClr val="c00000"/>
                </a:solidFill>
                <a:latin typeface="Gill Sans MT"/>
              </a:rPr>
              <a:t>Approved </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26760" indent="-231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FA0B-90BE-4E84-AA84-2E5035E728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Withdrawals and/or  Tabled Revisions</a:t>
            </a:r>
            <a:endParaRPr b="0" lang="en-US" sz="3200" spc="-1" strike="noStrike">
              <a:solidFill>
                <a:srgbClr val="572314"/>
              </a:solidFill>
              <a:latin typeface="Gill Sans MT"/>
            </a:endParaRPr>
          </a:p>
        </p:txBody>
      </p:sp>
      <p:sp>
        <p:nvSpPr>
          <p:cNvPr id="434" name=""/>
          <p:cNvSpPr txBox="1"/>
          <p:nvPr/>
        </p:nvSpPr>
        <p:spPr>
          <a:xfrm>
            <a:off x="838080" y="914040"/>
            <a:ext cx="830592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ithdrawal: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2 and SCR784 – </a:t>
            </a:r>
            <a:r>
              <a:rPr b="0" lang="en-US" sz="2400" spc="-1" strike="noStrike">
                <a:solidFill>
                  <a:srgbClr val="000000"/>
                </a:solidFill>
                <a:latin typeface="Gill Sans MT"/>
              </a:rPr>
              <a:t>Request for Withdrawal by ERCOT was approved by PRS.  ERCOT and the TDSPs have worked together and recommended combining only the necessary requirements into NPRR783, which should reduce market cost to implement this projec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Notice only to TAC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quest Previously Tabled at TAC:</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VCMRR005</a:t>
            </a:r>
            <a:r>
              <a:rPr b="0" lang="en-US" sz="2400" spc="-1" strike="noStrike">
                <a:solidFill>
                  <a:srgbClr val="000000"/>
                </a:solidFill>
                <a:latin typeface="Gill Sans MT"/>
              </a:rPr>
              <a:t>, Index Fuel Price Urgent – </a:t>
            </a:r>
            <a:r>
              <a:rPr b="0" lang="en-US" sz="2400" spc="-1" strike="noStrike">
                <a:solidFill>
                  <a:srgbClr val="c00000"/>
                </a:solidFill>
                <a:latin typeface="Gill Sans MT"/>
              </a:rPr>
              <a:t>Approved with ERCOT’s comments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46</a:t>
            </a:r>
            <a:r>
              <a:rPr b="0" lang="en-US" sz="2400" spc="-1" strike="noStrike">
                <a:solidFill>
                  <a:srgbClr val="000000"/>
                </a:solidFill>
                <a:latin typeface="Gill Sans MT"/>
              </a:rPr>
              <a:t>, Emergency Operations Settlement for CFC (formerly Emergency Operations Settlement for CFC Testing) – </a:t>
            </a:r>
            <a:r>
              <a:rPr b="0" lang="en-US" sz="2400" spc="-1" strike="noStrike">
                <a:solidFill>
                  <a:srgbClr val="c00000"/>
                </a:solidFill>
                <a:latin typeface="Gill Sans MT"/>
              </a:rPr>
              <a:t>Remained Tabled awaiting associated NOGRR</a:t>
            </a:r>
            <a:endParaRPr b="0" lang="en-US" sz="24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F06B-2F4E-4E41-B661-18C69980DF9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400" y="685800"/>
            <a:ext cx="815328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inimum PTP Option Bid Price </a:t>
            </a:r>
            <a:r>
              <a:rPr b="1" lang="en-US" sz="2400" spc="-1" strike="noStrike">
                <a:solidFill>
                  <a:srgbClr val="000000"/>
                </a:solidFill>
                <a:latin typeface="Gill Sans MT"/>
              </a:rPr>
              <a:t>(Vote) - </a:t>
            </a:r>
            <a:r>
              <a:rPr b="0" lang="en-US" sz="2400" spc="-1" strike="noStrike">
                <a:solidFill>
                  <a:srgbClr val="c00000"/>
                </a:solidFill>
                <a:latin typeface="Gill Sans MT"/>
              </a:rPr>
              <a:t>Approved</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UC Task Force Update: </a:t>
            </a: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cludes – </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hen the wind chill is expected to be below freezing,  a minimum of 600 MW of additional online generation capacity should be procured.  </a:t>
            </a:r>
            <a:endParaRPr b="0" lang="en-US" sz="1600" spc="-1" strike="noStrike">
              <a:solidFill>
                <a:srgbClr val="000000"/>
              </a:solidFill>
              <a:latin typeface="Gill Sans MT"/>
            </a:endParaRPr>
          </a:p>
          <a:p>
            <a:pPr lvl="4" marL="1244880" indent="-174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300 MW when wind chill is expected to be below 20 degrees Fahrenheit</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accounts for the average amount of new generation forced outage, and is not intended to account for extreme evens like January 6 or February 6</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Conclusion will require more discussion at WMS to consider Ancillary Services as an option before invoking RUC.  </a:t>
            </a: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pply Analysis Working Group (SAWG) Updat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pdate Only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763C-B517-4E54-B16B-47C213153A4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2" name="Title 1"/>
          <p:cNvSpPr/>
          <p:nvPr/>
        </p:nvSpPr>
        <p:spPr>
          <a:xfrm>
            <a:off x="1143000" y="-22860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 and ROS Initiativ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 (COP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 Update since COPS didn’t meet in December 2014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pdate only of Retail Market Subcommittee Accomplishments for 2014 and End-of-Year Report Card: </a:t>
            </a:r>
            <a:endParaRPr b="0" lang="en-US" sz="2400" spc="-1" strike="noStrike">
              <a:solidFill>
                <a:srgbClr val="000000"/>
              </a:solidFill>
              <a:latin typeface="Gill Sans MT"/>
            </a:endParaRPr>
          </a:p>
          <a:p>
            <a:pPr lvl="4" marL="1297080" indent="-18252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F4D0-0805-4FD3-8650-4497B1C6D06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7"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PS and RMS Initiatives   </a:t>
            </a:r>
            <a:endParaRPr b="0" lang="en-US" sz="4300" spc="-1" strike="noStrike">
              <a:solidFill>
                <a:srgbClr val="000000"/>
              </a:solidFill>
              <a:latin typeface="Arial"/>
            </a:endParaRPr>
          </a:p>
        </p:txBody>
      </p:sp>
      <p:graphicFrame>
        <p:nvGraphicFramePr>
          <p:cNvPr id="448" name="Object 1"/>
          <p:cNvGraphicFramePr/>
          <p:nvPr/>
        </p:nvGraphicFramePr>
        <p:xfrm>
          <a:off x="4216320" y="4343400"/>
          <a:ext cx="914400" cy="771480"/>
        </p:xfrm>
        <a:graphic>
          <a:graphicData uri="http://schemas.openxmlformats.org/presentationml/2006/ole">
            <p:oleObj progId="Word.Document.12" r:id="rId1" spid="">
              <p:embed/>
              <p:pic>
                <p:nvPicPr>
                  <p:cNvPr id="449" name="Object 1" descr=""/>
                  <p:cNvPicPr/>
                  <p:nvPr/>
                </p:nvPicPr>
                <p:blipFill>
                  <a:blip r:embed="rId2"/>
                  <a:stretch/>
                </p:blipFill>
                <p:spPr>
                  <a:xfrm>
                    <a:off x="4216320" y="4343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200" spc="-1" strike="noStrike">
                <a:solidFill>
                  <a:srgbClr val="572314"/>
                </a:solidFill>
                <a:latin typeface="Gill Sans MT"/>
              </a:rPr>
              <a:t>Ancillary Services Re-design Update </a:t>
            </a:r>
            <a:endParaRPr b="0" lang="en-US" sz="3200" spc="-1" strike="noStrike">
              <a:solidFill>
                <a:srgbClr val="572314"/>
              </a:solidFill>
              <a:latin typeface="Gill Sans MT"/>
            </a:endParaRPr>
          </a:p>
        </p:txBody>
      </p:sp>
      <p:sp>
        <p:nvSpPr>
          <p:cNvPr id="451" name=""/>
          <p:cNvSpPr txBox="1"/>
          <p:nvPr/>
        </p:nvSpPr>
        <p:spPr>
          <a:xfrm>
            <a:off x="838080" y="380520"/>
            <a:ext cx="830592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67 – Ancillary Service Redesign 11-18-14 </a:t>
            </a:r>
            <a:r>
              <a:rPr b="1" lang="en-US" sz="2800" spc="-1" strike="noStrike">
                <a:solidFill>
                  <a:srgbClr val="000000"/>
                </a:solidFill>
                <a:latin typeface="Gill Sans MT"/>
              </a:rPr>
              <a:t>(posted)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minder: Comments due by January 21, 2015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67 – Impact Analysis 11-18-14 (posted)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minder:  Workshop dedicated to NPRR667 to discuss Market comments received by 1/21/15 instead of merging with another subcommittee meeting </a:t>
            </a:r>
            <a:r>
              <a:rPr b="1" lang="en-US" sz="2000" spc="-1" strike="noStrike">
                <a:solidFill>
                  <a:srgbClr val="c00000"/>
                </a:solidFill>
                <a:latin typeface="Gill Sans MT"/>
              </a:rPr>
              <a:t>(couple of suggested dates planned for end of January 2015)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minder:  Workshop maybe created dedicated to reviewing NPRR667 CBA</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5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EE2F-D8E6-41F8-B924-2644187DB08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Operations &amp; Other Business</a:t>
            </a:r>
            <a:endParaRPr b="0" lang="en-US" sz="3600" spc="-1" strike="noStrike">
              <a:solidFill>
                <a:srgbClr val="572314"/>
              </a:solidFill>
              <a:latin typeface="Gill Sans MT"/>
            </a:endParaRPr>
          </a:p>
        </p:txBody>
      </p:sp>
      <p:sp>
        <p:nvSpPr>
          <p:cNvPr id="456" name=""/>
          <p:cNvSpPr txBox="1"/>
          <p:nvPr/>
        </p:nvSpPr>
        <p:spPr>
          <a:xfrm>
            <a:off x="1066320" y="762120"/>
            <a:ext cx="8077320" cy="5410080"/>
          </a:xfrm>
          <a:prstGeom prst="rect">
            <a:avLst/>
          </a:prstGeom>
          <a:noFill/>
          <a:ln w="0">
            <a:noFill/>
          </a:ln>
        </p:spPr>
        <p:txBody>
          <a:bodyPr anchor="t">
            <a:normAutofit fontScale="89000"/>
          </a:bodyPr>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rad Jones, new ERCOT COO,  provided presentation of the ERCOT Organizational changes, Ken McIntyre will replace Brad at TAC.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 Brad there </a:t>
            </a:r>
            <a:r>
              <a:rPr b="1" lang="en-US" sz="2400" spc="-1" strike="noStrike" u="sng">
                <a:solidFill>
                  <a:srgbClr val="c00000"/>
                </a:solidFill>
                <a:uFillTx/>
                <a:latin typeface="Gill Sans MT"/>
              </a:rPr>
              <a:t>shouldn’t be any changes</a:t>
            </a:r>
            <a:r>
              <a:rPr b="1" lang="en-US" sz="2400" spc="-1" strike="noStrike">
                <a:solidFill>
                  <a:srgbClr val="c00000"/>
                </a:solidFill>
                <a:latin typeface="Gill Sans MT"/>
              </a:rPr>
              <a:t> </a:t>
            </a:r>
            <a:r>
              <a:rPr b="0" lang="en-US" sz="2400" spc="-1" strike="noStrike">
                <a:solidFill>
                  <a:srgbClr val="000000"/>
                </a:solidFill>
                <a:latin typeface="Gill Sans MT"/>
              </a:rPr>
              <a:t>to ERCOT’s current representation at the Subcommittee level.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3811-AB69-4459-920F-65885D3755D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8F8A-5F56-4293-9095-378549D2E0C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6, 2015</a:t>
            </a:r>
            <a:endParaRPr b="0" lang="en-US" sz="1200" spc="-1" strike="noStrike">
              <a:solidFill>
                <a:srgbClr val="000000"/>
              </a:solidFill>
              <a:latin typeface="Arial"/>
            </a:endParaRPr>
          </a:p>
        </p:txBody>
      </p:sp>
      <p:sp>
        <p:nvSpPr>
          <p:cNvPr id="46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64"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12-18T18:52:33Z</dcterms:modified>
  <cp:revision>628</cp:revision>
  <dc:subject/>
  <dc:title>Instructions</dc:title>
</cp:coreProperties>
</file>