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199-6E8D-4F4B-B435-62CA8927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A71-F01B-4D8E-BEC7-3C2B810B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443-E51D-496B-82C6-E8869618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6338-0137-40E4-9247-5DAEA725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DDD-C9DB-4E93-A689-375A1D3C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305-D3C3-445D-A28B-209B36C0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E05-C90C-4B21-80AF-5AF8C87E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706-EF06-4F20-99B8-5998E417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377-887A-47A4-8B11-39164851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B12-18FA-4583-A8A2-57CD217A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5AC-8111-4A3F-8A30-527BAE10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7E0-CF73-4971-8799-A68621FE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1C20-F645-429D-B459-2AC6853B6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lution Days: 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lid Inadvertent/Rescission Issues by Closed D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hart 3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20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 Count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id Inadvertent Issues by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ssue Count" descr=""/>
          <p:cNvPicPr/>
          <p:nvPr/>
        </p:nvPicPr>
        <p:blipFill>
          <a:blip r:embed="rId1"/>
          <a:stretch/>
        </p:blipFill>
        <p:spPr>
          <a:xfrm>
            <a:off x="225360" y="1523880"/>
            <a:ext cx="87663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advertent/Rescission Issu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centage of Enroll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hart 4" descr=""/>
          <p:cNvPicPr/>
          <p:nvPr/>
        </p:nvPicPr>
        <p:blipFill>
          <a:blip r:embed="rId1"/>
          <a:stretch/>
        </p:blipFill>
        <p:spPr>
          <a:xfrm>
            <a:off x="225360" y="1444680"/>
            <a:ext cx="859464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8:41:46Z</dcterms:created>
  <dc:creator>Michelsen, David</dc:creator>
  <dc:description/>
  <dc:language>en-US</dc:language>
  <cp:lastModifiedBy>Yockey, Paul</cp:lastModifiedBy>
  <dcterms:modified xsi:type="dcterms:W3CDTF">2015-01-05T15:23:02Z</dcterms:modified>
  <cp:revision>99</cp:revision>
  <dc:subject/>
  <dc:title>PowerPoint Presentation</dc:title>
</cp:coreProperties>
</file>