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9FD11-CCCC-4497-8AA2-2797FC435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432F4-E992-4AA6-82ED-88DB715DB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E30-56CC-4E18-B202-9A85945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376-D60D-455B-A7A7-3D34C92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9A6-F268-448F-9E23-402EF48E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D68-DA87-481C-990E-6A12069D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408-9989-47E7-B989-961BAD7B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C25-8A02-4440-B2AC-E18500F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E05-830E-4461-93F1-34B040B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7EE-9645-42D5-8552-B252518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2F2-24ED-4F0A-8568-AB46076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5CD-CA5C-4C73-B79F-33774152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1D8-D38B-4598-A186-6DC4FD5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162-C3A7-44B3-8D38-3397C6B4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2D1B5-D2BF-4DB6-B9A7-FD077AAC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EE2E9-914F-4E78-A300-0B88AE8A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33209-CD95-4ECA-BA98-A07D9ED75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4A567-9E86-4AFD-B4E6-3E7AABA2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3B467-98A5-49D2-B8C3-30196993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0477A-74A8-48FD-A6E7-2A1F669B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F06FF-EE2B-4757-8B4B-35618109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14447-1B4B-4F2B-A965-0015D722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A456A-680B-4A80-8774-8BE53678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EB68A-CFE8-450C-BDFF-F22FA173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3"/>
          <p:cNvGrpSpPr/>
          <p:nvPr/>
        </p:nvGrpSpPr>
        <p:grpSpPr>
          <a:xfrm>
            <a:off x="603360" y="1498680"/>
            <a:ext cx="7727760" cy="4055040"/>
            <a:chOff x="603360" y="1498680"/>
            <a:chExt cx="7727760" cy="4055040"/>
          </a:xfrm>
        </p:grpSpPr>
        <p:pic>
          <p:nvPicPr>
            <p:cNvPr id="503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Box 9"/>
            <p:cNvSpPr/>
            <p:nvPr/>
          </p:nvSpPr>
          <p:spPr>
            <a:xfrm>
              <a:off x="787320" y="3082680"/>
              <a:ext cx="754380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nnual Review of the Minimum Point-to-Point Option Bid 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avid Magg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ember 18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2"/>
            <p:cNvSpPr/>
            <p:nvPr/>
          </p:nvSpPr>
          <p:spPr>
            <a:xfrm flipV="1">
              <a:off x="787320" y="280476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79440" y="9144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cols require TAC to review the Minimum Point-to-Point (PTP) Option Bid Price at least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7.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chnical Advisory Committee (TAC) shall review the current Minimum PTP Option Bid Price at least annually and may recommend to the ERCOT Board a change to this value by submitting a Nodal Protocol Revision Request (NPRR)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currently set at $0.01/MWh in Section 2 of th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 recommending that the value remain unchanged and is asking for approval from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. Boren</cp:lastModifiedBy>
  <cp:lastPrinted>2013-01-30T23:16:36Z</cp:lastPrinted>
  <dcterms:modified xsi:type="dcterms:W3CDTF">2014-12-11T18:04:56Z</dcterms:modified>
  <cp:revision>12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