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6AECF-09D6-4CC1-B543-F37877F9C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FF1DF-F082-4FE4-B3D8-C1D4E99D2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D8A-F13B-4BFF-ABF2-4D1842D1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67-D5ED-4F46-A800-E4AAEC2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2D9F0-25DA-45AF-BBBF-4BF2020C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09ABE-B8AB-45D7-B605-E13543F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02274-6DAB-422D-90A9-5417BEBE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F44255-EB53-40EE-AE94-C024F1C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3E415-294C-435A-9C5D-25BFB5F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384ED-29E0-4E91-A4B5-1A0C341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D04EB-30D1-406C-B6CC-0AC637F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777D29-A364-4AD9-B61E-E28F46A0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E5956-BCCE-462F-869F-1F74989F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48CE4-E2A6-47E8-BEDC-51BB1EB6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5EA-2968-4511-AFE8-4C5AC562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8F614-03A2-4C6F-964B-32374B57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FB116-9138-44F5-B24E-961441C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5B768-F73C-48E6-8605-242A2DB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6252F-BEBD-4FBD-8449-D8829EF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10A9E-B63D-465B-9EA1-03F79C5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E62A4-FD80-46D7-A5EC-A322A32F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BEDA7-4197-49CD-AB03-760BF5D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1458C-C61B-47B9-93D9-E1EA282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B268D-8973-41C6-A1C8-048D5B5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B6724-6895-4DA0-B031-AB78AF4D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B2C-94CA-4D5F-9FC6-4A74798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96E28-DEAC-41A5-AD98-53119C0B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A0A9E-D7EF-4051-A38B-3D8F8697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B5BEA4-6595-4C09-906E-ABC3EE92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0D9DF-53CF-4A83-9C1D-BB8DD56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0BAC7-FFBD-48C3-88E0-7744CC3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523DB3-CA24-4D13-A278-4D66158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D72DA-01B7-4E8C-A1D9-C3147A8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884249-E8B8-47C7-8295-3C79B2E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52BDC8-625C-4C16-896B-2475DD8E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639524-6D22-49C6-A9B9-0BC1E5E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5826-8704-4577-98CF-05A98A15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E6B59B-68F3-4775-92DE-A3066E9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EC686-1680-49CE-9025-B81B3D1A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4D926D-0654-476F-9070-639021DF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2A0-4907-4EAF-96F3-85C0159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9145-8A18-43E2-8426-C68123E4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1DBE-EC20-4505-81A3-9EABC98A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66A-91BD-4EA3-9147-D4DA1B0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409-AF3E-412D-936E-12A8C02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006F-C721-4F08-A5E2-EE4852D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2C5-C9B4-4AC7-84BD-DE5B4F8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28B-9D42-48DB-B544-A40A17F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EB24-DDA0-4357-BC02-C33A8BA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C54-C2F1-418C-A168-F37D58B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3660-C71F-4EC9-A076-01394E00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9AC0-5EB7-4A7C-B4B4-6A0A469B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01A-931C-4276-A5AF-FB599EA8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812-1F02-461A-9ED8-0D6A9246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97AD5-D97E-4CCD-AB39-496379B7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1EA-1227-4423-AF09-3E699488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944B8-0A9B-43FC-A5B3-856F2E1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EF0B5-97EC-4D86-AFAC-7D51C2B6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EEBF5-AF77-4ECA-AD21-7373281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225CE-5124-4810-8F10-88AE885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31E2C-D54F-4AE8-B442-7CB204F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3F708-7CC3-4D70-B129-9930D1D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06D70-BD93-40A8-B01B-1F7AE98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D438B-4366-4CBD-B887-2E50417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65A83-374C-4A36-B161-86D26ACD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F640A-CF94-42F8-B398-A036BE3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11B-A8B6-40A0-9F40-1617FE3B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0E6D8-959B-452A-817A-4EFC991D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BC64EC-0EB3-462E-BDA3-8B7B6DF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313B8-79C4-428C-9F90-6A5D9A7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BB4CC-F1E5-4DC2-BC02-07794843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D5993-F707-4DEB-9EE0-92A74EB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08072-7FB9-436F-AEFA-D9E46C5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2C9AE-7B2C-4843-9475-7AB8281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028C80-EB29-448E-A359-7334DA7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B2B4B-EB03-4277-AAEC-1F01368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3E5F5-FC25-4C37-8F14-DECC596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281-6F47-4ACA-BEE3-3F6268F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3FD1A-780B-4118-965A-98BC7F7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8BB61-D5F1-4915-BCD8-7C395428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C1528-E137-4BCE-A28B-FEF19FBD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280244-C20A-4B2E-A142-3C76B79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AD7F5-FDC3-4D15-BDBE-1A3E0EA0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14E17-D4B8-486C-890C-7D694BB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1FDAAC-5370-4892-AE16-7B8F8FB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FB3C38-1A70-4A96-B5C9-604FAC5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36B13-DA36-4E8F-B5AB-6E340F7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DCD0D-20D1-45CB-B1C6-6BFFECFD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04B-EED2-43BA-A50E-76B89E46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F493E-A9AB-4740-B87C-B53B6B8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27D84-575F-40D9-893D-C014E58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FD3414-91A7-44C8-9510-B323C99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9A0F4-1B91-4622-9BC7-BE997BE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E3BA2B-546B-4F64-8B47-6A6BA8E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70D528-5A87-4A3A-AEB3-7FC28FED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E1D3F5-87B2-4892-BA8F-226FD809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82938-AD48-4BEB-AD64-D23D5D43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138C3D-F6D8-47EB-AAC6-C850CCB2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C018E7-6C36-4FCB-92FF-E1773BAE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8C6-AC5F-4B94-A345-4F532D1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49A8F-A082-4673-A481-13715A1F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8EFEA-6D97-477F-98BD-A241D0F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B79EB8-788F-4FFD-A6E3-68AD671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466F3-5E8D-4CBF-9F70-80C4A30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24EB9-B425-4212-A036-3C49A7E2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DA722-C340-437D-9E5E-4459C46C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598F6-4DC7-443C-A1A8-169B3591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AB7A6-5BB7-440E-8388-EC5F620B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6ECD6-1BFD-447B-85EA-67EF1C8B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4DAE8-2A78-4324-8AE8-8E3A2000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E91D7-F901-4F31-AA2B-2112BB5D50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AECDF-0985-4D01-B97B-71695D4DD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1A538-AC83-4817-9A43-A037958ED5A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D9BEA-8A85-4577-98DC-C22A3097A62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6BD22-5FC6-466C-ADBE-6069D9C3F87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DA984-6687-4AD2-9B2E-5D400D93B5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C221D-7725-4339-A265-47E28B7834F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9186A-36C2-422E-9F04-3192CB74E95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7E3E3-5077-4C96-B7DF-A39681D6BE7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4983E-2BA4-4E15-B8CC-9C74DCC681D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51955-BC90-459E-81DF-EFEA873E120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A3508-80BB-44C6-9596-9D983AE07E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EF834-BD3A-4AD7-B3EC-0D2E9CA6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467BA-4175-4F8A-99BD-0033EAC0A34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785A0-B67E-48B9-9D8E-43C976AC0A6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72E8C-7DDF-489E-8571-2491D2571BD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510C-CE39-4811-8559-5B708B19A6D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C115C-0E82-43A8-89EB-50038956296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449B2-0FB6-420C-9B69-151E9847A7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9841-71F1-4A2B-B562-FFB7BB4AF34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C021-E2F4-43E8-BA4F-376F16A2FF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BD623-313E-4903-81E3-C6983F247B6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5343E-9898-473A-810B-AAB6B1B5C6E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18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30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 4, 2014  - cancell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n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18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Vo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 i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18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source Interconnection Handboo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Handbook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working on revised Draft Handboo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Whitepaper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ing more language to better explain differen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ed PGRR language for ERCOT revie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18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further explo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mplementation co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oad participa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conducting survey with TDS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 18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12-16T16:18:56Z</dcterms:modified>
  <cp:revision>78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</Properties>
</file>