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DC3C0-0181-4A8A-B432-70A8B48AB62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D44FA-249F-46A1-92C3-0FC755429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B7487-8B77-4196-BD26-2FB12447F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7156A-8670-4E90-9A2A-9D4C08682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41D-7E1F-4CA7-A2E4-B2917D5D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5DF-32D0-4269-B198-74CA4DE3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838-1E60-4BEF-BA39-6D20FB52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EA7F-83D3-471B-A271-DB6BD0C7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FD6-A21F-4586-AAC2-2150229B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A27-9A59-43FA-90A8-5B638F3F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7085-700B-4983-A24F-0E339658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2884-B54E-46BD-BA53-A3815A34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5A7-9727-45DF-9013-80911BC1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0E0-80C1-4F03-AEA8-B3267BBF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510-EF2E-4BD4-B028-DFB91BF5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910-84FC-446D-99BB-9590E63F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E6372-13CA-4056-B178-292EE2A3FA5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holesale Market Subcommittee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95200"/>
            <a:ext cx="305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repared for the Dec. 18th TAC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C Task Force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MS assigned the RUC TF to look at the need to procure RUC during system wide shortages related to cold wea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December WMS meeting we approved a motion to direct the RUC TF to propose alternatives to RUC for capacity with incremental AS purchase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ly Analysis Working Group (SAWG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MS approved the creation of the SAWG Charter to encompass market design enhancements in addition to traditional resource reporting activ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sentially is a combination of the GATF and RAT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ay of vote the WMS directed the SAWG to draft a revision control process for creating the S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ay of vote the WMS directed the SAWG to work with ERCOT on developing multiple draft NPRR(s); one for Multi-Interval SCED, and one Real Time Co-Optimization; and develop a framework to assess costs and benef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111240" y="-3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AC Assignment List Upd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27120" y="824040"/>
          <a:ext cx="8085240" cy="4833720"/>
        </p:xfrm>
        <a:graphic>
          <a:graphicData uri="http://schemas.openxmlformats.org/drawingml/2006/table">
            <a:tbl>
              <a:tblPr/>
              <a:tblGrid>
                <a:gridCol w="901800"/>
                <a:gridCol w="3627360"/>
                <a:gridCol w="3556080"/>
              </a:tblGrid>
              <a:tr h="528480">
                <a:tc gridSpan="3"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MS Assignments From The T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g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28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PRR181, FIP Definition Revision, tabl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MS concluded it would best to re-evaluate this after the FERC gas electric coordination NOPRR is finalized (Q1/Q2 201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27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tenance/Improvement of operational checklist for Resource interconn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posted an updated version of the Resource Interconnection Handbook on 12/18 and QMWG review is ongo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24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 concerns with bringing RUC units earlier than required because of start-up fail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 (see previous sli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27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d to NPRR582, Refinements to Testing ERS – address testing requirements for all Resourc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MWG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ongoing.  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T has provided data to assess testing impact on price form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25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ltage Reduction – assess cost issues and applicability to loads as well as market imp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 assigned to the QMWG at the Oct. 29th WMS meeting.  QMWG is assessing price formation impac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20:43:11Z</dcterms:created>
  <dc:creator>Systems Administrator</dc:creator>
  <dc:description/>
  <dc:language>en-US</dc:language>
  <cp:lastModifiedBy>Systems Administrator</cp:lastModifiedBy>
  <cp:lastPrinted>2014-03-25T15:14:24Z</cp:lastPrinted>
  <dcterms:modified xsi:type="dcterms:W3CDTF">2014-12-12T21:37:06Z</dcterms:modified>
  <cp:revision>289</cp:revision>
  <dc:subject/>
  <dc:title>The Wholesale Market Subcommittee</dc:title>
</cp:coreProperties>
</file>