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FD76E4-4F9E-4F36-A99B-0329FB8ABE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646CC2-96AE-4240-ADFD-2D4F41C247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D35D7C-561E-42DA-B029-400E423EEE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4D0A-E48E-406F-8D1C-495ACE5CF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A8F2-028C-4B79-8D30-2027D4BA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C755-9015-452C-91FD-55B31C7B4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E9AD-2E2B-4F7E-AF84-6BACDFEEC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6EC2-E353-4A1D-9ADA-C279986E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92AA-B202-407C-AEE7-2C05498E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01F6-54BB-4A44-BCAC-A90C615E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0C33-6DA4-4EEE-9374-7566C4E6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47F7-00B2-4F45-8D7E-78E466B7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7F60-59FF-4B4C-9DFD-5D397FEC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404A-6911-4B8E-A620-7813125B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D272-502C-4AB9-8086-307F8E85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30C825-D336-450F-8AAE-8C0840200B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ftr" idx="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8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D12413-9690-425F-A53F-AD21F101E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ftr" idx="5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22" name="Straight Connector 6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295458-2ADD-4E9E-A1AC-E9B8972EF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ftr" idx="6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13"/>
          <p:cNvGrpSpPr/>
          <p:nvPr/>
        </p:nvGrpSpPr>
        <p:grpSpPr>
          <a:xfrm>
            <a:off x="787320" y="2804760"/>
            <a:ext cx="7543800" cy="2840760"/>
            <a:chOff x="787320" y="2804760"/>
            <a:chExt cx="7543800" cy="2840760"/>
          </a:xfrm>
        </p:grpSpPr>
        <p:sp>
          <p:nvSpPr>
            <p:cNvPr id="171" name="TextBox 9"/>
            <p:cNvSpPr/>
            <p:nvPr/>
          </p:nvSpPr>
          <p:spPr>
            <a:xfrm>
              <a:off x="787320" y="3082680"/>
              <a:ext cx="754380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tem 3: PRS Repor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ohn Varne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4 PRS 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chnical Advisory Committee (TAC) Mee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cember 18, 20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403200" y="655560"/>
            <a:ext cx="84931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sion Requests Recommended for Approval by PRS – Unopposed (Vot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642, Constraint Management During Energy Emergency Alert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645, Real-Time On-Line Capacity Rev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648, Remove References to Flowgate Right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658, Changes to Annual Reporting Requirements for RUC Payments Made to Resources with PPA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659, Discontinue RMR Cost Data Deviation Requests/Response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665, As-Built Clarification of Reliability Deployment Price Adder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sion Requests Withdraw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782, Outage Scheduler Enhancements – Group 1, TSP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784, Outage Scheduler Enhancements – Group 3, Group Outage and Usability Enhanc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* denotes no impa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82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of PRS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A. Boren</cp:lastModifiedBy>
  <cp:lastPrinted>2013-01-30T23:16:36Z</cp:lastPrinted>
  <dcterms:modified xsi:type="dcterms:W3CDTF">2014-12-12T18:38:58Z</dcterms:modified>
  <cp:revision>243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EB6C32BA7893B4D8D08DA703C6B8599</vt:lpwstr>
  </property>
  <property fmtid="{D5CDD505-2E9C-101B-9397-08002B2CF9AE}" pid="3" name="Information Classification">
    <vt:lpwstr/>
  </property>
</Properties>
</file>