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1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1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763B6-A934-4745-95F9-7685459E8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F614D9-AD5F-4718-B70E-1A528DC48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9BD-9355-47BB-A5B8-F6E42550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B1B-4948-4CE8-90A8-994D8DE5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23D-3878-4443-A06D-938DCE77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381-9E27-41ED-9083-379DA300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1AF-69CD-482C-9410-9CAC3930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048-3486-4CDA-9B35-D3482FB0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01D-2B71-401F-B070-68F4B912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F20-692F-47CC-8FA4-6E96E866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2DC-F61D-44C5-8F2E-39016C97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E2C-A033-488F-BB02-A5F99E10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7C6-E25A-47C4-940C-A4858DBA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973-A2C2-4606-912D-B911B838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1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FF069-E442-4636-987A-75630CDA2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56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E3438-23DF-4135-9A86-FC666FCCD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ftr" idx="1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80EA2-F15A-4BAA-84FF-17FC22C199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2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3ABEB-D796-41C8-897C-B00AB41E5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B8481-F866-4073-8535-DADAEC4BE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67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29F7D-2D43-4F94-BCE0-4F4218D32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D121C-7C73-4CD7-8E83-F75443A67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53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C5EA2-3B17-4115-8532-27068E116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300EF-77A0-4A18-97B8-080CE1578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3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54E16-67C0-422D-BA57-EC32E7469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13"/>
          <p:cNvGrpSpPr/>
          <p:nvPr/>
        </p:nvGrpSpPr>
        <p:grpSpPr>
          <a:xfrm>
            <a:off x="603360" y="1498680"/>
            <a:ext cx="7727760" cy="4055040"/>
            <a:chOff x="603360" y="1498680"/>
            <a:chExt cx="7727760" cy="4055040"/>
          </a:xfrm>
        </p:grpSpPr>
        <p:pic>
          <p:nvPicPr>
            <p:cNvPr id="503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603360" y="14986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TextBox 9"/>
            <p:cNvSpPr/>
            <p:nvPr/>
          </p:nvSpPr>
          <p:spPr>
            <a:xfrm>
              <a:off x="787320" y="3082680"/>
              <a:ext cx="7543800" cy="24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nnual Review of the Minimum Point-to-Point Option Bid Pri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avid Magg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ember 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 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Straight Connector 12"/>
            <p:cNvSpPr/>
            <p:nvPr/>
          </p:nvSpPr>
          <p:spPr>
            <a:xfrm flipV="1">
              <a:off x="787320" y="2804760"/>
              <a:ext cx="628632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79440" y="9144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tocols require TAC to review the Minimum Point-to-Point (PTP) Option Bid Price at least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7.7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chnical Advisory Committee (TAC) shall review the current Minimum PTP Option Bid Price at least annually and may recommend to the ERCOT Board a change to this value by submitting a Nodal Protocol Revision Request (NPRR)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is currently set at $0.01/MWh in Section 2 of th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is recommending that the value remain unchanged and is asking for endorsement from W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79440" y="135540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lans to take its recommendation to TAC later this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AC chooses to move forward with ERCOT’s recommendation, no further action will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Albracht, Brittney</cp:lastModifiedBy>
  <cp:lastPrinted>2013-01-30T23:16:36Z</cp:lastPrinted>
  <dcterms:modified xsi:type="dcterms:W3CDTF">2014-11-26T18:06:36Z</dcterms:modified>
  <cp:revision>127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>ERCOT Limited</vt:lpwstr>
  </property>
</Properties>
</file>