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F89D6-7CA6-4B5A-AB5C-5F14BFEB9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7E959-0EDE-46FA-A7C0-13CD45BCD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AE6-CE83-4688-B24D-25378AAB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8B3-31EF-4521-8A1B-E98E7D21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C4D0F7-87AD-4047-8259-4BBCDC56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8C859E-E9F3-4ACB-BC77-AA913DEB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047BC1-B303-4794-93DA-C3053FF4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703171-9DBA-42BB-87B2-C2D09E16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AFEF92-B4D8-42A7-9F5A-9C139FFA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825E67-0C1E-4912-A9E8-E6E05D9B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E8A14-9971-4BF6-8170-00DFA85A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742139-5BDB-4141-9B98-B10525F5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8C8399-9169-4F65-B7C0-936E3145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0BD47-E7F9-4BB9-B18A-7F3AE65A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BFF-DCB1-43AE-B158-122EA379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92D0B-7533-4D90-B42C-FB1EFD02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E0F8F-DC5B-4849-8811-F028FFD1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7057C-7210-4ACF-9E57-0F8BBC97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A607D-226D-4FE7-B92A-208C5081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3C743-748E-400C-B761-A395D4D7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65753-CA6F-4A91-B8A7-37CBDD9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1905F-297A-462A-8515-C352CBE4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85DC9-DF89-4F98-BEB3-F0F265D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1F1E1-F5ED-4981-B96B-3F7E4086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C1F4E-2E5C-4D44-98EC-53349979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904-90A7-4407-ADE6-05D08E03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4BD9B-88AE-4C65-A424-218BCF01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996575-8230-48B0-B503-B58893C7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F27436-1E37-4AFB-9D6A-5204B9C1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D70988-C1E7-44BF-87D7-6150670C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DD3DBA-94E4-474E-AEA2-AF3E87BA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8A75F8-6D76-4662-BE25-4ADAFFE5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333CD4-A9D4-4664-BA07-E4F19077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4A44ED-5DF8-4371-95E9-05791F52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401539-38D1-4C98-ABDC-5897D01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70C45A-131D-4CA5-BE48-FE45EF48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1FAA-A3CA-4D82-B821-AE0D0D84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8C6B03-FE34-4499-B386-2CA8737B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B3D1C4-0205-41EE-82BF-66B9FD7D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C7D068-63E0-4EA1-87C7-23B0F478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AAB5-616E-464C-8E36-E167BF39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D27A-B322-457F-9C94-E58509BE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314C-5AC2-4478-A8B7-AFA6853D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14ED-E2C6-4916-9999-A5BA76B0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1EC5-7801-471B-8162-9426C258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4A66-4A54-4B24-BC34-13B9CE68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17E-8A2D-4774-BAC2-665432F4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05C1-8041-4975-9934-E05C391A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CBC8-4C65-41DA-B3DE-E4A6864E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D6B8-8851-4A2C-9208-0B141988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463B-7C7A-4D5B-83FE-2E17FFD6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1A8B-D100-4B7B-9A8B-BFC2AADD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246-AF32-41D7-A90B-489C1193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06C-7B01-465E-9D00-15269023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60EFA-8BD3-43B6-9752-8C8CA9E4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225-52DF-44E6-824D-8D6989CF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43101-7EF8-4AB6-9EF5-2715F262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9BD07-9282-4995-A3F6-E6E2D771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6F184-8B68-41EC-987A-6FBF8F93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39355-00B6-4F70-B3D2-285AA27E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C0B97A-BDCC-477F-A3A4-654094DB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45CED-9DAB-462A-86CD-E1B8C7FF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B0049-20AF-4953-A7A7-E649510F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997E8-E4C8-4EB0-A8AE-2E328B5D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C9044-374D-43F1-931D-43D2276F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40A67-A01F-4607-8BCF-D41AF202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3E2-1E53-4EE0-A2DC-649AF829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14F0D-4449-4C95-9F63-05CC6436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75BF45-7476-4C4C-A477-2558DA86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5BFF1D-212F-46F1-900A-3E3F921F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59E42D-0366-483C-A6DF-3F7EDE62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A7D902-3248-4A40-98F0-A7D97F4B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AEEF94-FE3F-41AF-8D65-7E99F2C9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87A6EC-44D3-4EC8-9EF6-3A4E3FF4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2436F7-06A6-4BAE-9E7B-CC73DA99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84474E-0103-4800-A50B-0426090C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B91111-E72F-4644-AA28-C9AEFA31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F40-770A-4434-A2B7-D46196FC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A1E342-D6E4-47D6-8155-C9822D6F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C7FB50-2E3E-4DBE-8F94-E8658EE9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684A9A-ED60-40B2-8841-28918CC6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0565D7-2DAF-4AC5-9C2A-96FB8858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9ABF48-31DC-445A-A1AD-B65CDF9B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848D8E-9027-498C-8563-21E6A700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500874-4304-4E54-8B14-74FE61EA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92AFA7-0E6F-4821-9A82-64A351E5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17B552-2452-4FB1-8D52-3562C337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03219E-6E07-41A4-98FD-09D4621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AB4-9B73-4DDC-A126-6CDFD562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77529F-349F-45C1-9919-38C3C271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A69A83-A3A3-4854-BA4C-0C24F065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A02065-FF51-46C8-89A6-6E2F4D8D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210762-3385-4032-A5F4-49227CA9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1DA121-01D6-4703-A3F2-A3C5BE7C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7ADE3F-3E75-41D3-82BC-4AD349A5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A12F5C-F2FC-4B06-AC68-5B835AAC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BB8930-A60A-4B4F-A151-A4ADF30F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7B9178-7B9C-4A51-8A31-203EF6EF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99A501-6643-475E-83E0-5D8FF4DC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734-AB77-4EA0-8BBC-92FFCC14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30E45A-13AD-4E38-89F8-ED191033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A8B1F6-669E-49B6-8A68-17AF7CEE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F71C4F-E9D0-4785-8F24-85C0E210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8BC44B-CF13-453E-B6BC-17BB6AA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E42DE8-55F5-49E6-996D-3D9FBDC7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31D977-23EE-4FBF-A1BF-630E87A1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75E0C2-57F3-4BE6-8E03-75B50C5D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147BAF-B8EF-43BA-A861-7DCD3D96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D611F5-D605-405D-B118-260272F6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246492-4D08-48FA-9446-2F299367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7FE11-96B7-40C5-94FA-617F1AC6AB7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AFA8C-7550-4A01-AFAB-6B480975D7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4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478CC-9436-4DC7-A326-CA696217031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5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DD4A2-C4D8-47EA-8BF0-75AF05DFC4C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6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8B4AE-3DC2-4B6B-9CCA-B40175B07EC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8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9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70016-337A-4A14-81DD-EEAA01D471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C38CE-65E7-45E6-B9E5-D8F8AD4D25F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43D19-2865-42C1-9140-289F57E2A92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89B76-555C-4D72-8063-14E66E89C7F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9B6F1-A88C-4086-8E76-FBE1ED4E64B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5AEA2-FD1B-4DAD-8619-1BDB5714A26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6DA35-6519-4F33-8403-450E46A71E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363FB-A91F-4C40-B717-748D26BF1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6F0BF-44A7-457E-B07F-63DAFCFD7F4D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CEED0-7C63-4B6D-9D43-7848619CADF5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B8B4B-6C09-41A7-9AD5-3942B24BFB0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3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F454E-44F5-478E-8D5B-2462800FC2F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2E30B-E1EC-48B9-BCF6-17EF6055AFF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53607-9384-48E9-A9B9-F679DF863D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63AE5-9033-470E-B8C7-8A31294BF60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8E1B2-EAB9-46A1-8894-E44B57E826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D4A71-B152-440F-8CEF-B661645E19F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C10AD-D7DC-4ED6-BD80-41939AD7300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654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ll Hatf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RO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 30, 201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uture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c 4, 201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an 8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 (Vote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OGRR137: Rescind NOGRR034and Maintain Current Telemetry Performance Reporting Practi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 per OWG re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GRR039: Generation Data for Resource Adequacy and Reliability Repor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 per PLWG re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OS Procedur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hanges to accommodate new OTW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 (Update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PRR658: Changes to Annual Reporting Requirements tor RUC payments Made to Resources with PP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Endorsed as submit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PRR659: Discontinue RMR Cost Data Deviation Requests/Responses Repo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Endorsed as amended by WMS and revised by RO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Maintain/Improve Operational Checklist for Resource Interconne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 Handbook distributed for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RCOT will provide revised draft Handbook in Novemb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itepaper distributed to ROS and WMS for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ork underway to revise whitepap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oad Scaling Methodologies in Planning Stud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re transparency need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WG (and MP’s) working to develop a Load Scaling Methodology Stand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Voltage Reduction repo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maining issues: VRTF to explore1) implementation costs and 2) load particip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RTF preparing survey to send to TDSP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arly RUCing of units during severe winter weather due to unit start-up failures, trips, and de-rates; review need for ERCOT Operating procedures for RUCing uni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concluded that ERCOT has tools in place to resolve generation losses with current RUCing practices; ERCOT agre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will revisit if changes are proposed to RUCing proces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hatfiel</cp:lastModifiedBy>
  <cp:lastPrinted>2013-01-30T23:16:36Z</cp:lastPrinted>
  <dcterms:modified xsi:type="dcterms:W3CDTF">2014-11-16T16:50:27Z</dcterms:modified>
  <cp:revision>777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</Properties>
</file>