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162A8-889D-4FA3-81D0-8FA3A0289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9A5C4-263F-4826-B0C4-732288336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EF3-C67F-4514-A2E6-304CB1AA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FB8-A0C2-481F-A25B-B78D305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A58-8F40-471F-98C0-28C544B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B77-3E4D-4570-832D-DCD1A0D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53E-15E4-4930-92E8-535DBA1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6BE-75E8-491D-A028-646E46D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F31-AAD1-471B-ADE5-5CDC6FF3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F89-3D2E-4240-A435-A1632A9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147-F13C-4A33-BBDC-5EA26EBB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120-752C-47AA-A52A-67D4BBBA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942-44E3-4F52-86B7-936002E6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4EB-08A2-4D5E-811C-A4DD1340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9CFED-29B3-436D-B720-12F26C0E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42751-38E8-4916-9C0C-CBED55271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CE933-3799-4F80-A02F-1265970EA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E1924-35AF-4014-8305-31585768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376A7-D417-4698-B059-E9956734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A955A-0AAD-4250-B82D-2CBCDACC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5CB5A-815D-45B6-9363-F633C075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0EE3C-AE4B-4113-9632-0AADD15E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32824-2D17-4B6D-ACA1-E5891A8B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0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C64DC-D715-4288-A38E-2E57CD1E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13"/>
          <p:cNvGrpSpPr/>
          <p:nvPr/>
        </p:nvGrpSpPr>
        <p:grpSpPr>
          <a:xfrm>
            <a:off x="603360" y="1498680"/>
            <a:ext cx="7727760" cy="4603680"/>
            <a:chOff x="603360" y="1498680"/>
            <a:chExt cx="7727760" cy="4603680"/>
          </a:xfrm>
        </p:grpSpPr>
        <p:pic>
          <p:nvPicPr>
            <p:cNvPr id="511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Box 9"/>
            <p:cNvSpPr/>
            <p:nvPr/>
          </p:nvSpPr>
          <p:spPr>
            <a:xfrm>
              <a:off x="787320" y="3082680"/>
              <a:ext cx="754380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ones Cree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gional Planning Group Proje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Jeff B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ager, Transmission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ember 20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traight Connector 12"/>
            <p:cNvSpPr/>
            <p:nvPr/>
          </p:nvSpPr>
          <p:spPr>
            <a:xfrm flipV="1">
              <a:off x="787320" y="280440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port L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50920" y="1036800"/>
            <a:ext cx="85741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unced natural gas liquefaction and export project on Quintana I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0 MW total load (no self-serve g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146 MW load with 82 MW self-serve generation at pretreatment plant (not on Quintana Is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will come on between 2017 Q3 and 2018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ort LNG has not yet provided commitment to CenterPoint Energy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03200" y="3409920"/>
            <a:ext cx="276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50920" y="3732120"/>
            <a:ext cx="8574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Point Energy submitted project for RPG review and comment in Jul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roposal includes new Jones Creek 345/138 kV station and multiple 138 kV system upgrades in the Freepor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250920" y="1036800"/>
            <a:ext cx="3452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identified thermal overload and voltage collapse conditions under contin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evaluated two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analysis did not show additional congestion in the area with proposed project and load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Independent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rcRect l="10600" t="0" r="26295" b="0"/>
          <a:stretch/>
        </p:blipFill>
        <p:spPr>
          <a:xfrm>
            <a:off x="3703680" y="1266840"/>
            <a:ext cx="50101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03200" y="714240"/>
            <a:ext cx="2768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0920" y="1036800"/>
            <a:ext cx="85741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request Board of Directors endorsement of the following project (Option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 a new 345/138 kV “Jones Creek”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all two new 800 MVA normal rating / 1000 MVA emergency rating (800/1000 MVA) 345/138 kV autotransformers at the Jones Creek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 the 345 kV Dow - STP circuit 18 into the Jones Creek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 the 138 kV Freeport - Velasco circuit 59 into the Jones Creek Sub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grade the Velasco 138 kV Substation to a fault duty rating of 63 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t and reconfigure circuits in the Freeport area creating: 138 kV Velasco - Surfside - Freeport - Jones Creek circuit 59, 138 kV Velasco - Quintana - Jones Creek circuit 48, and 138 kV Velasco - Jones Creek circuit 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figure 138 kV Velasco - Franklins Camp circuit 02 to create 138 kV Jones Creek - Franklins Camp circuit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grade the 138 kV Jones Creek - Quintana circuit 48 and 138 kV Quintana - Velasco circuit 48 with 838 MVA normal rating / 894 MVA emergency rating (838/894 M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estimate is $77.8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4-11-13T21:27:20Z</dcterms:modified>
  <cp:revision>12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