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9D5ADA-0835-407A-9FAB-9CA202BD1565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2C6B5D6-A43E-4FC0-BD94-5810E6AA3D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25B8E3-EA65-4447-8FE8-2B7E8B4A58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08DD048-153F-4F78-98D1-36B4E099A4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77F52-9DCA-472E-BF29-55BCD3AE5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B4DEC-A89E-4B4C-B66E-921F8E493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2FE64-19FD-493F-ADFE-0D30FE031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B39C6-14B0-4595-87B7-F1D174C44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A8F41-8A57-481F-8B2F-2564062D3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FC505-5131-4B52-A003-887253800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AB811-7D19-47B6-9D63-E4AEC3EB6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935B5-D897-4D63-9082-1C2D7FCC5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D73BA-CA2C-43EE-818E-124F4F56C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E2F5F-84AD-47C6-B455-C92A2F347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77700-6814-4BB1-96AF-185C76919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E2960-0B8D-45BA-864A-A295070A2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EB3F69-382E-4DBB-B2CE-2CFDC8DEC34D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Wholesale Market Subcommittee Upda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240" y="3895200"/>
            <a:ext cx="3051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898989"/>
                </a:solidFill>
                <a:latin typeface="Calibri"/>
              </a:rPr>
              <a:t>Prepared for the Nov. 20th TAC meet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CMRR005, Index Fuel Pri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MS endorsed the VCMRR, which is companion to NPRR664 Index Fuel Price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sking the TAC to consider the VCMRR on December 20th (defer one month) after the Board approves the NPRR on Dec. 9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VCMRR contains the Index Fuel Price calculation and real-time make whole payment threshold and verification process.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-111240" y="-360"/>
            <a:ext cx="8229600" cy="72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AC Assignment List Updat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627120" y="824040"/>
          <a:ext cx="8085240" cy="5518080"/>
        </p:xfrm>
        <a:graphic>
          <a:graphicData uri="http://schemas.openxmlformats.org/drawingml/2006/table">
            <a:tbl>
              <a:tblPr/>
              <a:tblGrid>
                <a:gridCol w="901800"/>
                <a:gridCol w="3627360"/>
                <a:gridCol w="3556080"/>
              </a:tblGrid>
              <a:tr h="528480">
                <a:tc gridSpan="3"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MS Assignments From The TA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6520">
                <a:tc>
                  <a:txBody>
                    <a:bodyPr lIns="10080" rIns="10080" tIns="100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ssign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atu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10080" rIns="10080" tIns="100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/28/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PRR181, FIP Definition Revision, tabled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MS concluded it would best to reevaluate this after the FERC gas electric coordination NOPRR is finalized (Q1/Q2 2015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6400">
                <a:tc>
                  <a:txBody>
                    <a:bodyPr lIns="10080" rIns="10080" tIns="100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/27/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intenance/Improvement of operational checklist for Resource interconnec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RCOT is working on updating generation interconnection handbook and will seek additional feedback. QMWG review is ongoing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3280">
                <a:tc>
                  <a:txBody>
                    <a:bodyPr lIns="10080" rIns="10080" tIns="100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/24/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valuate concerns with bringing RUC units earlier than required because of start-up failur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UC TF met on Nov.3 and will seek WMS direction on ways to reduce RUC for system capacity.  Next WMS meeting Dec. 3r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1000">
                <a:tc>
                  <a:txBody>
                    <a:bodyPr lIns="10080" rIns="10080" tIns="100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/27/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lated to NPRR582, Refinements to Testing ERS – address testing requirements for all Resource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QMWG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view ongoing.  ER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T has provided data to assess testing impact on price formation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10080" rIns="10080" tIns="100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/25/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oltage Reduction – assess cost issues and applicability to loads as well as market impac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as assigned to the QMWG at the Oct. 29th WMS meeting.  QMWG meets on 11/18.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360">
                <a:tc>
                  <a:txBody>
                    <a:bodyPr lIns="10080" rIns="10080" tIns="100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/27/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bine RATF and GATF and bring back revised chart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ter was updated at the Nov. 10th GATF meeting and will be considered at the Dec. 3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rd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WMS meeting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MS Goals Update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MS will be conducting a review of 2014 goals at the December 3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rd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meeting and report back to the TAC on December 19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MS will be developing 2015 goals at their January 29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mee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24T20:43:11Z</dcterms:created>
  <dc:creator>Systems Administrator</dc:creator>
  <dc:description/>
  <dc:language>en-US</dc:language>
  <cp:lastModifiedBy>Systems Administrator</cp:lastModifiedBy>
  <cp:lastPrinted>2014-03-25T15:14:24Z</cp:lastPrinted>
  <dcterms:modified xsi:type="dcterms:W3CDTF">2014-11-17T16:25:30Z</dcterms:modified>
  <cp:revision>263</cp:revision>
  <dc:subject/>
  <dc:title>The Wholesale Market Subcommittee</dc:title>
</cp:coreProperties>
</file>