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C577-0570-42FC-862C-5F1EFE55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9EB5-2D33-4C0F-8E3A-4D133862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5CD5-A6C0-445D-98DC-A19E57F1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939C-636B-4C9F-9384-EFE7AF47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B096-FA4E-43FA-A514-B217C973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4D5F7-302C-4558-88B7-F91DC561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0BBCC-17ED-416C-AB56-E63DFBBE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D10C6-00B7-49E7-BB8B-465CF902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435F3-78E5-48AA-9BBD-FFB7F8E3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6428A-A02D-43B0-A1A7-32B6B7BC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6375-ACA4-4C18-8CB0-FD50FEDE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60910-2739-4925-90D0-14210A5E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95CED-019E-4576-A762-48F64F4B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91F73-AA17-4688-AE41-E50726FF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8FFE5-E9DC-45CB-A89D-85093E52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A0342-438C-4ADB-83FC-48DA0972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6C3EB-44D8-4164-B7BB-8B9B9ADB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312D1-F74B-4C9C-B9A8-EB9ADA47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5096-2EDC-49F7-ADC4-92163730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91E4-F964-4592-8C5A-C79452D5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6FDF-C11D-48AB-A0A9-0EED8206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E516-10E4-42D3-9135-7B668896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64F8-9AD5-45E4-A01D-BAB1028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6290-3A5E-44B7-98E6-BDE260DE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3203-2211-4589-A476-D4A7101E3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7A10-4727-4627-918A-9A4550CCC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E256-2E73-46FA-B3A7-6C04C77C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8600-07E5-4A4A-BACC-11A38FB49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1248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PS NOVEMBER 2014 UPDATE TO TA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              11/20/20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ny Marsh,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2014 INITIATIVES/ACCOMPLISHM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MGRR037 Market Notification for Ad Hoc Invoices and COPMG Clean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MGRR038 Administrative Changes for the June 1, 2014 Commercial Operations Market Guid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28 Notification of Financial Impact of Settlement Disp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SW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ed and reported on the NPRR 570 Reduced RTM Settlement TimeLine to OD +5 regular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RR052 Change to Oil &amp; Gas Assignment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RR053 Zip Code to Weather Zone Table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RR054 Alignment with NPRR661, Discontinue Posting Profile Data Evaluation Report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Pen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viewed the 15 reports that have been recommended for discontinuation and submitted NPRRs to PRS to discontinue these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ed workshops for NOGR084 and new ideas for MIS data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LED DECEMBER COPS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OPS MEETING IS ON  JANUARY 14 WEDNESDAY,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2133720" y="1884240"/>
            <a:ext cx="43434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VOTING ITEMS for TAC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GRR053, Zip Code to Weather Zone Table Update (Vote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Load Profiling Guide Revision Request (LPGRR) adds additional zip codes to the Zip Code to Weather Zone Table in Appendi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11/05/14, COPS unanimously voted to recommend approval of LPGRR053 as recommended by PWG in the 9/22/14 PWG Report. The Consumer and Independent Retail Electric Provider (IREP) Market Segments were not present for the vo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WG : PROFILING WORKING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rofile Assignment for Temporary Services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rket defined default is BUSMEDLF for new ESIID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g Daily Use (ADU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kWh in settlement until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er read date for BUSMEDLF profile typ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NODEM is approx 10 kW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G agreed to work with the TDSP to determine if a process change can be made to allow BUSNODEM profile assignment when these ESIIDs are energiz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WG cont: : PROFILING WORKING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PGRR054 Alignment with NPRR661, Discontinue Posting Profile Data Evaluation Re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PGRR only removes the market notice requirement for Profile Methodology Change Request analysis and defaults to Discussion at PWG on the change request analysis performed by ERCOT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61 – consensus to Request COPS to accept the Draft Comments for PRS to continue to have this NPRR tabled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the NPRR removes all documentation from the MIS on profile methodology – not just NEW requests.  PWG wishes to discuss this further to determine how this data would still be made availab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6D94-992C-4752-8970-F3B150364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770040" y="117360"/>
            <a:ext cx="730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PWG cont: 2014 Annual Validation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61880" y="1163520"/>
            <a:ext cx="77882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SUG : MARKET INFORMATION SYSTEM USER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ISUG is working with OWG to update gray-boxed language for NOGRR08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sed data elements vs. NOGRR084 dat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orking with OWG to draft NOG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AC Reporting on ERCOT Manual Efforts &amp; Market Report True-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5 reports have been recommended for discontinuation/decommiss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ISUG has reviewed the 15 reports that have been recommended for dis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PRRs were submitted to PRS to discontinue thes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ne NORR withdrawn because language referenced P.U.C. Subst. R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5.5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ISUG made presentation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MS on 10/29/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S on 10/30/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SUG cont: MARKET INFORMATION SYSTEM USER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ISUG is in the process of reviewing all currently published Market Reports for accuracy, completeness, and useful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view of 48-Hour Disclosure Reports is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RCOT will be implementing some 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ning (POI) website has been decommissi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tion has been moved to the MIS or archived,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igration went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access permissions were updated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ata in 60-Day disclosure report for AS Offers in incompl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ort run time prior to 8/6/2014 did not pick up offers that expired at the close of 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RCOT will prepare a supplemental file for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RCOT will investigate the possibility of making earlier data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SUG cont: MARKET INFORMATION SYSTEM USER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indent="-31932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ISUG hosted a workshop to evaluate the technical feasibility of changing the MIS from a “pull”-type service to a “push”-typ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32076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riday, November 14th from 9:30am – N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2800" indent="-3207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ebEx and On-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ubscribers to a report would receive notifications when new data is avail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RCOT brought forward a proposal to reevaluate how MIS data is delivered. MIS currently uses a "Pull" framework in which Market Participants must request new data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high-level idea is to introduce  a mechanism to alert Market Participants that new data is available and/or automatically deliver new dat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e had a large number of participants with representation from all segments of the mark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everal high-value ideas were identified  by consensus: 1) a way for Market Participants to query the most recent update for a report, 2) use streaming to deliver smaller, widely used datasets, 3) use Notifications to alert for updated data, and 4) a public API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RCOT will be fleshing out some details on these ideas. MISUG will host a follow-up workshop in January 2015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600" indent="-3207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-11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2014 INITIATIVES/ACCOMPLISHM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 TAC and Subcommittee Goals with the strategic vision of the ERCOT Board of Dir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TAC Goals that apply to COP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800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settlement process to better accommodate changes in the ERCOT market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800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ERCOT to develop Protocols and other market improvements that support increased data transparency and data availability to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800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800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800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 met every other month to reduce number of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800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 Working Groups met via Webex as topics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Basaran, Harika</cp:lastModifiedBy>
  <dcterms:modified xsi:type="dcterms:W3CDTF">2014-11-19T16:05:39Z</dcterms:modified>
  <cp:revision>1006</cp:revision>
  <dc:subject/>
  <dc:title>Instructions</dc:title>
</cp:coreProperties>
</file>