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61C87A-6F0A-49C2-B543-07A835243D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1D063B-D233-4005-B79B-5EF673EDD5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A5B819-95E2-4ECD-8A95-E1F0B2B462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A146-915F-45B2-BC07-F660F3CD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0745-504F-4AF0-9016-BA13ADD7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A68D-9FF7-4FFA-8F8D-9EC8EAF16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F8C1-4D95-440C-9C88-2B361C03D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795A-8F3F-4993-B538-6DD08BAC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98B2-1F3B-46DD-BDF0-2032ABAD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8046-0F6E-409F-BD62-7D309685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E747-01EC-4097-B22E-5EDCA353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1392-05F6-4F5D-A397-7F0A22C3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1C1A-9C0E-4BED-91BC-1BD0C8CE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20ED-9F88-4DD6-81D8-9CBB63D4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8998-2786-4277-844D-8DD4B580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0DBE31-529A-4F6D-B77D-ECFB61AE92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ftr" idx="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8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EF291A-14F5-46CF-AD90-192800F7B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ftr" idx="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2" name="Straight Connector 6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162243-2677-4E14-A3E6-69E649897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ftr" idx="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13"/>
          <p:cNvGrpSpPr/>
          <p:nvPr/>
        </p:nvGrpSpPr>
        <p:grpSpPr>
          <a:xfrm>
            <a:off x="787320" y="2804760"/>
            <a:ext cx="7543800" cy="2840760"/>
            <a:chOff x="787320" y="2804760"/>
            <a:chExt cx="7543800" cy="2840760"/>
          </a:xfrm>
        </p:grpSpPr>
        <p:sp>
          <p:nvSpPr>
            <p:cNvPr id="171" name="TextBox 9"/>
            <p:cNvSpPr/>
            <p:nvPr/>
          </p:nvSpPr>
          <p:spPr>
            <a:xfrm>
              <a:off x="787320" y="3082680"/>
              <a:ext cx="754380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tem 3: PRS Repor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hris Ly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4 PRS Vice-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chnical Advisory Committee (TAC) Mee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vember 20, 20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403200" y="655560"/>
            <a:ext cx="84931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sion Requests Recommended for Approval by PRS – Unopposed (Vot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560, Caps and Floors for Energy Storage Resource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639, Correction to Minimum Current Exp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646, Emergency Operations Settlement for CFC (formerly “Emergency Operations Settlement for CFC Testing”)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651, Clarify DC Tie Data Request Timeline and Content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652, Posting of Information Under NERC Reliability Standards to the MI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653, Removal of Reasonable Contribution Language For Market Participant Data Request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664, Index Fuel Price – URG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666, Clarification for the CRR Balancing Account – URGENT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sion Requests Withdraw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535, Resource Status Startup – Shut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572, Asynchronous Tie Interconnec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* denotes no impa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of PRS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C Phillips</cp:lastModifiedBy>
  <cp:lastPrinted>2013-01-30T23:16:36Z</cp:lastPrinted>
  <dcterms:modified xsi:type="dcterms:W3CDTF">2014-11-11T19:32:44Z</dcterms:modified>
  <cp:revision>240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EB6C32BA7893B4D8D08DA703C6B8599</vt:lpwstr>
  </property>
  <property fmtid="{D5CDD505-2E9C-101B-9397-08002B2CF9AE}" pid="3" name="Information Classification">
    <vt:lpwstr/>
  </property>
</Properties>
</file>