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F2B0-98EE-4CC6-B3C1-38C8EBCF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F629-20D6-41AE-BE19-37A30FF4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8EA6-43EC-4A0F-9408-EBC0F046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6009-021A-4A4F-A24E-2A5C2399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73AC-70D2-4E5D-911A-06B1AA30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5A0AD-CAA9-46BC-B4B2-F4830EBB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D0D1A-D208-4AD2-AEF2-4F68C1EF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49F0A-F2A4-4370-B48A-A322FF9C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A6F25-8E85-4CDA-BA72-D56FF83B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550FE-8D0B-4A34-B3C0-A22EF7F0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D4F4-5529-4119-98FC-22B26FAB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95833-F85D-446B-AEC9-B1A34A5F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2B324-34BC-4C72-814E-3CC98869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F0199-10E2-46B1-8DF6-8E63FC3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F6A5A-DDC8-4278-84EC-7AF2E4A6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692A7-A580-4264-9627-C0274BC3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8D224-28B3-41C6-AA74-FDD187AB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BB0D1-A9E2-4FB9-B25D-5EB783DD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EBB0-61D8-4218-A54A-7623AC6D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68DD-79BC-4807-82B5-45EE1FEB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AB91-531B-412F-887E-A27AA7BA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05A4-A395-44DF-84F2-545B1DD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5F68-08F5-4F4B-9A74-B8E46E95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361A-5E1A-4CF2-8A97-36E8859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1758-D2D0-41C5-8999-37E3D20E0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4680-5BCC-4387-BFE1-5FA316209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2AFF-F2A3-4995-B382-9AB072A8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784B-F076-4108-BB51-CC9FDA5AC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NOVEMBER 2014 UPDATE TO TA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      11/20/20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ny Marsh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2014 INITIATIVES/ACCOMPLISH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MGRR037 Market Notification for Ad Hoc Invoices and COPMG Clean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MGRR038 Administrative Changes for the June 1, 2014 Commercial Operations Market Gui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28 Notification of Financial Impact of Settlement Disp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SW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ed and reported on the NPRR 570 Reduced RTM Settlement TimeLine to OD +5 regular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052 Change to Oil &amp; Gas Assignment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053 Zip Code to Weather Zone Table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054 Alignment with NPRR661, Discontinue Posting Profile Data Evaluation Report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Pen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viewed the 15 reports that have been recommended for discontinuation and submitted NPRRs to PRS to discontinue these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ed workshops for NOGR084 and new ideas for MIS data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ED DECEMBER COP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MEETING IS ON  JANUARY 14 WEDNESDAY,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2133720" y="1884240"/>
            <a:ext cx="4343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VOTING ITEMS for TAC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RR053, Zip Code to Weather Zone Table Update (Vot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Load Profiling Guide Revision Request (LPGRR) adds additional zip codes to the Zip Code to Weather Zone Table in Appendi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11/05/14, COPS unanimously voted to recommend approval of LPGRR053 as recommended by PWG in the 9/22/14 PWG Report. The Consumer and Independent Retail Electric Provider (IREP) Market Segments were not present for the vo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WG : PROFILING WORKING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ofile Assignment for Temporary Services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rket defined default is BUSMEDLF for new ESIID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 Daily Use (ADU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kWh in settlement until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er read date for BUSMEDLF profile typ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NODEM is approx 10 kW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G agreed to work with the TDSP to determine if a process change can be made to allow BUSNODEM profile assignment when these ESIIDs are energiz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WG cont: : PROFILING WORKING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PGRR054 Alignment with NPRR661, Discontinue Posting Profile Data Evaluation Re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PGRR only removes the market notice requirement for Profile Methodology Change Request analysis and defaults to Discussion at PWG on the change request analysis performed by ERCOT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1 – consensus to Request COPS to accept the Draft Comments for PRS to continue to have this NPRR tabled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the NPRR removes all documentation from the MIS on profile methodology – not just NEW requests.  PWG wishes to discuss this further to determine how this data would still be made availab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01CB-5A6A-476F-87E4-C9D5E8026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770040" y="117360"/>
            <a:ext cx="730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WG cont: 2014 Annual Validatio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61880" y="1163520"/>
            <a:ext cx="77882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: MARKET INFORMATION SYSTEM USER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is working with OWG to update gray-boxed language for NOGRR08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sed data elements vs. NOGRR084 dat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orking with OWG to draft NOG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AC Reporting on ERCOT Manual Efforts &amp; Market Report True-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5 reports have been recommended for discontinuation/decommis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has reviewed the 15 reports that have been recommended for dis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PRRs were submitted to PRS to discontinue thes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e NORR withdrawn because language referenced P.U.C. Subst. R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5.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made presentation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MS on 10/29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S on 10/30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cont: MARKET INFORMATION SYSTEM USER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is in the process of reviewing all currently published Market Reports for accuracy, completeness, and useful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 of 48-Hour Disclosure Reports is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will be implementing some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ning (POI) website has been decommiss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tion has been moved to the MIS or archived,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gration went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access permissions were updated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ata in 60-Day disclosure report for AS Offers in in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ort run time prior to 8/6/2014 did not pick up offers that expired at the close of 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will prepare a supplemental file for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will investigate the possibility of making earlier data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cont: MARKET INFORMATION SYSTEM USER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hosted a workshop to evaluate the technical feasibility of changing the MIS from a “pull”-type service to a “push”-typ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32076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riday, November 14th from 9:30am – N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320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ebEx and On-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bscribers to a report would receive notifications when new data is avail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brought forward a proposal to reevaluate how MIS data is delivered. MIS currently uses a "Pull" framework in which Market Participants must request new data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high-level idea is to introduce  a mechanism to alert Market Participants that new data is available and/or automatically deliver new da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e had a large number of participants with representation from all segments of the mark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everal high-value ideas were identified  by consensus: 1) a way for Market Participants to query the most recent update for a report, 2) use streaming to deliver smaller, widely used datasets, 3) use Notifications to alert for updated data, and 4) a public AP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will be fleshing out some details on these ideas. MISUG will host a follow-up workshop in January 2015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3207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-11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2014 INITIATIVES/ACCOMPLISH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 TAC and Subcommittee Goals with the strategic vision of the ERCOT Board of Dir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TAC Goals that apply to COP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settlement process to better accommodate changes in the ERCOT market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ERCOT to develop Protocols and other market improvements that support increased data transparency and data availability to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met every other month to reduce number of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Working Groups met via Webex as topics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Basaran, Harika</cp:lastModifiedBy>
  <dcterms:modified xsi:type="dcterms:W3CDTF">2014-11-19T16:05:39Z</dcterms:modified>
  <cp:revision>1006</cp:revision>
  <dc:subject/>
  <dc:title>Instructions</dc:title>
</cp:coreProperties>
</file>