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D59D8-30B0-4AC2-A245-2C3A26E33E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73D45-F758-4D65-8899-C0AFB299D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64DFD-76F8-456A-81F2-EA55C1E75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EC031-5E45-4F4E-86E7-054F90FF0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CFC-94FD-4DC4-B1DD-F196287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74C-AEA1-4D39-968E-5AE3E58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D5C-EFA8-485C-98B0-3AEFA34B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D90-2373-431A-9676-1FD2E3A0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F8F-FF9F-4942-802D-46D6B836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80F-8ABF-45F8-B0BF-29B847E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7D0-4B81-4EDD-9522-A577D239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103-372A-4C0E-849B-1C8BD53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74C-6502-45B3-B402-4282E25D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612-BFBD-498B-8B41-7526339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600-80D3-4459-9AD6-6ECBDD3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E81-7562-42DD-AE2B-B8C4570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8F51C-6DB3-45DB-BA06-07CCC7DFD2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Nov. 20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CMRR005, Index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the VCMRR, which is companion to NPRR664 Index Fuel Pric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ing the TAC to consider the VCMRR on December 20th (defer one month) after the Board approves the NPRR on Dec.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CMRR contains the Index Fuel Price calculation and real-time make whole payment threshold and verification proces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7120" y="824040"/>
          <a:ext cx="8085240" cy="5518080"/>
        </p:xfrm>
        <a:graphic>
          <a:graphicData uri="http://schemas.openxmlformats.org/drawingml/2006/table">
            <a:tbl>
              <a:tblPr/>
              <a:tblGrid>
                <a:gridCol w="901800"/>
                <a:gridCol w="3627360"/>
                <a:gridCol w="3556080"/>
              </a:tblGrid>
              <a:tr h="52848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8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RR181, FIP Definition Revision, tabl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concluded it would best to reevaluate this after the FERC gas electric coordination NOPRR is finalized (Q1/Q2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enance/Improvement of operational checklist for Resource 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s working on updating generation interconnection handbook and will seek additional feedback. QMWG review is ongo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concerns with bringing RUC units earlier than required because of start-up fail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C TF met on Nov.3 and will seek WMS direction on ways to reduce RUC for system capacity.  Next WMS meeting Dec. 3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ngoing.  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 has provided data to assess testing impact on price form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5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tage Reduction – assess cost issues and applicability to loads as well as market imp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assigned to the QMWG at the Oct. 29th WMS meeting.  QMWG meets on 11/18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 RATF and GATF and bring back revised ch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ter was updated at the Nov. 10th GATF meeting and will be considered at the Dec. 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MS mee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MS Goals Upd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will be conducting a review of 2014 goals at the Decemb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eting and report back to the TAC on December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will be developing 2015 goals at their Januar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11-17T16:25:30Z</dcterms:modified>
  <cp:revision>263</cp:revision>
  <dc:subject/>
  <dc:title>The Wholesale Market Subcommittee</dc:title>
</cp:coreProperties>
</file>