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15251-A8C3-49B3-818D-61B16EB0D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5A0B6-1C49-4323-98F2-F6CB40C13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1FA-1B6A-4296-9FF0-5527D1CA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424-B407-49B6-8334-5C4F7976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865F0F-977B-457E-99DA-BFBDDC07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1EE3FB-D26A-4096-8B87-B6362F77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9416C6-529C-4515-B485-9549572B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947420-DBED-4AF6-B904-D5C6552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2425D5-3731-4C18-816C-576AF66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AD5834-BF69-4BB4-B840-F4E96EE9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0A33C-D6E8-4F46-BDAD-CB966579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30721-F905-495D-8FBC-99FD5634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D8793-C670-4C15-9F59-090D4183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9BC92-5736-460F-B602-AE5184D2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E7C-BA08-4C7B-9668-1C6ADE6E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6457A-9A91-4612-9CC2-23F5B4C1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45029-C4A4-4DBF-A6D1-95A4C958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406E1-6783-44BB-8FD3-0E267228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51E8D-2FD1-4BA9-9880-4615AB03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874CF-C265-4B61-9967-2B9D3882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161D6-7F46-4B4E-98C7-3080625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A56BF-E3D0-432E-BBF4-7E705E0B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79C12-EC43-4BFD-BC15-355EB88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E78E4-0C50-4840-BA1F-D721D4FA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1C021-6B7E-4858-BA30-6B13ECAC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3E7-D67E-45B8-AA9C-CD6FE1E1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B89C0-2166-488A-884F-C26B5405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55ECC8-A59C-4065-AF9D-9C537034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823870-FB77-480D-AF3A-5DC9C790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6DD9FF-DC9F-456C-82CD-CDF5ABA9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14D107-4ABA-4DD8-8A2B-0ECE20D4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E92D8-1E7C-4FDE-93B5-F77B2374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2FEDB2-C75F-4755-96E6-0684572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23CF41-7F26-4BAC-B071-B8EB89A2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F63A3A-D78D-49AD-A7F8-3390714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7EB59A-D087-490E-878B-A1B982A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D10B-2E1B-4D60-8432-EEBD42EA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A59AF1-4AEB-40AB-922D-53176A99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971658-0E14-4A49-99F9-F1173129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894494-FE29-44EA-8735-281E546C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7046-0599-4A5B-BD40-FF2B5BC0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EA7C-331B-47A1-98C3-04C95EE0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FABA-3D58-47D1-AEA5-DE6F670B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C40D-AA22-401D-80B9-7D06D95D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1CD3-CF8A-4FBC-B005-D1AF8831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07F2-858D-4D8B-AC7D-29AAF0E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3FC-D62B-4DDB-823E-8BD650CB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B466-7B42-4BE8-A533-8E347E5C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67C3-8466-446E-87BE-461DA92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4282-1615-488F-A9B2-2C8CF054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1BA1-DA37-4E11-B5C2-607F7695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9BD2-820B-4CEA-B736-E0AE4DFA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990-F346-4BCB-9907-7F4A311F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8E4-5EE6-435B-B991-86C6A5B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7343A-0CAC-4727-BBDC-2DDAC12E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D2C-99A0-42CD-813E-87434154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1DD0F-CC7B-4FB6-94F0-1FCDE1A8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B22FA-2DEC-448C-A7A2-DD838F15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6287C-D3BC-4563-AFC8-9DA3B735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8384D-CB1A-4FAE-BC2C-A2C0245C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42006-FF36-4BFF-A06B-B9FE2AAE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2D3F8-3CB1-4D56-9DDE-8D20700F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6DFE1-7A1C-4F12-B375-5D151CA1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A8A3C-B29D-4A8A-BF6F-0216052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33F3C-E597-4CFE-899C-51F37FE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A6D89-FD60-46BF-A324-33152618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9BF-0C25-4C14-936D-383761F4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D5CD9-11CD-42B9-81D1-71BD3C8A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BA8887-1BFC-404A-908D-ABDD956C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07856B-D7A6-4EBD-81BC-578B50CA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C68BF3-C397-4635-AD1B-FB2A97B8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834A0-B2BC-4582-A958-9FEA7B25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DD311F-24FF-495C-AF2E-C70ABC38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A57E12-D8DD-4B33-A436-5E0A8477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CBF59-BF6F-4A8B-B952-45DE7A34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4F297E-EE9E-4EEB-A793-ADDDA96D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A0731F-2AF3-4F42-8475-416586E2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5D9-8F68-43B8-9615-F4E6D65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04E98A-4111-49D1-9704-329B174B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5F7A76-E167-4B2C-A6EF-41350ABC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83885-9A0A-4181-9EF2-51294492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98EBEB-B40F-4C94-8C1F-BB18BDE6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2CF205-4FE7-4C81-A710-5B58EC8F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BB8710-A952-41B0-A220-C20F1C5B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0B5B91-7174-4961-B0AF-77FD0571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8B9D5-0331-4380-A8B2-D33F304F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17561-AFC1-41C6-9129-4BE3ADD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E001B-9112-402F-A295-44D2CCE0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370-2978-45D1-B986-BF2638A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46F7B6-1CC5-41FC-9D8D-0529156D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684D8-6419-4212-A9D5-5E61013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2E41BC-5567-4FD7-80A3-6291072B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04834-940C-4302-97A2-E5859F2C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5AF504-D791-4E8C-A3F7-E0CBC335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89C894-8C98-48EE-A417-B82A8E01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BAAD46-E410-41F4-895F-7E61DE27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F9E258-0B1D-473B-A60C-D6C39FA9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EF040D-5C41-4A2E-9B9E-18BD7E6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079005-5D08-42BA-9C5A-477EBE8B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462-3D53-4FCF-A36B-20B9EF8A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0C8D6E-5AFC-404F-818E-5FE0407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541AD8-14F9-4557-9E70-5812B7F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C946DE-9067-44B2-AB74-E1BDAE46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4AE8B9-BA34-4FB6-AB7F-D3B0005C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8574CB-921B-4739-956E-7E63270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4E3895-C4F2-40AD-B1DF-D06345C5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23D948-ABD0-4F05-BEFF-C2398AFB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7FC55F-A80F-48F3-AC40-37278E40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2B25E5-8173-4193-8092-B0C7DE80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2B345-55A5-4A8B-B0B3-B1B02812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04184-E7C2-4DC2-BFA3-1A3887FA856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15CC2-05D3-4F67-BB50-F8D8469FC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359E9-2868-4AA4-8E49-FE31AB9673D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1DDEA-8DBD-40C2-BA05-9579A27CF04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A47A5-0199-40D5-A7E5-7E44F179478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647D1-C639-487D-951B-7B5889CAFF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AF692-E8CF-4E9A-8A39-90DBF7A463F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3C474-E295-4865-8C40-AD66276F389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01F26-D020-4900-8037-62529865B1E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C1B83-D521-4913-AF42-FC1D3D6F799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5C1E3-6456-4AD7-A9FF-C4A0BC9FCFC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B18B2-7DA7-41B7-B18B-46AD4974FD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75086-E28C-41FF-88A5-CBAA4AC60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739AF-4EDE-42E2-8796-B69BA616E7F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D5582-E8C1-4B97-BC76-6AB297CD339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AFC33-88FC-4FE3-A365-D92C2D8D4FF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3B7E8-B219-4419-A961-3B39999A8A3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CF93C-3D88-4303-807A-06E819FCAE2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2E0DB-1177-4F53-B5D6-7CBEEF34D7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0ED35-258C-459C-8D29-7526353DE0A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02AAB-E447-46E0-9028-2BC7123D17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53AA3-2881-4F1B-8523-461287A21AC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FD8B7-D601-4A41-BB25-E3321CB7C6C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Hatf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 30, 201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 4, 201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an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 (Vote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OGRR137: Rescind NOGRR034and Maintain Current Telemetry Performance Reporting Pract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O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GRR039: Generation Data for Resource Adequacy and Reliability Repor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PL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OS Procedur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hanges to accommodate new OTW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 (Update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658: Changes to Annual Reporting Requirements tor RUC payments Made to Resources with PP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659: Discontinue RMR Cost Data Deviation Requests/Responses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Endorsed as amended by WMS and revised by R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aintain/Improve Operational Checklist for Resource Interconn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Handbook distributed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RCOT will provide revised draft Handbook in Novemb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tepaper distributed to ROS and WMS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ork underway to revise whitepap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re transparency need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WG (and MP’s) working to develop a Load Scaling Methodology Stand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maining issues: VRTF to explore1) implementation costs and 2) load particip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RTF preparing survey to send to TDSP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arly RUCing of units during severe winter weather due to unit start-up failures, trips, and de-rates; review need for ERCOT Operating procedures for RUCing uni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concluded that ERCOT has tools in place to resolve generation losses with current RUCing practices; ERCOT agre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will revisit if changes are proposed to RUCing proces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hatfiel</cp:lastModifiedBy>
  <cp:lastPrinted>2013-01-30T23:16:36Z</cp:lastPrinted>
  <dcterms:modified xsi:type="dcterms:W3CDTF">2014-11-16T16:50:27Z</dcterms:modified>
  <cp:revision>777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</Properties>
</file>