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105C0-74C8-4108-B415-929F9E2A9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6D774-49B5-45C2-9A12-D0FB8AF4B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5B57E-C5F9-4718-AB8C-370D55C31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4E4-56CF-414F-A0A2-5A86DEA2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F3B-EFCF-4FCD-9B4C-A2C45AC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D9C-7F46-4C5B-B4E3-639760F7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7AF-3529-4D13-8DDC-16EB0592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27E-026F-4EFC-8E6D-7B02698B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571-78AD-41C5-BFA7-BC6BCDE8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31C-44F7-49E2-8722-5E0B55B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D1A-D0B9-4DFB-8FF0-5D563F80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D66-2A3E-4FF2-B900-F846AAE5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41C-1D4A-425E-AD83-E6420562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0B7-8DE6-422C-92C0-E684A48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9D9-773C-4E37-85F4-8B5632A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88F30-0BA2-4FBD-A259-23B9278F3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316F7-5CE1-406C-A1F6-4F17F2BD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E48E0-4662-4327-9C32-4970840F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ris Ly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ember 20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60, Caps and Floors for Energy Storage Resour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39, Correction to Minimum Current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6, Emergency Operations Settlement for CFC (formerly “Emergency Operations Settlement for CFC Testing”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1, Clarify DC Tie Data Request Timeline and Cont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2, Posting of Information Under NERC Reliability Standards to the MI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3, Removal of Reasonable Contribution Language For Market Participant Data Reques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4, Index Fuel Price – 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6, Clarification for the CRR Balancing Account – URGENT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35, Resource Status Startup –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72, Asynchronous Tie Interconn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4-11-11T19:32:44Z</dcterms:modified>
  <cp:revision>240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