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6BAA-4E3D-46F8-A574-5190E7AE7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180C-C196-444D-B92C-A9F356C69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6A7B-DE2C-4FF9-8E61-0A9928A9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9048-2AB8-4762-B7A6-21797BDEC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F31A-5E0E-4B6E-B831-0CE1EC94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434B-C29C-4344-89A1-2CB6CAE9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7B1-273A-45DA-ACE1-4454CEF8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81C-D94A-456A-BAA9-1BB3BDDC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3103-9ACD-4F43-955B-FBCA3E12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3183-6420-428E-83BD-E4EAFB5C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8C47-0F99-4AD2-8739-166FA47E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4519-9DBF-4C5D-850D-0C4C9C78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0E2-766C-4DA7-BBB0-61B5C1B0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F05-55C3-443E-9B9A-59B14196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F9BC-AEE2-42E5-B0AD-2C15948BA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content/meetings/pwg/keydocs/2014/1027/profile_average.xls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2EB9-6B72-4983-B8FA-66D7DB451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1760" y="1432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 Ec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Onc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 L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ov 5,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501480" y="1201680"/>
            <a:ext cx="7988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 22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PGRR053 – Adds new ZIP codes and corrects the Weather Zone for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85920" y="433440"/>
            <a:ext cx="65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PWG Webex Meetings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able 1" descr=""/>
          <p:cNvPicPr/>
          <p:nvPr/>
        </p:nvPicPr>
        <p:blipFill>
          <a:blip r:embed="rId1"/>
          <a:stretch/>
        </p:blipFill>
        <p:spPr>
          <a:xfrm>
            <a:off x="1152360" y="2505240"/>
            <a:ext cx="7034400" cy="335268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FCAB-CC3F-4E12-8FCA-235917480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6"/>
          <p:cNvSpPr/>
          <p:nvPr/>
        </p:nvSpPr>
        <p:spPr>
          <a:xfrm>
            <a:off x="385920" y="1611360"/>
            <a:ext cx="7988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 2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on Profile Assignment for Temporary Services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rket defined default is BUSMEDLF for new ESIID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g Daily Use (ADU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kWh in settlement until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ter read date for BUSMEDLF profile ty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NODEM is approx 10 kW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RG agreed to work with one of the TDSPs to determine if a process change can be made to allow BUSNODEM profile assignment when these ESIIDs are energ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385920" y="433440"/>
            <a:ext cx="65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PWG Webex Meetings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E107-E9C6-4A73-AB20-3D220F893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01480" y="1201680"/>
            <a:ext cx="8218800" cy="36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 27 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y Service discussion (con’t):  Link to Chart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ntent/meetings/pwg/keydocs/2014/1027/profile_average.x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5920" y="433440"/>
            <a:ext cx="65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PWG Webex Meetings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1397160" y="2814480"/>
            <a:ext cx="5518080" cy="3316320"/>
          </a:xfrm>
          <a:prstGeom prst="rect">
            <a:avLst/>
          </a:prstGeom>
          <a:ln w="0">
            <a:noFill/>
          </a:ln>
        </p:spPr>
      </p:pic>
      <p:sp>
        <p:nvSpPr>
          <p:cNvPr id="6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F8FE-4D63-48D2-B659-E55A0ACB8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6"/>
          <p:cNvSpPr/>
          <p:nvPr/>
        </p:nvSpPr>
        <p:spPr>
          <a:xfrm>
            <a:off x="501480" y="1508040"/>
            <a:ext cx="79884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OTING ITEMS for COPS Consid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PGRR054 – consensus to Recommendation for Approval by C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PGRR only removes the market notice requirement for Profile Methodology Change Request analysis and defaults to Discussion at PWG on the change request analysis performed by ERCO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PRR661 – consensus to Request COPS to accept the Draft Comments for PRS to continue to have this NPRR tabl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rs the NPRR removes all documentation from the MIS on profile methodology – not just NEW requests.  PWG wishes to discuss this further to determine how this data would still be made 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5920" y="433440"/>
            <a:ext cx="65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PWG Voting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1E23-F5AA-436C-99CC-2285A7F7E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3497-4AC7-4708-BFC1-83A3F34658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770040" y="355680"/>
            <a:ext cx="64530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5f5d"/>
                </a:solidFill>
                <a:latin typeface="Arial"/>
              </a:rPr>
              <a:t>2014 Annual Validation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61880" y="1163520"/>
            <a:ext cx="77882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D235-4AEB-4403-A315-4215766DC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533520" y="4211640"/>
            <a:ext cx="8001000" cy="7545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 PWG meeting da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mber 10, 2014 – 1:30 start time  Webex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1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419200" cy="236232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63"/>
          <p:cNvGrpSpPr/>
          <p:nvPr/>
        </p:nvGrpSpPr>
        <p:grpSpPr>
          <a:xfrm>
            <a:off x="3581280" y="1600200"/>
            <a:ext cx="4800600" cy="2133720"/>
            <a:chOff x="3581280" y="1600200"/>
            <a:chExt cx="4800600" cy="2133720"/>
          </a:xfrm>
        </p:grpSpPr>
        <p:grpSp>
          <p:nvGrpSpPr>
            <p:cNvPr id="75" name="Group 3"/>
            <p:cNvGrpSpPr/>
            <p:nvPr/>
          </p:nvGrpSpPr>
          <p:grpSpPr>
            <a:xfrm>
              <a:off x="5058360" y="2083680"/>
              <a:ext cx="1844280" cy="946080"/>
              <a:chOff x="5058360" y="2083680"/>
              <a:chExt cx="1844280" cy="946080"/>
            </a:xfrm>
          </p:grpSpPr>
          <p:sp>
            <p:nvSpPr>
              <p:cNvPr id="76" name="Freeform 4"/>
              <p:cNvSpPr/>
              <p:nvPr/>
            </p:nvSpPr>
            <p:spPr>
              <a:xfrm>
                <a:off x="5088240" y="2208600"/>
                <a:ext cx="1783440" cy="537480"/>
              </a:xfrm>
              <a:custGeom>
                <a:avLst/>
                <a:gdLst>
                  <a:gd name="textAreaLeft" fmla="*/ 0 w 1783440"/>
                  <a:gd name="textAreaRight" fmla="*/ 1783800 w 1783440"/>
                  <a:gd name="textAreaTop" fmla="*/ 0 h 537480"/>
                  <a:gd name="textAreaBottom" fmla="*/ 537840 h 537480"/>
                </a:gdLst>
                <a:ahLst/>
                <a:rect l="textAreaLeft" t="textAreaTop" r="textAreaRight" b="textAreaBottom"/>
                <a:pathLst>
                  <a:path w="1897" h="1579">
                    <a:moveTo>
                      <a:pt x="1004" y="1567"/>
                    </a:moveTo>
                    <a:lnTo>
                      <a:pt x="1002" y="1570"/>
                    </a:lnTo>
                    <a:lnTo>
                      <a:pt x="999" y="1572"/>
                    </a:lnTo>
                    <a:lnTo>
                      <a:pt x="995" y="1574"/>
                    </a:lnTo>
                    <a:lnTo>
                      <a:pt x="991" y="1576"/>
                    </a:lnTo>
                    <a:lnTo>
                      <a:pt x="986" y="1576"/>
                    </a:lnTo>
                    <a:lnTo>
                      <a:pt x="980" y="1578"/>
                    </a:lnTo>
                    <a:lnTo>
                      <a:pt x="973" y="1578"/>
                    </a:lnTo>
                    <a:lnTo>
                      <a:pt x="967" y="1579"/>
                    </a:lnTo>
                    <a:lnTo>
                      <a:pt x="959" y="1579"/>
                    </a:lnTo>
                    <a:lnTo>
                      <a:pt x="952" y="1579"/>
                    </a:lnTo>
                    <a:lnTo>
                      <a:pt x="944" y="1579"/>
                    </a:lnTo>
                    <a:lnTo>
                      <a:pt x="937" y="1579"/>
                    </a:lnTo>
                    <a:lnTo>
                      <a:pt x="930" y="1578"/>
                    </a:lnTo>
                    <a:lnTo>
                      <a:pt x="924" y="1578"/>
                    </a:lnTo>
                    <a:lnTo>
                      <a:pt x="917" y="1576"/>
                    </a:lnTo>
                    <a:lnTo>
                      <a:pt x="912" y="1576"/>
                    </a:lnTo>
                    <a:lnTo>
                      <a:pt x="907" y="1574"/>
                    </a:lnTo>
                    <a:lnTo>
                      <a:pt x="904" y="1572"/>
                    </a:lnTo>
                    <a:lnTo>
                      <a:pt x="901" y="1569"/>
                    </a:lnTo>
                    <a:lnTo>
                      <a:pt x="898" y="1567"/>
                    </a:lnTo>
                    <a:lnTo>
                      <a:pt x="0" y="0"/>
                    </a:lnTo>
                    <a:lnTo>
                      <a:pt x="41" y="39"/>
                    </a:lnTo>
                    <a:lnTo>
                      <a:pt x="95" y="77"/>
                    </a:lnTo>
                    <a:lnTo>
                      <a:pt x="165" y="109"/>
                    </a:lnTo>
                    <a:lnTo>
                      <a:pt x="249" y="138"/>
                    </a:lnTo>
                    <a:lnTo>
                      <a:pt x="343" y="161"/>
                    </a:lnTo>
                    <a:lnTo>
                      <a:pt x="448" y="181"/>
                    </a:lnTo>
                    <a:lnTo>
                      <a:pt x="562" y="197"/>
                    </a:lnTo>
                    <a:lnTo>
                      <a:pt x="685" y="207"/>
                    </a:lnTo>
                    <a:lnTo>
                      <a:pt x="816" y="215"/>
                    </a:lnTo>
                    <a:lnTo>
                      <a:pt x="952" y="216"/>
                    </a:lnTo>
                    <a:lnTo>
                      <a:pt x="1086" y="215"/>
                    </a:lnTo>
                    <a:lnTo>
                      <a:pt x="1214" y="207"/>
                    </a:lnTo>
                    <a:lnTo>
                      <a:pt x="1336" y="197"/>
                    </a:lnTo>
                    <a:lnTo>
                      <a:pt x="1449" y="182"/>
                    </a:lnTo>
                    <a:lnTo>
                      <a:pt x="1553" y="163"/>
                    </a:lnTo>
                    <a:lnTo>
                      <a:pt x="1647" y="138"/>
                    </a:lnTo>
                    <a:lnTo>
                      <a:pt x="1729" y="111"/>
                    </a:lnTo>
                    <a:lnTo>
                      <a:pt x="1799" y="79"/>
                    </a:lnTo>
                    <a:lnTo>
                      <a:pt x="1855" y="43"/>
                    </a:lnTo>
                    <a:lnTo>
                      <a:pt x="1897" y="3"/>
                    </a:lnTo>
                    <a:lnTo>
                      <a:pt x="1005" y="1567"/>
                    </a:lnTo>
                    <a:lnTo>
                      <a:pt x="1004" y="15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5"/>
              <p:cNvSpPr/>
              <p:nvPr/>
            </p:nvSpPr>
            <p:spPr>
              <a:xfrm>
                <a:off x="5088240" y="2208600"/>
                <a:ext cx="1783440" cy="537480"/>
              </a:xfrm>
              <a:custGeom>
                <a:avLst/>
                <a:gdLst>
                  <a:gd name="textAreaLeft" fmla="*/ 0 w 1783440"/>
                  <a:gd name="textAreaRight" fmla="*/ 1783800 w 1783440"/>
                  <a:gd name="textAreaTop" fmla="*/ 0 h 537480"/>
                  <a:gd name="textAreaBottom" fmla="*/ 537840 h 537480"/>
                </a:gdLst>
                <a:ahLst/>
                <a:rect l="textAreaLeft" t="textAreaTop" r="textAreaRight" b="textAreaBottom"/>
                <a:pathLst>
                  <a:path w="1897" h="1579">
                    <a:moveTo>
                      <a:pt x="1004" y="1567"/>
                    </a:moveTo>
                    <a:lnTo>
                      <a:pt x="1002" y="1570"/>
                    </a:lnTo>
                    <a:lnTo>
                      <a:pt x="999" y="1572"/>
                    </a:lnTo>
                    <a:lnTo>
                      <a:pt x="995" y="1574"/>
                    </a:lnTo>
                    <a:lnTo>
                      <a:pt x="991" y="1576"/>
                    </a:lnTo>
                    <a:lnTo>
                      <a:pt x="986" y="1576"/>
                    </a:lnTo>
                    <a:lnTo>
                      <a:pt x="980" y="1578"/>
                    </a:lnTo>
                    <a:lnTo>
                      <a:pt x="973" y="1578"/>
                    </a:lnTo>
                    <a:lnTo>
                      <a:pt x="967" y="1579"/>
                    </a:lnTo>
                    <a:lnTo>
                      <a:pt x="959" y="1579"/>
                    </a:lnTo>
                    <a:lnTo>
                      <a:pt x="952" y="1579"/>
                    </a:lnTo>
                    <a:lnTo>
                      <a:pt x="944" y="1579"/>
                    </a:lnTo>
                    <a:lnTo>
                      <a:pt x="937" y="1579"/>
                    </a:lnTo>
                    <a:lnTo>
                      <a:pt x="930" y="1578"/>
                    </a:lnTo>
                    <a:lnTo>
                      <a:pt x="924" y="1578"/>
                    </a:lnTo>
                    <a:lnTo>
                      <a:pt x="917" y="1576"/>
                    </a:lnTo>
                    <a:lnTo>
                      <a:pt x="912" y="1576"/>
                    </a:lnTo>
                    <a:lnTo>
                      <a:pt x="907" y="1574"/>
                    </a:lnTo>
                    <a:lnTo>
                      <a:pt x="904" y="1572"/>
                    </a:lnTo>
                    <a:lnTo>
                      <a:pt x="901" y="1569"/>
                    </a:lnTo>
                    <a:lnTo>
                      <a:pt x="898" y="1567"/>
                    </a:lnTo>
                    <a:lnTo>
                      <a:pt x="0" y="0"/>
                    </a:lnTo>
                    <a:lnTo>
                      <a:pt x="41" y="39"/>
                    </a:lnTo>
                    <a:lnTo>
                      <a:pt x="95" y="77"/>
                    </a:lnTo>
                    <a:lnTo>
                      <a:pt x="165" y="109"/>
                    </a:lnTo>
                    <a:lnTo>
                      <a:pt x="249" y="138"/>
                    </a:lnTo>
                    <a:lnTo>
                      <a:pt x="343" y="161"/>
                    </a:lnTo>
                    <a:lnTo>
                      <a:pt x="448" y="181"/>
                    </a:lnTo>
                    <a:lnTo>
                      <a:pt x="562" y="197"/>
                    </a:lnTo>
                    <a:lnTo>
                      <a:pt x="685" y="207"/>
                    </a:lnTo>
                    <a:lnTo>
                      <a:pt x="816" y="215"/>
                    </a:lnTo>
                    <a:lnTo>
                      <a:pt x="952" y="216"/>
                    </a:lnTo>
                    <a:lnTo>
                      <a:pt x="1086" y="215"/>
                    </a:lnTo>
                    <a:lnTo>
                      <a:pt x="1214" y="207"/>
                    </a:lnTo>
                    <a:lnTo>
                      <a:pt x="1336" y="197"/>
                    </a:lnTo>
                    <a:lnTo>
                      <a:pt x="1449" y="182"/>
                    </a:lnTo>
                    <a:lnTo>
                      <a:pt x="1553" y="163"/>
                    </a:lnTo>
                    <a:lnTo>
                      <a:pt x="1647" y="138"/>
                    </a:lnTo>
                    <a:lnTo>
                      <a:pt x="1729" y="111"/>
                    </a:lnTo>
                    <a:lnTo>
                      <a:pt x="1799" y="79"/>
                    </a:lnTo>
                    <a:lnTo>
                      <a:pt x="1855" y="43"/>
                    </a:lnTo>
                    <a:lnTo>
                      <a:pt x="1897" y="3"/>
                    </a:lnTo>
                    <a:lnTo>
                      <a:pt x="1005" y="156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6"/>
              <p:cNvSpPr/>
              <p:nvPr/>
            </p:nvSpPr>
            <p:spPr>
              <a:xfrm>
                <a:off x="5126760" y="2102760"/>
                <a:ext cx="1711080" cy="15012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909" y="441"/>
                    </a:moveTo>
                    <a:lnTo>
                      <a:pt x="1059" y="439"/>
                    </a:lnTo>
                    <a:lnTo>
                      <a:pt x="1201" y="432"/>
                    </a:lnTo>
                    <a:lnTo>
                      <a:pt x="1332" y="419"/>
                    </a:lnTo>
                    <a:lnTo>
                      <a:pt x="1451" y="401"/>
                    </a:lnTo>
                    <a:lnTo>
                      <a:pt x="1557" y="380"/>
                    </a:lnTo>
                    <a:lnTo>
                      <a:pt x="1647" y="356"/>
                    </a:lnTo>
                    <a:lnTo>
                      <a:pt x="1720" y="328"/>
                    </a:lnTo>
                    <a:lnTo>
                      <a:pt x="1775" y="297"/>
                    </a:lnTo>
                    <a:lnTo>
                      <a:pt x="1809" y="263"/>
                    </a:lnTo>
                    <a:lnTo>
                      <a:pt x="1820" y="228"/>
                    </a:lnTo>
                    <a:lnTo>
                      <a:pt x="1809" y="192"/>
                    </a:lnTo>
                    <a:lnTo>
                      <a:pt x="1775" y="158"/>
                    </a:lnTo>
                    <a:lnTo>
                      <a:pt x="1720" y="125"/>
                    </a:lnTo>
                    <a:lnTo>
                      <a:pt x="1647" y="95"/>
                    </a:lnTo>
                    <a:lnTo>
                      <a:pt x="1557" y="68"/>
                    </a:lnTo>
                    <a:lnTo>
                      <a:pt x="1451" y="45"/>
                    </a:lnTo>
                    <a:lnTo>
                      <a:pt x="1332" y="27"/>
                    </a:lnTo>
                    <a:lnTo>
                      <a:pt x="1201" y="13"/>
                    </a:lnTo>
                    <a:lnTo>
                      <a:pt x="1059" y="4"/>
                    </a:lnTo>
                    <a:lnTo>
                      <a:pt x="911" y="0"/>
                    </a:lnTo>
                    <a:lnTo>
                      <a:pt x="761" y="4"/>
                    </a:lnTo>
                    <a:lnTo>
                      <a:pt x="620" y="13"/>
                    </a:lnTo>
                    <a:lnTo>
                      <a:pt x="489" y="27"/>
                    </a:lnTo>
                    <a:lnTo>
                      <a:pt x="370" y="45"/>
                    </a:lnTo>
                    <a:lnTo>
                      <a:pt x="265" y="68"/>
                    </a:lnTo>
                    <a:lnTo>
                      <a:pt x="174" y="95"/>
                    </a:lnTo>
                    <a:lnTo>
                      <a:pt x="101" y="125"/>
                    </a:lnTo>
                    <a:lnTo>
                      <a:pt x="47" y="158"/>
                    </a:lnTo>
                    <a:lnTo>
                      <a:pt x="12" y="192"/>
                    </a:lnTo>
                    <a:lnTo>
                      <a:pt x="0" y="228"/>
                    </a:lnTo>
                    <a:lnTo>
                      <a:pt x="12" y="263"/>
                    </a:lnTo>
                    <a:lnTo>
                      <a:pt x="47" y="297"/>
                    </a:lnTo>
                    <a:lnTo>
                      <a:pt x="101" y="328"/>
                    </a:lnTo>
                    <a:lnTo>
                      <a:pt x="174" y="356"/>
                    </a:lnTo>
                    <a:lnTo>
                      <a:pt x="265" y="380"/>
                    </a:lnTo>
                    <a:lnTo>
                      <a:pt x="370" y="401"/>
                    </a:lnTo>
                    <a:lnTo>
                      <a:pt x="489" y="419"/>
                    </a:lnTo>
                    <a:lnTo>
                      <a:pt x="620" y="432"/>
                    </a:lnTo>
                    <a:lnTo>
                      <a:pt x="761" y="439"/>
                    </a:lnTo>
                    <a:lnTo>
                      <a:pt x="911" y="442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7"/>
              <p:cNvSpPr/>
              <p:nvPr/>
            </p:nvSpPr>
            <p:spPr>
              <a:xfrm>
                <a:off x="5931360" y="2980800"/>
                <a:ext cx="101160" cy="489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08" h="145">
                    <a:moveTo>
                      <a:pt x="0" y="127"/>
                    </a:moveTo>
                    <a:lnTo>
                      <a:pt x="1" y="120"/>
                    </a:lnTo>
                    <a:lnTo>
                      <a:pt x="4" y="111"/>
                    </a:lnTo>
                    <a:lnTo>
                      <a:pt x="7" y="101"/>
                    </a:lnTo>
                    <a:lnTo>
                      <a:pt x="12" y="90"/>
                    </a:lnTo>
                    <a:lnTo>
                      <a:pt x="17" y="77"/>
                    </a:lnTo>
                    <a:lnTo>
                      <a:pt x="23" y="66"/>
                    </a:lnTo>
                    <a:lnTo>
                      <a:pt x="31" y="54"/>
                    </a:lnTo>
                    <a:lnTo>
                      <a:pt x="38" y="43"/>
                    </a:lnTo>
                    <a:lnTo>
                      <a:pt x="47" y="32"/>
                    </a:lnTo>
                    <a:lnTo>
                      <a:pt x="56" y="22"/>
                    </a:lnTo>
                    <a:lnTo>
                      <a:pt x="66" y="13"/>
                    </a:lnTo>
                    <a:lnTo>
                      <a:pt x="74" y="7"/>
                    </a:lnTo>
                    <a:lnTo>
                      <a:pt x="81" y="2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99" y="0"/>
                    </a:lnTo>
                    <a:lnTo>
                      <a:pt x="103" y="4"/>
                    </a:lnTo>
                    <a:lnTo>
                      <a:pt x="105" y="7"/>
                    </a:lnTo>
                    <a:lnTo>
                      <a:pt x="107" y="13"/>
                    </a:lnTo>
                    <a:lnTo>
                      <a:pt x="108" y="20"/>
                    </a:lnTo>
                    <a:lnTo>
                      <a:pt x="107" y="27"/>
                    </a:lnTo>
                    <a:lnTo>
                      <a:pt x="105" y="36"/>
                    </a:lnTo>
                    <a:lnTo>
                      <a:pt x="103" y="47"/>
                    </a:lnTo>
                    <a:lnTo>
                      <a:pt x="98" y="56"/>
                    </a:lnTo>
                    <a:lnTo>
                      <a:pt x="93" y="66"/>
                    </a:lnTo>
                    <a:lnTo>
                      <a:pt x="88" y="77"/>
                    </a:lnTo>
                    <a:lnTo>
                      <a:pt x="80" y="88"/>
                    </a:lnTo>
                    <a:lnTo>
                      <a:pt x="72" y="99"/>
                    </a:lnTo>
                    <a:lnTo>
                      <a:pt x="64" y="109"/>
                    </a:lnTo>
                    <a:lnTo>
                      <a:pt x="55" y="118"/>
                    </a:lnTo>
                    <a:lnTo>
                      <a:pt x="46" y="127"/>
                    </a:lnTo>
                    <a:lnTo>
                      <a:pt x="37" y="135"/>
                    </a:lnTo>
                    <a:lnTo>
                      <a:pt x="29" y="140"/>
                    </a:lnTo>
                    <a:lnTo>
                      <a:pt x="22" y="144"/>
                    </a:lnTo>
                    <a:lnTo>
                      <a:pt x="17" y="145"/>
                    </a:lnTo>
                    <a:lnTo>
                      <a:pt x="10" y="145"/>
                    </a:lnTo>
                    <a:lnTo>
                      <a:pt x="7" y="144"/>
                    </a:lnTo>
                    <a:lnTo>
                      <a:pt x="4" y="140"/>
                    </a:lnTo>
                    <a:lnTo>
                      <a:pt x="1" y="135"/>
                    </a:lnTo>
                    <a:lnTo>
                      <a:pt x="1" y="127"/>
                    </a:lnTo>
                    <a:lnTo>
                      <a:pt x="0" y="12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8"/>
              <p:cNvSpPr/>
              <p:nvPr/>
            </p:nvSpPr>
            <p:spPr>
              <a:xfrm>
                <a:off x="5931360" y="2980800"/>
                <a:ext cx="101160" cy="4896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08" h="145">
                    <a:moveTo>
                      <a:pt x="0" y="127"/>
                    </a:moveTo>
                    <a:lnTo>
                      <a:pt x="1" y="120"/>
                    </a:lnTo>
                    <a:lnTo>
                      <a:pt x="4" y="111"/>
                    </a:lnTo>
                    <a:lnTo>
                      <a:pt x="7" y="101"/>
                    </a:lnTo>
                    <a:lnTo>
                      <a:pt x="12" y="90"/>
                    </a:lnTo>
                    <a:lnTo>
                      <a:pt x="17" y="77"/>
                    </a:lnTo>
                    <a:lnTo>
                      <a:pt x="23" y="66"/>
                    </a:lnTo>
                    <a:lnTo>
                      <a:pt x="31" y="54"/>
                    </a:lnTo>
                    <a:lnTo>
                      <a:pt x="38" y="43"/>
                    </a:lnTo>
                    <a:lnTo>
                      <a:pt x="47" y="32"/>
                    </a:lnTo>
                    <a:lnTo>
                      <a:pt x="56" y="22"/>
                    </a:lnTo>
                    <a:lnTo>
                      <a:pt x="66" y="13"/>
                    </a:lnTo>
                    <a:lnTo>
                      <a:pt x="74" y="7"/>
                    </a:lnTo>
                    <a:lnTo>
                      <a:pt x="81" y="2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99" y="0"/>
                    </a:lnTo>
                    <a:lnTo>
                      <a:pt x="103" y="4"/>
                    </a:lnTo>
                    <a:lnTo>
                      <a:pt x="105" y="7"/>
                    </a:lnTo>
                    <a:lnTo>
                      <a:pt x="107" y="13"/>
                    </a:lnTo>
                    <a:lnTo>
                      <a:pt x="108" y="20"/>
                    </a:lnTo>
                    <a:lnTo>
                      <a:pt x="107" y="27"/>
                    </a:lnTo>
                    <a:lnTo>
                      <a:pt x="105" y="36"/>
                    </a:lnTo>
                    <a:lnTo>
                      <a:pt x="103" y="47"/>
                    </a:lnTo>
                    <a:lnTo>
                      <a:pt x="98" y="56"/>
                    </a:lnTo>
                    <a:lnTo>
                      <a:pt x="93" y="66"/>
                    </a:lnTo>
                    <a:lnTo>
                      <a:pt x="88" y="77"/>
                    </a:lnTo>
                    <a:lnTo>
                      <a:pt x="80" y="88"/>
                    </a:lnTo>
                    <a:lnTo>
                      <a:pt x="72" y="99"/>
                    </a:lnTo>
                    <a:lnTo>
                      <a:pt x="64" y="109"/>
                    </a:lnTo>
                    <a:lnTo>
                      <a:pt x="55" y="118"/>
                    </a:lnTo>
                    <a:lnTo>
                      <a:pt x="46" y="127"/>
                    </a:lnTo>
                    <a:lnTo>
                      <a:pt x="37" y="135"/>
                    </a:lnTo>
                    <a:lnTo>
                      <a:pt x="29" y="140"/>
                    </a:lnTo>
                    <a:lnTo>
                      <a:pt x="22" y="144"/>
                    </a:lnTo>
                    <a:lnTo>
                      <a:pt x="17" y="145"/>
                    </a:lnTo>
                    <a:lnTo>
                      <a:pt x="10" y="145"/>
                    </a:lnTo>
                    <a:lnTo>
                      <a:pt x="7" y="144"/>
                    </a:lnTo>
                    <a:lnTo>
                      <a:pt x="4" y="140"/>
                    </a:lnTo>
                    <a:lnTo>
                      <a:pt x="1" y="135"/>
                    </a:lnTo>
                    <a:lnTo>
                      <a:pt x="1" y="1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9"/>
              <p:cNvSpPr/>
              <p:nvPr/>
            </p:nvSpPr>
            <p:spPr>
              <a:xfrm>
                <a:off x="5948640" y="2988720"/>
                <a:ext cx="69480" cy="331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74" h="97">
                    <a:moveTo>
                      <a:pt x="0" y="90"/>
                    </a:moveTo>
                    <a:lnTo>
                      <a:pt x="1" y="86"/>
                    </a:lnTo>
                    <a:lnTo>
                      <a:pt x="2" y="81"/>
                    </a:lnTo>
                    <a:lnTo>
                      <a:pt x="5" y="74"/>
                    </a:lnTo>
                    <a:lnTo>
                      <a:pt x="8" y="67"/>
                    </a:lnTo>
                    <a:lnTo>
                      <a:pt x="11" y="59"/>
                    </a:lnTo>
                    <a:lnTo>
                      <a:pt x="15" y="52"/>
                    </a:lnTo>
                    <a:lnTo>
                      <a:pt x="19" y="45"/>
                    </a:lnTo>
                    <a:lnTo>
                      <a:pt x="24" y="38"/>
                    </a:lnTo>
                    <a:lnTo>
                      <a:pt x="30" y="31"/>
                    </a:lnTo>
                    <a:lnTo>
                      <a:pt x="35" y="24"/>
                    </a:lnTo>
                    <a:lnTo>
                      <a:pt x="42" y="18"/>
                    </a:lnTo>
                    <a:lnTo>
                      <a:pt x="47" y="13"/>
                    </a:lnTo>
                    <a:lnTo>
                      <a:pt x="52" y="9"/>
                    </a:lnTo>
                    <a:lnTo>
                      <a:pt x="57" y="6"/>
                    </a:lnTo>
                    <a:lnTo>
                      <a:pt x="62" y="2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2" y="4"/>
                    </a:lnTo>
                    <a:lnTo>
                      <a:pt x="74" y="7"/>
                    </a:lnTo>
                    <a:lnTo>
                      <a:pt x="72" y="11"/>
                    </a:lnTo>
                    <a:lnTo>
                      <a:pt x="71" y="18"/>
                    </a:lnTo>
                    <a:lnTo>
                      <a:pt x="68" y="24"/>
                    </a:lnTo>
                    <a:lnTo>
                      <a:pt x="66" y="31"/>
                    </a:lnTo>
                    <a:lnTo>
                      <a:pt x="62" y="38"/>
                    </a:lnTo>
                    <a:lnTo>
                      <a:pt x="57" y="45"/>
                    </a:lnTo>
                    <a:lnTo>
                      <a:pt x="52" y="54"/>
                    </a:lnTo>
                    <a:lnTo>
                      <a:pt x="47" y="61"/>
                    </a:lnTo>
                    <a:lnTo>
                      <a:pt x="41" y="67"/>
                    </a:lnTo>
                    <a:lnTo>
                      <a:pt x="35" y="74"/>
                    </a:lnTo>
                    <a:lnTo>
                      <a:pt x="30" y="79"/>
                    </a:lnTo>
                    <a:lnTo>
                      <a:pt x="24" y="84"/>
                    </a:lnTo>
                    <a:lnTo>
                      <a:pt x="20" y="88"/>
                    </a:lnTo>
                    <a:lnTo>
                      <a:pt x="15" y="92"/>
                    </a:lnTo>
                    <a:lnTo>
                      <a:pt x="11" y="95"/>
                    </a:lnTo>
                    <a:lnTo>
                      <a:pt x="8" y="97"/>
                    </a:lnTo>
                    <a:lnTo>
                      <a:pt x="5" y="97"/>
                    </a:lnTo>
                    <a:lnTo>
                      <a:pt x="2" y="97"/>
                    </a:lnTo>
                    <a:lnTo>
                      <a:pt x="1" y="93"/>
                    </a:lnTo>
                    <a:lnTo>
                      <a:pt x="1" y="9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10"/>
              <p:cNvSpPr/>
              <p:nvPr/>
            </p:nvSpPr>
            <p:spPr>
              <a:xfrm>
                <a:off x="5948640" y="2988720"/>
                <a:ext cx="69480" cy="3312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74" h="97">
                    <a:moveTo>
                      <a:pt x="0" y="90"/>
                    </a:moveTo>
                    <a:lnTo>
                      <a:pt x="1" y="86"/>
                    </a:lnTo>
                    <a:lnTo>
                      <a:pt x="2" y="81"/>
                    </a:lnTo>
                    <a:lnTo>
                      <a:pt x="5" y="74"/>
                    </a:lnTo>
                    <a:lnTo>
                      <a:pt x="8" y="67"/>
                    </a:lnTo>
                    <a:lnTo>
                      <a:pt x="11" y="59"/>
                    </a:lnTo>
                    <a:lnTo>
                      <a:pt x="15" y="52"/>
                    </a:lnTo>
                    <a:lnTo>
                      <a:pt x="19" y="45"/>
                    </a:lnTo>
                    <a:lnTo>
                      <a:pt x="24" y="38"/>
                    </a:lnTo>
                    <a:lnTo>
                      <a:pt x="30" y="31"/>
                    </a:lnTo>
                    <a:lnTo>
                      <a:pt x="35" y="24"/>
                    </a:lnTo>
                    <a:lnTo>
                      <a:pt x="42" y="18"/>
                    </a:lnTo>
                    <a:lnTo>
                      <a:pt x="47" y="13"/>
                    </a:lnTo>
                    <a:lnTo>
                      <a:pt x="52" y="9"/>
                    </a:lnTo>
                    <a:lnTo>
                      <a:pt x="57" y="6"/>
                    </a:lnTo>
                    <a:lnTo>
                      <a:pt x="62" y="2"/>
                    </a:lnTo>
                    <a:lnTo>
                      <a:pt x="66" y="0"/>
                    </a:lnTo>
                    <a:lnTo>
                      <a:pt x="68" y="0"/>
                    </a:lnTo>
                    <a:lnTo>
                      <a:pt x="71" y="2"/>
                    </a:lnTo>
                    <a:lnTo>
                      <a:pt x="72" y="4"/>
                    </a:lnTo>
                    <a:lnTo>
                      <a:pt x="74" y="7"/>
                    </a:lnTo>
                    <a:lnTo>
                      <a:pt x="72" y="11"/>
                    </a:lnTo>
                    <a:lnTo>
                      <a:pt x="71" y="18"/>
                    </a:lnTo>
                    <a:lnTo>
                      <a:pt x="68" y="24"/>
                    </a:lnTo>
                    <a:lnTo>
                      <a:pt x="66" y="31"/>
                    </a:lnTo>
                    <a:lnTo>
                      <a:pt x="62" y="38"/>
                    </a:lnTo>
                    <a:lnTo>
                      <a:pt x="57" y="45"/>
                    </a:lnTo>
                    <a:lnTo>
                      <a:pt x="52" y="54"/>
                    </a:lnTo>
                    <a:lnTo>
                      <a:pt x="47" y="61"/>
                    </a:lnTo>
                    <a:lnTo>
                      <a:pt x="41" y="67"/>
                    </a:lnTo>
                    <a:lnTo>
                      <a:pt x="35" y="74"/>
                    </a:lnTo>
                    <a:lnTo>
                      <a:pt x="30" y="79"/>
                    </a:lnTo>
                    <a:lnTo>
                      <a:pt x="24" y="84"/>
                    </a:lnTo>
                    <a:lnTo>
                      <a:pt x="20" y="88"/>
                    </a:lnTo>
                    <a:lnTo>
                      <a:pt x="15" y="92"/>
                    </a:lnTo>
                    <a:lnTo>
                      <a:pt x="11" y="95"/>
                    </a:lnTo>
                    <a:lnTo>
                      <a:pt x="8" y="97"/>
                    </a:lnTo>
                    <a:lnTo>
                      <a:pt x="5" y="97"/>
                    </a:lnTo>
                    <a:lnTo>
                      <a:pt x="2" y="97"/>
                    </a:lnTo>
                    <a:lnTo>
                      <a:pt x="1" y="93"/>
                    </a:lnTo>
                    <a:lnTo>
                      <a:pt x="1" y="9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11"/>
              <p:cNvSpPr/>
              <p:nvPr/>
            </p:nvSpPr>
            <p:spPr>
              <a:xfrm>
                <a:off x="5931360" y="2741760"/>
                <a:ext cx="101160" cy="2822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108" h="829">
                    <a:moveTo>
                      <a:pt x="0" y="827"/>
                    </a:moveTo>
                    <a:lnTo>
                      <a:pt x="1" y="820"/>
                    </a:lnTo>
                    <a:lnTo>
                      <a:pt x="4" y="811"/>
                    </a:lnTo>
                    <a:lnTo>
                      <a:pt x="7" y="801"/>
                    </a:lnTo>
                    <a:lnTo>
                      <a:pt x="12" y="790"/>
                    </a:lnTo>
                    <a:lnTo>
                      <a:pt x="17" y="777"/>
                    </a:lnTo>
                    <a:lnTo>
                      <a:pt x="23" y="766"/>
                    </a:lnTo>
                    <a:lnTo>
                      <a:pt x="31" y="754"/>
                    </a:lnTo>
                    <a:lnTo>
                      <a:pt x="38" y="743"/>
                    </a:lnTo>
                    <a:lnTo>
                      <a:pt x="47" y="732"/>
                    </a:lnTo>
                    <a:lnTo>
                      <a:pt x="56" y="722"/>
                    </a:lnTo>
                    <a:lnTo>
                      <a:pt x="66" y="713"/>
                    </a:lnTo>
                    <a:lnTo>
                      <a:pt x="74" y="707"/>
                    </a:lnTo>
                    <a:lnTo>
                      <a:pt x="81" y="702"/>
                    </a:lnTo>
                    <a:lnTo>
                      <a:pt x="88" y="700"/>
                    </a:lnTo>
                    <a:lnTo>
                      <a:pt x="94" y="700"/>
                    </a:lnTo>
                    <a:lnTo>
                      <a:pt x="99" y="700"/>
                    </a:lnTo>
                    <a:lnTo>
                      <a:pt x="103" y="704"/>
                    </a:lnTo>
                    <a:lnTo>
                      <a:pt x="105" y="707"/>
                    </a:lnTo>
                    <a:lnTo>
                      <a:pt x="107" y="713"/>
                    </a:lnTo>
                    <a:lnTo>
                      <a:pt x="108" y="720"/>
                    </a:lnTo>
                    <a:lnTo>
                      <a:pt x="108" y="0"/>
                    </a:lnTo>
                    <a:lnTo>
                      <a:pt x="105" y="3"/>
                    </a:lnTo>
                    <a:lnTo>
                      <a:pt x="102" y="5"/>
                    </a:lnTo>
                    <a:lnTo>
                      <a:pt x="98" y="7"/>
                    </a:lnTo>
                    <a:lnTo>
                      <a:pt x="94" y="9"/>
                    </a:lnTo>
                    <a:lnTo>
                      <a:pt x="89" y="9"/>
                    </a:lnTo>
                    <a:lnTo>
                      <a:pt x="83" y="11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2" y="12"/>
                    </a:lnTo>
                    <a:lnTo>
                      <a:pt x="55" y="12"/>
                    </a:lnTo>
                    <a:lnTo>
                      <a:pt x="47" y="12"/>
                    </a:lnTo>
                    <a:lnTo>
                      <a:pt x="40" y="12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0" y="9"/>
                    </a:lnTo>
                    <a:lnTo>
                      <a:pt x="15" y="9"/>
                    </a:lnTo>
                    <a:lnTo>
                      <a:pt x="10" y="7"/>
                    </a:lnTo>
                    <a:lnTo>
                      <a:pt x="7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829"/>
                    </a:lnTo>
                    <a:lnTo>
                      <a:pt x="1" y="827"/>
                    </a:lnTo>
                    <a:lnTo>
                      <a:pt x="0" y="827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12"/>
              <p:cNvSpPr/>
              <p:nvPr/>
            </p:nvSpPr>
            <p:spPr>
              <a:xfrm>
                <a:off x="5931360" y="2741760"/>
                <a:ext cx="101160" cy="28224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108" h="829">
                    <a:moveTo>
                      <a:pt x="0" y="827"/>
                    </a:moveTo>
                    <a:lnTo>
                      <a:pt x="1" y="820"/>
                    </a:lnTo>
                    <a:lnTo>
                      <a:pt x="4" y="811"/>
                    </a:lnTo>
                    <a:lnTo>
                      <a:pt x="7" y="801"/>
                    </a:lnTo>
                    <a:lnTo>
                      <a:pt x="12" y="790"/>
                    </a:lnTo>
                    <a:lnTo>
                      <a:pt x="17" y="777"/>
                    </a:lnTo>
                    <a:lnTo>
                      <a:pt x="23" y="766"/>
                    </a:lnTo>
                    <a:lnTo>
                      <a:pt x="31" y="754"/>
                    </a:lnTo>
                    <a:lnTo>
                      <a:pt x="38" y="743"/>
                    </a:lnTo>
                    <a:lnTo>
                      <a:pt x="47" y="732"/>
                    </a:lnTo>
                    <a:lnTo>
                      <a:pt x="56" y="722"/>
                    </a:lnTo>
                    <a:lnTo>
                      <a:pt x="66" y="713"/>
                    </a:lnTo>
                    <a:lnTo>
                      <a:pt x="74" y="707"/>
                    </a:lnTo>
                    <a:lnTo>
                      <a:pt x="81" y="702"/>
                    </a:lnTo>
                    <a:lnTo>
                      <a:pt x="88" y="700"/>
                    </a:lnTo>
                    <a:lnTo>
                      <a:pt x="94" y="700"/>
                    </a:lnTo>
                    <a:lnTo>
                      <a:pt x="99" y="700"/>
                    </a:lnTo>
                    <a:lnTo>
                      <a:pt x="103" y="704"/>
                    </a:lnTo>
                    <a:lnTo>
                      <a:pt x="105" y="707"/>
                    </a:lnTo>
                    <a:lnTo>
                      <a:pt x="107" y="713"/>
                    </a:lnTo>
                    <a:lnTo>
                      <a:pt x="108" y="720"/>
                    </a:lnTo>
                    <a:lnTo>
                      <a:pt x="108" y="0"/>
                    </a:lnTo>
                    <a:lnTo>
                      <a:pt x="105" y="3"/>
                    </a:lnTo>
                    <a:lnTo>
                      <a:pt x="102" y="5"/>
                    </a:lnTo>
                    <a:lnTo>
                      <a:pt x="98" y="7"/>
                    </a:lnTo>
                    <a:lnTo>
                      <a:pt x="94" y="9"/>
                    </a:lnTo>
                    <a:lnTo>
                      <a:pt x="89" y="9"/>
                    </a:lnTo>
                    <a:lnTo>
                      <a:pt x="83" y="11"/>
                    </a:lnTo>
                    <a:lnTo>
                      <a:pt x="76" y="11"/>
                    </a:lnTo>
                    <a:lnTo>
                      <a:pt x="70" y="12"/>
                    </a:lnTo>
                    <a:lnTo>
                      <a:pt x="62" y="12"/>
                    </a:lnTo>
                    <a:lnTo>
                      <a:pt x="55" y="12"/>
                    </a:lnTo>
                    <a:lnTo>
                      <a:pt x="47" y="12"/>
                    </a:lnTo>
                    <a:lnTo>
                      <a:pt x="40" y="12"/>
                    </a:lnTo>
                    <a:lnTo>
                      <a:pt x="33" y="11"/>
                    </a:lnTo>
                    <a:lnTo>
                      <a:pt x="27" y="11"/>
                    </a:lnTo>
                    <a:lnTo>
                      <a:pt x="20" y="9"/>
                    </a:lnTo>
                    <a:lnTo>
                      <a:pt x="15" y="9"/>
                    </a:lnTo>
                    <a:lnTo>
                      <a:pt x="10" y="7"/>
                    </a:lnTo>
                    <a:lnTo>
                      <a:pt x="7" y="5"/>
                    </a:lnTo>
                    <a:lnTo>
                      <a:pt x="4" y="2"/>
                    </a:lnTo>
                    <a:lnTo>
                      <a:pt x="1" y="0"/>
                    </a:lnTo>
                    <a:lnTo>
                      <a:pt x="1" y="829"/>
                    </a:lnTo>
                    <a:lnTo>
                      <a:pt x="1" y="827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13"/>
              <p:cNvSpPr/>
              <p:nvPr/>
            </p:nvSpPr>
            <p:spPr>
              <a:xfrm>
                <a:off x="5949360" y="2988720"/>
                <a:ext cx="68400" cy="33120"/>
              </a:xfrm>
              <a:custGeom>
                <a:avLst/>
                <a:gdLst>
                  <a:gd name="textAreaLeft" fmla="*/ 0 w 68400"/>
                  <a:gd name="textAreaRight" fmla="*/ 68400 w 68400"/>
                  <a:gd name="textAreaTop" fmla="*/ 0 h 33120"/>
                  <a:gd name="textAreaBottom" fmla="*/ 33480 h 33120"/>
                </a:gdLst>
                <a:ahLst/>
                <a:rect l="textAreaLeft" t="textAreaTop" r="textAreaRight" b="textAreaBottom"/>
                <a:pathLst>
                  <a:path w="73" h="97">
                    <a:moveTo>
                      <a:pt x="34" y="72"/>
                    </a:moveTo>
                    <a:lnTo>
                      <a:pt x="40" y="67"/>
                    </a:lnTo>
                    <a:lnTo>
                      <a:pt x="46" y="61"/>
                    </a:lnTo>
                    <a:lnTo>
                      <a:pt x="51" y="54"/>
                    </a:lnTo>
                    <a:lnTo>
                      <a:pt x="56" y="45"/>
                    </a:lnTo>
                    <a:lnTo>
                      <a:pt x="61" y="38"/>
                    </a:lnTo>
                    <a:lnTo>
                      <a:pt x="65" y="31"/>
                    </a:lnTo>
                    <a:lnTo>
                      <a:pt x="67" y="24"/>
                    </a:lnTo>
                    <a:lnTo>
                      <a:pt x="70" y="18"/>
                    </a:lnTo>
                    <a:lnTo>
                      <a:pt x="71" y="11"/>
                    </a:lnTo>
                    <a:lnTo>
                      <a:pt x="73" y="7"/>
                    </a:lnTo>
                    <a:lnTo>
                      <a:pt x="71" y="4"/>
                    </a:lnTo>
                    <a:lnTo>
                      <a:pt x="70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1" y="2"/>
                    </a:lnTo>
                    <a:lnTo>
                      <a:pt x="56" y="6"/>
                    </a:lnTo>
                    <a:lnTo>
                      <a:pt x="51" y="9"/>
                    </a:lnTo>
                    <a:lnTo>
                      <a:pt x="46" y="13"/>
                    </a:lnTo>
                    <a:lnTo>
                      <a:pt x="41" y="18"/>
                    </a:lnTo>
                    <a:lnTo>
                      <a:pt x="34" y="24"/>
                    </a:lnTo>
                    <a:lnTo>
                      <a:pt x="29" y="31"/>
                    </a:lnTo>
                    <a:lnTo>
                      <a:pt x="23" y="38"/>
                    </a:lnTo>
                    <a:lnTo>
                      <a:pt x="18" y="45"/>
                    </a:lnTo>
                    <a:lnTo>
                      <a:pt x="14" y="52"/>
                    </a:lnTo>
                    <a:lnTo>
                      <a:pt x="10" y="59"/>
                    </a:lnTo>
                    <a:lnTo>
                      <a:pt x="7" y="67"/>
                    </a:lnTo>
                    <a:lnTo>
                      <a:pt x="4" y="74"/>
                    </a:lnTo>
                    <a:lnTo>
                      <a:pt x="1" y="81"/>
                    </a:lnTo>
                    <a:lnTo>
                      <a:pt x="0" y="86"/>
                    </a:lnTo>
                    <a:lnTo>
                      <a:pt x="0" y="90"/>
                    </a:lnTo>
                    <a:lnTo>
                      <a:pt x="0" y="93"/>
                    </a:lnTo>
                    <a:lnTo>
                      <a:pt x="1" y="97"/>
                    </a:lnTo>
                    <a:lnTo>
                      <a:pt x="4" y="97"/>
                    </a:lnTo>
                    <a:lnTo>
                      <a:pt x="7" y="97"/>
                    </a:lnTo>
                    <a:lnTo>
                      <a:pt x="10" y="95"/>
                    </a:lnTo>
                    <a:lnTo>
                      <a:pt x="14" y="92"/>
                    </a:lnTo>
                    <a:lnTo>
                      <a:pt x="19" y="88"/>
                    </a:lnTo>
                    <a:lnTo>
                      <a:pt x="23" y="84"/>
                    </a:lnTo>
                    <a:lnTo>
                      <a:pt x="29" y="79"/>
                    </a:lnTo>
                    <a:lnTo>
                      <a:pt x="34" y="74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14"/>
              <p:cNvSpPr/>
              <p:nvPr/>
            </p:nvSpPr>
            <p:spPr>
              <a:xfrm>
                <a:off x="5058360" y="2083680"/>
                <a:ext cx="1844280" cy="198720"/>
              </a:xfrm>
              <a:custGeom>
                <a:avLst/>
                <a:gdLst>
                  <a:gd name="textAreaLeft" fmla="*/ 0 w 1844280"/>
                  <a:gd name="textAreaRight" fmla="*/ 1844640 w 184428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1962" h="583">
                    <a:moveTo>
                      <a:pt x="0" y="283"/>
                    </a:moveTo>
                    <a:lnTo>
                      <a:pt x="14" y="236"/>
                    </a:lnTo>
                    <a:lnTo>
                      <a:pt x="51" y="191"/>
                    </a:lnTo>
                    <a:lnTo>
                      <a:pt x="111" y="150"/>
                    </a:lnTo>
                    <a:lnTo>
                      <a:pt x="189" y="114"/>
                    </a:lnTo>
                    <a:lnTo>
                      <a:pt x="287" y="80"/>
                    </a:lnTo>
                    <a:lnTo>
                      <a:pt x="401" y="53"/>
                    </a:lnTo>
                    <a:lnTo>
                      <a:pt x="531" y="30"/>
                    </a:lnTo>
                    <a:lnTo>
                      <a:pt x="672" y="14"/>
                    </a:lnTo>
                    <a:lnTo>
                      <a:pt x="824" y="3"/>
                    </a:lnTo>
                    <a:lnTo>
                      <a:pt x="984" y="0"/>
                    </a:lnTo>
                    <a:lnTo>
                      <a:pt x="1144" y="3"/>
                    </a:lnTo>
                    <a:lnTo>
                      <a:pt x="1295" y="14"/>
                    </a:lnTo>
                    <a:lnTo>
                      <a:pt x="1435" y="30"/>
                    </a:lnTo>
                    <a:lnTo>
                      <a:pt x="1564" y="53"/>
                    </a:lnTo>
                    <a:lnTo>
                      <a:pt x="1678" y="80"/>
                    </a:lnTo>
                    <a:lnTo>
                      <a:pt x="1775" y="114"/>
                    </a:lnTo>
                    <a:lnTo>
                      <a:pt x="1854" y="150"/>
                    </a:lnTo>
                    <a:lnTo>
                      <a:pt x="1912" y="191"/>
                    </a:lnTo>
                    <a:lnTo>
                      <a:pt x="1949" y="236"/>
                    </a:lnTo>
                    <a:lnTo>
                      <a:pt x="1962" y="283"/>
                    </a:lnTo>
                    <a:lnTo>
                      <a:pt x="1949" y="338"/>
                    </a:lnTo>
                    <a:lnTo>
                      <a:pt x="1912" y="388"/>
                    </a:lnTo>
                    <a:lnTo>
                      <a:pt x="1854" y="433"/>
                    </a:lnTo>
                    <a:lnTo>
                      <a:pt x="1775" y="472"/>
                    </a:lnTo>
                    <a:lnTo>
                      <a:pt x="1678" y="506"/>
                    </a:lnTo>
                    <a:lnTo>
                      <a:pt x="1564" y="533"/>
                    </a:lnTo>
                    <a:lnTo>
                      <a:pt x="1435" y="557"/>
                    </a:lnTo>
                    <a:lnTo>
                      <a:pt x="1295" y="571"/>
                    </a:lnTo>
                    <a:lnTo>
                      <a:pt x="1144" y="582"/>
                    </a:lnTo>
                    <a:lnTo>
                      <a:pt x="984" y="583"/>
                    </a:lnTo>
                    <a:lnTo>
                      <a:pt x="824" y="582"/>
                    </a:lnTo>
                    <a:lnTo>
                      <a:pt x="672" y="571"/>
                    </a:lnTo>
                    <a:lnTo>
                      <a:pt x="531" y="557"/>
                    </a:lnTo>
                    <a:lnTo>
                      <a:pt x="401" y="533"/>
                    </a:lnTo>
                    <a:lnTo>
                      <a:pt x="287" y="506"/>
                    </a:lnTo>
                    <a:lnTo>
                      <a:pt x="189" y="472"/>
                    </a:lnTo>
                    <a:lnTo>
                      <a:pt x="111" y="433"/>
                    </a:lnTo>
                    <a:lnTo>
                      <a:pt x="51" y="388"/>
                    </a:lnTo>
                    <a:lnTo>
                      <a:pt x="14" y="338"/>
                    </a:lnTo>
                    <a:lnTo>
                      <a:pt x="2" y="283"/>
                    </a:lnTo>
                  </a:path>
                </a:pathLst>
              </a:custGeom>
              <a:noFill/>
              <a:ln w="20520">
                <a:solidFill>
                  <a:srgbClr val="7373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15"/>
              <p:cNvSpPr/>
              <p:nvPr/>
            </p:nvSpPr>
            <p:spPr>
              <a:xfrm>
                <a:off x="5060880" y="2084040"/>
                <a:ext cx="1837800" cy="196560"/>
              </a:xfrm>
              <a:custGeom>
                <a:avLst/>
                <a:gdLst>
                  <a:gd name="textAreaLeft" fmla="*/ 0 w 1837800"/>
                  <a:gd name="textAreaRight" fmla="*/ 1838160 w 183780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1955" h="579">
                    <a:moveTo>
                      <a:pt x="0" y="280"/>
                    </a:moveTo>
                    <a:lnTo>
                      <a:pt x="14" y="235"/>
                    </a:lnTo>
                    <a:lnTo>
                      <a:pt x="51" y="190"/>
                    </a:lnTo>
                    <a:lnTo>
                      <a:pt x="109" y="151"/>
                    </a:lnTo>
                    <a:lnTo>
                      <a:pt x="189" y="113"/>
                    </a:lnTo>
                    <a:lnTo>
                      <a:pt x="287" y="81"/>
                    </a:lnTo>
                    <a:lnTo>
                      <a:pt x="400" y="52"/>
                    </a:lnTo>
                    <a:lnTo>
                      <a:pt x="529" y="31"/>
                    </a:lnTo>
                    <a:lnTo>
                      <a:pt x="670" y="13"/>
                    </a:lnTo>
                    <a:lnTo>
                      <a:pt x="821" y="4"/>
                    </a:lnTo>
                    <a:lnTo>
                      <a:pt x="981" y="0"/>
                    </a:lnTo>
                    <a:lnTo>
                      <a:pt x="1141" y="4"/>
                    </a:lnTo>
                    <a:lnTo>
                      <a:pt x="1292" y="13"/>
                    </a:lnTo>
                    <a:lnTo>
                      <a:pt x="1431" y="31"/>
                    </a:lnTo>
                    <a:lnTo>
                      <a:pt x="1559" y="52"/>
                    </a:lnTo>
                    <a:lnTo>
                      <a:pt x="1672" y="81"/>
                    </a:lnTo>
                    <a:lnTo>
                      <a:pt x="1770" y="113"/>
                    </a:lnTo>
                    <a:lnTo>
                      <a:pt x="1849" y="151"/>
                    </a:lnTo>
                    <a:lnTo>
                      <a:pt x="1907" y="190"/>
                    </a:lnTo>
                    <a:lnTo>
                      <a:pt x="1942" y="235"/>
                    </a:lnTo>
                    <a:lnTo>
                      <a:pt x="1955" y="280"/>
                    </a:lnTo>
                    <a:lnTo>
                      <a:pt x="1942" y="335"/>
                    </a:lnTo>
                    <a:lnTo>
                      <a:pt x="1907" y="385"/>
                    </a:lnTo>
                    <a:lnTo>
                      <a:pt x="1849" y="430"/>
                    </a:lnTo>
                    <a:lnTo>
                      <a:pt x="1770" y="468"/>
                    </a:lnTo>
                    <a:lnTo>
                      <a:pt x="1672" y="502"/>
                    </a:lnTo>
                    <a:lnTo>
                      <a:pt x="1559" y="529"/>
                    </a:lnTo>
                    <a:lnTo>
                      <a:pt x="1431" y="550"/>
                    </a:lnTo>
                    <a:lnTo>
                      <a:pt x="1292" y="566"/>
                    </a:lnTo>
                    <a:lnTo>
                      <a:pt x="1141" y="575"/>
                    </a:lnTo>
                    <a:lnTo>
                      <a:pt x="981" y="579"/>
                    </a:lnTo>
                    <a:lnTo>
                      <a:pt x="821" y="575"/>
                    </a:lnTo>
                    <a:lnTo>
                      <a:pt x="670" y="566"/>
                    </a:lnTo>
                    <a:lnTo>
                      <a:pt x="529" y="550"/>
                    </a:lnTo>
                    <a:lnTo>
                      <a:pt x="400" y="529"/>
                    </a:lnTo>
                    <a:lnTo>
                      <a:pt x="287" y="502"/>
                    </a:lnTo>
                    <a:lnTo>
                      <a:pt x="189" y="468"/>
                    </a:lnTo>
                    <a:lnTo>
                      <a:pt x="109" y="430"/>
                    </a:lnTo>
                    <a:lnTo>
                      <a:pt x="51" y="385"/>
                    </a:lnTo>
                    <a:lnTo>
                      <a:pt x="14" y="335"/>
                    </a:lnTo>
                    <a:lnTo>
                      <a:pt x="1" y="280"/>
                    </a:lnTo>
                  </a:path>
                </a:pathLst>
              </a:custGeom>
              <a:noFill/>
              <a:ln w="20520">
                <a:solidFill>
                  <a:srgbClr val="7b7b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16"/>
              <p:cNvSpPr/>
              <p:nvPr/>
            </p:nvSpPr>
            <p:spPr>
              <a:xfrm>
                <a:off x="5063040" y="2084040"/>
                <a:ext cx="1833840" cy="195120"/>
              </a:xfrm>
              <a:custGeom>
                <a:avLst/>
                <a:gdLst>
                  <a:gd name="textAreaLeft" fmla="*/ 0 w 1833840"/>
                  <a:gd name="textAreaRight" fmla="*/ 1834200 w 183384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1951" h="573">
                    <a:moveTo>
                      <a:pt x="0" y="280"/>
                    </a:moveTo>
                    <a:lnTo>
                      <a:pt x="13" y="233"/>
                    </a:lnTo>
                    <a:lnTo>
                      <a:pt x="50" y="190"/>
                    </a:lnTo>
                    <a:lnTo>
                      <a:pt x="110" y="151"/>
                    </a:lnTo>
                    <a:lnTo>
                      <a:pt x="188" y="113"/>
                    </a:lnTo>
                    <a:lnTo>
                      <a:pt x="286" y="81"/>
                    </a:lnTo>
                    <a:lnTo>
                      <a:pt x="399" y="54"/>
                    </a:lnTo>
                    <a:lnTo>
                      <a:pt x="527" y="33"/>
                    </a:lnTo>
                    <a:lnTo>
                      <a:pt x="668" y="15"/>
                    </a:lnTo>
                    <a:lnTo>
                      <a:pt x="819" y="4"/>
                    </a:lnTo>
                    <a:lnTo>
                      <a:pt x="979" y="0"/>
                    </a:lnTo>
                    <a:lnTo>
                      <a:pt x="1139" y="4"/>
                    </a:lnTo>
                    <a:lnTo>
                      <a:pt x="1288" y="15"/>
                    </a:lnTo>
                    <a:lnTo>
                      <a:pt x="1428" y="33"/>
                    </a:lnTo>
                    <a:lnTo>
                      <a:pt x="1556" y="54"/>
                    </a:lnTo>
                    <a:lnTo>
                      <a:pt x="1669" y="81"/>
                    </a:lnTo>
                    <a:lnTo>
                      <a:pt x="1765" y="113"/>
                    </a:lnTo>
                    <a:lnTo>
                      <a:pt x="1843" y="151"/>
                    </a:lnTo>
                    <a:lnTo>
                      <a:pt x="1901" y="190"/>
                    </a:lnTo>
                    <a:lnTo>
                      <a:pt x="1938" y="233"/>
                    </a:lnTo>
                    <a:lnTo>
                      <a:pt x="1951" y="280"/>
                    </a:lnTo>
                    <a:lnTo>
                      <a:pt x="1938" y="333"/>
                    </a:lnTo>
                    <a:lnTo>
                      <a:pt x="1901" y="384"/>
                    </a:lnTo>
                    <a:lnTo>
                      <a:pt x="1843" y="427"/>
                    </a:lnTo>
                    <a:lnTo>
                      <a:pt x="1765" y="466"/>
                    </a:lnTo>
                    <a:lnTo>
                      <a:pt x="1669" y="498"/>
                    </a:lnTo>
                    <a:lnTo>
                      <a:pt x="1556" y="525"/>
                    </a:lnTo>
                    <a:lnTo>
                      <a:pt x="1428" y="547"/>
                    </a:lnTo>
                    <a:lnTo>
                      <a:pt x="1288" y="561"/>
                    </a:lnTo>
                    <a:lnTo>
                      <a:pt x="1139" y="572"/>
                    </a:lnTo>
                    <a:lnTo>
                      <a:pt x="979" y="573"/>
                    </a:lnTo>
                    <a:lnTo>
                      <a:pt x="819" y="572"/>
                    </a:lnTo>
                    <a:lnTo>
                      <a:pt x="668" y="561"/>
                    </a:lnTo>
                    <a:lnTo>
                      <a:pt x="527" y="547"/>
                    </a:lnTo>
                    <a:lnTo>
                      <a:pt x="399" y="525"/>
                    </a:lnTo>
                    <a:lnTo>
                      <a:pt x="286" y="498"/>
                    </a:lnTo>
                    <a:lnTo>
                      <a:pt x="188" y="466"/>
                    </a:lnTo>
                    <a:lnTo>
                      <a:pt x="110" y="427"/>
                    </a:lnTo>
                    <a:lnTo>
                      <a:pt x="50" y="384"/>
                    </a:lnTo>
                    <a:lnTo>
                      <a:pt x="13" y="333"/>
                    </a:lnTo>
                    <a:lnTo>
                      <a:pt x="0" y="280"/>
                    </a:lnTo>
                  </a:path>
                </a:pathLst>
              </a:custGeom>
              <a:noFill/>
              <a:ln w="20520">
                <a:solidFill>
                  <a:srgbClr val="82828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17"/>
              <p:cNvSpPr/>
              <p:nvPr/>
            </p:nvSpPr>
            <p:spPr>
              <a:xfrm>
                <a:off x="5065560" y="2084760"/>
                <a:ext cx="1827360" cy="192960"/>
              </a:xfrm>
              <a:custGeom>
                <a:avLst/>
                <a:gdLst>
                  <a:gd name="textAreaLeft" fmla="*/ 0 w 1827360"/>
                  <a:gd name="textAreaRight" fmla="*/ 1827720 w 1827360"/>
                  <a:gd name="textAreaTop" fmla="*/ 0 h 192960"/>
                  <a:gd name="textAreaBottom" fmla="*/ 193320 h 192960"/>
                </a:gdLst>
                <a:ahLst/>
                <a:rect l="textAreaLeft" t="textAreaTop" r="textAreaRight" b="textAreaBottom"/>
                <a:pathLst>
                  <a:path w="1944" h="568">
                    <a:moveTo>
                      <a:pt x="0" y="276"/>
                    </a:moveTo>
                    <a:lnTo>
                      <a:pt x="13" y="231"/>
                    </a:lnTo>
                    <a:lnTo>
                      <a:pt x="50" y="188"/>
                    </a:lnTo>
                    <a:lnTo>
                      <a:pt x="108" y="149"/>
                    </a:lnTo>
                    <a:lnTo>
                      <a:pt x="188" y="113"/>
                    </a:lnTo>
                    <a:lnTo>
                      <a:pt x="284" y="81"/>
                    </a:lnTo>
                    <a:lnTo>
                      <a:pt x="397" y="54"/>
                    </a:lnTo>
                    <a:lnTo>
                      <a:pt x="525" y="31"/>
                    </a:lnTo>
                    <a:lnTo>
                      <a:pt x="666" y="14"/>
                    </a:lnTo>
                    <a:lnTo>
                      <a:pt x="816" y="4"/>
                    </a:lnTo>
                    <a:lnTo>
                      <a:pt x="976" y="0"/>
                    </a:lnTo>
                    <a:lnTo>
                      <a:pt x="1134" y="4"/>
                    </a:lnTo>
                    <a:lnTo>
                      <a:pt x="1285" y="14"/>
                    </a:lnTo>
                    <a:lnTo>
                      <a:pt x="1424" y="31"/>
                    </a:lnTo>
                    <a:lnTo>
                      <a:pt x="1550" y="54"/>
                    </a:lnTo>
                    <a:lnTo>
                      <a:pt x="1663" y="81"/>
                    </a:lnTo>
                    <a:lnTo>
                      <a:pt x="1760" y="113"/>
                    </a:lnTo>
                    <a:lnTo>
                      <a:pt x="1837" y="149"/>
                    </a:lnTo>
                    <a:lnTo>
                      <a:pt x="1896" y="188"/>
                    </a:lnTo>
                    <a:lnTo>
                      <a:pt x="1931" y="231"/>
                    </a:lnTo>
                    <a:lnTo>
                      <a:pt x="1944" y="278"/>
                    </a:lnTo>
                    <a:lnTo>
                      <a:pt x="1931" y="331"/>
                    </a:lnTo>
                    <a:lnTo>
                      <a:pt x="1896" y="380"/>
                    </a:lnTo>
                    <a:lnTo>
                      <a:pt x="1837" y="423"/>
                    </a:lnTo>
                    <a:lnTo>
                      <a:pt x="1760" y="460"/>
                    </a:lnTo>
                    <a:lnTo>
                      <a:pt x="1663" y="493"/>
                    </a:lnTo>
                    <a:lnTo>
                      <a:pt x="1550" y="520"/>
                    </a:lnTo>
                    <a:lnTo>
                      <a:pt x="1424" y="541"/>
                    </a:lnTo>
                    <a:lnTo>
                      <a:pt x="1285" y="555"/>
                    </a:lnTo>
                    <a:lnTo>
                      <a:pt x="1134" y="564"/>
                    </a:lnTo>
                    <a:lnTo>
                      <a:pt x="976" y="568"/>
                    </a:lnTo>
                    <a:lnTo>
                      <a:pt x="816" y="564"/>
                    </a:lnTo>
                    <a:lnTo>
                      <a:pt x="666" y="555"/>
                    </a:lnTo>
                    <a:lnTo>
                      <a:pt x="525" y="541"/>
                    </a:lnTo>
                    <a:lnTo>
                      <a:pt x="397" y="520"/>
                    </a:lnTo>
                    <a:lnTo>
                      <a:pt x="284" y="493"/>
                    </a:lnTo>
                    <a:lnTo>
                      <a:pt x="188" y="460"/>
                    </a:lnTo>
                    <a:lnTo>
                      <a:pt x="108" y="423"/>
                    </a:lnTo>
                    <a:lnTo>
                      <a:pt x="50" y="380"/>
                    </a:lnTo>
                    <a:lnTo>
                      <a:pt x="13" y="331"/>
                    </a:lnTo>
                    <a:lnTo>
                      <a:pt x="0" y="278"/>
                    </a:lnTo>
                  </a:path>
                </a:pathLst>
              </a:custGeom>
              <a:noFill/>
              <a:ln w="20520">
                <a:solidFill>
                  <a:srgbClr val="8a8a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18"/>
              <p:cNvSpPr/>
              <p:nvPr/>
            </p:nvSpPr>
            <p:spPr>
              <a:xfrm>
                <a:off x="5068440" y="2085480"/>
                <a:ext cx="1820880" cy="190440"/>
              </a:xfrm>
              <a:custGeom>
                <a:avLst/>
                <a:gdLst>
                  <a:gd name="textAreaLeft" fmla="*/ 0 w 1820880"/>
                  <a:gd name="textAreaRight" fmla="*/ 1821240 w 182088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1937" h="561">
                    <a:moveTo>
                      <a:pt x="0" y="274"/>
                    </a:moveTo>
                    <a:lnTo>
                      <a:pt x="12" y="229"/>
                    </a:lnTo>
                    <a:lnTo>
                      <a:pt x="49" y="186"/>
                    </a:lnTo>
                    <a:lnTo>
                      <a:pt x="107" y="147"/>
                    </a:lnTo>
                    <a:lnTo>
                      <a:pt x="186" y="111"/>
                    </a:lnTo>
                    <a:lnTo>
                      <a:pt x="283" y="81"/>
                    </a:lnTo>
                    <a:lnTo>
                      <a:pt x="397" y="52"/>
                    </a:lnTo>
                    <a:lnTo>
                      <a:pt x="524" y="30"/>
                    </a:lnTo>
                    <a:lnTo>
                      <a:pt x="663" y="14"/>
                    </a:lnTo>
                    <a:lnTo>
                      <a:pt x="814" y="3"/>
                    </a:lnTo>
                    <a:lnTo>
                      <a:pt x="973" y="0"/>
                    </a:lnTo>
                    <a:lnTo>
                      <a:pt x="1131" y="3"/>
                    </a:lnTo>
                    <a:lnTo>
                      <a:pt x="1281" y="14"/>
                    </a:lnTo>
                    <a:lnTo>
                      <a:pt x="1419" y="30"/>
                    </a:lnTo>
                    <a:lnTo>
                      <a:pt x="1546" y="52"/>
                    </a:lnTo>
                    <a:lnTo>
                      <a:pt x="1658" y="81"/>
                    </a:lnTo>
                    <a:lnTo>
                      <a:pt x="1754" y="111"/>
                    </a:lnTo>
                    <a:lnTo>
                      <a:pt x="1832" y="147"/>
                    </a:lnTo>
                    <a:lnTo>
                      <a:pt x="1889" y="186"/>
                    </a:lnTo>
                    <a:lnTo>
                      <a:pt x="1926" y="229"/>
                    </a:lnTo>
                    <a:lnTo>
                      <a:pt x="1937" y="274"/>
                    </a:lnTo>
                    <a:lnTo>
                      <a:pt x="1926" y="328"/>
                    </a:lnTo>
                    <a:lnTo>
                      <a:pt x="1889" y="376"/>
                    </a:lnTo>
                    <a:lnTo>
                      <a:pt x="1832" y="419"/>
                    </a:lnTo>
                    <a:lnTo>
                      <a:pt x="1754" y="455"/>
                    </a:lnTo>
                    <a:lnTo>
                      <a:pt x="1658" y="487"/>
                    </a:lnTo>
                    <a:lnTo>
                      <a:pt x="1546" y="514"/>
                    </a:lnTo>
                    <a:lnTo>
                      <a:pt x="1419" y="534"/>
                    </a:lnTo>
                    <a:lnTo>
                      <a:pt x="1281" y="550"/>
                    </a:lnTo>
                    <a:lnTo>
                      <a:pt x="1131" y="559"/>
                    </a:lnTo>
                    <a:lnTo>
                      <a:pt x="973" y="561"/>
                    </a:lnTo>
                    <a:lnTo>
                      <a:pt x="814" y="559"/>
                    </a:lnTo>
                    <a:lnTo>
                      <a:pt x="663" y="550"/>
                    </a:lnTo>
                    <a:lnTo>
                      <a:pt x="524" y="534"/>
                    </a:lnTo>
                    <a:lnTo>
                      <a:pt x="397" y="514"/>
                    </a:lnTo>
                    <a:lnTo>
                      <a:pt x="283" y="487"/>
                    </a:lnTo>
                    <a:lnTo>
                      <a:pt x="186" y="455"/>
                    </a:lnTo>
                    <a:lnTo>
                      <a:pt x="107" y="419"/>
                    </a:lnTo>
                    <a:lnTo>
                      <a:pt x="49" y="376"/>
                    </a:lnTo>
                    <a:lnTo>
                      <a:pt x="12" y="328"/>
                    </a:lnTo>
                    <a:lnTo>
                      <a:pt x="0" y="274"/>
                    </a:lnTo>
                  </a:path>
                </a:pathLst>
              </a:custGeom>
              <a:noFill/>
              <a:ln w="20520">
                <a:solidFill>
                  <a:srgbClr val="92929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19"/>
              <p:cNvSpPr/>
              <p:nvPr/>
            </p:nvSpPr>
            <p:spPr>
              <a:xfrm>
                <a:off x="5069160" y="2086200"/>
                <a:ext cx="1817280" cy="188280"/>
              </a:xfrm>
              <a:custGeom>
                <a:avLst/>
                <a:gdLst>
                  <a:gd name="textAreaLeft" fmla="*/ 0 w 1817280"/>
                  <a:gd name="textAreaRight" fmla="*/ 1817640 w 181728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1933" h="555">
                    <a:moveTo>
                      <a:pt x="0" y="270"/>
                    </a:moveTo>
                    <a:lnTo>
                      <a:pt x="14" y="227"/>
                    </a:lnTo>
                    <a:lnTo>
                      <a:pt x="49" y="184"/>
                    </a:lnTo>
                    <a:lnTo>
                      <a:pt x="108" y="147"/>
                    </a:lnTo>
                    <a:lnTo>
                      <a:pt x="186" y="111"/>
                    </a:lnTo>
                    <a:lnTo>
                      <a:pt x="284" y="79"/>
                    </a:lnTo>
                    <a:lnTo>
                      <a:pt x="397" y="52"/>
                    </a:lnTo>
                    <a:lnTo>
                      <a:pt x="524" y="30"/>
                    </a:lnTo>
                    <a:lnTo>
                      <a:pt x="663" y="14"/>
                    </a:lnTo>
                    <a:lnTo>
                      <a:pt x="813" y="3"/>
                    </a:lnTo>
                    <a:lnTo>
                      <a:pt x="972" y="0"/>
                    </a:lnTo>
                    <a:lnTo>
                      <a:pt x="1130" y="3"/>
                    </a:lnTo>
                    <a:lnTo>
                      <a:pt x="1279" y="14"/>
                    </a:lnTo>
                    <a:lnTo>
                      <a:pt x="1417" y="30"/>
                    </a:lnTo>
                    <a:lnTo>
                      <a:pt x="1544" y="52"/>
                    </a:lnTo>
                    <a:lnTo>
                      <a:pt x="1654" y="79"/>
                    </a:lnTo>
                    <a:lnTo>
                      <a:pt x="1751" y="111"/>
                    </a:lnTo>
                    <a:lnTo>
                      <a:pt x="1827" y="147"/>
                    </a:lnTo>
                    <a:lnTo>
                      <a:pt x="1885" y="184"/>
                    </a:lnTo>
                    <a:lnTo>
                      <a:pt x="1921" y="227"/>
                    </a:lnTo>
                    <a:lnTo>
                      <a:pt x="1933" y="272"/>
                    </a:lnTo>
                    <a:lnTo>
                      <a:pt x="1921" y="324"/>
                    </a:lnTo>
                    <a:lnTo>
                      <a:pt x="1885" y="372"/>
                    </a:lnTo>
                    <a:lnTo>
                      <a:pt x="1827" y="413"/>
                    </a:lnTo>
                    <a:lnTo>
                      <a:pt x="1751" y="451"/>
                    </a:lnTo>
                    <a:lnTo>
                      <a:pt x="1654" y="482"/>
                    </a:lnTo>
                    <a:lnTo>
                      <a:pt x="1544" y="508"/>
                    </a:lnTo>
                    <a:lnTo>
                      <a:pt x="1417" y="528"/>
                    </a:lnTo>
                    <a:lnTo>
                      <a:pt x="1279" y="542"/>
                    </a:lnTo>
                    <a:lnTo>
                      <a:pt x="1130" y="551"/>
                    </a:lnTo>
                    <a:lnTo>
                      <a:pt x="972" y="555"/>
                    </a:lnTo>
                    <a:lnTo>
                      <a:pt x="813" y="551"/>
                    </a:lnTo>
                    <a:lnTo>
                      <a:pt x="663" y="542"/>
                    </a:lnTo>
                    <a:lnTo>
                      <a:pt x="524" y="528"/>
                    </a:lnTo>
                    <a:lnTo>
                      <a:pt x="397" y="508"/>
                    </a:lnTo>
                    <a:lnTo>
                      <a:pt x="284" y="482"/>
                    </a:lnTo>
                    <a:lnTo>
                      <a:pt x="186" y="451"/>
                    </a:lnTo>
                    <a:lnTo>
                      <a:pt x="108" y="413"/>
                    </a:lnTo>
                    <a:lnTo>
                      <a:pt x="49" y="372"/>
                    </a:lnTo>
                    <a:lnTo>
                      <a:pt x="14" y="324"/>
                    </a:lnTo>
                    <a:lnTo>
                      <a:pt x="1" y="272"/>
                    </a:lnTo>
                  </a:path>
                </a:pathLst>
              </a:custGeom>
              <a:noFill/>
              <a:ln w="2052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0"/>
              <p:cNvSpPr/>
              <p:nvPr/>
            </p:nvSpPr>
            <p:spPr>
              <a:xfrm>
                <a:off x="5071320" y="2086920"/>
                <a:ext cx="1812600" cy="186120"/>
              </a:xfrm>
              <a:custGeom>
                <a:avLst/>
                <a:gdLst>
                  <a:gd name="textAreaLeft" fmla="*/ 0 w 1812600"/>
                  <a:gd name="textAreaRight" fmla="*/ 1812960 w 181260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928" h="549">
                    <a:moveTo>
                      <a:pt x="0" y="269"/>
                    </a:moveTo>
                    <a:lnTo>
                      <a:pt x="13" y="226"/>
                    </a:lnTo>
                    <a:lnTo>
                      <a:pt x="50" y="183"/>
                    </a:lnTo>
                    <a:lnTo>
                      <a:pt x="108" y="146"/>
                    </a:lnTo>
                    <a:lnTo>
                      <a:pt x="187" y="110"/>
                    </a:lnTo>
                    <a:lnTo>
                      <a:pt x="283" y="79"/>
                    </a:lnTo>
                    <a:lnTo>
                      <a:pt x="396" y="52"/>
                    </a:lnTo>
                    <a:lnTo>
                      <a:pt x="523" y="31"/>
                    </a:lnTo>
                    <a:lnTo>
                      <a:pt x="661" y="15"/>
                    </a:lnTo>
                    <a:lnTo>
                      <a:pt x="811" y="4"/>
                    </a:lnTo>
                    <a:lnTo>
                      <a:pt x="970" y="0"/>
                    </a:lnTo>
                    <a:lnTo>
                      <a:pt x="1127" y="4"/>
                    </a:lnTo>
                    <a:lnTo>
                      <a:pt x="1277" y="15"/>
                    </a:lnTo>
                    <a:lnTo>
                      <a:pt x="1414" y="31"/>
                    </a:lnTo>
                    <a:lnTo>
                      <a:pt x="1539" y="52"/>
                    </a:lnTo>
                    <a:lnTo>
                      <a:pt x="1651" y="79"/>
                    </a:lnTo>
                    <a:lnTo>
                      <a:pt x="1746" y="110"/>
                    </a:lnTo>
                    <a:lnTo>
                      <a:pt x="1822" y="146"/>
                    </a:lnTo>
                    <a:lnTo>
                      <a:pt x="1879" y="183"/>
                    </a:lnTo>
                    <a:lnTo>
                      <a:pt x="1915" y="226"/>
                    </a:lnTo>
                    <a:lnTo>
                      <a:pt x="1928" y="269"/>
                    </a:lnTo>
                    <a:lnTo>
                      <a:pt x="1915" y="321"/>
                    </a:lnTo>
                    <a:lnTo>
                      <a:pt x="1879" y="368"/>
                    </a:lnTo>
                    <a:lnTo>
                      <a:pt x="1822" y="411"/>
                    </a:lnTo>
                    <a:lnTo>
                      <a:pt x="1746" y="446"/>
                    </a:lnTo>
                    <a:lnTo>
                      <a:pt x="1651" y="477"/>
                    </a:lnTo>
                    <a:lnTo>
                      <a:pt x="1539" y="504"/>
                    </a:lnTo>
                    <a:lnTo>
                      <a:pt x="1414" y="523"/>
                    </a:lnTo>
                    <a:lnTo>
                      <a:pt x="1277" y="538"/>
                    </a:lnTo>
                    <a:lnTo>
                      <a:pt x="1127" y="545"/>
                    </a:lnTo>
                    <a:lnTo>
                      <a:pt x="970" y="549"/>
                    </a:lnTo>
                    <a:lnTo>
                      <a:pt x="811" y="545"/>
                    </a:lnTo>
                    <a:lnTo>
                      <a:pt x="661" y="538"/>
                    </a:lnTo>
                    <a:lnTo>
                      <a:pt x="523" y="523"/>
                    </a:lnTo>
                    <a:lnTo>
                      <a:pt x="396" y="504"/>
                    </a:lnTo>
                    <a:lnTo>
                      <a:pt x="283" y="477"/>
                    </a:lnTo>
                    <a:lnTo>
                      <a:pt x="187" y="446"/>
                    </a:lnTo>
                    <a:lnTo>
                      <a:pt x="108" y="411"/>
                    </a:lnTo>
                    <a:lnTo>
                      <a:pt x="50" y="368"/>
                    </a:lnTo>
                    <a:lnTo>
                      <a:pt x="13" y="321"/>
                    </a:lnTo>
                    <a:lnTo>
                      <a:pt x="0" y="269"/>
                    </a:lnTo>
                  </a:path>
                </a:pathLst>
              </a:custGeom>
              <a:noFill/>
              <a:ln w="205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21"/>
              <p:cNvSpPr/>
              <p:nvPr/>
            </p:nvSpPr>
            <p:spPr>
              <a:xfrm>
                <a:off x="5073840" y="2087640"/>
                <a:ext cx="1806120" cy="184320"/>
              </a:xfrm>
              <a:custGeom>
                <a:avLst/>
                <a:gdLst>
                  <a:gd name="textAreaLeft" fmla="*/ 0 w 1806120"/>
                  <a:gd name="textAreaRight" fmla="*/ 1806480 w 1806120"/>
                  <a:gd name="textAreaTop" fmla="*/ 0 h 184320"/>
                  <a:gd name="textAreaBottom" fmla="*/ 184680 h 184320"/>
                </a:gdLst>
                <a:ahLst/>
                <a:rect l="textAreaLeft" t="textAreaTop" r="textAreaRight" b="textAreaBottom"/>
                <a:pathLst>
                  <a:path w="1921" h="543">
                    <a:moveTo>
                      <a:pt x="0" y="265"/>
                    </a:moveTo>
                    <a:lnTo>
                      <a:pt x="13" y="222"/>
                    </a:lnTo>
                    <a:lnTo>
                      <a:pt x="49" y="181"/>
                    </a:lnTo>
                    <a:lnTo>
                      <a:pt x="108" y="144"/>
                    </a:lnTo>
                    <a:lnTo>
                      <a:pt x="185" y="110"/>
                    </a:lnTo>
                    <a:lnTo>
                      <a:pt x="282" y="77"/>
                    </a:lnTo>
                    <a:lnTo>
                      <a:pt x="395" y="50"/>
                    </a:lnTo>
                    <a:lnTo>
                      <a:pt x="520" y="29"/>
                    </a:lnTo>
                    <a:lnTo>
                      <a:pt x="660" y="15"/>
                    </a:lnTo>
                    <a:lnTo>
                      <a:pt x="809" y="4"/>
                    </a:lnTo>
                    <a:lnTo>
                      <a:pt x="967" y="0"/>
                    </a:lnTo>
                    <a:lnTo>
                      <a:pt x="1124" y="4"/>
                    </a:lnTo>
                    <a:lnTo>
                      <a:pt x="1273" y="15"/>
                    </a:lnTo>
                    <a:lnTo>
                      <a:pt x="1410" y="29"/>
                    </a:lnTo>
                    <a:lnTo>
                      <a:pt x="1535" y="50"/>
                    </a:lnTo>
                    <a:lnTo>
                      <a:pt x="1646" y="77"/>
                    </a:lnTo>
                    <a:lnTo>
                      <a:pt x="1739" y="110"/>
                    </a:lnTo>
                    <a:lnTo>
                      <a:pt x="1817" y="144"/>
                    </a:lnTo>
                    <a:lnTo>
                      <a:pt x="1874" y="181"/>
                    </a:lnTo>
                    <a:lnTo>
                      <a:pt x="1909" y="222"/>
                    </a:lnTo>
                    <a:lnTo>
                      <a:pt x="1921" y="267"/>
                    </a:lnTo>
                    <a:lnTo>
                      <a:pt x="1909" y="319"/>
                    </a:lnTo>
                    <a:lnTo>
                      <a:pt x="1874" y="364"/>
                    </a:lnTo>
                    <a:lnTo>
                      <a:pt x="1817" y="405"/>
                    </a:lnTo>
                    <a:lnTo>
                      <a:pt x="1739" y="441"/>
                    </a:lnTo>
                    <a:lnTo>
                      <a:pt x="1646" y="471"/>
                    </a:lnTo>
                    <a:lnTo>
                      <a:pt x="1535" y="496"/>
                    </a:lnTo>
                    <a:lnTo>
                      <a:pt x="1410" y="516"/>
                    </a:lnTo>
                    <a:lnTo>
                      <a:pt x="1273" y="530"/>
                    </a:lnTo>
                    <a:lnTo>
                      <a:pt x="1124" y="539"/>
                    </a:lnTo>
                    <a:lnTo>
                      <a:pt x="967" y="543"/>
                    </a:lnTo>
                    <a:lnTo>
                      <a:pt x="809" y="539"/>
                    </a:lnTo>
                    <a:lnTo>
                      <a:pt x="660" y="530"/>
                    </a:lnTo>
                    <a:lnTo>
                      <a:pt x="520" y="516"/>
                    </a:lnTo>
                    <a:lnTo>
                      <a:pt x="395" y="496"/>
                    </a:lnTo>
                    <a:lnTo>
                      <a:pt x="282" y="471"/>
                    </a:lnTo>
                    <a:lnTo>
                      <a:pt x="185" y="441"/>
                    </a:lnTo>
                    <a:lnTo>
                      <a:pt x="108" y="405"/>
                    </a:lnTo>
                    <a:lnTo>
                      <a:pt x="49" y="364"/>
                    </a:lnTo>
                    <a:lnTo>
                      <a:pt x="13" y="319"/>
                    </a:lnTo>
                    <a:lnTo>
                      <a:pt x="0" y="267"/>
                    </a:lnTo>
                  </a:path>
                </a:pathLst>
              </a:custGeom>
              <a:noFill/>
              <a:ln w="2052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22"/>
              <p:cNvSpPr/>
              <p:nvPr/>
            </p:nvSpPr>
            <p:spPr>
              <a:xfrm>
                <a:off x="5076000" y="2088360"/>
                <a:ext cx="1801080" cy="181440"/>
              </a:xfrm>
              <a:custGeom>
                <a:avLst/>
                <a:gdLst>
                  <a:gd name="textAreaLeft" fmla="*/ 0 w 1801080"/>
                  <a:gd name="textAreaRight" fmla="*/ 1801440 w 18010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916" h="536">
                    <a:moveTo>
                      <a:pt x="0" y="263"/>
                    </a:moveTo>
                    <a:lnTo>
                      <a:pt x="13" y="220"/>
                    </a:lnTo>
                    <a:lnTo>
                      <a:pt x="49" y="179"/>
                    </a:lnTo>
                    <a:lnTo>
                      <a:pt x="107" y="142"/>
                    </a:lnTo>
                    <a:lnTo>
                      <a:pt x="186" y="108"/>
                    </a:lnTo>
                    <a:lnTo>
                      <a:pt x="281" y="77"/>
                    </a:lnTo>
                    <a:lnTo>
                      <a:pt x="394" y="50"/>
                    </a:lnTo>
                    <a:lnTo>
                      <a:pt x="519" y="29"/>
                    </a:lnTo>
                    <a:lnTo>
                      <a:pt x="658" y="13"/>
                    </a:lnTo>
                    <a:lnTo>
                      <a:pt x="807" y="4"/>
                    </a:lnTo>
                    <a:lnTo>
                      <a:pt x="965" y="0"/>
                    </a:lnTo>
                    <a:lnTo>
                      <a:pt x="1122" y="4"/>
                    </a:lnTo>
                    <a:lnTo>
                      <a:pt x="1269" y="13"/>
                    </a:lnTo>
                    <a:lnTo>
                      <a:pt x="1406" y="29"/>
                    </a:lnTo>
                    <a:lnTo>
                      <a:pt x="1531" y="50"/>
                    </a:lnTo>
                    <a:lnTo>
                      <a:pt x="1641" y="77"/>
                    </a:lnTo>
                    <a:lnTo>
                      <a:pt x="1735" y="108"/>
                    </a:lnTo>
                    <a:lnTo>
                      <a:pt x="1812" y="142"/>
                    </a:lnTo>
                    <a:lnTo>
                      <a:pt x="1868" y="179"/>
                    </a:lnTo>
                    <a:lnTo>
                      <a:pt x="1904" y="220"/>
                    </a:lnTo>
                    <a:lnTo>
                      <a:pt x="1916" y="263"/>
                    </a:lnTo>
                    <a:lnTo>
                      <a:pt x="1904" y="315"/>
                    </a:lnTo>
                    <a:lnTo>
                      <a:pt x="1868" y="360"/>
                    </a:lnTo>
                    <a:lnTo>
                      <a:pt x="1812" y="401"/>
                    </a:lnTo>
                    <a:lnTo>
                      <a:pt x="1735" y="437"/>
                    </a:lnTo>
                    <a:lnTo>
                      <a:pt x="1641" y="466"/>
                    </a:lnTo>
                    <a:lnTo>
                      <a:pt x="1531" y="491"/>
                    </a:lnTo>
                    <a:lnTo>
                      <a:pt x="1406" y="511"/>
                    </a:lnTo>
                    <a:lnTo>
                      <a:pt x="1269" y="525"/>
                    </a:lnTo>
                    <a:lnTo>
                      <a:pt x="1122" y="532"/>
                    </a:lnTo>
                    <a:lnTo>
                      <a:pt x="965" y="536"/>
                    </a:lnTo>
                    <a:lnTo>
                      <a:pt x="807" y="532"/>
                    </a:lnTo>
                    <a:lnTo>
                      <a:pt x="658" y="525"/>
                    </a:lnTo>
                    <a:lnTo>
                      <a:pt x="519" y="511"/>
                    </a:lnTo>
                    <a:lnTo>
                      <a:pt x="394" y="491"/>
                    </a:lnTo>
                    <a:lnTo>
                      <a:pt x="281" y="466"/>
                    </a:lnTo>
                    <a:lnTo>
                      <a:pt x="186" y="437"/>
                    </a:lnTo>
                    <a:lnTo>
                      <a:pt x="107" y="401"/>
                    </a:lnTo>
                    <a:lnTo>
                      <a:pt x="49" y="360"/>
                    </a:lnTo>
                    <a:lnTo>
                      <a:pt x="13" y="315"/>
                    </a:lnTo>
                    <a:lnTo>
                      <a:pt x="0" y="263"/>
                    </a:lnTo>
                  </a:path>
                </a:pathLst>
              </a:custGeom>
              <a:noFill/>
              <a:ln w="205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23"/>
              <p:cNvSpPr/>
              <p:nvPr/>
            </p:nvSpPr>
            <p:spPr>
              <a:xfrm>
                <a:off x="5077800" y="2088360"/>
                <a:ext cx="1796400" cy="180360"/>
              </a:xfrm>
              <a:custGeom>
                <a:avLst/>
                <a:gdLst>
                  <a:gd name="textAreaLeft" fmla="*/ 0 w 1796400"/>
                  <a:gd name="textAreaRight" fmla="*/ 1796760 w 1796400"/>
                  <a:gd name="textAreaTop" fmla="*/ 0 h 180360"/>
                  <a:gd name="textAreaBottom" fmla="*/ 180720 h 180360"/>
                </a:gdLst>
                <a:ahLst/>
                <a:rect l="textAreaLeft" t="textAreaTop" r="textAreaRight" b="textAreaBottom"/>
                <a:pathLst>
                  <a:path w="1911" h="528">
                    <a:moveTo>
                      <a:pt x="0" y="260"/>
                    </a:moveTo>
                    <a:lnTo>
                      <a:pt x="14" y="218"/>
                    </a:lnTo>
                    <a:lnTo>
                      <a:pt x="49" y="177"/>
                    </a:lnTo>
                    <a:lnTo>
                      <a:pt x="108" y="140"/>
                    </a:lnTo>
                    <a:lnTo>
                      <a:pt x="185" y="106"/>
                    </a:lnTo>
                    <a:lnTo>
                      <a:pt x="281" y="75"/>
                    </a:lnTo>
                    <a:lnTo>
                      <a:pt x="393" y="50"/>
                    </a:lnTo>
                    <a:lnTo>
                      <a:pt x="519" y="29"/>
                    </a:lnTo>
                    <a:lnTo>
                      <a:pt x="657" y="12"/>
                    </a:lnTo>
                    <a:lnTo>
                      <a:pt x="805" y="3"/>
                    </a:lnTo>
                    <a:lnTo>
                      <a:pt x="963" y="0"/>
                    </a:lnTo>
                    <a:lnTo>
                      <a:pt x="1119" y="3"/>
                    </a:lnTo>
                    <a:lnTo>
                      <a:pt x="1267" y="12"/>
                    </a:lnTo>
                    <a:lnTo>
                      <a:pt x="1403" y="29"/>
                    </a:lnTo>
                    <a:lnTo>
                      <a:pt x="1527" y="50"/>
                    </a:lnTo>
                    <a:lnTo>
                      <a:pt x="1638" y="75"/>
                    </a:lnTo>
                    <a:lnTo>
                      <a:pt x="1730" y="106"/>
                    </a:lnTo>
                    <a:lnTo>
                      <a:pt x="1806" y="140"/>
                    </a:lnTo>
                    <a:lnTo>
                      <a:pt x="1864" y="177"/>
                    </a:lnTo>
                    <a:lnTo>
                      <a:pt x="1898" y="218"/>
                    </a:lnTo>
                    <a:lnTo>
                      <a:pt x="1911" y="261"/>
                    </a:lnTo>
                    <a:lnTo>
                      <a:pt x="1898" y="312"/>
                    </a:lnTo>
                    <a:lnTo>
                      <a:pt x="1864" y="356"/>
                    </a:lnTo>
                    <a:lnTo>
                      <a:pt x="1806" y="397"/>
                    </a:lnTo>
                    <a:lnTo>
                      <a:pt x="1730" y="432"/>
                    </a:lnTo>
                    <a:lnTo>
                      <a:pt x="1638" y="462"/>
                    </a:lnTo>
                    <a:lnTo>
                      <a:pt x="1527" y="485"/>
                    </a:lnTo>
                    <a:lnTo>
                      <a:pt x="1403" y="505"/>
                    </a:lnTo>
                    <a:lnTo>
                      <a:pt x="1267" y="517"/>
                    </a:lnTo>
                    <a:lnTo>
                      <a:pt x="1119" y="526"/>
                    </a:lnTo>
                    <a:lnTo>
                      <a:pt x="963" y="528"/>
                    </a:lnTo>
                    <a:lnTo>
                      <a:pt x="805" y="526"/>
                    </a:lnTo>
                    <a:lnTo>
                      <a:pt x="657" y="517"/>
                    </a:lnTo>
                    <a:lnTo>
                      <a:pt x="519" y="505"/>
                    </a:lnTo>
                    <a:lnTo>
                      <a:pt x="393" y="485"/>
                    </a:lnTo>
                    <a:lnTo>
                      <a:pt x="281" y="462"/>
                    </a:lnTo>
                    <a:lnTo>
                      <a:pt x="185" y="432"/>
                    </a:lnTo>
                    <a:lnTo>
                      <a:pt x="108" y="397"/>
                    </a:lnTo>
                    <a:lnTo>
                      <a:pt x="49" y="356"/>
                    </a:lnTo>
                    <a:lnTo>
                      <a:pt x="14" y="312"/>
                    </a:lnTo>
                    <a:lnTo>
                      <a:pt x="1" y="261"/>
                    </a:lnTo>
                  </a:path>
                </a:pathLst>
              </a:custGeom>
              <a:noFill/>
              <a:ln w="20520">
                <a:solidFill>
                  <a:srgbClr val="b9b9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24"/>
              <p:cNvSpPr/>
              <p:nvPr/>
            </p:nvSpPr>
            <p:spPr>
              <a:xfrm>
                <a:off x="5079600" y="2089080"/>
                <a:ext cx="1790640" cy="178200"/>
              </a:xfrm>
              <a:custGeom>
                <a:avLst/>
                <a:gdLst>
                  <a:gd name="textAreaLeft" fmla="*/ 0 w 1790640"/>
                  <a:gd name="textAreaRight" fmla="*/ 1791000 w 1790640"/>
                  <a:gd name="textAreaTop" fmla="*/ 0 h 178200"/>
                  <a:gd name="textAreaBottom" fmla="*/ 178560 h 178200"/>
                </a:gdLst>
                <a:ahLst/>
                <a:rect l="textAreaLeft" t="textAreaTop" r="textAreaRight" b="textAreaBottom"/>
                <a:pathLst>
                  <a:path w="1905" h="523">
                    <a:moveTo>
                      <a:pt x="0" y="258"/>
                    </a:moveTo>
                    <a:lnTo>
                      <a:pt x="13" y="216"/>
                    </a:lnTo>
                    <a:lnTo>
                      <a:pt x="50" y="175"/>
                    </a:lnTo>
                    <a:lnTo>
                      <a:pt x="107" y="139"/>
                    </a:lnTo>
                    <a:lnTo>
                      <a:pt x="186" y="105"/>
                    </a:lnTo>
                    <a:lnTo>
                      <a:pt x="281" y="75"/>
                    </a:lnTo>
                    <a:lnTo>
                      <a:pt x="392" y="50"/>
                    </a:lnTo>
                    <a:lnTo>
                      <a:pt x="518" y="28"/>
                    </a:lnTo>
                    <a:lnTo>
                      <a:pt x="656" y="12"/>
                    </a:lnTo>
                    <a:lnTo>
                      <a:pt x="803" y="3"/>
                    </a:lnTo>
                    <a:lnTo>
                      <a:pt x="961" y="0"/>
                    </a:lnTo>
                    <a:lnTo>
                      <a:pt x="1117" y="3"/>
                    </a:lnTo>
                    <a:lnTo>
                      <a:pt x="1264" y="12"/>
                    </a:lnTo>
                    <a:lnTo>
                      <a:pt x="1400" y="28"/>
                    </a:lnTo>
                    <a:lnTo>
                      <a:pt x="1524" y="50"/>
                    </a:lnTo>
                    <a:lnTo>
                      <a:pt x="1633" y="75"/>
                    </a:lnTo>
                    <a:lnTo>
                      <a:pt x="1726" y="105"/>
                    </a:lnTo>
                    <a:lnTo>
                      <a:pt x="1802" y="139"/>
                    </a:lnTo>
                    <a:lnTo>
                      <a:pt x="1858" y="175"/>
                    </a:lnTo>
                    <a:lnTo>
                      <a:pt x="1893" y="216"/>
                    </a:lnTo>
                    <a:lnTo>
                      <a:pt x="1905" y="258"/>
                    </a:lnTo>
                    <a:lnTo>
                      <a:pt x="1893" y="308"/>
                    </a:lnTo>
                    <a:lnTo>
                      <a:pt x="1858" y="353"/>
                    </a:lnTo>
                    <a:lnTo>
                      <a:pt x="1802" y="392"/>
                    </a:lnTo>
                    <a:lnTo>
                      <a:pt x="1726" y="426"/>
                    </a:lnTo>
                    <a:lnTo>
                      <a:pt x="1633" y="456"/>
                    </a:lnTo>
                    <a:lnTo>
                      <a:pt x="1524" y="480"/>
                    </a:lnTo>
                    <a:lnTo>
                      <a:pt x="1400" y="498"/>
                    </a:lnTo>
                    <a:lnTo>
                      <a:pt x="1264" y="512"/>
                    </a:lnTo>
                    <a:lnTo>
                      <a:pt x="1117" y="519"/>
                    </a:lnTo>
                    <a:lnTo>
                      <a:pt x="961" y="523"/>
                    </a:lnTo>
                    <a:lnTo>
                      <a:pt x="803" y="519"/>
                    </a:lnTo>
                    <a:lnTo>
                      <a:pt x="656" y="512"/>
                    </a:lnTo>
                    <a:lnTo>
                      <a:pt x="518" y="498"/>
                    </a:lnTo>
                    <a:lnTo>
                      <a:pt x="392" y="480"/>
                    </a:lnTo>
                    <a:lnTo>
                      <a:pt x="281" y="456"/>
                    </a:lnTo>
                    <a:lnTo>
                      <a:pt x="186" y="426"/>
                    </a:lnTo>
                    <a:lnTo>
                      <a:pt x="107" y="392"/>
                    </a:lnTo>
                    <a:lnTo>
                      <a:pt x="50" y="353"/>
                    </a:lnTo>
                    <a:lnTo>
                      <a:pt x="13" y="308"/>
                    </a:lnTo>
                    <a:lnTo>
                      <a:pt x="2" y="258"/>
                    </a:lnTo>
                  </a:path>
                </a:pathLst>
              </a:custGeom>
              <a:noFill/>
              <a:ln w="20520">
                <a:solidFill>
                  <a:srgbClr val="c1c1c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25"/>
              <p:cNvSpPr/>
              <p:nvPr/>
            </p:nvSpPr>
            <p:spPr>
              <a:xfrm>
                <a:off x="5082480" y="2089800"/>
                <a:ext cx="1785240" cy="175320"/>
              </a:xfrm>
              <a:custGeom>
                <a:avLst/>
                <a:gdLst>
                  <a:gd name="textAreaLeft" fmla="*/ 0 w 1785240"/>
                  <a:gd name="textAreaRight" fmla="*/ 1785600 w 1785240"/>
                  <a:gd name="textAreaTop" fmla="*/ 0 h 175320"/>
                  <a:gd name="textAreaBottom" fmla="*/ 175680 h 175320"/>
                </a:gdLst>
                <a:ahLst/>
                <a:rect l="textAreaLeft" t="textAreaTop" r="textAreaRight" b="textAreaBottom"/>
                <a:pathLst>
                  <a:path w="1899" h="516">
                    <a:moveTo>
                      <a:pt x="0" y="257"/>
                    </a:moveTo>
                    <a:lnTo>
                      <a:pt x="12" y="215"/>
                    </a:lnTo>
                    <a:lnTo>
                      <a:pt x="48" y="176"/>
                    </a:lnTo>
                    <a:lnTo>
                      <a:pt x="106" y="138"/>
                    </a:lnTo>
                    <a:lnTo>
                      <a:pt x="184" y="104"/>
                    </a:lnTo>
                    <a:lnTo>
                      <a:pt x="279" y="76"/>
                    </a:lnTo>
                    <a:lnTo>
                      <a:pt x="391" y="49"/>
                    </a:lnTo>
                    <a:lnTo>
                      <a:pt x="516" y="29"/>
                    </a:lnTo>
                    <a:lnTo>
                      <a:pt x="653" y="13"/>
                    </a:lnTo>
                    <a:lnTo>
                      <a:pt x="802" y="4"/>
                    </a:lnTo>
                    <a:lnTo>
                      <a:pt x="958" y="0"/>
                    </a:lnTo>
                    <a:lnTo>
                      <a:pt x="1114" y="4"/>
                    </a:lnTo>
                    <a:lnTo>
                      <a:pt x="1260" y="13"/>
                    </a:lnTo>
                    <a:lnTo>
                      <a:pt x="1395" y="29"/>
                    </a:lnTo>
                    <a:lnTo>
                      <a:pt x="1519" y="49"/>
                    </a:lnTo>
                    <a:lnTo>
                      <a:pt x="1628" y="76"/>
                    </a:lnTo>
                    <a:lnTo>
                      <a:pt x="1720" y="104"/>
                    </a:lnTo>
                    <a:lnTo>
                      <a:pt x="1796" y="138"/>
                    </a:lnTo>
                    <a:lnTo>
                      <a:pt x="1852" y="176"/>
                    </a:lnTo>
                    <a:lnTo>
                      <a:pt x="1886" y="215"/>
                    </a:lnTo>
                    <a:lnTo>
                      <a:pt x="1899" y="257"/>
                    </a:lnTo>
                    <a:lnTo>
                      <a:pt x="1886" y="305"/>
                    </a:lnTo>
                    <a:lnTo>
                      <a:pt x="1852" y="350"/>
                    </a:lnTo>
                    <a:lnTo>
                      <a:pt x="1796" y="389"/>
                    </a:lnTo>
                    <a:lnTo>
                      <a:pt x="1720" y="423"/>
                    </a:lnTo>
                    <a:lnTo>
                      <a:pt x="1628" y="452"/>
                    </a:lnTo>
                    <a:lnTo>
                      <a:pt x="1519" y="475"/>
                    </a:lnTo>
                    <a:lnTo>
                      <a:pt x="1395" y="493"/>
                    </a:lnTo>
                    <a:lnTo>
                      <a:pt x="1260" y="506"/>
                    </a:lnTo>
                    <a:lnTo>
                      <a:pt x="1114" y="514"/>
                    </a:lnTo>
                    <a:lnTo>
                      <a:pt x="958" y="516"/>
                    </a:lnTo>
                    <a:lnTo>
                      <a:pt x="802" y="514"/>
                    </a:lnTo>
                    <a:lnTo>
                      <a:pt x="653" y="506"/>
                    </a:lnTo>
                    <a:lnTo>
                      <a:pt x="516" y="493"/>
                    </a:lnTo>
                    <a:lnTo>
                      <a:pt x="391" y="475"/>
                    </a:lnTo>
                    <a:lnTo>
                      <a:pt x="279" y="452"/>
                    </a:lnTo>
                    <a:lnTo>
                      <a:pt x="184" y="423"/>
                    </a:lnTo>
                    <a:lnTo>
                      <a:pt x="106" y="389"/>
                    </a:lnTo>
                    <a:lnTo>
                      <a:pt x="48" y="350"/>
                    </a:lnTo>
                    <a:lnTo>
                      <a:pt x="12" y="305"/>
                    </a:lnTo>
                    <a:lnTo>
                      <a:pt x="0" y="257"/>
                    </a:lnTo>
                  </a:path>
                </a:pathLst>
              </a:custGeom>
              <a:noFill/>
              <a:ln w="20520">
                <a:solidFill>
                  <a:srgbClr val="c9c9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26"/>
              <p:cNvSpPr/>
              <p:nvPr/>
            </p:nvSpPr>
            <p:spPr>
              <a:xfrm>
                <a:off x="5084280" y="2090160"/>
                <a:ext cx="1779480" cy="173520"/>
              </a:xfrm>
              <a:custGeom>
                <a:avLst/>
                <a:gdLst>
                  <a:gd name="textAreaLeft" fmla="*/ 0 w 1779480"/>
                  <a:gd name="textAreaRight" fmla="*/ 1779840 w 1779480"/>
                  <a:gd name="textAreaTop" fmla="*/ 0 h 173520"/>
                  <a:gd name="textAreaBottom" fmla="*/ 173880 h 173520"/>
                </a:gdLst>
                <a:ahLst/>
                <a:rect l="textAreaLeft" t="textAreaTop" r="textAreaRight" b="textAreaBottom"/>
                <a:pathLst>
                  <a:path w="1893" h="511">
                    <a:moveTo>
                      <a:pt x="0" y="253"/>
                    </a:moveTo>
                    <a:lnTo>
                      <a:pt x="13" y="212"/>
                    </a:lnTo>
                    <a:lnTo>
                      <a:pt x="49" y="174"/>
                    </a:lnTo>
                    <a:lnTo>
                      <a:pt x="107" y="136"/>
                    </a:lnTo>
                    <a:lnTo>
                      <a:pt x="183" y="104"/>
                    </a:lnTo>
                    <a:lnTo>
                      <a:pt x="278" y="74"/>
                    </a:lnTo>
                    <a:lnTo>
                      <a:pt x="390" y="49"/>
                    </a:lnTo>
                    <a:lnTo>
                      <a:pt x="515" y="27"/>
                    </a:lnTo>
                    <a:lnTo>
                      <a:pt x="652" y="13"/>
                    </a:lnTo>
                    <a:lnTo>
                      <a:pt x="800" y="4"/>
                    </a:lnTo>
                    <a:lnTo>
                      <a:pt x="956" y="0"/>
                    </a:lnTo>
                    <a:lnTo>
                      <a:pt x="1111" y="4"/>
                    </a:lnTo>
                    <a:lnTo>
                      <a:pt x="1258" y="13"/>
                    </a:lnTo>
                    <a:lnTo>
                      <a:pt x="1392" y="27"/>
                    </a:lnTo>
                    <a:lnTo>
                      <a:pt x="1515" y="49"/>
                    </a:lnTo>
                    <a:lnTo>
                      <a:pt x="1623" y="74"/>
                    </a:lnTo>
                    <a:lnTo>
                      <a:pt x="1716" y="104"/>
                    </a:lnTo>
                    <a:lnTo>
                      <a:pt x="1791" y="136"/>
                    </a:lnTo>
                    <a:lnTo>
                      <a:pt x="1846" y="174"/>
                    </a:lnTo>
                    <a:lnTo>
                      <a:pt x="1882" y="212"/>
                    </a:lnTo>
                    <a:lnTo>
                      <a:pt x="1893" y="253"/>
                    </a:lnTo>
                    <a:lnTo>
                      <a:pt x="1882" y="303"/>
                    </a:lnTo>
                    <a:lnTo>
                      <a:pt x="1846" y="346"/>
                    </a:lnTo>
                    <a:lnTo>
                      <a:pt x="1791" y="384"/>
                    </a:lnTo>
                    <a:lnTo>
                      <a:pt x="1716" y="418"/>
                    </a:lnTo>
                    <a:lnTo>
                      <a:pt x="1623" y="446"/>
                    </a:lnTo>
                    <a:lnTo>
                      <a:pt x="1515" y="470"/>
                    </a:lnTo>
                    <a:lnTo>
                      <a:pt x="1392" y="487"/>
                    </a:lnTo>
                    <a:lnTo>
                      <a:pt x="1258" y="500"/>
                    </a:lnTo>
                    <a:lnTo>
                      <a:pt x="1111" y="507"/>
                    </a:lnTo>
                    <a:lnTo>
                      <a:pt x="956" y="511"/>
                    </a:lnTo>
                    <a:lnTo>
                      <a:pt x="800" y="507"/>
                    </a:lnTo>
                    <a:lnTo>
                      <a:pt x="652" y="500"/>
                    </a:lnTo>
                    <a:lnTo>
                      <a:pt x="515" y="487"/>
                    </a:lnTo>
                    <a:lnTo>
                      <a:pt x="390" y="470"/>
                    </a:lnTo>
                    <a:lnTo>
                      <a:pt x="278" y="446"/>
                    </a:lnTo>
                    <a:lnTo>
                      <a:pt x="183" y="418"/>
                    </a:lnTo>
                    <a:lnTo>
                      <a:pt x="107" y="384"/>
                    </a:lnTo>
                    <a:lnTo>
                      <a:pt x="49" y="346"/>
                    </a:lnTo>
                    <a:lnTo>
                      <a:pt x="13" y="303"/>
                    </a:lnTo>
                    <a:lnTo>
                      <a:pt x="0" y="253"/>
                    </a:lnTo>
                  </a:path>
                </a:pathLst>
              </a:custGeom>
              <a:noFill/>
              <a:ln w="205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7"/>
              <p:cNvSpPr/>
              <p:nvPr/>
            </p:nvSpPr>
            <p:spPr>
              <a:xfrm>
                <a:off x="5086440" y="2091240"/>
                <a:ext cx="1774800" cy="171360"/>
              </a:xfrm>
              <a:custGeom>
                <a:avLst/>
                <a:gdLst>
                  <a:gd name="textAreaLeft" fmla="*/ 0 w 1774800"/>
                  <a:gd name="textAreaRight" fmla="*/ 1775160 w 17748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1888" h="503">
                    <a:moveTo>
                      <a:pt x="0" y="251"/>
                    </a:moveTo>
                    <a:lnTo>
                      <a:pt x="14" y="210"/>
                    </a:lnTo>
                    <a:lnTo>
                      <a:pt x="49" y="172"/>
                    </a:lnTo>
                    <a:lnTo>
                      <a:pt x="106" y="134"/>
                    </a:lnTo>
                    <a:lnTo>
                      <a:pt x="184" y="102"/>
                    </a:lnTo>
                    <a:lnTo>
                      <a:pt x="279" y="73"/>
                    </a:lnTo>
                    <a:lnTo>
                      <a:pt x="389" y="48"/>
                    </a:lnTo>
                    <a:lnTo>
                      <a:pt x="513" y="27"/>
                    </a:lnTo>
                    <a:lnTo>
                      <a:pt x="650" y="13"/>
                    </a:lnTo>
                    <a:lnTo>
                      <a:pt x="798" y="2"/>
                    </a:lnTo>
                    <a:lnTo>
                      <a:pt x="954" y="0"/>
                    </a:lnTo>
                    <a:lnTo>
                      <a:pt x="1109" y="2"/>
                    </a:lnTo>
                    <a:lnTo>
                      <a:pt x="1254" y="13"/>
                    </a:lnTo>
                    <a:lnTo>
                      <a:pt x="1389" y="27"/>
                    </a:lnTo>
                    <a:lnTo>
                      <a:pt x="1512" y="48"/>
                    </a:lnTo>
                    <a:lnTo>
                      <a:pt x="1620" y="73"/>
                    </a:lnTo>
                    <a:lnTo>
                      <a:pt x="1711" y="102"/>
                    </a:lnTo>
                    <a:lnTo>
                      <a:pt x="1786" y="134"/>
                    </a:lnTo>
                    <a:lnTo>
                      <a:pt x="1842" y="172"/>
                    </a:lnTo>
                    <a:lnTo>
                      <a:pt x="1876" y="210"/>
                    </a:lnTo>
                    <a:lnTo>
                      <a:pt x="1888" y="251"/>
                    </a:lnTo>
                    <a:lnTo>
                      <a:pt x="1876" y="299"/>
                    </a:lnTo>
                    <a:lnTo>
                      <a:pt x="1842" y="342"/>
                    </a:lnTo>
                    <a:lnTo>
                      <a:pt x="1786" y="380"/>
                    </a:lnTo>
                    <a:lnTo>
                      <a:pt x="1711" y="412"/>
                    </a:lnTo>
                    <a:lnTo>
                      <a:pt x="1620" y="441"/>
                    </a:lnTo>
                    <a:lnTo>
                      <a:pt x="1512" y="464"/>
                    </a:lnTo>
                    <a:lnTo>
                      <a:pt x="1389" y="480"/>
                    </a:lnTo>
                    <a:lnTo>
                      <a:pt x="1254" y="494"/>
                    </a:lnTo>
                    <a:lnTo>
                      <a:pt x="1109" y="502"/>
                    </a:lnTo>
                    <a:lnTo>
                      <a:pt x="954" y="503"/>
                    </a:lnTo>
                    <a:lnTo>
                      <a:pt x="798" y="502"/>
                    </a:lnTo>
                    <a:lnTo>
                      <a:pt x="650" y="494"/>
                    </a:lnTo>
                    <a:lnTo>
                      <a:pt x="513" y="480"/>
                    </a:lnTo>
                    <a:lnTo>
                      <a:pt x="389" y="464"/>
                    </a:lnTo>
                    <a:lnTo>
                      <a:pt x="279" y="441"/>
                    </a:lnTo>
                    <a:lnTo>
                      <a:pt x="184" y="412"/>
                    </a:lnTo>
                    <a:lnTo>
                      <a:pt x="106" y="380"/>
                    </a:lnTo>
                    <a:lnTo>
                      <a:pt x="49" y="342"/>
                    </a:lnTo>
                    <a:lnTo>
                      <a:pt x="14" y="299"/>
                    </a:lnTo>
                    <a:lnTo>
                      <a:pt x="1" y="251"/>
                    </a:lnTo>
                  </a:path>
                </a:pathLst>
              </a:custGeom>
              <a:noFill/>
              <a:ln w="20520">
                <a:solidFill>
                  <a:srgbClr val="d9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28"/>
              <p:cNvSpPr/>
              <p:nvPr/>
            </p:nvSpPr>
            <p:spPr>
              <a:xfrm>
                <a:off x="5088960" y="2091600"/>
                <a:ext cx="1770120" cy="169920"/>
              </a:xfrm>
              <a:custGeom>
                <a:avLst/>
                <a:gdLst>
                  <a:gd name="textAreaLeft" fmla="*/ 0 w 1770120"/>
                  <a:gd name="textAreaRight" fmla="*/ 1770480 w 17701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83" h="500">
                    <a:moveTo>
                      <a:pt x="0" y="249"/>
                    </a:moveTo>
                    <a:lnTo>
                      <a:pt x="13" y="209"/>
                    </a:lnTo>
                    <a:lnTo>
                      <a:pt x="49" y="170"/>
                    </a:lnTo>
                    <a:lnTo>
                      <a:pt x="106" y="134"/>
                    </a:lnTo>
                    <a:lnTo>
                      <a:pt x="183" y="102"/>
                    </a:lnTo>
                    <a:lnTo>
                      <a:pt x="277" y="73"/>
                    </a:lnTo>
                    <a:lnTo>
                      <a:pt x="387" y="48"/>
                    </a:lnTo>
                    <a:lnTo>
                      <a:pt x="512" y="28"/>
                    </a:lnTo>
                    <a:lnTo>
                      <a:pt x="649" y="12"/>
                    </a:lnTo>
                    <a:lnTo>
                      <a:pt x="796" y="3"/>
                    </a:lnTo>
                    <a:lnTo>
                      <a:pt x="951" y="0"/>
                    </a:lnTo>
                    <a:lnTo>
                      <a:pt x="1106" y="3"/>
                    </a:lnTo>
                    <a:lnTo>
                      <a:pt x="1250" y="12"/>
                    </a:lnTo>
                    <a:lnTo>
                      <a:pt x="1385" y="28"/>
                    </a:lnTo>
                    <a:lnTo>
                      <a:pt x="1508" y="48"/>
                    </a:lnTo>
                    <a:lnTo>
                      <a:pt x="1616" y="73"/>
                    </a:lnTo>
                    <a:lnTo>
                      <a:pt x="1707" y="102"/>
                    </a:lnTo>
                    <a:lnTo>
                      <a:pt x="1782" y="134"/>
                    </a:lnTo>
                    <a:lnTo>
                      <a:pt x="1836" y="170"/>
                    </a:lnTo>
                    <a:lnTo>
                      <a:pt x="1871" y="209"/>
                    </a:lnTo>
                    <a:lnTo>
                      <a:pt x="1883" y="249"/>
                    </a:lnTo>
                    <a:lnTo>
                      <a:pt x="1871" y="297"/>
                    </a:lnTo>
                    <a:lnTo>
                      <a:pt x="1836" y="338"/>
                    </a:lnTo>
                    <a:lnTo>
                      <a:pt x="1782" y="376"/>
                    </a:lnTo>
                    <a:lnTo>
                      <a:pt x="1707" y="408"/>
                    </a:lnTo>
                    <a:lnTo>
                      <a:pt x="1616" y="437"/>
                    </a:lnTo>
                    <a:lnTo>
                      <a:pt x="1508" y="458"/>
                    </a:lnTo>
                    <a:lnTo>
                      <a:pt x="1385" y="476"/>
                    </a:lnTo>
                    <a:lnTo>
                      <a:pt x="1250" y="489"/>
                    </a:lnTo>
                    <a:lnTo>
                      <a:pt x="1106" y="498"/>
                    </a:lnTo>
                    <a:lnTo>
                      <a:pt x="951" y="500"/>
                    </a:lnTo>
                    <a:lnTo>
                      <a:pt x="796" y="498"/>
                    </a:lnTo>
                    <a:lnTo>
                      <a:pt x="649" y="489"/>
                    </a:lnTo>
                    <a:lnTo>
                      <a:pt x="512" y="476"/>
                    </a:lnTo>
                    <a:lnTo>
                      <a:pt x="387" y="458"/>
                    </a:lnTo>
                    <a:lnTo>
                      <a:pt x="277" y="437"/>
                    </a:lnTo>
                    <a:lnTo>
                      <a:pt x="183" y="408"/>
                    </a:lnTo>
                    <a:lnTo>
                      <a:pt x="106" y="376"/>
                    </a:lnTo>
                    <a:lnTo>
                      <a:pt x="49" y="338"/>
                    </a:lnTo>
                    <a:lnTo>
                      <a:pt x="13" y="297"/>
                    </a:lnTo>
                    <a:lnTo>
                      <a:pt x="0" y="249"/>
                    </a:lnTo>
                  </a:path>
                </a:pathLst>
              </a:custGeom>
              <a:noFill/>
              <a:ln w="20520">
                <a:solidFill>
                  <a:srgbClr val="d1d1d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29"/>
              <p:cNvSpPr/>
              <p:nvPr/>
            </p:nvSpPr>
            <p:spPr>
              <a:xfrm>
                <a:off x="5092920" y="2093040"/>
                <a:ext cx="1764360" cy="167760"/>
              </a:xfrm>
              <a:custGeom>
                <a:avLst/>
                <a:gdLst>
                  <a:gd name="textAreaLeft" fmla="*/ 0 w 1764360"/>
                  <a:gd name="textAreaRight" fmla="*/ 1764720 w 176436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877" h="495">
                    <a:moveTo>
                      <a:pt x="0" y="248"/>
                    </a:moveTo>
                    <a:lnTo>
                      <a:pt x="13" y="208"/>
                    </a:lnTo>
                    <a:lnTo>
                      <a:pt x="48" y="169"/>
                    </a:lnTo>
                    <a:lnTo>
                      <a:pt x="106" y="133"/>
                    </a:lnTo>
                    <a:lnTo>
                      <a:pt x="182" y="101"/>
                    </a:lnTo>
                    <a:lnTo>
                      <a:pt x="276" y="72"/>
                    </a:lnTo>
                    <a:lnTo>
                      <a:pt x="386" y="47"/>
                    </a:lnTo>
                    <a:lnTo>
                      <a:pt x="510" y="27"/>
                    </a:lnTo>
                    <a:lnTo>
                      <a:pt x="646" y="13"/>
                    </a:lnTo>
                    <a:lnTo>
                      <a:pt x="792" y="2"/>
                    </a:lnTo>
                    <a:lnTo>
                      <a:pt x="947" y="0"/>
                    </a:lnTo>
                    <a:lnTo>
                      <a:pt x="1100" y="2"/>
                    </a:lnTo>
                    <a:lnTo>
                      <a:pt x="1246" y="13"/>
                    </a:lnTo>
                    <a:lnTo>
                      <a:pt x="1379" y="27"/>
                    </a:lnTo>
                    <a:lnTo>
                      <a:pt x="1501" y="47"/>
                    </a:lnTo>
                    <a:lnTo>
                      <a:pt x="1609" y="72"/>
                    </a:lnTo>
                    <a:lnTo>
                      <a:pt x="1702" y="101"/>
                    </a:lnTo>
                    <a:lnTo>
                      <a:pt x="1775" y="133"/>
                    </a:lnTo>
                    <a:lnTo>
                      <a:pt x="1831" y="169"/>
                    </a:lnTo>
                    <a:lnTo>
                      <a:pt x="1865" y="208"/>
                    </a:lnTo>
                    <a:lnTo>
                      <a:pt x="1877" y="248"/>
                    </a:lnTo>
                    <a:lnTo>
                      <a:pt x="1865" y="294"/>
                    </a:lnTo>
                    <a:lnTo>
                      <a:pt x="1831" y="335"/>
                    </a:lnTo>
                    <a:lnTo>
                      <a:pt x="1775" y="371"/>
                    </a:lnTo>
                    <a:lnTo>
                      <a:pt x="1702" y="403"/>
                    </a:lnTo>
                    <a:lnTo>
                      <a:pt x="1609" y="432"/>
                    </a:lnTo>
                    <a:lnTo>
                      <a:pt x="1501" y="454"/>
                    </a:lnTo>
                    <a:lnTo>
                      <a:pt x="1379" y="471"/>
                    </a:lnTo>
                    <a:lnTo>
                      <a:pt x="1246" y="484"/>
                    </a:lnTo>
                    <a:lnTo>
                      <a:pt x="1100" y="491"/>
                    </a:lnTo>
                    <a:lnTo>
                      <a:pt x="947" y="495"/>
                    </a:lnTo>
                    <a:lnTo>
                      <a:pt x="792" y="491"/>
                    </a:lnTo>
                    <a:lnTo>
                      <a:pt x="646" y="484"/>
                    </a:lnTo>
                    <a:lnTo>
                      <a:pt x="510" y="471"/>
                    </a:lnTo>
                    <a:lnTo>
                      <a:pt x="386" y="454"/>
                    </a:lnTo>
                    <a:lnTo>
                      <a:pt x="276" y="432"/>
                    </a:lnTo>
                    <a:lnTo>
                      <a:pt x="182" y="403"/>
                    </a:lnTo>
                    <a:lnTo>
                      <a:pt x="106" y="371"/>
                    </a:lnTo>
                    <a:lnTo>
                      <a:pt x="48" y="335"/>
                    </a:lnTo>
                    <a:lnTo>
                      <a:pt x="13" y="294"/>
                    </a:lnTo>
                    <a:lnTo>
                      <a:pt x="0" y="248"/>
                    </a:lnTo>
                  </a:path>
                </a:pathLst>
              </a:custGeom>
              <a:noFill/>
              <a:ln w="20520">
                <a:solidFill>
                  <a:srgbClr val="c9c9c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30"/>
              <p:cNvSpPr/>
              <p:nvPr/>
            </p:nvSpPr>
            <p:spPr>
              <a:xfrm>
                <a:off x="5095800" y="2093760"/>
                <a:ext cx="1759680" cy="166680"/>
              </a:xfrm>
              <a:custGeom>
                <a:avLst/>
                <a:gdLst>
                  <a:gd name="textAreaLeft" fmla="*/ 0 w 1759680"/>
                  <a:gd name="textAreaRight" fmla="*/ 1760040 w 175968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1872" h="491">
                    <a:moveTo>
                      <a:pt x="0" y="246"/>
                    </a:moveTo>
                    <a:lnTo>
                      <a:pt x="12" y="206"/>
                    </a:lnTo>
                    <a:lnTo>
                      <a:pt x="48" y="169"/>
                    </a:lnTo>
                    <a:lnTo>
                      <a:pt x="105" y="133"/>
                    </a:lnTo>
                    <a:lnTo>
                      <a:pt x="181" y="100"/>
                    </a:lnTo>
                    <a:lnTo>
                      <a:pt x="275" y="72"/>
                    </a:lnTo>
                    <a:lnTo>
                      <a:pt x="384" y="49"/>
                    </a:lnTo>
                    <a:lnTo>
                      <a:pt x="509" y="29"/>
                    </a:lnTo>
                    <a:lnTo>
                      <a:pt x="644" y="13"/>
                    </a:lnTo>
                    <a:lnTo>
                      <a:pt x="789" y="4"/>
                    </a:lnTo>
                    <a:lnTo>
                      <a:pt x="944" y="0"/>
                    </a:lnTo>
                    <a:lnTo>
                      <a:pt x="1097" y="4"/>
                    </a:lnTo>
                    <a:lnTo>
                      <a:pt x="1242" y="13"/>
                    </a:lnTo>
                    <a:lnTo>
                      <a:pt x="1376" y="29"/>
                    </a:lnTo>
                    <a:lnTo>
                      <a:pt x="1497" y="49"/>
                    </a:lnTo>
                    <a:lnTo>
                      <a:pt x="1605" y="72"/>
                    </a:lnTo>
                    <a:lnTo>
                      <a:pt x="1696" y="100"/>
                    </a:lnTo>
                    <a:lnTo>
                      <a:pt x="1771" y="133"/>
                    </a:lnTo>
                    <a:lnTo>
                      <a:pt x="1826" y="169"/>
                    </a:lnTo>
                    <a:lnTo>
                      <a:pt x="1861" y="206"/>
                    </a:lnTo>
                    <a:lnTo>
                      <a:pt x="1872" y="246"/>
                    </a:lnTo>
                    <a:lnTo>
                      <a:pt x="1861" y="292"/>
                    </a:lnTo>
                    <a:lnTo>
                      <a:pt x="1826" y="332"/>
                    </a:lnTo>
                    <a:lnTo>
                      <a:pt x="1771" y="369"/>
                    </a:lnTo>
                    <a:lnTo>
                      <a:pt x="1696" y="400"/>
                    </a:lnTo>
                    <a:lnTo>
                      <a:pt x="1605" y="428"/>
                    </a:lnTo>
                    <a:lnTo>
                      <a:pt x="1497" y="450"/>
                    </a:lnTo>
                    <a:lnTo>
                      <a:pt x="1376" y="468"/>
                    </a:lnTo>
                    <a:lnTo>
                      <a:pt x="1242" y="480"/>
                    </a:lnTo>
                    <a:lnTo>
                      <a:pt x="1097" y="487"/>
                    </a:lnTo>
                    <a:lnTo>
                      <a:pt x="944" y="491"/>
                    </a:lnTo>
                    <a:lnTo>
                      <a:pt x="789" y="487"/>
                    </a:lnTo>
                    <a:lnTo>
                      <a:pt x="644" y="480"/>
                    </a:lnTo>
                    <a:lnTo>
                      <a:pt x="509" y="468"/>
                    </a:lnTo>
                    <a:lnTo>
                      <a:pt x="384" y="450"/>
                    </a:lnTo>
                    <a:lnTo>
                      <a:pt x="275" y="428"/>
                    </a:lnTo>
                    <a:lnTo>
                      <a:pt x="181" y="400"/>
                    </a:lnTo>
                    <a:lnTo>
                      <a:pt x="105" y="369"/>
                    </a:lnTo>
                    <a:lnTo>
                      <a:pt x="48" y="332"/>
                    </a:lnTo>
                    <a:lnTo>
                      <a:pt x="12" y="292"/>
                    </a:lnTo>
                    <a:lnTo>
                      <a:pt x="1" y="246"/>
                    </a:lnTo>
                  </a:path>
                </a:pathLst>
              </a:custGeom>
              <a:noFill/>
              <a:ln w="20520">
                <a:solidFill>
                  <a:srgbClr val="c1c1c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31"/>
              <p:cNvSpPr/>
              <p:nvPr/>
            </p:nvSpPr>
            <p:spPr>
              <a:xfrm>
                <a:off x="5099400" y="2094480"/>
                <a:ext cx="1753920" cy="164520"/>
              </a:xfrm>
              <a:custGeom>
                <a:avLst/>
                <a:gdLst>
                  <a:gd name="textAreaLeft" fmla="*/ 0 w 1753920"/>
                  <a:gd name="textAreaRight" fmla="*/ 1754280 w 175392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1866" h="483">
                    <a:moveTo>
                      <a:pt x="0" y="242"/>
                    </a:moveTo>
                    <a:lnTo>
                      <a:pt x="12" y="204"/>
                    </a:lnTo>
                    <a:lnTo>
                      <a:pt x="48" y="166"/>
                    </a:lnTo>
                    <a:lnTo>
                      <a:pt x="104" y="131"/>
                    </a:lnTo>
                    <a:lnTo>
                      <a:pt x="180" y="100"/>
                    </a:lnTo>
                    <a:lnTo>
                      <a:pt x="274" y="71"/>
                    </a:lnTo>
                    <a:lnTo>
                      <a:pt x="383" y="46"/>
                    </a:lnTo>
                    <a:lnTo>
                      <a:pt x="506" y="27"/>
                    </a:lnTo>
                    <a:lnTo>
                      <a:pt x="640" y="12"/>
                    </a:lnTo>
                    <a:lnTo>
                      <a:pt x="786" y="2"/>
                    </a:lnTo>
                    <a:lnTo>
                      <a:pt x="940" y="0"/>
                    </a:lnTo>
                    <a:lnTo>
                      <a:pt x="1093" y="2"/>
                    </a:lnTo>
                    <a:lnTo>
                      <a:pt x="1237" y="12"/>
                    </a:lnTo>
                    <a:lnTo>
                      <a:pt x="1371" y="27"/>
                    </a:lnTo>
                    <a:lnTo>
                      <a:pt x="1492" y="46"/>
                    </a:lnTo>
                    <a:lnTo>
                      <a:pt x="1600" y="71"/>
                    </a:lnTo>
                    <a:lnTo>
                      <a:pt x="1691" y="100"/>
                    </a:lnTo>
                    <a:lnTo>
                      <a:pt x="1766" y="131"/>
                    </a:lnTo>
                    <a:lnTo>
                      <a:pt x="1820" y="166"/>
                    </a:lnTo>
                    <a:lnTo>
                      <a:pt x="1855" y="204"/>
                    </a:lnTo>
                    <a:lnTo>
                      <a:pt x="1866" y="243"/>
                    </a:lnTo>
                    <a:lnTo>
                      <a:pt x="1855" y="288"/>
                    </a:lnTo>
                    <a:lnTo>
                      <a:pt x="1820" y="328"/>
                    </a:lnTo>
                    <a:lnTo>
                      <a:pt x="1766" y="363"/>
                    </a:lnTo>
                    <a:lnTo>
                      <a:pt x="1691" y="394"/>
                    </a:lnTo>
                    <a:lnTo>
                      <a:pt x="1600" y="421"/>
                    </a:lnTo>
                    <a:lnTo>
                      <a:pt x="1492" y="444"/>
                    </a:lnTo>
                    <a:lnTo>
                      <a:pt x="1371" y="462"/>
                    </a:lnTo>
                    <a:lnTo>
                      <a:pt x="1237" y="474"/>
                    </a:lnTo>
                    <a:lnTo>
                      <a:pt x="1093" y="482"/>
                    </a:lnTo>
                    <a:lnTo>
                      <a:pt x="940" y="483"/>
                    </a:lnTo>
                    <a:lnTo>
                      <a:pt x="786" y="482"/>
                    </a:lnTo>
                    <a:lnTo>
                      <a:pt x="640" y="474"/>
                    </a:lnTo>
                    <a:lnTo>
                      <a:pt x="506" y="462"/>
                    </a:lnTo>
                    <a:lnTo>
                      <a:pt x="383" y="444"/>
                    </a:lnTo>
                    <a:lnTo>
                      <a:pt x="274" y="421"/>
                    </a:lnTo>
                    <a:lnTo>
                      <a:pt x="180" y="394"/>
                    </a:lnTo>
                    <a:lnTo>
                      <a:pt x="104" y="363"/>
                    </a:lnTo>
                    <a:lnTo>
                      <a:pt x="48" y="328"/>
                    </a:lnTo>
                    <a:lnTo>
                      <a:pt x="12" y="288"/>
                    </a:lnTo>
                    <a:lnTo>
                      <a:pt x="0" y="243"/>
                    </a:lnTo>
                  </a:path>
                </a:pathLst>
              </a:custGeom>
              <a:noFill/>
              <a:ln w="20520">
                <a:solidFill>
                  <a:srgbClr val="b9b9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32"/>
              <p:cNvSpPr/>
              <p:nvPr/>
            </p:nvSpPr>
            <p:spPr>
              <a:xfrm>
                <a:off x="5101200" y="2095200"/>
                <a:ext cx="1751400" cy="163080"/>
              </a:xfrm>
              <a:custGeom>
                <a:avLst/>
                <a:gdLst>
                  <a:gd name="textAreaLeft" fmla="*/ 0 w 1751400"/>
                  <a:gd name="textAreaRight" fmla="*/ 1751760 w 175140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1863" h="480">
                    <a:moveTo>
                      <a:pt x="0" y="241"/>
                    </a:moveTo>
                    <a:lnTo>
                      <a:pt x="13" y="204"/>
                    </a:lnTo>
                    <a:lnTo>
                      <a:pt x="48" y="166"/>
                    </a:lnTo>
                    <a:lnTo>
                      <a:pt x="104" y="130"/>
                    </a:lnTo>
                    <a:lnTo>
                      <a:pt x="180" y="100"/>
                    </a:lnTo>
                    <a:lnTo>
                      <a:pt x="274" y="71"/>
                    </a:lnTo>
                    <a:lnTo>
                      <a:pt x="382" y="46"/>
                    </a:lnTo>
                    <a:lnTo>
                      <a:pt x="505" y="26"/>
                    </a:lnTo>
                    <a:lnTo>
                      <a:pt x="640" y="12"/>
                    </a:lnTo>
                    <a:lnTo>
                      <a:pt x="784" y="3"/>
                    </a:lnTo>
                    <a:lnTo>
                      <a:pt x="938" y="0"/>
                    </a:lnTo>
                    <a:lnTo>
                      <a:pt x="1090" y="3"/>
                    </a:lnTo>
                    <a:lnTo>
                      <a:pt x="1235" y="12"/>
                    </a:lnTo>
                    <a:lnTo>
                      <a:pt x="1368" y="26"/>
                    </a:lnTo>
                    <a:lnTo>
                      <a:pt x="1488" y="46"/>
                    </a:lnTo>
                    <a:lnTo>
                      <a:pt x="1596" y="71"/>
                    </a:lnTo>
                    <a:lnTo>
                      <a:pt x="1688" y="100"/>
                    </a:lnTo>
                    <a:lnTo>
                      <a:pt x="1761" y="130"/>
                    </a:lnTo>
                    <a:lnTo>
                      <a:pt x="1817" y="166"/>
                    </a:lnTo>
                    <a:lnTo>
                      <a:pt x="1851" y="204"/>
                    </a:lnTo>
                    <a:lnTo>
                      <a:pt x="1863" y="241"/>
                    </a:lnTo>
                    <a:lnTo>
                      <a:pt x="1851" y="284"/>
                    </a:lnTo>
                    <a:lnTo>
                      <a:pt x="1817" y="324"/>
                    </a:lnTo>
                    <a:lnTo>
                      <a:pt x="1761" y="360"/>
                    </a:lnTo>
                    <a:lnTo>
                      <a:pt x="1688" y="390"/>
                    </a:lnTo>
                    <a:lnTo>
                      <a:pt x="1596" y="417"/>
                    </a:lnTo>
                    <a:lnTo>
                      <a:pt x="1488" y="440"/>
                    </a:lnTo>
                    <a:lnTo>
                      <a:pt x="1368" y="456"/>
                    </a:lnTo>
                    <a:lnTo>
                      <a:pt x="1235" y="469"/>
                    </a:lnTo>
                    <a:lnTo>
                      <a:pt x="1090" y="478"/>
                    </a:lnTo>
                    <a:lnTo>
                      <a:pt x="938" y="480"/>
                    </a:lnTo>
                    <a:lnTo>
                      <a:pt x="784" y="478"/>
                    </a:lnTo>
                    <a:lnTo>
                      <a:pt x="640" y="469"/>
                    </a:lnTo>
                    <a:lnTo>
                      <a:pt x="505" y="456"/>
                    </a:lnTo>
                    <a:lnTo>
                      <a:pt x="382" y="440"/>
                    </a:lnTo>
                    <a:lnTo>
                      <a:pt x="274" y="417"/>
                    </a:lnTo>
                    <a:lnTo>
                      <a:pt x="180" y="390"/>
                    </a:lnTo>
                    <a:lnTo>
                      <a:pt x="104" y="360"/>
                    </a:lnTo>
                    <a:lnTo>
                      <a:pt x="48" y="324"/>
                    </a:lnTo>
                    <a:lnTo>
                      <a:pt x="13" y="284"/>
                    </a:lnTo>
                    <a:lnTo>
                      <a:pt x="1" y="241"/>
                    </a:lnTo>
                  </a:path>
                </a:pathLst>
              </a:custGeom>
              <a:noFill/>
              <a:ln w="2052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33"/>
              <p:cNvSpPr/>
              <p:nvPr/>
            </p:nvSpPr>
            <p:spPr>
              <a:xfrm>
                <a:off x="5105160" y="2096640"/>
                <a:ext cx="1744560" cy="161280"/>
              </a:xfrm>
              <a:custGeom>
                <a:avLst/>
                <a:gdLst>
                  <a:gd name="textAreaLeft" fmla="*/ 0 w 1744560"/>
                  <a:gd name="textAreaRight" fmla="*/ 1744920 w 17445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1856" h="475">
                    <a:moveTo>
                      <a:pt x="0" y="238"/>
                    </a:moveTo>
                    <a:lnTo>
                      <a:pt x="13" y="201"/>
                    </a:lnTo>
                    <a:lnTo>
                      <a:pt x="47" y="165"/>
                    </a:lnTo>
                    <a:lnTo>
                      <a:pt x="104" y="129"/>
                    </a:lnTo>
                    <a:lnTo>
                      <a:pt x="179" y="99"/>
                    </a:lnTo>
                    <a:lnTo>
                      <a:pt x="271" y="70"/>
                    </a:lnTo>
                    <a:lnTo>
                      <a:pt x="381" y="47"/>
                    </a:lnTo>
                    <a:lnTo>
                      <a:pt x="502" y="27"/>
                    </a:lnTo>
                    <a:lnTo>
                      <a:pt x="637" y="13"/>
                    </a:lnTo>
                    <a:lnTo>
                      <a:pt x="781" y="2"/>
                    </a:lnTo>
                    <a:lnTo>
                      <a:pt x="934" y="0"/>
                    </a:lnTo>
                    <a:lnTo>
                      <a:pt x="1086" y="2"/>
                    </a:lnTo>
                    <a:lnTo>
                      <a:pt x="1229" y="13"/>
                    </a:lnTo>
                    <a:lnTo>
                      <a:pt x="1363" y="27"/>
                    </a:lnTo>
                    <a:lnTo>
                      <a:pt x="1483" y="47"/>
                    </a:lnTo>
                    <a:lnTo>
                      <a:pt x="1590" y="70"/>
                    </a:lnTo>
                    <a:lnTo>
                      <a:pt x="1681" y="99"/>
                    </a:lnTo>
                    <a:lnTo>
                      <a:pt x="1756" y="129"/>
                    </a:lnTo>
                    <a:lnTo>
                      <a:pt x="1810" y="165"/>
                    </a:lnTo>
                    <a:lnTo>
                      <a:pt x="1845" y="201"/>
                    </a:lnTo>
                    <a:lnTo>
                      <a:pt x="1856" y="240"/>
                    </a:lnTo>
                    <a:lnTo>
                      <a:pt x="1845" y="281"/>
                    </a:lnTo>
                    <a:lnTo>
                      <a:pt x="1810" y="321"/>
                    </a:lnTo>
                    <a:lnTo>
                      <a:pt x="1756" y="355"/>
                    </a:lnTo>
                    <a:lnTo>
                      <a:pt x="1681" y="385"/>
                    </a:lnTo>
                    <a:lnTo>
                      <a:pt x="1590" y="412"/>
                    </a:lnTo>
                    <a:lnTo>
                      <a:pt x="1483" y="434"/>
                    </a:lnTo>
                    <a:lnTo>
                      <a:pt x="1363" y="452"/>
                    </a:lnTo>
                    <a:lnTo>
                      <a:pt x="1229" y="464"/>
                    </a:lnTo>
                    <a:lnTo>
                      <a:pt x="1086" y="473"/>
                    </a:lnTo>
                    <a:lnTo>
                      <a:pt x="934" y="475"/>
                    </a:lnTo>
                    <a:lnTo>
                      <a:pt x="781" y="473"/>
                    </a:lnTo>
                    <a:lnTo>
                      <a:pt x="637" y="464"/>
                    </a:lnTo>
                    <a:lnTo>
                      <a:pt x="502" y="452"/>
                    </a:lnTo>
                    <a:lnTo>
                      <a:pt x="381" y="434"/>
                    </a:lnTo>
                    <a:lnTo>
                      <a:pt x="271" y="412"/>
                    </a:lnTo>
                    <a:lnTo>
                      <a:pt x="179" y="385"/>
                    </a:lnTo>
                    <a:lnTo>
                      <a:pt x="104" y="355"/>
                    </a:lnTo>
                    <a:lnTo>
                      <a:pt x="47" y="321"/>
                    </a:lnTo>
                    <a:lnTo>
                      <a:pt x="13" y="281"/>
                    </a:lnTo>
                    <a:lnTo>
                      <a:pt x="0" y="240"/>
                    </a:lnTo>
                  </a:path>
                </a:pathLst>
              </a:custGeom>
              <a:noFill/>
              <a:ln w="20520">
                <a:solidFill>
                  <a:srgbClr val="aaaaa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34"/>
              <p:cNvSpPr/>
              <p:nvPr/>
            </p:nvSpPr>
            <p:spPr>
              <a:xfrm>
                <a:off x="5108760" y="2097000"/>
                <a:ext cx="1739880" cy="159840"/>
              </a:xfrm>
              <a:custGeom>
                <a:avLst/>
                <a:gdLst>
                  <a:gd name="textAreaLeft" fmla="*/ 0 w 1739880"/>
                  <a:gd name="textAreaRight" fmla="*/ 1740240 w 173988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1851" h="471">
                    <a:moveTo>
                      <a:pt x="0" y="238"/>
                    </a:moveTo>
                    <a:lnTo>
                      <a:pt x="11" y="201"/>
                    </a:lnTo>
                    <a:lnTo>
                      <a:pt x="47" y="165"/>
                    </a:lnTo>
                    <a:lnTo>
                      <a:pt x="102" y="129"/>
                    </a:lnTo>
                    <a:lnTo>
                      <a:pt x="177" y="98"/>
                    </a:lnTo>
                    <a:lnTo>
                      <a:pt x="270" y="70"/>
                    </a:lnTo>
                    <a:lnTo>
                      <a:pt x="378" y="47"/>
                    </a:lnTo>
                    <a:lnTo>
                      <a:pt x="500" y="27"/>
                    </a:lnTo>
                    <a:lnTo>
                      <a:pt x="634" y="12"/>
                    </a:lnTo>
                    <a:lnTo>
                      <a:pt x="777" y="4"/>
                    </a:lnTo>
                    <a:lnTo>
                      <a:pt x="930" y="0"/>
                    </a:lnTo>
                    <a:lnTo>
                      <a:pt x="1082" y="4"/>
                    </a:lnTo>
                    <a:lnTo>
                      <a:pt x="1224" y="12"/>
                    </a:lnTo>
                    <a:lnTo>
                      <a:pt x="1357" y="27"/>
                    </a:lnTo>
                    <a:lnTo>
                      <a:pt x="1478" y="47"/>
                    </a:lnTo>
                    <a:lnTo>
                      <a:pt x="1584" y="70"/>
                    </a:lnTo>
                    <a:lnTo>
                      <a:pt x="1676" y="98"/>
                    </a:lnTo>
                    <a:lnTo>
                      <a:pt x="1749" y="129"/>
                    </a:lnTo>
                    <a:lnTo>
                      <a:pt x="1805" y="165"/>
                    </a:lnTo>
                    <a:lnTo>
                      <a:pt x="1839" y="201"/>
                    </a:lnTo>
                    <a:lnTo>
                      <a:pt x="1851" y="238"/>
                    </a:lnTo>
                    <a:lnTo>
                      <a:pt x="1839" y="279"/>
                    </a:lnTo>
                    <a:lnTo>
                      <a:pt x="1805" y="317"/>
                    </a:lnTo>
                    <a:lnTo>
                      <a:pt x="1749" y="353"/>
                    </a:lnTo>
                    <a:lnTo>
                      <a:pt x="1676" y="381"/>
                    </a:lnTo>
                    <a:lnTo>
                      <a:pt x="1584" y="408"/>
                    </a:lnTo>
                    <a:lnTo>
                      <a:pt x="1478" y="430"/>
                    </a:lnTo>
                    <a:lnTo>
                      <a:pt x="1357" y="448"/>
                    </a:lnTo>
                    <a:lnTo>
                      <a:pt x="1224" y="460"/>
                    </a:lnTo>
                    <a:lnTo>
                      <a:pt x="1082" y="467"/>
                    </a:lnTo>
                    <a:lnTo>
                      <a:pt x="930" y="471"/>
                    </a:lnTo>
                    <a:lnTo>
                      <a:pt x="777" y="467"/>
                    </a:lnTo>
                    <a:lnTo>
                      <a:pt x="634" y="460"/>
                    </a:lnTo>
                    <a:lnTo>
                      <a:pt x="500" y="448"/>
                    </a:lnTo>
                    <a:lnTo>
                      <a:pt x="378" y="430"/>
                    </a:lnTo>
                    <a:lnTo>
                      <a:pt x="270" y="408"/>
                    </a:lnTo>
                    <a:lnTo>
                      <a:pt x="177" y="381"/>
                    </a:lnTo>
                    <a:lnTo>
                      <a:pt x="102" y="353"/>
                    </a:lnTo>
                    <a:lnTo>
                      <a:pt x="47" y="317"/>
                    </a:lnTo>
                    <a:lnTo>
                      <a:pt x="11" y="279"/>
                    </a:lnTo>
                    <a:lnTo>
                      <a:pt x="0" y="238"/>
                    </a:lnTo>
                  </a:path>
                </a:pathLst>
              </a:custGeom>
              <a:noFill/>
              <a:ln w="2052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35"/>
              <p:cNvSpPr/>
              <p:nvPr/>
            </p:nvSpPr>
            <p:spPr>
              <a:xfrm>
                <a:off x="5110560" y="2098440"/>
                <a:ext cx="1737360" cy="158400"/>
              </a:xfrm>
              <a:custGeom>
                <a:avLst/>
                <a:gdLst>
                  <a:gd name="textAreaLeft" fmla="*/ 0 w 1737360"/>
                  <a:gd name="textAreaRight" fmla="*/ 1737720 w 1737360"/>
                  <a:gd name="textAreaTop" fmla="*/ 0 h 158400"/>
                  <a:gd name="textAreaBottom" fmla="*/ 158760 h 158400"/>
                </a:gdLst>
                <a:ahLst/>
                <a:rect l="textAreaLeft" t="textAreaTop" r="textAreaRight" b="textAreaBottom"/>
                <a:pathLst>
                  <a:path w="1848" h="465">
                    <a:moveTo>
                      <a:pt x="0" y="234"/>
                    </a:moveTo>
                    <a:lnTo>
                      <a:pt x="13" y="198"/>
                    </a:lnTo>
                    <a:lnTo>
                      <a:pt x="47" y="161"/>
                    </a:lnTo>
                    <a:lnTo>
                      <a:pt x="103" y="127"/>
                    </a:lnTo>
                    <a:lnTo>
                      <a:pt x="178" y="96"/>
                    </a:lnTo>
                    <a:lnTo>
                      <a:pt x="270" y="69"/>
                    </a:lnTo>
                    <a:lnTo>
                      <a:pt x="378" y="44"/>
                    </a:lnTo>
                    <a:lnTo>
                      <a:pt x="499" y="26"/>
                    </a:lnTo>
                    <a:lnTo>
                      <a:pt x="632" y="12"/>
                    </a:lnTo>
                    <a:lnTo>
                      <a:pt x="775" y="1"/>
                    </a:lnTo>
                    <a:lnTo>
                      <a:pt x="928" y="0"/>
                    </a:lnTo>
                    <a:lnTo>
                      <a:pt x="1079" y="1"/>
                    </a:lnTo>
                    <a:lnTo>
                      <a:pt x="1222" y="12"/>
                    </a:lnTo>
                    <a:lnTo>
                      <a:pt x="1354" y="26"/>
                    </a:lnTo>
                    <a:lnTo>
                      <a:pt x="1475" y="44"/>
                    </a:lnTo>
                    <a:lnTo>
                      <a:pt x="1581" y="69"/>
                    </a:lnTo>
                    <a:lnTo>
                      <a:pt x="1673" y="96"/>
                    </a:lnTo>
                    <a:lnTo>
                      <a:pt x="1746" y="127"/>
                    </a:lnTo>
                    <a:lnTo>
                      <a:pt x="1801" y="161"/>
                    </a:lnTo>
                    <a:lnTo>
                      <a:pt x="1835" y="198"/>
                    </a:lnTo>
                    <a:lnTo>
                      <a:pt x="1848" y="236"/>
                    </a:lnTo>
                    <a:lnTo>
                      <a:pt x="1835" y="275"/>
                    </a:lnTo>
                    <a:lnTo>
                      <a:pt x="1801" y="313"/>
                    </a:lnTo>
                    <a:lnTo>
                      <a:pt x="1746" y="347"/>
                    </a:lnTo>
                    <a:lnTo>
                      <a:pt x="1673" y="376"/>
                    </a:lnTo>
                    <a:lnTo>
                      <a:pt x="1581" y="403"/>
                    </a:lnTo>
                    <a:lnTo>
                      <a:pt x="1475" y="424"/>
                    </a:lnTo>
                    <a:lnTo>
                      <a:pt x="1354" y="442"/>
                    </a:lnTo>
                    <a:lnTo>
                      <a:pt x="1222" y="454"/>
                    </a:lnTo>
                    <a:lnTo>
                      <a:pt x="1079" y="462"/>
                    </a:lnTo>
                    <a:lnTo>
                      <a:pt x="928" y="465"/>
                    </a:lnTo>
                    <a:lnTo>
                      <a:pt x="775" y="462"/>
                    </a:lnTo>
                    <a:lnTo>
                      <a:pt x="632" y="454"/>
                    </a:lnTo>
                    <a:lnTo>
                      <a:pt x="499" y="442"/>
                    </a:lnTo>
                    <a:lnTo>
                      <a:pt x="378" y="424"/>
                    </a:lnTo>
                    <a:lnTo>
                      <a:pt x="270" y="403"/>
                    </a:lnTo>
                    <a:lnTo>
                      <a:pt x="178" y="376"/>
                    </a:lnTo>
                    <a:lnTo>
                      <a:pt x="103" y="347"/>
                    </a:lnTo>
                    <a:lnTo>
                      <a:pt x="47" y="313"/>
                    </a:lnTo>
                    <a:lnTo>
                      <a:pt x="13" y="275"/>
                    </a:lnTo>
                    <a:lnTo>
                      <a:pt x="2" y="236"/>
                    </a:lnTo>
                  </a:path>
                </a:pathLst>
              </a:custGeom>
              <a:noFill/>
              <a:ln w="2052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36"/>
              <p:cNvSpPr/>
              <p:nvPr/>
            </p:nvSpPr>
            <p:spPr>
              <a:xfrm>
                <a:off x="5114520" y="2099160"/>
                <a:ext cx="1730520" cy="156960"/>
              </a:xfrm>
              <a:custGeom>
                <a:avLst/>
                <a:gdLst>
                  <a:gd name="textAreaLeft" fmla="*/ 0 w 1730520"/>
                  <a:gd name="textAreaRight" fmla="*/ 1730880 w 173052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1841" h="462">
                    <a:moveTo>
                      <a:pt x="0" y="235"/>
                    </a:moveTo>
                    <a:lnTo>
                      <a:pt x="13" y="197"/>
                    </a:lnTo>
                    <a:lnTo>
                      <a:pt x="47" y="162"/>
                    </a:lnTo>
                    <a:lnTo>
                      <a:pt x="103" y="127"/>
                    </a:lnTo>
                    <a:lnTo>
                      <a:pt x="176" y="97"/>
                    </a:lnTo>
                    <a:lnTo>
                      <a:pt x="269" y="70"/>
                    </a:lnTo>
                    <a:lnTo>
                      <a:pt x="376" y="47"/>
                    </a:lnTo>
                    <a:lnTo>
                      <a:pt x="497" y="27"/>
                    </a:lnTo>
                    <a:lnTo>
                      <a:pt x="629" y="13"/>
                    </a:lnTo>
                    <a:lnTo>
                      <a:pt x="773" y="4"/>
                    </a:lnTo>
                    <a:lnTo>
                      <a:pt x="924" y="0"/>
                    </a:lnTo>
                    <a:lnTo>
                      <a:pt x="1075" y="4"/>
                    </a:lnTo>
                    <a:lnTo>
                      <a:pt x="1217" y="13"/>
                    </a:lnTo>
                    <a:lnTo>
                      <a:pt x="1349" y="27"/>
                    </a:lnTo>
                    <a:lnTo>
                      <a:pt x="1469" y="47"/>
                    </a:lnTo>
                    <a:lnTo>
                      <a:pt x="1576" y="70"/>
                    </a:lnTo>
                    <a:lnTo>
                      <a:pt x="1667" y="97"/>
                    </a:lnTo>
                    <a:lnTo>
                      <a:pt x="1741" y="127"/>
                    </a:lnTo>
                    <a:lnTo>
                      <a:pt x="1795" y="162"/>
                    </a:lnTo>
                    <a:lnTo>
                      <a:pt x="1830" y="197"/>
                    </a:lnTo>
                    <a:lnTo>
                      <a:pt x="1841" y="235"/>
                    </a:lnTo>
                    <a:lnTo>
                      <a:pt x="1830" y="274"/>
                    </a:lnTo>
                    <a:lnTo>
                      <a:pt x="1795" y="310"/>
                    </a:lnTo>
                    <a:lnTo>
                      <a:pt x="1741" y="344"/>
                    </a:lnTo>
                    <a:lnTo>
                      <a:pt x="1667" y="373"/>
                    </a:lnTo>
                    <a:lnTo>
                      <a:pt x="1576" y="400"/>
                    </a:lnTo>
                    <a:lnTo>
                      <a:pt x="1469" y="421"/>
                    </a:lnTo>
                    <a:lnTo>
                      <a:pt x="1349" y="439"/>
                    </a:lnTo>
                    <a:lnTo>
                      <a:pt x="1217" y="452"/>
                    </a:lnTo>
                    <a:lnTo>
                      <a:pt x="1075" y="459"/>
                    </a:lnTo>
                    <a:lnTo>
                      <a:pt x="924" y="462"/>
                    </a:lnTo>
                    <a:lnTo>
                      <a:pt x="773" y="459"/>
                    </a:lnTo>
                    <a:lnTo>
                      <a:pt x="629" y="452"/>
                    </a:lnTo>
                    <a:lnTo>
                      <a:pt x="497" y="439"/>
                    </a:lnTo>
                    <a:lnTo>
                      <a:pt x="376" y="421"/>
                    </a:lnTo>
                    <a:lnTo>
                      <a:pt x="269" y="400"/>
                    </a:lnTo>
                    <a:lnTo>
                      <a:pt x="176" y="373"/>
                    </a:lnTo>
                    <a:lnTo>
                      <a:pt x="103" y="344"/>
                    </a:lnTo>
                    <a:lnTo>
                      <a:pt x="47" y="310"/>
                    </a:lnTo>
                    <a:lnTo>
                      <a:pt x="13" y="274"/>
                    </a:lnTo>
                    <a:lnTo>
                      <a:pt x="0" y="235"/>
                    </a:lnTo>
                  </a:path>
                </a:pathLst>
              </a:custGeom>
              <a:noFill/>
              <a:ln w="20520">
                <a:solidFill>
                  <a:srgbClr val="92929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37"/>
              <p:cNvSpPr/>
              <p:nvPr/>
            </p:nvSpPr>
            <p:spPr>
              <a:xfrm>
                <a:off x="5117400" y="2099880"/>
                <a:ext cx="1726920" cy="154800"/>
              </a:xfrm>
              <a:custGeom>
                <a:avLst/>
                <a:gdLst>
                  <a:gd name="textAreaLeft" fmla="*/ 0 w 1726920"/>
                  <a:gd name="textAreaRight" fmla="*/ 1727280 w 1726920"/>
                  <a:gd name="textAreaTop" fmla="*/ 0 h 154800"/>
                  <a:gd name="textAreaBottom" fmla="*/ 155160 h 154800"/>
                </a:gdLst>
                <a:ahLst/>
                <a:rect l="textAreaLeft" t="textAreaTop" r="textAreaRight" b="textAreaBottom"/>
                <a:pathLst>
                  <a:path w="1837" h="455">
                    <a:moveTo>
                      <a:pt x="0" y="231"/>
                    </a:moveTo>
                    <a:lnTo>
                      <a:pt x="12" y="195"/>
                    </a:lnTo>
                    <a:lnTo>
                      <a:pt x="47" y="159"/>
                    </a:lnTo>
                    <a:lnTo>
                      <a:pt x="102" y="127"/>
                    </a:lnTo>
                    <a:lnTo>
                      <a:pt x="176" y="95"/>
                    </a:lnTo>
                    <a:lnTo>
                      <a:pt x="267" y="68"/>
                    </a:lnTo>
                    <a:lnTo>
                      <a:pt x="375" y="45"/>
                    </a:lnTo>
                    <a:lnTo>
                      <a:pt x="496" y="25"/>
                    </a:lnTo>
                    <a:lnTo>
                      <a:pt x="628" y="11"/>
                    </a:lnTo>
                    <a:lnTo>
                      <a:pt x="770" y="2"/>
                    </a:lnTo>
                    <a:lnTo>
                      <a:pt x="921" y="0"/>
                    </a:lnTo>
                    <a:lnTo>
                      <a:pt x="1070" y="2"/>
                    </a:lnTo>
                    <a:lnTo>
                      <a:pt x="1213" y="11"/>
                    </a:lnTo>
                    <a:lnTo>
                      <a:pt x="1345" y="25"/>
                    </a:lnTo>
                    <a:lnTo>
                      <a:pt x="1465" y="45"/>
                    </a:lnTo>
                    <a:lnTo>
                      <a:pt x="1572" y="68"/>
                    </a:lnTo>
                    <a:lnTo>
                      <a:pt x="1662" y="95"/>
                    </a:lnTo>
                    <a:lnTo>
                      <a:pt x="1735" y="127"/>
                    </a:lnTo>
                    <a:lnTo>
                      <a:pt x="1790" y="159"/>
                    </a:lnTo>
                    <a:lnTo>
                      <a:pt x="1824" y="195"/>
                    </a:lnTo>
                    <a:lnTo>
                      <a:pt x="1837" y="233"/>
                    </a:lnTo>
                    <a:lnTo>
                      <a:pt x="1824" y="270"/>
                    </a:lnTo>
                    <a:lnTo>
                      <a:pt x="1790" y="306"/>
                    </a:lnTo>
                    <a:lnTo>
                      <a:pt x="1735" y="338"/>
                    </a:lnTo>
                    <a:lnTo>
                      <a:pt x="1662" y="367"/>
                    </a:lnTo>
                    <a:lnTo>
                      <a:pt x="1572" y="394"/>
                    </a:lnTo>
                    <a:lnTo>
                      <a:pt x="1465" y="415"/>
                    </a:lnTo>
                    <a:lnTo>
                      <a:pt x="1345" y="432"/>
                    </a:lnTo>
                    <a:lnTo>
                      <a:pt x="1213" y="444"/>
                    </a:lnTo>
                    <a:lnTo>
                      <a:pt x="1070" y="453"/>
                    </a:lnTo>
                    <a:lnTo>
                      <a:pt x="921" y="455"/>
                    </a:lnTo>
                    <a:lnTo>
                      <a:pt x="770" y="453"/>
                    </a:lnTo>
                    <a:lnTo>
                      <a:pt x="628" y="444"/>
                    </a:lnTo>
                    <a:lnTo>
                      <a:pt x="496" y="432"/>
                    </a:lnTo>
                    <a:lnTo>
                      <a:pt x="375" y="415"/>
                    </a:lnTo>
                    <a:lnTo>
                      <a:pt x="267" y="394"/>
                    </a:lnTo>
                    <a:lnTo>
                      <a:pt x="176" y="367"/>
                    </a:lnTo>
                    <a:lnTo>
                      <a:pt x="102" y="338"/>
                    </a:lnTo>
                    <a:lnTo>
                      <a:pt x="47" y="306"/>
                    </a:lnTo>
                    <a:lnTo>
                      <a:pt x="12" y="270"/>
                    </a:lnTo>
                    <a:lnTo>
                      <a:pt x="1" y="233"/>
                    </a:lnTo>
                  </a:path>
                </a:pathLst>
              </a:custGeom>
              <a:noFill/>
              <a:ln w="20520">
                <a:solidFill>
                  <a:srgbClr val="8a8a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38"/>
              <p:cNvSpPr/>
              <p:nvPr/>
            </p:nvSpPr>
            <p:spPr>
              <a:xfrm>
                <a:off x="5120280" y="2100600"/>
                <a:ext cx="1721160" cy="153720"/>
              </a:xfrm>
              <a:custGeom>
                <a:avLst/>
                <a:gdLst>
                  <a:gd name="textAreaLeft" fmla="*/ 0 w 1721160"/>
                  <a:gd name="textAreaRight" fmla="*/ 1721520 w 172116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1831" h="451">
                    <a:moveTo>
                      <a:pt x="0" y="231"/>
                    </a:moveTo>
                    <a:lnTo>
                      <a:pt x="13" y="195"/>
                    </a:lnTo>
                    <a:lnTo>
                      <a:pt x="47" y="159"/>
                    </a:lnTo>
                    <a:lnTo>
                      <a:pt x="102" y="127"/>
                    </a:lnTo>
                    <a:lnTo>
                      <a:pt x="175" y="96"/>
                    </a:lnTo>
                    <a:lnTo>
                      <a:pt x="267" y="70"/>
                    </a:lnTo>
                    <a:lnTo>
                      <a:pt x="373" y="46"/>
                    </a:lnTo>
                    <a:lnTo>
                      <a:pt x="494" y="27"/>
                    </a:lnTo>
                    <a:lnTo>
                      <a:pt x="626" y="12"/>
                    </a:lnTo>
                    <a:lnTo>
                      <a:pt x="768" y="3"/>
                    </a:lnTo>
                    <a:lnTo>
                      <a:pt x="918" y="0"/>
                    </a:lnTo>
                    <a:lnTo>
                      <a:pt x="1067" y="3"/>
                    </a:lnTo>
                    <a:lnTo>
                      <a:pt x="1210" y="12"/>
                    </a:lnTo>
                    <a:lnTo>
                      <a:pt x="1340" y="27"/>
                    </a:lnTo>
                    <a:lnTo>
                      <a:pt x="1461" y="46"/>
                    </a:lnTo>
                    <a:lnTo>
                      <a:pt x="1566" y="70"/>
                    </a:lnTo>
                    <a:lnTo>
                      <a:pt x="1657" y="96"/>
                    </a:lnTo>
                    <a:lnTo>
                      <a:pt x="1731" y="127"/>
                    </a:lnTo>
                    <a:lnTo>
                      <a:pt x="1786" y="159"/>
                    </a:lnTo>
                    <a:lnTo>
                      <a:pt x="1820" y="195"/>
                    </a:lnTo>
                    <a:lnTo>
                      <a:pt x="1831" y="231"/>
                    </a:lnTo>
                    <a:lnTo>
                      <a:pt x="1820" y="268"/>
                    </a:lnTo>
                    <a:lnTo>
                      <a:pt x="1786" y="302"/>
                    </a:lnTo>
                    <a:lnTo>
                      <a:pt x="1731" y="335"/>
                    </a:lnTo>
                    <a:lnTo>
                      <a:pt x="1657" y="363"/>
                    </a:lnTo>
                    <a:lnTo>
                      <a:pt x="1566" y="390"/>
                    </a:lnTo>
                    <a:lnTo>
                      <a:pt x="1461" y="412"/>
                    </a:lnTo>
                    <a:lnTo>
                      <a:pt x="1340" y="428"/>
                    </a:lnTo>
                    <a:lnTo>
                      <a:pt x="1210" y="440"/>
                    </a:lnTo>
                    <a:lnTo>
                      <a:pt x="1067" y="449"/>
                    </a:lnTo>
                    <a:lnTo>
                      <a:pt x="918" y="451"/>
                    </a:lnTo>
                    <a:lnTo>
                      <a:pt x="768" y="449"/>
                    </a:lnTo>
                    <a:lnTo>
                      <a:pt x="626" y="440"/>
                    </a:lnTo>
                    <a:lnTo>
                      <a:pt x="494" y="428"/>
                    </a:lnTo>
                    <a:lnTo>
                      <a:pt x="373" y="412"/>
                    </a:lnTo>
                    <a:lnTo>
                      <a:pt x="267" y="390"/>
                    </a:lnTo>
                    <a:lnTo>
                      <a:pt x="175" y="363"/>
                    </a:lnTo>
                    <a:lnTo>
                      <a:pt x="102" y="335"/>
                    </a:lnTo>
                    <a:lnTo>
                      <a:pt x="47" y="302"/>
                    </a:lnTo>
                    <a:lnTo>
                      <a:pt x="13" y="268"/>
                    </a:lnTo>
                    <a:lnTo>
                      <a:pt x="0" y="231"/>
                    </a:lnTo>
                  </a:path>
                </a:pathLst>
              </a:custGeom>
              <a:noFill/>
              <a:ln w="20520">
                <a:solidFill>
                  <a:srgbClr val="82828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39"/>
              <p:cNvSpPr/>
              <p:nvPr/>
            </p:nvSpPr>
            <p:spPr>
              <a:xfrm>
                <a:off x="5123160" y="2102040"/>
                <a:ext cx="1717560" cy="151560"/>
              </a:xfrm>
              <a:custGeom>
                <a:avLst/>
                <a:gdLst>
                  <a:gd name="textAreaLeft" fmla="*/ 0 w 1717560"/>
                  <a:gd name="textAreaRight" fmla="*/ 1717920 w 1717560"/>
                  <a:gd name="textAreaTop" fmla="*/ 0 h 151560"/>
                  <a:gd name="textAreaBottom" fmla="*/ 151920 h 151560"/>
                </a:gdLst>
                <a:ahLst/>
                <a:rect l="textAreaLeft" t="textAreaTop" r="textAreaRight" b="textAreaBottom"/>
                <a:pathLst>
                  <a:path w="1827" h="446">
                    <a:moveTo>
                      <a:pt x="0" y="228"/>
                    </a:moveTo>
                    <a:lnTo>
                      <a:pt x="13" y="192"/>
                    </a:lnTo>
                    <a:lnTo>
                      <a:pt x="47" y="158"/>
                    </a:lnTo>
                    <a:lnTo>
                      <a:pt x="101" y="126"/>
                    </a:lnTo>
                    <a:lnTo>
                      <a:pt x="175" y="95"/>
                    </a:lnTo>
                    <a:lnTo>
                      <a:pt x="266" y="68"/>
                    </a:lnTo>
                    <a:lnTo>
                      <a:pt x="373" y="45"/>
                    </a:lnTo>
                    <a:lnTo>
                      <a:pt x="492" y="25"/>
                    </a:lnTo>
                    <a:lnTo>
                      <a:pt x="623" y="11"/>
                    </a:lnTo>
                    <a:lnTo>
                      <a:pt x="765" y="2"/>
                    </a:lnTo>
                    <a:lnTo>
                      <a:pt x="915" y="0"/>
                    </a:lnTo>
                    <a:lnTo>
                      <a:pt x="1064" y="2"/>
                    </a:lnTo>
                    <a:lnTo>
                      <a:pt x="1205" y="11"/>
                    </a:lnTo>
                    <a:lnTo>
                      <a:pt x="1337" y="25"/>
                    </a:lnTo>
                    <a:lnTo>
                      <a:pt x="1457" y="45"/>
                    </a:lnTo>
                    <a:lnTo>
                      <a:pt x="1562" y="68"/>
                    </a:lnTo>
                    <a:lnTo>
                      <a:pt x="1653" y="95"/>
                    </a:lnTo>
                    <a:lnTo>
                      <a:pt x="1727" y="126"/>
                    </a:lnTo>
                    <a:lnTo>
                      <a:pt x="1781" y="158"/>
                    </a:lnTo>
                    <a:lnTo>
                      <a:pt x="1814" y="192"/>
                    </a:lnTo>
                    <a:lnTo>
                      <a:pt x="1827" y="228"/>
                    </a:lnTo>
                    <a:lnTo>
                      <a:pt x="1814" y="265"/>
                    </a:lnTo>
                    <a:lnTo>
                      <a:pt x="1781" y="299"/>
                    </a:lnTo>
                    <a:lnTo>
                      <a:pt x="1727" y="332"/>
                    </a:lnTo>
                    <a:lnTo>
                      <a:pt x="1653" y="360"/>
                    </a:lnTo>
                    <a:lnTo>
                      <a:pt x="1562" y="384"/>
                    </a:lnTo>
                    <a:lnTo>
                      <a:pt x="1457" y="405"/>
                    </a:lnTo>
                    <a:lnTo>
                      <a:pt x="1337" y="423"/>
                    </a:lnTo>
                    <a:lnTo>
                      <a:pt x="1205" y="436"/>
                    </a:lnTo>
                    <a:lnTo>
                      <a:pt x="1064" y="443"/>
                    </a:lnTo>
                    <a:lnTo>
                      <a:pt x="915" y="446"/>
                    </a:lnTo>
                    <a:lnTo>
                      <a:pt x="765" y="443"/>
                    </a:lnTo>
                    <a:lnTo>
                      <a:pt x="623" y="436"/>
                    </a:lnTo>
                    <a:lnTo>
                      <a:pt x="492" y="423"/>
                    </a:lnTo>
                    <a:lnTo>
                      <a:pt x="373" y="405"/>
                    </a:lnTo>
                    <a:lnTo>
                      <a:pt x="266" y="384"/>
                    </a:lnTo>
                    <a:lnTo>
                      <a:pt x="175" y="360"/>
                    </a:lnTo>
                    <a:lnTo>
                      <a:pt x="101" y="332"/>
                    </a:lnTo>
                    <a:lnTo>
                      <a:pt x="47" y="299"/>
                    </a:lnTo>
                    <a:lnTo>
                      <a:pt x="13" y="265"/>
                    </a:lnTo>
                    <a:lnTo>
                      <a:pt x="1" y="228"/>
                    </a:lnTo>
                  </a:path>
                </a:pathLst>
              </a:custGeom>
              <a:noFill/>
              <a:ln w="20520">
                <a:solidFill>
                  <a:srgbClr val="7b7b7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0"/>
              <p:cNvSpPr/>
              <p:nvPr/>
            </p:nvSpPr>
            <p:spPr>
              <a:xfrm>
                <a:off x="5126760" y="2102760"/>
                <a:ext cx="1711080" cy="15012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909" y="441"/>
                    </a:moveTo>
                    <a:lnTo>
                      <a:pt x="1059" y="439"/>
                    </a:lnTo>
                    <a:lnTo>
                      <a:pt x="1201" y="432"/>
                    </a:lnTo>
                    <a:lnTo>
                      <a:pt x="1332" y="419"/>
                    </a:lnTo>
                    <a:lnTo>
                      <a:pt x="1451" y="401"/>
                    </a:lnTo>
                    <a:lnTo>
                      <a:pt x="1557" y="380"/>
                    </a:lnTo>
                    <a:lnTo>
                      <a:pt x="1647" y="356"/>
                    </a:lnTo>
                    <a:lnTo>
                      <a:pt x="1720" y="328"/>
                    </a:lnTo>
                    <a:lnTo>
                      <a:pt x="1775" y="297"/>
                    </a:lnTo>
                    <a:lnTo>
                      <a:pt x="1809" y="263"/>
                    </a:lnTo>
                    <a:lnTo>
                      <a:pt x="1820" y="228"/>
                    </a:lnTo>
                    <a:lnTo>
                      <a:pt x="1809" y="192"/>
                    </a:lnTo>
                    <a:lnTo>
                      <a:pt x="1775" y="158"/>
                    </a:lnTo>
                    <a:lnTo>
                      <a:pt x="1720" y="125"/>
                    </a:lnTo>
                    <a:lnTo>
                      <a:pt x="1647" y="95"/>
                    </a:lnTo>
                    <a:lnTo>
                      <a:pt x="1557" y="68"/>
                    </a:lnTo>
                    <a:lnTo>
                      <a:pt x="1451" y="45"/>
                    </a:lnTo>
                    <a:lnTo>
                      <a:pt x="1332" y="27"/>
                    </a:lnTo>
                    <a:lnTo>
                      <a:pt x="1201" y="13"/>
                    </a:lnTo>
                    <a:lnTo>
                      <a:pt x="1059" y="4"/>
                    </a:lnTo>
                    <a:lnTo>
                      <a:pt x="911" y="0"/>
                    </a:lnTo>
                    <a:lnTo>
                      <a:pt x="761" y="4"/>
                    </a:lnTo>
                    <a:lnTo>
                      <a:pt x="620" y="13"/>
                    </a:lnTo>
                    <a:lnTo>
                      <a:pt x="489" y="27"/>
                    </a:lnTo>
                    <a:lnTo>
                      <a:pt x="370" y="45"/>
                    </a:lnTo>
                    <a:lnTo>
                      <a:pt x="265" y="68"/>
                    </a:lnTo>
                    <a:lnTo>
                      <a:pt x="174" y="95"/>
                    </a:lnTo>
                    <a:lnTo>
                      <a:pt x="101" y="125"/>
                    </a:lnTo>
                    <a:lnTo>
                      <a:pt x="47" y="158"/>
                    </a:lnTo>
                    <a:lnTo>
                      <a:pt x="12" y="192"/>
                    </a:lnTo>
                    <a:lnTo>
                      <a:pt x="0" y="228"/>
                    </a:lnTo>
                    <a:lnTo>
                      <a:pt x="12" y="263"/>
                    </a:lnTo>
                    <a:lnTo>
                      <a:pt x="47" y="297"/>
                    </a:lnTo>
                    <a:lnTo>
                      <a:pt x="101" y="328"/>
                    </a:lnTo>
                    <a:lnTo>
                      <a:pt x="174" y="356"/>
                    </a:lnTo>
                    <a:lnTo>
                      <a:pt x="265" y="380"/>
                    </a:lnTo>
                    <a:lnTo>
                      <a:pt x="370" y="401"/>
                    </a:lnTo>
                    <a:lnTo>
                      <a:pt x="489" y="419"/>
                    </a:lnTo>
                    <a:lnTo>
                      <a:pt x="620" y="432"/>
                    </a:lnTo>
                    <a:lnTo>
                      <a:pt x="761" y="439"/>
                    </a:lnTo>
                    <a:lnTo>
                      <a:pt x="911" y="442"/>
                    </a:lnTo>
                  </a:path>
                </a:pathLst>
              </a:custGeom>
              <a:noFill/>
              <a:ln w="20520">
                <a:solidFill>
                  <a:srgbClr val="7373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1"/>
              <p:cNvSpPr/>
              <p:nvPr/>
            </p:nvSpPr>
            <p:spPr>
              <a:xfrm>
                <a:off x="5058360" y="2083680"/>
                <a:ext cx="1844280" cy="198720"/>
              </a:xfrm>
              <a:custGeom>
                <a:avLst/>
                <a:gdLst>
                  <a:gd name="textAreaLeft" fmla="*/ 0 w 1844280"/>
                  <a:gd name="textAreaRight" fmla="*/ 1844640 w 1844280"/>
                  <a:gd name="textAreaTop" fmla="*/ 0 h 198720"/>
                  <a:gd name="textAreaBottom" fmla="*/ 199080 h 198720"/>
                </a:gdLst>
                <a:ahLst/>
                <a:rect l="textAreaLeft" t="textAreaTop" r="textAreaRight" b="textAreaBottom"/>
                <a:pathLst>
                  <a:path w="1962" h="583">
                    <a:moveTo>
                      <a:pt x="0" y="283"/>
                    </a:moveTo>
                    <a:lnTo>
                      <a:pt x="14" y="236"/>
                    </a:lnTo>
                    <a:lnTo>
                      <a:pt x="51" y="191"/>
                    </a:lnTo>
                    <a:lnTo>
                      <a:pt x="111" y="150"/>
                    </a:lnTo>
                    <a:lnTo>
                      <a:pt x="189" y="114"/>
                    </a:lnTo>
                    <a:lnTo>
                      <a:pt x="287" y="80"/>
                    </a:lnTo>
                    <a:lnTo>
                      <a:pt x="401" y="53"/>
                    </a:lnTo>
                    <a:lnTo>
                      <a:pt x="531" y="30"/>
                    </a:lnTo>
                    <a:lnTo>
                      <a:pt x="672" y="14"/>
                    </a:lnTo>
                    <a:lnTo>
                      <a:pt x="824" y="3"/>
                    </a:lnTo>
                    <a:lnTo>
                      <a:pt x="984" y="0"/>
                    </a:lnTo>
                    <a:lnTo>
                      <a:pt x="1144" y="3"/>
                    </a:lnTo>
                    <a:lnTo>
                      <a:pt x="1295" y="14"/>
                    </a:lnTo>
                    <a:lnTo>
                      <a:pt x="1435" y="30"/>
                    </a:lnTo>
                    <a:lnTo>
                      <a:pt x="1564" y="53"/>
                    </a:lnTo>
                    <a:lnTo>
                      <a:pt x="1678" y="80"/>
                    </a:lnTo>
                    <a:lnTo>
                      <a:pt x="1775" y="114"/>
                    </a:lnTo>
                    <a:lnTo>
                      <a:pt x="1854" y="150"/>
                    </a:lnTo>
                    <a:lnTo>
                      <a:pt x="1912" y="191"/>
                    </a:lnTo>
                    <a:lnTo>
                      <a:pt x="1949" y="236"/>
                    </a:lnTo>
                    <a:lnTo>
                      <a:pt x="1962" y="283"/>
                    </a:lnTo>
                    <a:lnTo>
                      <a:pt x="1949" y="338"/>
                    </a:lnTo>
                    <a:lnTo>
                      <a:pt x="1912" y="388"/>
                    </a:lnTo>
                    <a:lnTo>
                      <a:pt x="1854" y="433"/>
                    </a:lnTo>
                    <a:lnTo>
                      <a:pt x="1775" y="472"/>
                    </a:lnTo>
                    <a:lnTo>
                      <a:pt x="1678" y="506"/>
                    </a:lnTo>
                    <a:lnTo>
                      <a:pt x="1564" y="533"/>
                    </a:lnTo>
                    <a:lnTo>
                      <a:pt x="1435" y="557"/>
                    </a:lnTo>
                    <a:lnTo>
                      <a:pt x="1295" y="571"/>
                    </a:lnTo>
                    <a:lnTo>
                      <a:pt x="1144" y="582"/>
                    </a:lnTo>
                    <a:lnTo>
                      <a:pt x="984" y="583"/>
                    </a:lnTo>
                    <a:lnTo>
                      <a:pt x="824" y="582"/>
                    </a:lnTo>
                    <a:lnTo>
                      <a:pt x="672" y="571"/>
                    </a:lnTo>
                    <a:lnTo>
                      <a:pt x="531" y="557"/>
                    </a:lnTo>
                    <a:lnTo>
                      <a:pt x="401" y="533"/>
                    </a:lnTo>
                    <a:lnTo>
                      <a:pt x="287" y="506"/>
                    </a:lnTo>
                    <a:lnTo>
                      <a:pt x="189" y="472"/>
                    </a:lnTo>
                    <a:lnTo>
                      <a:pt x="111" y="433"/>
                    </a:lnTo>
                    <a:lnTo>
                      <a:pt x="51" y="388"/>
                    </a:lnTo>
                    <a:lnTo>
                      <a:pt x="14" y="338"/>
                    </a:lnTo>
                    <a:lnTo>
                      <a:pt x="2" y="283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2"/>
              <p:cNvSpPr/>
              <p:nvPr/>
            </p:nvSpPr>
            <p:spPr>
              <a:xfrm>
                <a:off x="5126760" y="2102760"/>
                <a:ext cx="1711080" cy="15012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0" y="228"/>
                    </a:moveTo>
                    <a:lnTo>
                      <a:pt x="12" y="192"/>
                    </a:lnTo>
                    <a:lnTo>
                      <a:pt x="47" y="158"/>
                    </a:lnTo>
                    <a:lnTo>
                      <a:pt x="101" y="125"/>
                    </a:lnTo>
                    <a:lnTo>
                      <a:pt x="174" y="95"/>
                    </a:lnTo>
                    <a:lnTo>
                      <a:pt x="265" y="68"/>
                    </a:lnTo>
                    <a:lnTo>
                      <a:pt x="370" y="45"/>
                    </a:lnTo>
                    <a:lnTo>
                      <a:pt x="489" y="27"/>
                    </a:lnTo>
                    <a:lnTo>
                      <a:pt x="620" y="13"/>
                    </a:lnTo>
                    <a:lnTo>
                      <a:pt x="761" y="4"/>
                    </a:lnTo>
                    <a:lnTo>
                      <a:pt x="911" y="0"/>
                    </a:lnTo>
                    <a:lnTo>
                      <a:pt x="1059" y="4"/>
                    </a:lnTo>
                    <a:lnTo>
                      <a:pt x="1201" y="13"/>
                    </a:lnTo>
                    <a:lnTo>
                      <a:pt x="1332" y="27"/>
                    </a:lnTo>
                    <a:lnTo>
                      <a:pt x="1451" y="45"/>
                    </a:lnTo>
                    <a:lnTo>
                      <a:pt x="1557" y="68"/>
                    </a:lnTo>
                    <a:lnTo>
                      <a:pt x="1647" y="95"/>
                    </a:lnTo>
                    <a:lnTo>
                      <a:pt x="1720" y="125"/>
                    </a:lnTo>
                    <a:lnTo>
                      <a:pt x="1775" y="158"/>
                    </a:lnTo>
                    <a:lnTo>
                      <a:pt x="1809" y="192"/>
                    </a:lnTo>
                    <a:lnTo>
                      <a:pt x="1820" y="228"/>
                    </a:lnTo>
                    <a:lnTo>
                      <a:pt x="1809" y="263"/>
                    </a:lnTo>
                    <a:lnTo>
                      <a:pt x="1775" y="297"/>
                    </a:lnTo>
                    <a:lnTo>
                      <a:pt x="1720" y="328"/>
                    </a:lnTo>
                    <a:lnTo>
                      <a:pt x="1647" y="356"/>
                    </a:lnTo>
                    <a:lnTo>
                      <a:pt x="1557" y="380"/>
                    </a:lnTo>
                    <a:lnTo>
                      <a:pt x="1451" y="401"/>
                    </a:lnTo>
                    <a:lnTo>
                      <a:pt x="1332" y="419"/>
                    </a:lnTo>
                    <a:lnTo>
                      <a:pt x="1201" y="432"/>
                    </a:lnTo>
                    <a:lnTo>
                      <a:pt x="1059" y="439"/>
                    </a:lnTo>
                    <a:lnTo>
                      <a:pt x="911" y="442"/>
                    </a:lnTo>
                    <a:lnTo>
                      <a:pt x="761" y="439"/>
                    </a:lnTo>
                    <a:lnTo>
                      <a:pt x="620" y="432"/>
                    </a:lnTo>
                    <a:lnTo>
                      <a:pt x="489" y="419"/>
                    </a:lnTo>
                    <a:lnTo>
                      <a:pt x="370" y="401"/>
                    </a:lnTo>
                    <a:lnTo>
                      <a:pt x="265" y="380"/>
                    </a:lnTo>
                    <a:lnTo>
                      <a:pt x="174" y="356"/>
                    </a:lnTo>
                    <a:lnTo>
                      <a:pt x="101" y="328"/>
                    </a:lnTo>
                    <a:lnTo>
                      <a:pt x="47" y="297"/>
                    </a:lnTo>
                    <a:lnTo>
                      <a:pt x="12" y="263"/>
                    </a:lnTo>
                    <a:lnTo>
                      <a:pt x="0" y="228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43"/>
              <p:cNvSpPr/>
              <p:nvPr/>
            </p:nvSpPr>
            <p:spPr>
              <a:xfrm>
                <a:off x="5126760" y="2102760"/>
                <a:ext cx="1711080" cy="15012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150120"/>
                  <a:gd name="textAreaBottom" fmla="*/ 150480 h 150120"/>
                </a:gdLst>
                <a:ahLst/>
                <a:rect l="textAreaLeft" t="textAreaTop" r="textAreaRight" b="textAreaBottom"/>
                <a:pathLst>
                  <a:path w="1820" h="442">
                    <a:moveTo>
                      <a:pt x="0" y="228"/>
                    </a:moveTo>
                    <a:lnTo>
                      <a:pt x="12" y="192"/>
                    </a:lnTo>
                    <a:lnTo>
                      <a:pt x="47" y="158"/>
                    </a:lnTo>
                    <a:lnTo>
                      <a:pt x="101" y="125"/>
                    </a:lnTo>
                    <a:lnTo>
                      <a:pt x="174" y="95"/>
                    </a:lnTo>
                    <a:lnTo>
                      <a:pt x="265" y="68"/>
                    </a:lnTo>
                    <a:lnTo>
                      <a:pt x="370" y="45"/>
                    </a:lnTo>
                    <a:lnTo>
                      <a:pt x="489" y="27"/>
                    </a:lnTo>
                    <a:lnTo>
                      <a:pt x="620" y="13"/>
                    </a:lnTo>
                    <a:lnTo>
                      <a:pt x="761" y="4"/>
                    </a:lnTo>
                    <a:lnTo>
                      <a:pt x="911" y="0"/>
                    </a:lnTo>
                    <a:lnTo>
                      <a:pt x="1059" y="4"/>
                    </a:lnTo>
                    <a:lnTo>
                      <a:pt x="1201" y="13"/>
                    </a:lnTo>
                    <a:lnTo>
                      <a:pt x="1332" y="27"/>
                    </a:lnTo>
                    <a:lnTo>
                      <a:pt x="1451" y="45"/>
                    </a:lnTo>
                    <a:lnTo>
                      <a:pt x="1557" y="68"/>
                    </a:lnTo>
                    <a:lnTo>
                      <a:pt x="1647" y="95"/>
                    </a:lnTo>
                    <a:lnTo>
                      <a:pt x="1720" y="125"/>
                    </a:lnTo>
                    <a:lnTo>
                      <a:pt x="1775" y="158"/>
                    </a:lnTo>
                    <a:lnTo>
                      <a:pt x="1809" y="192"/>
                    </a:lnTo>
                    <a:lnTo>
                      <a:pt x="1820" y="228"/>
                    </a:lnTo>
                    <a:lnTo>
                      <a:pt x="1809" y="263"/>
                    </a:lnTo>
                    <a:lnTo>
                      <a:pt x="1775" y="297"/>
                    </a:lnTo>
                    <a:lnTo>
                      <a:pt x="1720" y="328"/>
                    </a:lnTo>
                    <a:lnTo>
                      <a:pt x="1647" y="356"/>
                    </a:lnTo>
                    <a:lnTo>
                      <a:pt x="1557" y="380"/>
                    </a:lnTo>
                    <a:lnTo>
                      <a:pt x="1451" y="401"/>
                    </a:lnTo>
                    <a:lnTo>
                      <a:pt x="1332" y="419"/>
                    </a:lnTo>
                    <a:lnTo>
                      <a:pt x="1201" y="432"/>
                    </a:lnTo>
                    <a:lnTo>
                      <a:pt x="1059" y="439"/>
                    </a:lnTo>
                    <a:lnTo>
                      <a:pt x="911" y="442"/>
                    </a:lnTo>
                    <a:lnTo>
                      <a:pt x="761" y="439"/>
                    </a:lnTo>
                    <a:lnTo>
                      <a:pt x="620" y="432"/>
                    </a:lnTo>
                    <a:lnTo>
                      <a:pt x="489" y="419"/>
                    </a:lnTo>
                    <a:lnTo>
                      <a:pt x="370" y="401"/>
                    </a:lnTo>
                    <a:lnTo>
                      <a:pt x="265" y="380"/>
                    </a:lnTo>
                    <a:lnTo>
                      <a:pt x="174" y="356"/>
                    </a:lnTo>
                    <a:lnTo>
                      <a:pt x="101" y="328"/>
                    </a:lnTo>
                    <a:lnTo>
                      <a:pt x="47" y="297"/>
                    </a:lnTo>
                    <a:lnTo>
                      <a:pt x="12" y="263"/>
                    </a:lnTo>
                    <a:lnTo>
                      <a:pt x="0" y="228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44"/>
              <p:cNvSpPr/>
              <p:nvPr/>
            </p:nvSpPr>
            <p:spPr>
              <a:xfrm>
                <a:off x="5126760" y="2180160"/>
                <a:ext cx="1711080" cy="7272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72720"/>
                  <a:gd name="textAreaBottom" fmla="*/ 73080 h 72720"/>
                </a:gdLst>
                <a:ahLst/>
                <a:rect l="textAreaLeft" t="textAreaTop" r="textAreaRight" b="textAreaBottom"/>
                <a:pathLst>
                  <a:path w="1820" h="214">
                    <a:moveTo>
                      <a:pt x="0" y="0"/>
                    </a:moveTo>
                    <a:lnTo>
                      <a:pt x="12" y="35"/>
                    </a:lnTo>
                    <a:lnTo>
                      <a:pt x="47" y="69"/>
                    </a:lnTo>
                    <a:lnTo>
                      <a:pt x="101" y="100"/>
                    </a:lnTo>
                    <a:lnTo>
                      <a:pt x="174" y="128"/>
                    </a:lnTo>
                    <a:lnTo>
                      <a:pt x="265" y="152"/>
                    </a:lnTo>
                    <a:lnTo>
                      <a:pt x="370" y="173"/>
                    </a:lnTo>
                    <a:lnTo>
                      <a:pt x="489" y="191"/>
                    </a:lnTo>
                    <a:lnTo>
                      <a:pt x="620" y="204"/>
                    </a:lnTo>
                    <a:lnTo>
                      <a:pt x="761" y="211"/>
                    </a:lnTo>
                    <a:lnTo>
                      <a:pt x="911" y="214"/>
                    </a:lnTo>
                    <a:lnTo>
                      <a:pt x="1059" y="211"/>
                    </a:lnTo>
                    <a:lnTo>
                      <a:pt x="1201" y="204"/>
                    </a:lnTo>
                    <a:lnTo>
                      <a:pt x="1332" y="191"/>
                    </a:lnTo>
                    <a:lnTo>
                      <a:pt x="1451" y="173"/>
                    </a:lnTo>
                    <a:lnTo>
                      <a:pt x="1557" y="152"/>
                    </a:lnTo>
                    <a:lnTo>
                      <a:pt x="1647" y="128"/>
                    </a:lnTo>
                    <a:lnTo>
                      <a:pt x="1720" y="100"/>
                    </a:lnTo>
                    <a:lnTo>
                      <a:pt x="1775" y="69"/>
                    </a:lnTo>
                    <a:lnTo>
                      <a:pt x="1809" y="35"/>
                    </a:lnTo>
                    <a:lnTo>
                      <a:pt x="1820" y="0"/>
                    </a:lnTo>
                  </a:path>
                </a:pathLst>
              </a:custGeom>
              <a:noFill/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AutoShape 46"/>
            <p:cNvSpPr/>
            <p:nvPr/>
          </p:nvSpPr>
          <p:spPr>
            <a:xfrm flipH="1" rot="16200000">
              <a:off x="6393960" y="721440"/>
              <a:ext cx="367920" cy="2679840"/>
            </a:xfrm>
            <a:custGeom>
              <a:avLst/>
              <a:gdLst>
                <a:gd name="textAreaLeft" fmla="*/ 211680 w 367920"/>
                <a:gd name="textAreaRight" fmla="*/ 336240 w 367920"/>
                <a:gd name="textAreaTop" fmla="*/ 525240 h 2679840"/>
                <a:gd name="textAreaBottom" fmla="*/ 983160 h 267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422" y="0"/>
                  </a:lnTo>
                  <a:lnTo>
                    <a:pt x="15422" y="4239"/>
                  </a:lnTo>
                  <a:lnTo>
                    <a:pt x="12427" y="4239"/>
                  </a:lnTo>
                  <a:cubicBezTo>
                    <a:pt x="5564" y="4239"/>
                    <a:pt x="0" y="7784"/>
                    <a:pt x="0" y="12158"/>
                  </a:cubicBezTo>
                  <a:lnTo>
                    <a:pt x="0" y="21600"/>
                  </a:lnTo>
                  <a:lnTo>
                    <a:pt x="3761" y="21600"/>
                  </a:lnTo>
                  <a:lnTo>
                    <a:pt x="3761" y="12158"/>
                  </a:lnTo>
                  <a:cubicBezTo>
                    <a:pt x="3761" y="9817"/>
                    <a:pt x="7641" y="7919"/>
                    <a:pt x="12427" y="7919"/>
                  </a:cubicBezTo>
                  <a:lnTo>
                    <a:pt x="15422" y="7919"/>
                  </a:lnTo>
                  <a:lnTo>
                    <a:pt x="15422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49"/>
            <p:cNvSpPr/>
            <p:nvPr/>
          </p:nvSpPr>
          <p:spPr>
            <a:xfrm rot="5400000">
              <a:off x="5189040" y="716760"/>
              <a:ext cx="367920" cy="2688840"/>
            </a:xfrm>
            <a:custGeom>
              <a:avLst/>
              <a:gdLst>
                <a:gd name="textAreaLeft" fmla="*/ 211680 w 367920"/>
                <a:gd name="textAreaRight" fmla="*/ 336240 w 367920"/>
                <a:gd name="textAreaTop" fmla="*/ 527400 h 2688840"/>
                <a:gd name="textAreaBottom" fmla="*/ 985680 h 26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6079"/>
                  </a:moveTo>
                  <a:lnTo>
                    <a:pt x="15422" y="0"/>
                  </a:lnTo>
                  <a:lnTo>
                    <a:pt x="15422" y="4239"/>
                  </a:lnTo>
                  <a:lnTo>
                    <a:pt x="12427" y="4239"/>
                  </a:lnTo>
                  <a:cubicBezTo>
                    <a:pt x="5564" y="4239"/>
                    <a:pt x="0" y="7784"/>
                    <a:pt x="0" y="12158"/>
                  </a:cubicBezTo>
                  <a:lnTo>
                    <a:pt x="0" y="21600"/>
                  </a:lnTo>
                  <a:lnTo>
                    <a:pt x="3761" y="21600"/>
                  </a:lnTo>
                  <a:lnTo>
                    <a:pt x="3761" y="12158"/>
                  </a:lnTo>
                  <a:cubicBezTo>
                    <a:pt x="3761" y="9817"/>
                    <a:pt x="7641" y="7919"/>
                    <a:pt x="12427" y="7919"/>
                  </a:cubicBezTo>
                  <a:lnTo>
                    <a:pt x="15422" y="7919"/>
                  </a:lnTo>
                  <a:lnTo>
                    <a:pt x="15422" y="12158"/>
                  </a:lnTo>
                  <a:lnTo>
                    <a:pt x="21600" y="6079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2"/>
            <p:cNvGrpSpPr/>
            <p:nvPr/>
          </p:nvGrpSpPr>
          <p:grpSpPr>
            <a:xfrm>
              <a:off x="4633920" y="2997720"/>
              <a:ext cx="2726640" cy="736200"/>
              <a:chOff x="4633920" y="2997720"/>
              <a:chExt cx="2726640" cy="736200"/>
            </a:xfrm>
          </p:grpSpPr>
          <p:sp>
            <p:nvSpPr>
              <p:cNvPr id="120" name="Freeform 53"/>
              <p:cNvSpPr/>
              <p:nvPr/>
            </p:nvSpPr>
            <p:spPr>
              <a:xfrm>
                <a:off x="4633920" y="2997720"/>
                <a:ext cx="2726640" cy="736200"/>
              </a:xfrm>
              <a:custGeom>
                <a:avLst/>
                <a:gdLst>
                  <a:gd name="textAreaLeft" fmla="*/ 0 w 2726640"/>
                  <a:gd name="textAreaRight" fmla="*/ 2727000 w 2726640"/>
                  <a:gd name="textAreaTop" fmla="*/ 0 h 736200"/>
                  <a:gd name="textAreaBottom" fmla="*/ 736560 h 736200"/>
                </a:gdLst>
                <a:ahLst/>
                <a:rect l="textAreaLeft" t="textAreaTop" r="textAreaRight" b="textAreaBottom"/>
                <a:pathLst>
                  <a:path w="1152" h="1150">
                    <a:moveTo>
                      <a:pt x="577" y="0"/>
                    </a:moveTo>
                    <a:lnTo>
                      <a:pt x="592" y="38"/>
                    </a:lnTo>
                    <a:lnTo>
                      <a:pt x="607" y="76"/>
                    </a:lnTo>
                    <a:lnTo>
                      <a:pt x="622" y="111"/>
                    </a:lnTo>
                    <a:lnTo>
                      <a:pt x="637" y="143"/>
                    </a:lnTo>
                    <a:lnTo>
                      <a:pt x="652" y="174"/>
                    </a:lnTo>
                    <a:lnTo>
                      <a:pt x="670" y="202"/>
                    </a:lnTo>
                    <a:lnTo>
                      <a:pt x="685" y="229"/>
                    </a:lnTo>
                    <a:lnTo>
                      <a:pt x="702" y="254"/>
                    </a:lnTo>
                    <a:lnTo>
                      <a:pt x="722" y="277"/>
                    </a:lnTo>
                    <a:lnTo>
                      <a:pt x="742" y="302"/>
                    </a:lnTo>
                    <a:lnTo>
                      <a:pt x="767" y="327"/>
                    </a:lnTo>
                    <a:lnTo>
                      <a:pt x="792" y="352"/>
                    </a:lnTo>
                    <a:lnTo>
                      <a:pt x="820" y="378"/>
                    </a:lnTo>
                    <a:lnTo>
                      <a:pt x="852" y="405"/>
                    </a:lnTo>
                    <a:lnTo>
                      <a:pt x="885" y="431"/>
                    </a:lnTo>
                    <a:lnTo>
                      <a:pt x="920" y="458"/>
                    </a:lnTo>
                    <a:lnTo>
                      <a:pt x="962" y="488"/>
                    </a:lnTo>
                    <a:lnTo>
                      <a:pt x="1007" y="523"/>
                    </a:lnTo>
                    <a:lnTo>
                      <a:pt x="1045" y="559"/>
                    </a:lnTo>
                    <a:lnTo>
                      <a:pt x="1077" y="594"/>
                    </a:lnTo>
                    <a:lnTo>
                      <a:pt x="1105" y="629"/>
                    </a:lnTo>
                    <a:lnTo>
                      <a:pt x="1125" y="665"/>
                    </a:lnTo>
                    <a:lnTo>
                      <a:pt x="1140" y="700"/>
                    </a:lnTo>
                    <a:lnTo>
                      <a:pt x="1150" y="735"/>
                    </a:lnTo>
                    <a:lnTo>
                      <a:pt x="1152" y="770"/>
                    </a:lnTo>
                    <a:lnTo>
                      <a:pt x="1150" y="808"/>
                    </a:lnTo>
                    <a:lnTo>
                      <a:pt x="1142" y="846"/>
                    </a:lnTo>
                    <a:lnTo>
                      <a:pt x="1127" y="881"/>
                    </a:lnTo>
                    <a:lnTo>
                      <a:pt x="1110" y="916"/>
                    </a:lnTo>
                    <a:lnTo>
                      <a:pt x="1085" y="949"/>
                    </a:lnTo>
                    <a:lnTo>
                      <a:pt x="1057" y="981"/>
                    </a:lnTo>
                    <a:lnTo>
                      <a:pt x="1022" y="1011"/>
                    </a:lnTo>
                    <a:lnTo>
                      <a:pt x="982" y="1039"/>
                    </a:lnTo>
                    <a:lnTo>
                      <a:pt x="960" y="1052"/>
                    </a:lnTo>
                    <a:lnTo>
                      <a:pt x="937" y="1065"/>
                    </a:lnTo>
                    <a:lnTo>
                      <a:pt x="915" y="1077"/>
                    </a:lnTo>
                    <a:lnTo>
                      <a:pt x="892" y="1087"/>
                    </a:lnTo>
                    <a:lnTo>
                      <a:pt x="870" y="1097"/>
                    </a:lnTo>
                    <a:lnTo>
                      <a:pt x="845" y="1107"/>
                    </a:lnTo>
                    <a:lnTo>
                      <a:pt x="820" y="1115"/>
                    </a:lnTo>
                    <a:lnTo>
                      <a:pt x="795" y="1122"/>
                    </a:lnTo>
                    <a:lnTo>
                      <a:pt x="770" y="1128"/>
                    </a:lnTo>
                    <a:lnTo>
                      <a:pt x="742" y="1135"/>
                    </a:lnTo>
                    <a:lnTo>
                      <a:pt x="717" y="1140"/>
                    </a:lnTo>
                    <a:lnTo>
                      <a:pt x="690" y="1143"/>
                    </a:lnTo>
                    <a:lnTo>
                      <a:pt x="662" y="1147"/>
                    </a:lnTo>
                    <a:lnTo>
                      <a:pt x="635" y="1148"/>
                    </a:lnTo>
                    <a:lnTo>
                      <a:pt x="607" y="1150"/>
                    </a:lnTo>
                    <a:lnTo>
                      <a:pt x="577" y="1150"/>
                    </a:lnTo>
                    <a:lnTo>
                      <a:pt x="547" y="1150"/>
                    </a:lnTo>
                    <a:lnTo>
                      <a:pt x="517" y="1148"/>
                    </a:lnTo>
                    <a:lnTo>
                      <a:pt x="490" y="1147"/>
                    </a:lnTo>
                    <a:lnTo>
                      <a:pt x="462" y="1143"/>
                    </a:lnTo>
                    <a:lnTo>
                      <a:pt x="435" y="1140"/>
                    </a:lnTo>
                    <a:lnTo>
                      <a:pt x="407" y="1135"/>
                    </a:lnTo>
                    <a:lnTo>
                      <a:pt x="382" y="1128"/>
                    </a:lnTo>
                    <a:lnTo>
                      <a:pt x="355" y="1122"/>
                    </a:lnTo>
                    <a:lnTo>
                      <a:pt x="330" y="1115"/>
                    </a:lnTo>
                    <a:lnTo>
                      <a:pt x="305" y="1107"/>
                    </a:lnTo>
                    <a:lnTo>
                      <a:pt x="282" y="1097"/>
                    </a:lnTo>
                    <a:lnTo>
                      <a:pt x="257" y="1087"/>
                    </a:lnTo>
                    <a:lnTo>
                      <a:pt x="235" y="1077"/>
                    </a:lnTo>
                    <a:lnTo>
                      <a:pt x="212" y="1065"/>
                    </a:lnTo>
                    <a:lnTo>
                      <a:pt x="192" y="1052"/>
                    </a:lnTo>
                    <a:lnTo>
                      <a:pt x="170" y="1039"/>
                    </a:lnTo>
                    <a:lnTo>
                      <a:pt x="130" y="1011"/>
                    </a:lnTo>
                    <a:lnTo>
                      <a:pt x="95" y="981"/>
                    </a:lnTo>
                    <a:lnTo>
                      <a:pt x="65" y="949"/>
                    </a:lnTo>
                    <a:lnTo>
                      <a:pt x="42" y="916"/>
                    </a:lnTo>
                    <a:lnTo>
                      <a:pt x="22" y="881"/>
                    </a:lnTo>
                    <a:lnTo>
                      <a:pt x="10" y="846"/>
                    </a:lnTo>
                    <a:lnTo>
                      <a:pt x="2" y="808"/>
                    </a:lnTo>
                    <a:lnTo>
                      <a:pt x="0" y="770"/>
                    </a:lnTo>
                    <a:lnTo>
                      <a:pt x="2" y="735"/>
                    </a:lnTo>
                    <a:lnTo>
                      <a:pt x="12" y="700"/>
                    </a:lnTo>
                    <a:lnTo>
                      <a:pt x="27" y="665"/>
                    </a:lnTo>
                    <a:lnTo>
                      <a:pt x="47" y="629"/>
                    </a:lnTo>
                    <a:lnTo>
                      <a:pt x="75" y="594"/>
                    </a:lnTo>
                    <a:lnTo>
                      <a:pt x="107" y="559"/>
                    </a:lnTo>
                    <a:lnTo>
                      <a:pt x="145" y="523"/>
                    </a:lnTo>
                    <a:lnTo>
                      <a:pt x="190" y="488"/>
                    </a:lnTo>
                    <a:lnTo>
                      <a:pt x="232" y="458"/>
                    </a:lnTo>
                    <a:lnTo>
                      <a:pt x="267" y="431"/>
                    </a:lnTo>
                    <a:lnTo>
                      <a:pt x="300" y="405"/>
                    </a:lnTo>
                    <a:lnTo>
                      <a:pt x="332" y="378"/>
                    </a:lnTo>
                    <a:lnTo>
                      <a:pt x="360" y="352"/>
                    </a:lnTo>
                    <a:lnTo>
                      <a:pt x="385" y="327"/>
                    </a:lnTo>
                    <a:lnTo>
                      <a:pt x="410" y="302"/>
                    </a:lnTo>
                    <a:lnTo>
                      <a:pt x="430" y="277"/>
                    </a:lnTo>
                    <a:lnTo>
                      <a:pt x="450" y="254"/>
                    </a:lnTo>
                    <a:lnTo>
                      <a:pt x="467" y="229"/>
                    </a:lnTo>
                    <a:lnTo>
                      <a:pt x="485" y="202"/>
                    </a:lnTo>
                    <a:lnTo>
                      <a:pt x="502" y="174"/>
                    </a:lnTo>
                    <a:lnTo>
                      <a:pt x="517" y="143"/>
                    </a:lnTo>
                    <a:lnTo>
                      <a:pt x="532" y="111"/>
                    </a:lnTo>
                    <a:lnTo>
                      <a:pt x="547" y="76"/>
                    </a:lnTo>
                    <a:lnTo>
                      <a:pt x="562" y="38"/>
                    </a:lnTo>
                    <a:lnTo>
                      <a:pt x="577" y="0"/>
                    </a:ln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54"/>
              <p:cNvSpPr/>
              <p:nvPr/>
            </p:nvSpPr>
            <p:spPr>
              <a:xfrm>
                <a:off x="4932000" y="3211560"/>
                <a:ext cx="2260440" cy="52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248 Load Profi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57"/>
            <p:cNvGrpSpPr/>
            <p:nvPr/>
          </p:nvGrpSpPr>
          <p:grpSpPr>
            <a:xfrm>
              <a:off x="6957720" y="1600200"/>
              <a:ext cx="1424160" cy="666360"/>
              <a:chOff x="6957720" y="1600200"/>
              <a:chExt cx="1424160" cy="666360"/>
            </a:xfrm>
          </p:grpSpPr>
          <p:sp>
            <p:nvSpPr>
              <p:cNvPr id="123" name="Oval 58"/>
              <p:cNvSpPr/>
              <p:nvPr/>
            </p:nvSpPr>
            <p:spPr>
              <a:xfrm>
                <a:off x="6957720" y="1600200"/>
                <a:ext cx="1424160" cy="59724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TextBox 16"/>
              <p:cNvSpPr/>
              <p:nvPr/>
            </p:nvSpPr>
            <p:spPr>
              <a:xfrm>
                <a:off x="7056360" y="1685880"/>
                <a:ext cx="1246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8 Weather Zon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60"/>
            <p:cNvGrpSpPr/>
            <p:nvPr/>
          </p:nvGrpSpPr>
          <p:grpSpPr>
            <a:xfrm>
              <a:off x="3581280" y="1600200"/>
              <a:ext cx="1424160" cy="666360"/>
              <a:chOff x="3581280" y="1600200"/>
              <a:chExt cx="1424160" cy="666360"/>
            </a:xfrm>
          </p:grpSpPr>
          <p:sp>
            <p:nvSpPr>
              <p:cNvPr id="126" name="Oval 61"/>
              <p:cNvSpPr/>
              <p:nvPr/>
            </p:nvSpPr>
            <p:spPr>
              <a:xfrm>
                <a:off x="3581280" y="1600200"/>
                <a:ext cx="1424160" cy="597240"/>
              </a:xfrm>
              <a:prstGeom prst="ellipse">
                <a:avLst/>
              </a:prstGeom>
              <a:solidFill>
                <a:srgbClr val="00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TextBox 14"/>
              <p:cNvSpPr/>
              <p:nvPr/>
            </p:nvSpPr>
            <p:spPr>
              <a:xfrm>
                <a:off x="3679560" y="1685880"/>
                <a:ext cx="1246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31 Profile Typ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Box 61"/>
          <p:cNvSpPr/>
          <p:nvPr/>
        </p:nvSpPr>
        <p:spPr>
          <a:xfrm>
            <a:off x="533520" y="57913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rcot.com/committees/board/tac/cops/pwg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9:23:15Z</dcterms:created>
  <dc:creator>kcotner</dc:creator>
  <dc:description/>
  <dc:language>en-US</dc:language>
  <cp:lastModifiedBy>Oncor Employee</cp:lastModifiedBy>
  <cp:lastPrinted>2002-05-17T20:57:43Z</cp:lastPrinted>
  <dcterms:modified xsi:type="dcterms:W3CDTF">2014-10-28T19:04:40Z</dcterms:modified>
  <cp:revision>477</cp:revision>
  <dc:subject/>
  <dc:title>Retail Transactions Report</dc:title>
</cp:coreProperties>
</file>