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dt" idx="1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ftr" idx="1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 type="sldNum" idx="1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D71F94-62C4-488E-9D78-4B4F9982D3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898AAA-457A-42FA-BB61-B027D98E8C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6785-1255-4B64-AB6A-9BD4EF31C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323A-DCF6-420F-AA2C-6499F8AAF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E8A6-C4A4-45FB-99ED-CB5A2C2F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73F2-8BB5-4B16-B895-31C2EAFA1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6C6D-BF83-40EB-93B8-3295C4C88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1785-79F9-4F1D-B605-AB15F7765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B53E-74B5-403B-AAEA-0797730E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9C19-8E2F-4264-91E5-11CD1B4F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BAF5-74F9-4FEF-A087-70EB9BA9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31AE-774E-4822-8116-B34B79634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847F-18CC-4D8A-B679-E82C113DF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1F42-8638-46A8-9567-8C2C448BE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33480" y="-138240"/>
            <a:ext cx="9210960" cy="7134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"/>
          <p:cNvPicPr/>
          <p:nvPr/>
        </p:nvPicPr>
        <p:blipFill>
          <a:blip r:embed="rId2"/>
          <a:stretch/>
        </p:blipFill>
        <p:spPr>
          <a:xfrm>
            <a:off x="-33480" y="-138240"/>
            <a:ext cx="9210960" cy="71344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376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6AC09F-21A5-4388-BB10-835E079DC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ftr" idx="1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2" descr=""/>
          <p:cNvPicPr/>
          <p:nvPr/>
        </p:nvPicPr>
        <p:blipFill>
          <a:blip r:embed="rId2"/>
          <a:stretch/>
        </p:blipFill>
        <p:spPr>
          <a:xfrm>
            <a:off x="-33480" y="-138240"/>
            <a:ext cx="9210960" cy="713448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ftr" idx="11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2" descr=""/>
          <p:cNvPicPr/>
          <p:nvPr/>
        </p:nvPicPr>
        <p:blipFill>
          <a:blip r:embed="rId2"/>
          <a:stretch/>
        </p:blipFill>
        <p:spPr>
          <a:xfrm>
            <a:off x="-33480" y="-138240"/>
            <a:ext cx="9210960" cy="7134480"/>
          </a:xfrm>
          <a:prstGeom prst="rect">
            <a:avLst/>
          </a:prstGeom>
          <a:ln w="0">
            <a:noFill/>
          </a:ln>
        </p:spPr>
      </p:pic>
      <p:sp>
        <p:nvSpPr>
          <p:cNvPr id="455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2E63BC-DF86-4F58-AB55-A4DA3C4B5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ftr" idx="12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2" descr=""/>
          <p:cNvPicPr/>
          <p:nvPr/>
        </p:nvPicPr>
        <p:blipFill>
          <a:blip r:embed="rId2"/>
          <a:stretch/>
        </p:blipFill>
        <p:spPr>
          <a:xfrm>
            <a:off x="-33480" y="-138240"/>
            <a:ext cx="9210960" cy="7134480"/>
          </a:xfrm>
          <a:prstGeom prst="rect">
            <a:avLst/>
          </a:prstGeom>
          <a:ln w="0">
            <a:noFill/>
          </a:ln>
        </p:spPr>
      </p:pic>
      <p:sp>
        <p:nvSpPr>
          <p:cNvPr id="494" name="Straight Connector 6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6F8DF8-AB26-41EE-AB1F-ADEF692D5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ftr" idx="13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C:\Documents and Settings\naomiu\Desktop\Divider_slide_background.png"/>
          <p:cNvPicPr/>
          <p:nvPr/>
        </p:nvPicPr>
        <p:blipFill>
          <a:blip r:embed="rId2"/>
          <a:stretch/>
        </p:blipFill>
        <p:spPr>
          <a:xfrm>
            <a:off x="6480" y="6480"/>
            <a:ext cx="9129600" cy="684360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3" descr="C:\Documents and Settings\naomiu\Desktop\Divider_slide_background.png"/>
          <p:cNvPicPr/>
          <p:nvPr/>
        </p:nvPicPr>
        <p:blipFill>
          <a:blip r:embed="rId3"/>
          <a:stretch/>
        </p:blipFill>
        <p:spPr>
          <a:xfrm>
            <a:off x="6480" y="6480"/>
            <a:ext cx="9129600" cy="684360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2" descr="C:\Documents and Settings\naomiu\Desktop\Divider_slide_background.png"/>
          <p:cNvPicPr/>
          <p:nvPr/>
        </p:nvPicPr>
        <p:blipFill>
          <a:blip r:embed="rId4"/>
          <a:stretch/>
        </p:blipFill>
        <p:spPr>
          <a:xfrm>
            <a:off x="6480" y="6480"/>
            <a:ext cx="9129600" cy="6843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2" descr="C:\Documents and Settings\naomiu\Desktop\Divider_slide_background.png"/>
          <p:cNvPicPr/>
          <p:nvPr/>
        </p:nvPicPr>
        <p:blipFill>
          <a:blip r:embed="rId2"/>
          <a:stretch/>
        </p:blipFill>
        <p:spPr>
          <a:xfrm>
            <a:off x="6480" y="6480"/>
            <a:ext cx="9129600" cy="684360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3" descr="C:\Documents and Settings\naomiu\Desktop\Divider_slide_background.png"/>
          <p:cNvPicPr/>
          <p:nvPr/>
        </p:nvPicPr>
        <p:blipFill>
          <a:blip r:embed="rId3"/>
          <a:stretch/>
        </p:blipFill>
        <p:spPr>
          <a:xfrm>
            <a:off x="6480" y="6480"/>
            <a:ext cx="9129600" cy="684360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17" descr="Cover_final_Blank"/>
          <p:cNvPicPr/>
          <p:nvPr/>
        </p:nvPicPr>
        <p:blipFill>
          <a:blip r:embed="rId4"/>
          <a:stretch/>
        </p:blipFill>
        <p:spPr>
          <a:xfrm>
            <a:off x="4680" y="-4680"/>
            <a:ext cx="9134640" cy="686736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3" descr="F:\ercotlogo\ERCOT Logo\ERCOT logo_white.png"/>
          <p:cNvPicPr/>
          <p:nvPr/>
        </p:nvPicPr>
        <p:blipFill>
          <a:blip r:embed="rId5"/>
          <a:stretch/>
        </p:blipFill>
        <p:spPr>
          <a:xfrm>
            <a:off x="3855960" y="6086520"/>
            <a:ext cx="1330560" cy="504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"/>
          <p:cNvPicPr/>
          <p:nvPr/>
        </p:nvPicPr>
        <p:blipFill>
          <a:blip r:embed="rId2"/>
          <a:stretch/>
        </p:blipFill>
        <p:spPr>
          <a:xfrm>
            <a:off x="-33480" y="-138240"/>
            <a:ext cx="9210960" cy="713448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dt" idx="1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2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3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23129A-243D-469E-A690-4B39BB5086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:\Documents and Settings\naomiu\Desktop\Divider_slide_background.png"/>
          <p:cNvPicPr/>
          <p:nvPr/>
        </p:nvPicPr>
        <p:blipFill>
          <a:blip r:embed="rId2"/>
          <a:stretch/>
        </p:blipFill>
        <p:spPr>
          <a:xfrm>
            <a:off x="6480" y="6480"/>
            <a:ext cx="9129600" cy="6843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C:\Documents and Settings\naomiu\Desktop\Divider_slide_background.png"/>
          <p:cNvPicPr/>
          <p:nvPr/>
        </p:nvPicPr>
        <p:blipFill>
          <a:blip r:embed="rId3"/>
          <a:stretch/>
        </p:blipFill>
        <p:spPr>
          <a:xfrm>
            <a:off x="6480" y="6480"/>
            <a:ext cx="9129600" cy="6843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2"/>
          <a:stretch/>
        </p:blipFill>
        <p:spPr>
          <a:xfrm>
            <a:off x="-33480" y="-138240"/>
            <a:ext cx="9210960" cy="7134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120" name="Straight Connector 5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C1136C-E615-44E7-B695-FD58BC844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4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"/>
          <p:cNvPicPr/>
          <p:nvPr/>
        </p:nvPicPr>
        <p:blipFill>
          <a:blip r:embed="rId2"/>
          <a:stretch/>
        </p:blipFill>
        <p:spPr>
          <a:xfrm>
            <a:off x="-33480" y="-138240"/>
            <a:ext cx="9210960" cy="71344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163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649619-09E5-4403-A649-DA247ED09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ftr" idx="5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Alert User Group 0428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"/>
          <p:cNvPicPr/>
          <p:nvPr/>
        </p:nvPicPr>
        <p:blipFill>
          <a:blip r:embed="rId2"/>
          <a:stretch/>
        </p:blipFill>
        <p:spPr>
          <a:xfrm>
            <a:off x="-33480" y="-138240"/>
            <a:ext cx="9210960" cy="71344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205" name="Straight Connector 5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30FC25-DA65-4EDC-9EE6-918DEC354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ftr" idx="6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"/>
          <p:cNvPicPr/>
          <p:nvPr/>
        </p:nvPicPr>
        <p:blipFill>
          <a:blip r:embed="rId2"/>
          <a:stretch/>
        </p:blipFill>
        <p:spPr>
          <a:xfrm>
            <a:off x="-33480" y="-138240"/>
            <a:ext cx="9210960" cy="71344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248" name="Straight Connector 5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818A1D-8B87-4A04-96CE-34F37EF02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ftr" idx="7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-33480" y="-138240"/>
            <a:ext cx="9210960" cy="71344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291" name="Straight Connector 5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C8AB29-87C1-4F6F-9237-8EE9EFAC9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ftr" idx="8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"/>
          <p:cNvPicPr/>
          <p:nvPr/>
        </p:nvPicPr>
        <p:blipFill>
          <a:blip r:embed="rId2"/>
          <a:stretch/>
        </p:blipFill>
        <p:spPr>
          <a:xfrm>
            <a:off x="-33480" y="-138240"/>
            <a:ext cx="9210960" cy="71344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334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B61E7F-BD97-4F64-BB3B-792092033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ftr" idx="9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9" name="Group 13"/>
          <p:cNvGrpSpPr/>
          <p:nvPr/>
        </p:nvGrpSpPr>
        <p:grpSpPr>
          <a:xfrm>
            <a:off x="603360" y="1498680"/>
            <a:ext cx="8204040" cy="4146120"/>
            <a:chOff x="603360" y="1498680"/>
            <a:chExt cx="8204040" cy="4146120"/>
          </a:xfrm>
        </p:grpSpPr>
        <p:pic>
          <p:nvPicPr>
            <p:cNvPr id="620" name="Picture 8" descr="ERCOT cmyk-01.png"/>
            <p:cNvPicPr/>
            <p:nvPr/>
          </p:nvPicPr>
          <p:blipFill>
            <a:blip r:embed="rId1"/>
            <a:stretch/>
          </p:blipFill>
          <p:spPr>
            <a:xfrm>
              <a:off x="603360" y="1498680"/>
              <a:ext cx="2608920" cy="10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TextBox 9"/>
            <p:cNvSpPr/>
            <p:nvPr/>
          </p:nvSpPr>
          <p:spPr>
            <a:xfrm>
              <a:off x="798480" y="2928960"/>
              <a:ext cx="8008920" cy="27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RCOT Compliance update to 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Underfrequency-Load Shed survey upd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ERC TPL-001-00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October 30, 201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Straight Connector 12"/>
            <p:cNvSpPr/>
            <p:nvPr/>
          </p:nvSpPr>
          <p:spPr>
            <a:xfrm flipV="1">
              <a:off x="798480" y="2804760"/>
              <a:ext cx="6673680" cy="12600"/>
            </a:xfrm>
            <a:prstGeom prst="line">
              <a:avLst/>
            </a:prstGeom>
            <a:ln w="2556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393840" y="789120"/>
            <a:ext cx="85104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coordinated and conducted an annual survey on May 13, 2014 with the TSPs and DSPs to ensure that the required automatic under-frequency load shed circuits were configured to provide the appropriate load relief in an under-frequency event as required by table below from Operating Guides 2.6.1(1) Requirements for Under-Frequency Load Shedd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he results of the requirement were successful and are reflected below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 u="sng">
                <a:solidFill>
                  <a:srgbClr val="000000"/>
                </a:solidFill>
                <a:uFillTx/>
                <a:latin typeface="Arial"/>
              </a:rPr>
              <a:t>Detailed timeli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04/23/2014 -  ERCOT announcement of survey timeline and effort to OWG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04/10/2014 -  ERCOT email notification sent by Client Services to TSP/DSP Authorized Representativ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05/13/2014 -  Survey test da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06/13/2014 -  Survey results due back to ERCO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ptember/October-  Results compiled and being reported to OWG/ROS/TA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79080" y="179280"/>
            <a:ext cx="845964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letion of UFLS Survey Requi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1"/>
          <p:cNvSpPr/>
          <p:nvPr/>
        </p:nvSpPr>
        <p:spPr>
          <a:xfrm>
            <a:off x="1971720" y="3094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Picture 2" descr=""/>
          <p:cNvPicPr/>
          <p:nvPr/>
        </p:nvPicPr>
        <p:blipFill>
          <a:blip r:embed="rId1"/>
          <a:stretch/>
        </p:blipFill>
        <p:spPr>
          <a:xfrm>
            <a:off x="1378080" y="2330280"/>
            <a:ext cx="5975280" cy="21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 txBox="1"/>
          <p:nvPr/>
        </p:nvSpPr>
        <p:spPr>
          <a:xfrm>
            <a:off x="301320" y="840960"/>
            <a:ext cx="855324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discussed at Sept. 4  ROS meet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n 1, 2015 NERC TPL changes impact Transmission Planners and Planning Coordinator (ERCO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ments modify methodology for Planning Models, Steady-State Planning Analysis, Dynamic Planning Analysis, as well as introducing Short-Circuit Analysis, extended Outage impacts, and Spare equipment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 the Planning Coordinator, ERCOT requested support of ROS to work with the individual working groups on the necessary coordination of guide revisions to achieve readiness in the November 2014 timefra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us as of October 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Ps and ERCOT have agreed on details of responsibilities for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Ps and ERCOT drafting agreement to document responsibilities (satisfy Rqt 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keholders adapting procedures to NERC requirements at SSWG/DWG/SPW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SWG leadership has completed procedure changes for approval toda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WG leadership has completed procedures changes for approval tod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PWG procedure changes being drafted in Novemb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79080" y="179280"/>
            <a:ext cx="845964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RC TPL-001-004 implementation Jan 1,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23:12:02Z</dcterms:created>
  <dc:creator>Diana</dc:creator>
  <dc:description/>
  <dc:language>en-US</dc:language>
  <cp:lastModifiedBy>MMereness</cp:lastModifiedBy>
  <cp:lastPrinted>2013-01-30T23:16:36Z</cp:lastPrinted>
  <dcterms:modified xsi:type="dcterms:W3CDTF">2014-10-28T19:52:33Z</dcterms:modified>
  <cp:revision>223</cp:revision>
  <dc:subject/>
  <dc:title>FileNew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EB6C32BA7893B4D8D08DA703C6B8599</vt:lpwstr>
  </property>
  <property fmtid="{D5CDD505-2E9C-101B-9397-08002B2CF9AE}" pid="3" name="Information Classification">
    <vt:lpwstr>ERCOT Limited</vt:lpwstr>
  </property>
</Properties>
</file>