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3077-C9AD-4212-8524-3B74D056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3481-1BA9-4124-940D-62F1AD48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EF9-C123-47A0-8BBD-FB896B0B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8918-367C-4279-9F55-E9D0D1B0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B352-B95F-409A-A9F5-60F797D7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47C-3E86-4A5D-9C7D-8122ACAE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C6F-62B5-4A42-96BB-C5FF9B5B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4F1F-8F62-411A-8410-9686768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FD0-CB62-4C7B-A9BC-48EA3B5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6CE-2DD1-472D-9548-F7F26F4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F60F-3900-493E-BCBD-B1110BA1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9725-0FEA-47A6-9DD7-B420109A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4EB-0493-44CA-A35B-21999DFFF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DWG Update to R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0-30-20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date on RRGR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GRR003 approved at 10/14 ERCOT BOD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RGRR005 comment period has passed, and it will be reviewed at the next RDW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RRGRR does not affect the data requested, but identifies which data is required at different stages of the interconnection proc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ource Registration Glossary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0% 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tions remaining for review during next mee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orme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nsformer Tap Setting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bs associated only with the Wind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xt meeting scheduled for November 18, 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0T14:43:38Z</dcterms:created>
  <dc:creator>NRGAdmin</dc:creator>
  <dc:description/>
  <dc:language>en-US</dc:language>
  <cp:lastModifiedBy>NRGAdmin</cp:lastModifiedBy>
  <dcterms:modified xsi:type="dcterms:W3CDTF">2014-10-27T19:31:23Z</dcterms:modified>
  <cp:revision>12</cp:revision>
  <dc:subject/>
  <dc:title>RDWG Update to ROS</dc:title>
</cp:coreProperties>
</file>