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51FF3-627A-4AE0-9C22-C1406A2F5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85645-A878-477B-9FB5-0D156CA06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704-B264-490A-9B7C-87A98452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694-8FF9-4020-BE5C-86C13B59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3C018-05A3-42E3-B562-3F3A6A98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C6F2D-F1C9-4245-92C2-8118449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A2CB9-0AA8-412F-B27B-89864035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F1FB4-AAC2-41D4-A858-549C417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E298E-8FEE-4009-8E3D-46FAF53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08F6F-BF3F-4039-B1DE-7211BE2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B8DF7-9C24-4F0E-8437-E59545F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D9C79-E2F2-4985-8FB6-8E8ECD81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28E11-266B-4E0F-BBFB-E57B0AA2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3E617-B106-4207-9E80-AD3E2DDA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1C0-003F-4C70-A82A-A0E2EEA7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CB285-1458-44A6-829B-BC9CBAFE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177D4-9B40-42D8-9EAF-CEA14BF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0E388-4274-4382-8E5F-A3C36092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ECFD8-F80C-481C-A11A-EEA87637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43B3E-59C8-4FA0-A6FD-20A6092F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04634-4DA9-4853-8A7B-7D893F7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E4BAD-C83A-4DB0-9DC1-027AD07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D931A-4A0A-4C5A-A901-27B996F5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CCF78-B25B-4325-A545-C27EBBB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6E5FE-E255-4768-980B-C4703BC4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BA1-3A9E-47D3-83FC-4C40681E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580E0-E9DE-4C23-BEAB-4F28051E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D7FAA-90DC-4244-A2DE-E4B14D32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43F84-BF00-4440-B996-D2C3B63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3F44BC-6CF1-45BD-A3F6-C16D0710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E6F1AE-3E13-4DA5-BD02-7185C6D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06E9C-304B-4191-BC47-6FC9922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01E72-E00C-4E79-8B6E-688B2EC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7BBEA-4A1E-402E-90D4-8838C26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B40836-2572-420B-BDAE-24601DD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37CC1-0DED-4D67-93D1-9EDDA02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C10E-CD47-4B81-9D79-9448C5A0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B2A08-FFAA-4710-992F-82AD515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D7D07-DB44-403A-9C7B-17E2C39E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F96CA-A27D-4264-87D3-9C53135B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E1B-3109-4328-B779-373AA40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EAE2-A4A1-4F8B-A7D0-CE2E86A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44B-4B94-4E04-B1B0-A7C23F7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5BC7-38B4-4E73-BCAC-D21F4645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58D-B1D6-4C0B-89A7-CF8042E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760D-D4DF-41AF-9B28-FA889F8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61E-68E9-4037-A4CC-5E4B555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F80-BAEC-4106-8373-9F1B528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7830-3C61-4DA5-87D2-9368AF3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C382-6EC9-4FF4-AFBB-E0FFB61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288-6E3F-4400-BE46-64BA695E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C14-ECE0-4BC9-9EE7-ECC750A5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DEE-8272-4844-BE48-50C8DF6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F1E-5420-4EB1-9495-197F643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195AD-A402-402C-9732-365E3B20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88E-953E-4B82-A3F2-FB872FD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1437E-CA89-48FF-8DB3-AA86CB2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28F59-C026-4CB4-A377-48623EF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3CD3F-A4B6-4EE1-882F-4348512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9AC66-8FC2-4492-8EEC-D1DD066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4D8D0-2C95-41C2-8A73-47BF3F8D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0817D-0FBF-4FF5-BC1E-3F3D2D05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19803-4C32-4AF8-BB8B-13FC699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D54E5-6ACA-4B2E-AAE9-5D5234C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9D4E7-0929-4A4C-8933-9A57855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6BFBC-C404-487D-998A-8332557A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ACF-2E6F-4D08-BFE9-01B6826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0CCEC-270C-4D9C-A6E1-6C67BA68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1AAB83-C3F1-4EEC-90CC-53AB9911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BEB08-1A98-4936-B06A-E9198CF8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3A3E9-532E-45A6-A938-E72DBB28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CA76E-E43C-49F8-A476-550AC75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CF9A4-C192-47CA-94B1-4373B0AA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1DAB9-E8C4-42A1-8902-A897998A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753FD-8B81-48EC-AADC-0378A15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72BAD-78EA-48F3-BF51-A34C99D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2C41A-DAE4-4EFF-BD82-EBE4A9B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733-E075-470C-BD43-6383A12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463AD8-589E-4258-9DC7-19B5E96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AE45E-9419-4865-B8FE-B643AB2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A72E9-40BD-4E16-A02C-4E71FB2E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19F23-9B70-4D97-AB86-E05A3B54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B14AD-5E6B-48E7-A497-366E949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9842E-54B6-43E9-B871-3B913E2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4B795-EB76-4ED8-AA88-52568D7D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2CC70-EFA1-4EC5-A175-6A42768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FCDCF-221F-4061-881E-B63C6485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AA1AEC-0875-40D6-AA8F-F5329E5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EA9-193C-4537-8771-49CF5EC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70AC0-AEA1-4AC1-B583-1E41D4E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A5ACC-149C-4F60-866E-3EAC522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F3DF6-1135-447D-B096-EE22195D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FAF1B2-D497-48C1-8155-8279BB92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56C74-AD2B-4D4C-A1E0-A3157845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7943E-7322-43F1-B2DC-225008CA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F6A10C-116E-4729-B0B4-87EFF0C4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CCDED-8E6D-46EF-A516-322600C9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E778A-B447-41BC-BAD6-26ED6F8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B0AD1B-A908-4484-ADFE-48DD502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069-6DFE-4510-9645-AFEABF81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EC5BA-6455-4054-9CB1-2072EA0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D59CD-95F4-499C-8442-618D52E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843861-A4A8-43C3-A4B5-54E858D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087FA-3F19-4487-B187-91F0981F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3DBC2-1C1F-4717-BFCB-CEC87F0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5ABDF-450F-4585-A33C-EEC0C81A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F1C6AA-BED0-4612-8163-041326AE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0A8B3-3CB0-4263-A408-464D407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C0B89-C661-4459-BBA0-C8707C1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29DCB-5F73-46DC-BB91-0CAB7C0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9287B-6D72-44EC-91CF-D00936ACB79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E99CF-1C18-4ED0-8897-97D23B91A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DE45A-3E6B-4551-8E15-FC6643CA07F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96B20-E4C9-4923-AB82-3F3269905F9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FDB0-1B24-4D6D-9842-C32748F64CE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5C91B-F622-4126-A67B-B7E69CCC4A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C6793-23CE-442C-9971-2B1A1C5110D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0CEFA-A9D2-41CC-AFA9-BACB710CA05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82519-78C2-4B0D-AAA4-99672C8CB18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8D25A-028C-4F4E-B4E1-24EA81F8B8C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7AB72-DA5D-4022-9D04-B5003D5588B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042EA-7A4B-45A7-AF16-2D6545B1F5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52F93-118B-4C26-8DF0-4D494FB9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6E50D-0FF8-4612-8470-B47B1ADD967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22390-7AAF-4121-BAAB-97A22E4452D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22A88-55A6-4283-A036-497229E930A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AD59F-73AC-4689-A346-E6B2C06457E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F00E2-8F18-4FC2-A111-398FC5D7087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5D3DE-CB71-4F51-970C-B4908EFB9B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F5D1-929B-4552-9D90-739963EDCC3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6CBAD-BE38-4F9B-A209-9AD7E25DE2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CA828-B7B5-4CEC-AC47-0824890828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799AC-24AA-4A4E-B557-7149B72E0AE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6, 2014 (Joint ROS/WMS Meetin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30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 4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/ WMS Joint Mee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015 Ancillary Service Methodolog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of ERCOT Option 2 (with modifications by ROS/WM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42: Constraint Management During Energy Emergency Ale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Luminant’s comments and as modified by ROS/W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5: Constraint Management During Energy Emergency Ale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bled to allow modification of language (make consistent with NPRR642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ll take up at Oct 30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perator Training Working Group (OTWG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oved WG scop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br>
              <a:rPr sz="3200"/>
            </a:b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from TAC Leadership Meeting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OS goals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e referenced information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aintain/Improve Operational Checklist for Resource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Interconnection Handbook distributed for comments on Oct. 1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paper distributed to ROS and WMS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mments scheduled for review at Oct 22 PLWG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re transparency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(and MP’s) working to develop a Load Scaling Methodology Stand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arly RUCing of units during severe winter weather due to unit start-up failures, trips, and de-rates; review need for ERCOT Operating procedures for RUCing uni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sharing information with O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view at Oct. 30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10-20T12:34:52Z</dcterms:modified>
  <cp:revision>76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