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B53B6-A07D-4431-9166-6D762683CC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F66F9-FE3B-4085-A9ED-A435C71FA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70C0F-4A99-4E4A-8D99-42080AB19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E04D3-AE26-467C-A9E3-33AF11F9C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AB6-48E5-47DC-A1B3-0BD5DC6F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CC3-27FD-4004-A9EC-241FED81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7F9-8949-4B4C-8A1F-F8C30095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C87-40A7-4171-8EDB-85397DEF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C68-5A13-4EB4-99DA-C796EA85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DB1-E5ED-44DC-8B0D-B76BEBBE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E1B-9A82-430C-ADA5-B2A735EF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4E4-2E5E-4C75-BCF2-6088663B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2E1-3C21-4205-B69B-E534B8AF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DA9-94AE-4C50-ACE5-2BAA7346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2D9-F325-4EEF-9018-31CA1239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FBF-FA9B-4357-AB5E-1151A760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C68E4-C025-42E6-9708-462726EF4E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olesale Market Subcommitte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95200"/>
            <a:ext cx="305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pared for the October 23rd TAC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R Auction Calen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endorsed the draft calendar which covers CRR activity through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al column headings now include “On or Before This Date” to clarify the flexibility for ERCOT to complete activities e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S endorsed to not delay LTAS Seq. 3 and 4 until after the end-of-year holidays for the end of 2016/beginning of 2017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 has final consideration for the calend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11240" y="-3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 Assignment List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7120" y="824040"/>
          <a:ext cx="8085240" cy="5518080"/>
        </p:xfrm>
        <a:graphic>
          <a:graphicData uri="http://schemas.openxmlformats.org/drawingml/2006/table">
            <a:tbl>
              <a:tblPr/>
              <a:tblGrid>
                <a:gridCol w="901800"/>
                <a:gridCol w="3627360"/>
                <a:gridCol w="3556080"/>
              </a:tblGrid>
              <a:tr h="528480">
                <a:tc gridSpan="3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ssignments From The T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8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PRR181, FIP Definition Revision, tabl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will started discussions at their 10/21 mee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enance/Improvement of operational checklist for Resource inter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’s proposed updates have been published and review was started at the 10/21 QMWG meeting. ERCOT plans to publish the revised document in early November after presentations at the WMS on 10/2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4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concerns with bringing RUC units earlier than required because of start-up fail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 a review of the RUC process in the newly created RUC Task Force.  Optimize market based tools and minimize RUC.  Ongoing in RUC TF.  Next meeting needs to be scheduled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82, Refinements to Testing ERS – address testing requirements for all Re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5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tage Reduction – assess cost issues and applicability to loads as well as market imp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be assigned at the next WMS meeting on Oct. 29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 RATF and GATF and bring back revised ch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ter to be worked on at the next GATF meetin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of SASMs since June 1 implementation of NPRR 589 Ancillary Service Offers in the S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onclusions have been made, as there have been very few SASMs to review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/13 SASM (~30 minute notice wind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mall amount of AS Offers were submitted during the SASM wind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case, that additional amount was not needed (and was not awarde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CPC $45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/16 SASM (~30 minute notice wind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 AS Offers were submitted or changed during the 30-minute SASM window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gain no insuffici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CPCs $7,000 HE 16-17; $1249 HE 9-14, 18-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0:43:11Z</dcterms:created>
  <dc:creator>Systems Administrator</dc:creator>
  <dc:description/>
  <dc:language>en-US</dc:language>
  <cp:lastModifiedBy>Systems Administrator</cp:lastModifiedBy>
  <cp:lastPrinted>2014-03-25T15:14:24Z</cp:lastPrinted>
  <dcterms:modified xsi:type="dcterms:W3CDTF">2014-10-20T14:20:51Z</dcterms:modified>
  <cp:revision>238</cp:revision>
  <dc:subject/>
  <dc:title>The Wholesale Market Subcommittee</dc:title>
</cp:coreProperties>
</file>