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3E238-6D04-489A-950A-AD1DEDBB3D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45CDA-DB4B-4714-AAA6-6C87D96C6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10E41-0B44-4CC6-8001-BF8641968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EB1E8-8A22-4DD5-A30D-3FF37EB81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335-5712-4784-BC1F-C1CBC956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341-0A29-4FAA-A9FA-5585EACF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07E-4760-4618-9CE4-D96C01FF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C1A-4471-4B52-879E-FE5D1170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E36-0BC4-4681-9E6E-E1ECD3E5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3F1-AE14-4A65-A77E-A13D56B4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862-1036-4435-A3D0-0A34206E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6E6-A388-4AA3-A527-1CF5EEB0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1EA-445F-4FD6-9434-77F39F7D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FF5-09B9-4F61-95D0-1A28DC00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76E-628C-4F07-998E-397C2B1C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87B-F3FD-4C31-975C-1576513A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2DF41-F9E8-4EE9-97E0-55868EFBE8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holesale Market Subcommittee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95200"/>
            <a:ext cx="305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pared for the October 23rd TAC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R Auction Calen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endorsed the draft calendar which covers CRR activity through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al column headings now include “On or Before This Date” to clarify the flexibility for ERCOT to complete activities ea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S endorsed to not delay LTAS Seq. 3 and 4 until after the end-of-year holidays for the end of 2016/beginning of 2017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 has final consideration for the calend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11240" y="-3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C Assignment List 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27120" y="824040"/>
          <a:ext cx="8085240" cy="5518080"/>
        </p:xfrm>
        <a:graphic>
          <a:graphicData uri="http://schemas.openxmlformats.org/drawingml/2006/table">
            <a:tbl>
              <a:tblPr/>
              <a:tblGrid>
                <a:gridCol w="901800"/>
                <a:gridCol w="3627360"/>
                <a:gridCol w="3556080"/>
              </a:tblGrid>
              <a:tr h="528480">
                <a:tc gridSpan="3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Assignments From The T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8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PRR181, FIP Definition Revision, tabl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will started discussions at their 10/21 mee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enance/Improvement of operational checklist for Resource interconn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’s proposed updates have been published and review was started at the 10/21 QMWG meeting. ERCOT plans to publish the revised document in early November after presentations at the WMS on 10/2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4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concerns with bringing RUC units earlier than required because of start-up fail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t a review of the RUC process in the newly created RUC Task Force.  Optimize market based tools and minimize RUC.  Ongoing in RUC TF.  Next meeting needs to be scheduled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82, Refinements to Testing ERS – address testing requirements for all Resour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review 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5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ltage Reduction – assess cost issues and applicability to loads as well as market imp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be assigned at the next WMS meeting on Oct. 29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ine RATF and GATF and bring back revised ch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ter to be worked on at the next GATF meetin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of SASMs since June 1 implementation of NPRR 589 Ancillary Service Offers in the S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onclusions have been made, as there have been very few SASMs to review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/13 SASM (~30 minute notice wind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mall amount of AS Offers were submitted during the SASM wind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case, that additional amount was not needed (and was not awarde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CPC $45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/16 SASM (~30 minute notice wind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 AS Offers were submitted or changed during the 30-minute SASM window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gain no insuffici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CPCs $7,000 HE 16-17; $1249 HE 9-14, 18-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0:43:11Z</dcterms:created>
  <dc:creator>Systems Administrator</dc:creator>
  <dc:description/>
  <dc:language>en-US</dc:language>
  <cp:lastModifiedBy>Systems Administrator</cp:lastModifiedBy>
  <cp:lastPrinted>2014-03-25T15:14:24Z</cp:lastPrinted>
  <dcterms:modified xsi:type="dcterms:W3CDTF">2014-10-20T14:20:51Z</dcterms:modified>
  <cp:revision>238</cp:revision>
  <dc:subject/>
  <dc:title>The Wholesale Market Subcommittee</dc:title>
</cp:coreProperties>
</file>