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 type="sldNum" idx="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94D0C-0D4B-4950-9B61-FDAE786DC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3A471-0844-4EB1-BA24-815630423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9A1-281C-4931-9877-29CBE03A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964-AF98-49A8-B1C5-0DA5D263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AD6395-342B-487A-9D48-C1C67C96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AFA926-DE80-418A-ACC5-BF6719DA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B772CB-2616-44A1-8F65-1DFD1581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09DC6A-5970-45BA-A643-975ABB34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CB323E-AEA7-4F22-B194-10AA4C66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B2C23D-24E0-428F-A1B9-C2B7F246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FB6923-96E0-4397-8877-0566B75A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032C89-960C-4C68-9E61-A8997A6B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8503A1-41AD-4B2C-B734-90CFDE05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EB47C-925F-4966-8253-C171C0BF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FA6-6D5B-47DC-80A6-B0227F13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B7C20-0667-4E9A-891B-FE34EBCE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E5FB8-9CD5-43D2-AAF7-B428D82B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EBDF2-25AA-4885-BA8E-CAFDF956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D2B1F-7DBB-4CA2-9F7E-0614F543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85F72-A8E3-4B86-B4F8-6D7FAA39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D621B-F9A7-4436-A76D-48C12ACE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102A3-66B8-4165-8099-70AA53DC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A3EB5-BEA0-4B9D-83FF-3A0779A7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C24B5-A456-45BC-8017-88165F32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F8DDA-D8F4-4D17-95BD-789AE1C2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F2D-54C8-4C07-A348-DB76F73A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10556-3322-43DF-BC64-9FE40DE7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C9A710-70CC-42B8-ABB2-8D6A698E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456FA6-9875-4215-8D79-2C8ADF36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41B243-15F6-4D51-913A-D48ADFBA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A78217-67F9-4497-A830-46BF6C37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FCB060-0701-463B-819C-7944A60F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9C2201-86DD-41D5-89C2-97009D5A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23969D-F300-47FC-B882-4EAF0D21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192CA3-5227-41A1-BF59-BC19A2AB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CFA802-25F3-4E86-97E5-3554F695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BBBF-A441-4ED2-8AC5-CFC9C5FC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2AA3E4-5244-437D-9C32-3F399F02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C4E931-6FDB-4E25-BAFB-1E173EE6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E9D6E9-1974-4275-8D01-1C654183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F8A8-77BF-40A9-80E6-A63A19AC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4AC9-9AA4-456C-A656-037E02D4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B892-BB36-472C-A2A4-E93C6948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F6E6-42FB-464F-A2D7-1B39D602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2EED-7DCB-4AD0-A9EE-1FF60ADB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9261-BAE4-409D-BAEC-43303AE1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647-5260-4E2D-8D25-E4476495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063B-9FEC-4790-9E48-210C81B8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149D-3EC5-48F5-8BBE-A64F716F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C3F8-497F-45AE-A19D-547C0C59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13CD-375C-403C-9E6E-9A9C7A06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91FE-ED7B-4E5C-80E7-51D8EAA1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0B2-2D56-466D-ACB2-0A0C1CA1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EDD-BA87-47C0-A370-F598B7D0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A9C34-D2A7-4CE0-A20A-F404B3C9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4D7-D2D1-4120-B06D-148FD710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BD2D6-5812-4212-8898-916DCCA9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28400-4797-47CF-925B-6E1137C6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222C30-6D8F-428A-9087-C71267C4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C7B4C4-9B3F-4200-8257-15D59709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422CCB-4F22-416D-94F3-1A69A20E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4A0106-96C5-465A-8C80-8C34F7C4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2CBD4-624C-408D-9A89-0D781350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C57D47-8EB2-4205-8DA0-3A557CE2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EE2A1D-556D-4E44-A25A-B6FDA6C3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1E2FD-9B04-4F1A-8D93-78719906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C7B-284D-440A-9F09-5ED14860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D80E14-59E0-46DC-BE9A-F69B418C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CF1A82-DFE7-4A47-B390-296ECA5C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37270C-0527-4CFB-9024-75F1CE19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975AC5-BC56-45D0-9751-41BF4531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68FFF1-319B-4C29-A2C9-B5DAE020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68DE82-929D-4359-8B31-25F60362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A405F2-5562-4846-A45E-FF3E2F61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3A5DAF-B117-4300-B2B1-00CF1C23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3CEB8B-76C7-4085-9BAA-451AECCE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6D8B93-C719-40CD-8339-207CC2F8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0E4-9679-4843-87ED-9E0F789F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2DCD68-8FFF-44AF-8DE3-1E244163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4AE5DF-E0F4-44C1-A293-5DD863B6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47A743-5382-4983-B409-88D74B64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A704BA-D78C-4652-A3B2-5F72155A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414B70-4D48-404D-9EE0-4D230285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937139-5DEA-4950-BA22-5E816E53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AC6893-D5C3-426B-8A99-9318EBCE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415970-937B-4C53-82F5-0E78D635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2AA74E-E604-4950-B93F-1F52C899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D58A7A-AAE2-44DC-9035-3CD8D2E8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A63-39F1-4B24-8795-83475C9A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6D96EE-0062-4C74-9DD7-DE44446E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577253-7896-4A5C-93BC-CAD90E7D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D3EAAB-7B8C-485B-ADDC-4F214ADB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0397CC-C67C-4D88-A6BE-2DCFCEA6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47D2D0-CCAE-46AE-AFEF-A4035CEB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6BA384-43F3-4C95-ADAD-B250D3DC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B30EF9-F7DB-4929-95CE-4B345DA5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0F21DB-E881-45CB-AB51-B39C995A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390AB0-C9BA-4BD1-9D27-1D47C7CC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71917C-A6A8-4CC4-9D34-5688D9F0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A52B-FA81-4BE5-8940-6B7E1E31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BA7452-3442-4A39-ACF1-CB32E569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562157-85F4-49CE-8780-0C1D2C93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D5D339-457A-4232-ABAC-1E90CCEB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0AC4F0-D7E9-47A4-A81E-81345CE2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EE0894-16E3-41A3-944F-CC373857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E4B193-B890-4800-9E80-3882D153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BFE9F9-20A1-47C2-84CC-4074598D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3C2736-ED28-45D6-A26A-6C575D84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951B37-52EB-4FD1-9FC7-7DFDAFE2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49547A-2D83-4491-AC63-2E946AA3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1E0C6-6BF7-4543-9467-A8226DEB6E1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64814-C818-4C33-BDB0-34CBD32C82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4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471FF-F724-47B1-85E6-D8A643087EF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5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0593D-55E6-4EA6-9A94-D7B026DD9438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6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90994-C505-4FA9-8AED-D9EAA6477836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8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9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B429C-8DF1-4727-BB3C-65C0AF6CA0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FB4B5-03B1-40A8-8E5D-B154B92C8BA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2D501-2D80-42AE-9468-555EFAEE67F5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56BB6-F8FB-4249-B877-771352097D6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531ED-9960-4D7A-A600-BB4EA04AAF5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9EADF-1B48-45B9-9E51-40F2A9A4447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20146-A675-480C-B8C3-E3C067825D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727840" cy="1372896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7B336-CEAE-467A-96FE-05621000E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F7136-28DC-4433-B109-BDADFC5EFB35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6EF0C-B1A9-415F-BE37-F2491DE4D8CE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15B0B-376A-4FD1-877B-89F16ED29F6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3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377BD-F48D-4C3D-922D-CAD80787292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F30C3-37FD-4CCD-9257-BF8C005C704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654B5-A813-4E61-9632-241AF3676F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EF33C-C07A-4CB1-8D4F-A39C66B97F2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4B7D5-1EBB-4BE4-94A1-AE451372CC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02B95-4A20-435B-8534-C80E39BBFB5C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76F97-C0D5-4E2D-9466-15BAC4836E74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13"/>
          <p:cNvGrpSpPr/>
          <p:nvPr/>
        </p:nvGrpSpPr>
        <p:grpSpPr>
          <a:xfrm>
            <a:off x="787320" y="2804760"/>
            <a:ext cx="7543800" cy="2932560"/>
            <a:chOff x="787320" y="2804760"/>
            <a:chExt cx="7543800" cy="2932560"/>
          </a:xfrm>
        </p:grpSpPr>
        <p:sp>
          <p:nvSpPr>
            <p:cNvPr id="654" name="TextBox 9"/>
            <p:cNvSpPr/>
            <p:nvPr/>
          </p:nvSpPr>
          <p:spPr>
            <a:xfrm>
              <a:off x="787320" y="3082680"/>
              <a:ext cx="7543800" cy="26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ill Hatfiel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4 RO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3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ct 6, 2014 (Joint ROS/WMS Meeting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Future ROS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ct 30, 2014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c 4, 2014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3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/ WMS Joint Meeting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2015 Ancillary Service Methodolog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commended approval (unanimous) of ERCOT Option 2 (with modifications by ROS/WM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PRR642: Constraint Management During Energy Emergency Aler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commended approval (unanimous) per Luminant’s comments and as modified by ROS/W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OGRR135: Constraint Management During Energy Emergency Aler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abled to allow modification of language (make consistent with NPRR642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ill take up at Oct 30 ROS mee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3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Meeting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perator Training Working Group (OTWG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pproved WG scop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3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br>
              <a:rPr sz="3200"/>
            </a:b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(from TAC Leadership Meeting)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OS goals upda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e referenced information…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Maintain/Improve Operational Checklist for Resource Interconne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raft Interconnection Handbook distributed for comments on Oct. 17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3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DR and Planning Model Study Differen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hitepaper distributed to ROS and WMS for comm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omments scheduled for review at Oct 22 PLWG mee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oad Scaling Methodologies in Planning Stud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re transparency need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LWG (and MP’s) working to develop a Load Scaling Methodology Standar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3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tatus of Assignme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Early RUCing of units during severe winter weather due to unit start-up failures, trips, and de-rates; review need for ERCOT Operating procedures for RUCing unit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RCOT sharing information with OW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view at Oct. 30 ROS mee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3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bhatfiel</cp:lastModifiedBy>
  <cp:lastPrinted>2013-01-30T23:16:36Z</cp:lastPrinted>
  <dcterms:modified xsi:type="dcterms:W3CDTF">2014-10-20T12:34:52Z</dcterms:modified>
  <cp:revision>765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