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858E8-7F50-433A-913D-E095D931572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C58C7A-DFA2-43B0-A70D-502953F717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730F49-75FF-4B49-85DE-02FB04AE5E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AA694-15F8-4381-9CC8-026770F0B5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09C48-2247-42B4-8843-5F6E3D185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8EF2F-7093-4B28-A4C5-71F4AC3B6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3F61A-7E9F-4D24-9A3A-FB8462A36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346D7-FAFE-4B99-BFE2-EA8684583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5798D-71F5-403A-B542-E28465226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6E2E4-5782-4728-875B-F58525E1C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B9B22-5954-405D-922C-B16D69734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AE202-D90E-47A5-A14B-4F6BD0315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EE8F5-0D78-4C5B-B590-BFB99868E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4CFCE-67F3-4C6F-BFE7-767BDE159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CC64A-AE53-47AA-810B-EFF87026C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54145-3263-40CC-96BF-68710434C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95477-478A-4264-8418-68FF1FB95B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36B47E-E2E8-41D1-B961-6B64BE222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687871-3446-4F4D-B3C3-AA6854A4C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3: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John Varnell</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4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ctober 23, 2014</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403200" y="714240"/>
            <a:ext cx="849312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Requests Recommended for Approval by PRS – Unopposed (Vote):</a:t>
            </a:r>
            <a:endParaRPr b="0" lang="en-US" sz="18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40, As-Built Clarification of Load Resource Participation in SCED and Non-Spin Qualificat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47, CRR Auction Shadow Price Transparency</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CR781, MP Online Data Entry Market Requirements</a:t>
            </a:r>
            <a:endParaRPr b="0" lang="en-US" sz="20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Requests Recommended for Approval by PRS – With Opposing Votes (Vote):</a:t>
            </a:r>
            <a:endParaRPr b="0" lang="en-US" sz="18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595, RRS Load Resource Treatment In ORDC</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Requests Withdrawn:</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PRR656, Discontinue the Long-Term Weekly Peak Demand Forecast, 36 Month Resource Capacity Report, and Projected Transmission Constraints for Medium Term PASA Reports </a:t>
            </a:r>
            <a:endParaRPr b="0" lang="en-US" sz="18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Group 8"/>
          <p:cNvGrpSpPr/>
          <p:nvPr/>
        </p:nvGrpSpPr>
        <p:grpSpPr>
          <a:xfrm>
            <a:off x="1295280" y="2735280"/>
            <a:ext cx="6553440" cy="1387440"/>
            <a:chOff x="1295280" y="2735280"/>
            <a:chExt cx="6553440" cy="1387440"/>
          </a:xfrm>
        </p:grpSpPr>
        <p:sp>
          <p:nvSpPr>
            <p:cNvPr id="176" name="TextBox 1"/>
            <p:cNvSpPr/>
            <p:nvPr/>
          </p:nvSpPr>
          <p:spPr>
            <a:xfrm>
              <a:off x="1295280" y="2756160"/>
              <a:ext cx="6553440" cy="122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vision Requests Recommended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r Approval by PRS</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ith Opposing Votes)</a:t>
              </a:r>
              <a:endParaRPr b="0" lang="en-US" sz="1800" spc="-1" strike="noStrike">
                <a:solidFill>
                  <a:srgbClr val="000000"/>
                </a:solidFill>
                <a:latin typeface="Arial"/>
              </a:endParaRPr>
            </a:p>
          </p:txBody>
        </p:sp>
        <p:sp>
          <p:nvSpPr>
            <p:cNvPr id="177" name="Straight Connector 3"/>
            <p:cNvSpPr/>
            <p:nvPr/>
          </p:nvSpPr>
          <p:spPr>
            <a:xfrm>
              <a:off x="1428480" y="2735280"/>
              <a:ext cx="6287040" cy="0"/>
            </a:xfrm>
            <a:prstGeom prst="line">
              <a:avLst/>
            </a:prstGeom>
            <a:ln w="2556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5"/>
            <p:cNvSpPr/>
            <p:nvPr/>
          </p:nvSpPr>
          <p:spPr>
            <a:xfrm>
              <a:off x="1437840" y="4122720"/>
              <a:ext cx="6287040" cy="0"/>
            </a:xfrm>
            <a:prstGeom prst="line">
              <a:avLst/>
            </a:prstGeom>
            <a:ln w="2556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379440" y="252000"/>
            <a:ext cx="8445600" cy="461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595, RRS Load Resource Treatment In ORDC</a:t>
            </a:r>
            <a:br>
              <a:rPr sz="2200"/>
            </a:br>
            <a:endParaRPr b="0" lang="en-US" sz="2000" spc="-1" strike="noStrike">
              <a:solidFill>
                <a:srgbClr val="000000"/>
              </a:solidFill>
              <a:latin typeface="Arial"/>
            </a:endParaRPr>
          </a:p>
        </p:txBody>
      </p:sp>
      <p:graphicFrame>
        <p:nvGraphicFramePr>
          <p:cNvPr id="181" name=""/>
          <p:cNvGraphicFramePr/>
          <p:nvPr/>
        </p:nvGraphicFramePr>
        <p:xfrm>
          <a:off x="272880" y="503280"/>
          <a:ext cx="8623440" cy="6005520"/>
        </p:xfrm>
        <a:graphic>
          <a:graphicData uri="http://schemas.openxmlformats.org/drawingml/2006/table">
            <a:tbl>
              <a:tblPr/>
              <a:tblGrid>
                <a:gridCol w="1405080"/>
                <a:gridCol w="7218360"/>
              </a:tblGrid>
              <a:tr h="1311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s Nodal Protocol Revision Request (NPRR) provides that Load Resources providing Responsive Reserve Service (RRS) should be credited/charged based on their telemetered Load Consumption as opposed to the currently prescribed methodology of using the telemetered RRS Ancillary Service Schedul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2286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On 9/11/14, PRS voted to recommend approval of NPRR595 as amended by the 9/2/14 ERCOT comments and as revised by PRS.  There were three abstentions from the Independent Retail Electric Provider (IREP) (1), Independent Power Marketer (IPM) (1), and the Municipal (1) Market Segments. On 10/9/14, PRS voted via roll call to endorse and forward to TAC the 9/11/14 PRS Report as amended by the 10/3/14 EDF comments and the Impact Analysis for NPRR595 with a recommended priority of 2014 and rank of 885.  There were five opposing votes from the Independent Generator (1), IPM (1), and Investor Owned Utility (IOU) (3) Market Segments.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Upon System Implementation - Priority 2014; Rank 88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824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Between $100k and $150k; Network Model Management System (NMMS), Energy Management System (EMS), Enterprise Information Services (EIS), Enterprise Integration (EI), and Market Management Systems (MM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066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rovides equality for Generation and Load Resources.  Provides better measurement of Load Resource capability. Minimal system impact, a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RCOT already receives telemetered real time consumption values from all Load Resources providing RR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403200" y="714240"/>
            <a:ext cx="8493120" cy="5543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Other Binding Documents</a:t>
            </a:r>
            <a:endParaRPr b="0" lang="en-US" sz="20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S directed ERCOT Staff to move forward with filing Revision Requests to begin the effort of incorporating certain Other Binding Documents into the Protocols/Guide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arket Training</a:t>
            </a:r>
            <a:endParaRPr b="0" lang="en-US" sz="20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S discussed the potential of forming a Market Training Working Group to address market training needs.</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eedback from Market Participants was that a standing working group was not needed but to instead hold workshops when necessary to discuss market training and provide ERCOT with feedback of what is needed.</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dditional PRS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C Phillips</cp:lastModifiedBy>
  <cp:lastPrinted>2013-01-30T23:16:36Z</cp:lastPrinted>
  <dcterms:modified xsi:type="dcterms:W3CDTF">2014-10-15T14:39:13Z</dcterms:modified>
  <cp:revision>234</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