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62D7-ACA6-4B26-8590-A1703A99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6540-51C7-4E7B-ACEB-3D0A12F7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BE3F-AFB2-41C1-8DF4-B2D3D6A4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1430-86BA-45C0-9903-3739A4D9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AC3D-2057-4B4E-9549-1EB7BDE9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CF3C-FB58-47EF-BC1C-1AF0BB48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74B8-E689-4F7B-9751-FD1B4D98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E268-B746-499F-8E2F-A26D8FAA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F1D8-5A4F-47EA-92DC-66ACD580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D9D-22DF-4BC2-A1DB-13BF5DA2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CEDE-F97A-4EB3-956B-87C6A554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D63B-9D39-4ED8-B098-60ADCC8C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253E-8F9C-4C6A-AD9F-1E0B42D2D7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CDBC-5610-42B5-A799-C1CB75ADD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CWG Update to W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ctober 6,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NPRR for Resource Specific Fuel Pr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280" y="16761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 Resource-specific Fuel Price (RSFP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ault is FIP (HS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SE can designate Waha, or weighted price of FIP and Waha, as verified by ERC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 Make-Whole process for Resources mitigated below their cost due to exceptional fuel cos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language to RUC make-who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lift allocated by L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ptional Event:  Actual price paid for delivered gas must be greater than RSFP plus a threshold fuel price of $2/MMBtu (defined in the VC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ke-Whole Payment calculated as follow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lculate a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justed Mitigated Offer Curv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Resource utilizing its approved Verifiable Costs and the verifie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ual fuel c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e-whole calculated as the positive difference between the minimum of the price from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djust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itigated Offer Curve or the Energy Offer Curve, and the real-time Settlement Point Price (i.e. price from original MOC), times the minimum of the aggregated base point or metered gener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 to submit VCMRR at October 29 WMS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146B-A302-4807-95FB-8F8AD814D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7"/>
          <p:cNvSpPr/>
          <p:nvPr/>
        </p:nvSpPr>
        <p:spPr>
          <a:xfrm>
            <a:off x="609480" y="5486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O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[ IHR * (RFP + fuel adder) + VOM] * CF Multipl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djusted MOC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= [ IHR * (verified actual fuel cost) +VOM] *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ke-Who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[Min(EOC Price, Adjusted MOC Price) – Original MOC Price] * Min(Agg. Base Point, Metered Gener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hart 8" descr=""/>
          <p:cNvPicPr/>
          <p:nvPr/>
        </p:nvPicPr>
        <p:blipFill>
          <a:blip r:embed="rId1"/>
          <a:stretch/>
        </p:blipFill>
        <p:spPr>
          <a:xfrm>
            <a:off x="841320" y="1523880"/>
            <a:ext cx="7255080" cy="3730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e-Whole Calculation for Exceptional Fuel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1:58:48Z</dcterms:created>
  <dc:creator>Luminant</dc:creator>
  <dc:description/>
  <dc:language>en-US</dc:language>
  <cp:lastModifiedBy>Albracht, Brittney</cp:lastModifiedBy>
  <dcterms:modified xsi:type="dcterms:W3CDTF">2014-10-02T14:14:26Z</dcterms:modified>
  <cp:revision>226</cp:revision>
  <dc:subject/>
  <dc:title>QMWG Update to WMS</dc:title>
</cp:coreProperties>
</file>