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108-4687-4BF3-8417-047A1B77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135-CBC9-43A6-9BA3-53F255E0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B83-A06A-4B15-A8ED-AE5A2C0B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58C-542E-4DF3-9F43-879F66C0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EB7-C1A3-4851-B9A5-3AC1471C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6CF-84B6-4298-8CD7-7F6E934C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5DF-D85D-4131-8C89-41DF32F5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EA0-D073-4DE6-A928-343E323F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68F-4243-4B67-AF09-5FFD3AE1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4C5-D303-4848-85F8-A72A9963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01D-AC20-4AEC-8A8E-BD5260B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03F-D8BD-4B02-B69C-22B9F43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5008-AD3B-4669-8281-55BAA20499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9C7E-C723-4CFC-83A1-B3A7D01A9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ctober 6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NPRR for Resource Specific Fuel Pr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676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 Resource-specific Fuel Price (RSFP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ault is FIP (HS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SE can designate Waha, or weighted price of FIP and Waha, as verified by ERC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a Make-Whole process for Resources mitigated below their cost due to exceptional fuel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language to RUC make-wh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lift allocated by L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ptional Event:  Actual price paid for delivered gas must be greater than RSFP plus a threshold fuel price of $2/MMBtu (defined in the VC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-Whole Payment calculated as follo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culate a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justed Mitigated Offer Cur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Resource utilizing its approved Verifiable Costs and the verifi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ual fuel c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-whole calculated as the positive difference between the minimum of the price from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djust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itigated Offer Curve or the Energy Offer Curve, and the real-time Settlement Point Price (i.e. price from original MOC), times the minimum of the aggregated base point or metered gener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 to submit VCMRR at October 29 WMS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B155-46F9-4833-8BC6-4798346B1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7"/>
          <p:cNvSpPr/>
          <p:nvPr/>
        </p:nvSpPr>
        <p:spPr>
          <a:xfrm>
            <a:off x="609480" y="5486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[ IHR * (RFP + fuel adder) + VOM] * CF Multip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justed MOC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= [ IHR * (verified actual fuel cost) +VOM] *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ke-Wh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= [Min(EOC Price, Adjusted MOC Price) – Original MOC Price] * Min(Agg. Base Point, Metered Gener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hart 8" descr=""/>
          <p:cNvPicPr/>
          <p:nvPr/>
        </p:nvPicPr>
        <p:blipFill>
          <a:blip r:embed="rId1"/>
          <a:stretch/>
        </p:blipFill>
        <p:spPr>
          <a:xfrm>
            <a:off x="841320" y="1523880"/>
            <a:ext cx="7255080" cy="3730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-Whole Calculation for Exceptional Fuel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Albracht, Brittney</cp:lastModifiedBy>
  <dcterms:modified xsi:type="dcterms:W3CDTF">2014-10-02T14:14:26Z</dcterms:modified>
  <cp:revision>226</cp:revision>
  <dc:subject/>
  <dc:title>QMWG Update to WMS</dc:title>
</cp:coreProperties>
</file>