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F64-6031-4D6C-BB5E-BD632C68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BCA-C198-4B3F-82F2-2829632D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B6C-4AD0-44A4-8045-2F3D9CD2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86B-B075-4AEA-B0F5-8CF88F05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881-961A-48B9-BA03-84269C29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5DC-E12C-4221-ABE8-E0D2597E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951-93BE-4B8A-A49C-A7385784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F94-D5FA-4A66-9737-BBF2D237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1DC-E70A-4E1E-B3C3-291B91A1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B4C-D2F6-4D6D-A9CB-06CC356C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26E-7C7B-4AD9-BDDE-E95C3C9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738-B10F-4A6F-BD40-65B0A7EB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8F3E-E17E-45EC-A1FB-511AC0CE0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DE57-244D-4C9D-9C0C-6AB8A2927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 6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NPRR for Resource Specific Fuel P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6761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 Resource-specific Fuel Price (RSFP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ault is FIP (HS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SE can designate Waha, or weighted price of FIP and Waha, as verified by ERC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 Make-Whole process for Resources mitigated below their cost due to exceptional fuel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language to RUC make-wh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lift allocated by L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ptional Event:  Actual price paid for delivered gas must be greater than RSFP plus a threshold fuel price of $2/MMBtu (defined in the V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-Whole Payment calculated as follo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culate a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justed Mitigated Offer Cur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Resource utilizing its approved Verifiable Costs and the verifi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ual fuel c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-whole calculated as the positive difference between the minimum of the price from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djust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itigated Offer Curve or the Energy Offer Curve, and the real-time Settlement Point Price (i.e. price from original MOC), times the minimum of the aggregated base point or metered gener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 to submit VCMRR at October 29 WMS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2BC2-E3BD-4C39-9927-37989F63A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7"/>
          <p:cNvSpPr/>
          <p:nvPr/>
        </p:nvSpPr>
        <p:spPr>
          <a:xfrm>
            <a:off x="609480" y="5486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[ IHR * (RFP + fuel adder) + VOM] * CF Multip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djusted MOC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= [ IHR * (verified actual fuel cost) +VOM] *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ke-Who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[Min(EOC Price, Adjusted MOC Price) – Original MOC Price] * Min(Agg. Base Point, Metered Gener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hart 8" descr=""/>
          <p:cNvPicPr/>
          <p:nvPr/>
        </p:nvPicPr>
        <p:blipFill>
          <a:blip r:embed="rId1"/>
          <a:stretch/>
        </p:blipFill>
        <p:spPr>
          <a:xfrm>
            <a:off x="841320" y="1523880"/>
            <a:ext cx="7255080" cy="3730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-Whole Calculation for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Albracht, Brittney</cp:lastModifiedBy>
  <dcterms:modified xsi:type="dcterms:W3CDTF">2014-10-02T14:14:26Z</dcterms:modified>
  <cp:revision>226</cp:revision>
  <dc:subject/>
  <dc:title>QMWG Update to WMS</dc:title>
</cp:coreProperties>
</file>