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1B832-2678-49DE-A461-DDF5DE334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660CA-50A2-4B49-99FE-D7E118625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C5D9F-1284-424E-A8A2-36152F11B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C64-801A-46A9-A4C0-67FB2BAE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28A-CED4-45B3-9A7B-F69D4428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319-7507-486D-A220-30C178F3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205-2CE5-42FA-B13F-9D6A58B4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CAF-DA68-44A4-8880-DA3C1B0A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615-DBB8-4B6E-BCA0-17EF3EFD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CFA-A450-4A0B-8569-E22E4A63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268-98EB-4B83-8A00-6F702FF5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308-CB8D-4F4C-AC3B-4FAF18C2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4B8-40B0-4E08-B90D-21BB7E5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F76-80ED-410C-9FA7-D1833B3F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3B9-4087-4BBD-832E-1C46694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AA309-52F4-493A-A1DE-DEA1D5CEEE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6721B-805F-4CF7-AEE8-68A93B347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7FEC7-5DD6-4961-86EB-40DBEE4B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4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ris Ly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PRS Vice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tember 25, 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43, Clarification of MIS Postings for Outages Upon Implementation of SCR774, Enhancement to Outage Scheduler and Reports – URGEN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44, Operating Reserve Demand Curve Phase 2 Revision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With Opposing Votes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17, Energy Offer Flex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8"/>
          <p:cNvGrpSpPr/>
          <p:nvPr/>
        </p:nvGrpSpPr>
        <p:grpSpPr>
          <a:xfrm>
            <a:off x="1295280" y="2735280"/>
            <a:ext cx="6553440" cy="1387440"/>
            <a:chOff x="1295280" y="2735280"/>
            <a:chExt cx="6553440" cy="1387440"/>
          </a:xfrm>
        </p:grpSpPr>
        <p:sp>
          <p:nvSpPr>
            <p:cNvPr id="176" name="TextBox 1"/>
            <p:cNvSpPr/>
            <p:nvPr/>
          </p:nvSpPr>
          <p:spPr>
            <a:xfrm>
              <a:off x="1295280" y="2756160"/>
              <a:ext cx="655344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vision Requests Recommende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Approval by P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ith Opposing Vo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3"/>
            <p:cNvSpPr/>
            <p:nvPr/>
          </p:nvSpPr>
          <p:spPr>
            <a:xfrm>
              <a:off x="1428480" y="27352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traight Connector 5"/>
            <p:cNvSpPr/>
            <p:nvPr/>
          </p:nvSpPr>
          <p:spPr>
            <a:xfrm>
              <a:off x="1437840" y="412272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403200" y="714240"/>
            <a:ext cx="849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9440" y="252000"/>
            <a:ext cx="8445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PRR617, Energy Offer Flexibility 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03200" y="781200"/>
          <a:ext cx="8274240" cy="5346720"/>
        </p:xfrm>
        <a:graphic>
          <a:graphicData uri="http://schemas.openxmlformats.org/drawingml/2006/table">
            <a:tbl>
              <a:tblPr/>
              <a:tblGrid>
                <a:gridCol w="1758960"/>
                <a:gridCol w="6515280"/>
              </a:tblGrid>
              <a:tr h="1323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odal Protocol Revision Request (NPRR) seeks to correct inconsistencies regarding the restrictions on energy offers in the Day-Ahead Market (DAM), removing the caps on Startup Offers and Minimum-Energy Offers (i.e., the “second” and “third” parts of a Three-Part Supply Offer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8/14/14, PRS voted to recommend approval of NPRR617 as amended by the 6/5/14 ERCOT comments.  There was one opposing vote from the Consumer Market Segment.  On 9/11/14, PRS unanimously voted to endorse and forward the 8/14/14 PRS Report as amended by the 8/26/14 ERCOT comments and the Impact Analysis for NPRR617 to TAC with a recommended priority of 2014 and rank of 110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System Implementation - Priority 2014; Rank 1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$60k and $80k; impacts to Settlements and Billing (S&amp;B) and Market Management Systems (MMS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s a true “voluntary” DAM while still preserving appropriate Make-Whole Payments.  Is expected to increase energy offers in the DA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4-09-15T20:17:41Z</dcterms:modified>
  <cp:revision>228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