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5FE94C-99CC-44EB-AF3E-8EC7CBA711F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E8C8ED-9738-4319-B5A3-CFC90D2494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k direction on ORD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17167E-3329-4640-9849-AA976B4162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tf – planning personn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f- market desig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not hear concerns at T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ing RATF’s market design/price formation focus with GATF’s CDR/planning f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thought RATF was envisioned as a temporary group for ad hoc iss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C6C28D-96B7-43B4-96D2-372CFD57E7F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AF04DB-AAF5-4FA7-A263-A61CD5750F3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brid Approach- Use LMP – Volumetric G where possible; Proxy G in other c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oid it- Only allow bilateral trans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09B598-B680-447A-AF87-7E5BF410186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B617-837C-4E63-B299-6A74151FE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446D-E7CB-43DE-850C-5F93CB01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8D7A-40F6-4D44-864F-5C6E91530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790A-F4C7-47EB-96D8-2839B0DF1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BC5E-818F-4892-B922-FAB970E4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0166-FD5C-4A7C-970E-70D78236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0F7F-869A-4EA7-A34B-A027E63A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8879-C9FB-47F9-875B-B89F6100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3407-9EE2-46E1-A3E7-7B2C3304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03A3-633E-4C6E-BE60-311CB739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8D09-CB10-4BDF-BA87-CB449A98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9365-9358-4297-889C-63AB3ADA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1F01BE-F7E9-4471-8731-8F7AEB3AD51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Wholesale Market Subcommittee Upd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3895200"/>
            <a:ext cx="3051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repared for the September 25th TAC mee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ter of Credit Issuer Limits for ERCOT Creditworthiness Standar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MS endorsed the limi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are determined by the long-term issuer rating and the Tangible Net Worth of the Issu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ewing the limits is performed at least year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RCOT’s posted presentation provides statistics regarding the lim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a voting Item for TAC recommend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limits need Finance and Audit Committee approv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111240" y="-36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AC Assignment List Upd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27120" y="824040"/>
          <a:ext cx="8085240" cy="5076720"/>
        </p:xfrm>
        <a:graphic>
          <a:graphicData uri="http://schemas.openxmlformats.org/drawingml/2006/table">
            <a:tbl>
              <a:tblPr/>
              <a:tblGrid>
                <a:gridCol w="901800"/>
                <a:gridCol w="3627360"/>
                <a:gridCol w="3556080"/>
              </a:tblGrid>
              <a:tr h="528480">
                <a:tc gridSpan="3"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MS Assignments From The T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ign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10080" rIns="10080" tIns="100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/28/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/3/11 - NPRR181, FIP Definition Revision, tabl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MWG will start discussions at their next mee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10080" rIns="10080" tIns="100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/27/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ntenance/Improvement of operational checklist for Resource interconn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cussion ongoing at QMWG and will also be taken up at the Joint ROS/WMS meeting on October 6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10080" rIns="10080" tIns="100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24/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e concerns with bringing RUC units earlier than required because of start-up fail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duct a review of the RUC process in the newly created RUC Task Force.  Optimize market based tools and minimize RUC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10080" rIns="10080" tIns="100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24/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ted to NPRR598, Clarify Inputs to PRC and ORDC – address additional ORDC enhancements including addressing bandwidth oscill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MWG review to be conducted on operational data during emergency conditions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10080" rIns="10080" tIns="100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27/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ted to NPRR582, Refinements to Testing ERS – address testing requirements for all Resourc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MWG review ongo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3640">
                <a:tc>
                  <a:txBody>
                    <a:bodyPr lIns="10080" rIns="10080" tIns="100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/5/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ew steps ERCOT utilizes in the CDR load foreca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COT’s analysis of incorporating ERS, Load Resources providing RRS, energy efficiency, and distributive generation in ongoing (~Fall 201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uctural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498680"/>
            <a:ext cx="8229600" cy="47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C directed WMS to combine the RATF responsibilities into the GAT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MS Chair’s understanding is that this would entail an update to the GATF char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MS members raised some concern over combining the gro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 Resources in SCED Upd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498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RIS version 2 subgroup continues to work on proposals to facilitate direct participation in the real-time market by DR Q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C endorsed LMP – volumetric G on 10/6/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SWG and LIS Subgroup have identified issues with LMP-V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ires assignment of the estimated curtailment back to the specific custom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imation of load drop for many individual loads (esp. residential) is near impossi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ed to expand residential D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ires LSEs to bill customers for consumption that didn’t occur.  PUCT action likely requi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 Resources in SCED Upd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MP - $G approach is the leading altern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y details to work thoug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a fair proxy for the purchase price representative of retail energy pric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often to change LMP-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 specific or ERCOT-w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for qualifying and managing AL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4T20:43:11Z</dcterms:created>
  <dc:creator>Systems Administrator</dc:creator>
  <dc:description/>
  <dc:language>en-US</dc:language>
  <cp:lastModifiedBy>Systems Administrator</cp:lastModifiedBy>
  <cp:lastPrinted>2014-03-25T15:14:24Z</cp:lastPrinted>
  <dcterms:modified xsi:type="dcterms:W3CDTF">2014-09-22T15:00:21Z</dcterms:modified>
  <cp:revision>206</cp:revision>
  <dc:subject/>
  <dc:title>The Wholesale Market Subcommittee</dc:title>
</cp:coreProperties>
</file>