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 type="sldNum" idx="3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C754F-36D2-4765-BE53-B1EF58147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5E16C-014C-4A14-8174-A61F3D5FB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58D4-A6AD-471C-B07B-641FC19E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2A49-920F-49FC-B932-832DC8B8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EDEA47-54DA-406C-B78A-5C36E36E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313115-ADD0-4402-BD59-A93FD378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DD39C2-2E7A-48AE-934F-90F32591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DD7921-4A52-4BA4-93FD-0A99699A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D674A6-33E6-4492-A1F5-ADB7748E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AB3AF9-36B4-4554-B43A-9DB5055E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0AABE6-13C1-4641-86AC-8BD55EE4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3DC2B3-0CA4-4EC5-A82E-16FCC92C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625402-64DD-42F8-AE76-41DFE589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6E213-BE29-4C09-AD5A-4EA832A0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AC90-C392-4D1C-9BE1-2246DC3C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3CE2F-3B46-4AB3-AF6E-B85F104F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14DDA-45BC-4166-A75D-23228A99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46728-BB2D-4E05-9A72-09F4937A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646D1F-0D12-4612-99CB-E1063FD0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C3F2B0-363B-40F6-87E3-F03B98AD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998CB-3CE8-4B60-A6A2-5C07374F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04619-A591-4360-99C5-AFAF4F39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378781-6882-4970-8E29-FD2C38E2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B3EB5-247D-4C66-87E5-97B7E5EC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ECBF9-194C-41C3-8459-D357764A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45A-07B8-43FD-97FE-C264B0CF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38019-D16A-4E58-82E6-357E2076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9D1574-FDD5-4019-A279-71427CA6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A7AB26-EC79-46B5-BFB0-04BE9BB5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C216CE-E7CF-46BC-ABEA-08EA285B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252227-31F7-434E-8889-530496F4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DD7765-DBDF-43B3-AF45-21030499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25A90E-6DC8-4F4A-967C-5FFB0305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8E72D4-7524-4BC3-A308-31764D21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632678-0DB5-4B4C-95A8-EE27EDC1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4B1E21-DBC1-47B7-ACA7-B2B39D0F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8E3E-9D53-4084-AFDB-C01133EB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88F2A5-0F27-496C-B980-0CFD903B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16F3DF-5C1E-45D4-84E2-A6043402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C000AB-037D-444B-B039-62D11B0B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C0EB-CC7B-4ECC-95BD-F6D1E682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FE90-6388-410D-96A9-F56866BE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5F72-DDAB-492D-9A55-0B3EF2AF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5C37-8105-4E17-A32C-3C1D368E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59ED-4782-49A5-AA6C-65CD04C8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AD7F-D0A1-4250-A0F7-20D6C4EA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C52-2BAA-439D-9DC1-789AC409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34E5-6361-4456-B8DD-CE40E41E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A45C-C36B-494F-A3D0-C1B3C9F1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A150-C5CF-4383-951F-103E5687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16E7-FD43-4A58-81E7-6134A0DB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C458-44A8-4E40-AAEC-EFB41C97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0903-B0BE-45D2-8A09-361965AB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EF5-AAA4-4866-BC90-2F236885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1BE27F-B468-4E41-81B8-DD5DE0DF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2F8-DFE7-4493-A6F4-14874DEF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3469A0-B6EC-4C94-9DF7-CE1E20CC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A7392-DA79-4C3D-BD03-7DE23ACD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823F8A-AEFE-49E0-ADFF-4C1CA879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95F4EB-D22A-4C90-9DE7-A549799E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9D9A1E-57F9-4B40-BE04-76F4FA61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AFCB69-546A-40CD-94BB-5DC91A26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E81EEC-0B7D-4FA7-98E6-B36BDB37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118B1-1F78-4711-BD18-32059FB9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B27EF1-E257-4A0A-B675-C0938E6C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D6EB6D-7715-4F8C-8FFB-712AD0DB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D9B-C178-49EF-A94E-8D002A7F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2A6889-3734-4283-A639-B65C9B91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C395F2-7FBF-4100-97B4-DD05F885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48331A-A8DD-4272-B51D-A6E512A2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6EC759-C8D5-4CE1-B420-2C8F5FD8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0F6652-2904-495E-BBB2-813B55FF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7516D4-AB49-49ED-AA73-B6DA716D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C31A70-7AB9-4C78-909F-0EF95172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ED804D-097C-4F20-B9A8-26122844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D95E4C-147A-4BA4-B0C4-6C95A41C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4F031A-5AB8-4228-A277-ACD0C805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B75F-AB31-4350-B44A-A065147E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05BB3E-D5D2-468F-BBDC-005FCB2E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109822-7BF0-4EFE-B17A-2FC4F0A7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869F17-7EF8-4D2A-90FC-29C8767D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F540E4-21F0-4384-B486-8DBF899B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816994-A5D8-4942-B8CC-26C113A6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7890E0-BFB6-4CF4-AC1E-5429D24C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2EDF48-0F91-470C-BC57-96FF0D80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6EA1CA-101B-47A3-A2E0-032AD486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E171D4-CE5E-4CD5-BDA4-DF6C4CF9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1982FC-8DD5-49F5-A3B5-B68F94DE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43E-B1FC-494B-92AE-A4B24AC2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0BDEEF-7B66-4030-BFEC-0AA34C30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8D1912-0467-46DC-91D4-C11BD75C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7F3AFE-C7AB-4B6E-BE23-E1BFB062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311F9E-7291-4F8A-B917-D3BCD51F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975EE0-ABEE-4740-A87A-751360A2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CD7149-927B-48B9-8452-CA733613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4547D2-C953-446E-8C92-D0E2612C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7E012E-8EE5-4B60-BC90-8C504130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570858-5A72-4134-8BA6-EC3758AF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C452BB-FE08-4801-8400-922E4C77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9469-D10D-4F07-8E96-23CB37BB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8B4E64-673D-4BE3-942C-113281A9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C6EC33-138E-4183-A6A1-D443BCC7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FD7017-39C5-464E-8466-B9BB1E46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9302A8-FDFB-47EB-80BE-ED8431F3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221644-77D6-4DC0-B13C-06D208B4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05217B-7602-446C-B0A1-25534DD1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3B3A7F-1D9C-4F6A-96DF-FA52238F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2BFA2E-7F25-45AA-AE77-22C69D54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2664A8-D4AF-4A1F-8FC8-E5A7876B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D29148-1C9F-4F4D-9563-ABE335D8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2BF69-5540-402D-964A-1DD5B225A56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0F8FC-5324-4738-8002-EEF89C86FC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4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CE157-1D6B-478F-907D-E523BDD26FB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5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F6A50-FD24-40FA-80E6-5619688A257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6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1A5EE-78D2-4E38-BD88-E2BD72FBD81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8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9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E9B9E-E6AE-4469-BFD5-8B5472A618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7BB96-61DA-4AA7-92D5-4A3CA9C08E67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496E2-24C3-4E05-90D7-CAA615F447D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80E8B-246C-4BFC-B908-B827215A04D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1DC05-7FF4-4E26-BB2E-E518EC51AF0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0338D-8916-482E-AAD7-9B17FA9F759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65806-5641-4BAA-812F-9225A7B7F1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F606B-749A-4CAD-B76D-F28CE3AED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C34EB-0B1A-4D3D-8E7E-D6F2D725D353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9C0E0-B612-4846-862F-5F9215426E68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78935-4BF6-4CB8-B65A-5B68697B6B4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3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AB0BC-9B1C-4D83-8390-99BB34FC9A4C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51BFE-07CE-4FD0-8BC5-CB7A4054E73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F51DC-54AC-4342-96AC-998E632869A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D913B-2EE2-4A71-B1A8-930EB611E303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4051D-5446-4D91-94AD-1559F6D099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7D21F-D216-4DE9-8C2E-3462CD2FCC0C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C7438-3400-4725-AF64-939EFA28BC24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654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 Hatfie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4 RO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 25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p 4, 2014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ext ROS meet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Joint Meeting with WM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ct 6, 2014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 25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Requested Voting Item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Revision Requests Recommended for Approval (TAC Action requested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RGRR003 – Modifications to Improve Wind Forecas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OS Approved Urgency and Approved (unanimously) RRGRR as recommended by the RDW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ompletes TAC assignment 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RGRR004 – Steam Pressure Curve Information for Implementation of Regional Reliability Standard BAL-001-TRE-1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OS Approved Urgency and Approved (one abstention) RRGRR as recommended by NRG’s comm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 25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br>
              <a:rPr sz="3200"/>
            </a:b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(from TAC Leadership Meeting)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view of Working Groups and Task For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changes to current WG/TF’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onsideration of Operator Training Working Group (OTWG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oposal would eliminate one or more of the Seminar TF, Fundamentals TF, &amp; Exam WG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vide ROS goals upda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pdate will be provided at Oct. TAC mee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intain/Improve Operational Checklist for Resource Interconne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opic scheduled for discussion by ERCOT at Oct. 6 ROS/WMS worksho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 25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DR and Planning Model Study Differenc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LWG drafting white paper; progress underwa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oad Scaling Methodologies in Planning Studi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ore transparency need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LWG (and MP’s) working to develop a Load Scaling Methodology Standa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 25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arly RUCing of units during severe winter weather due to unit start-up failures, trips, and de-rates; review need for ERCOT Operating procedures for RUCing unit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RCOT putting together information to share with OWG and RUC TF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 25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Albracht, Brittney</cp:lastModifiedBy>
  <cp:lastPrinted>2013-01-30T23:16:36Z</cp:lastPrinted>
  <dcterms:modified xsi:type="dcterms:W3CDTF">2014-09-22T15:13:50Z</dcterms:modified>
  <cp:revision>607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</Properties>
</file>