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2875868-91FB-42E4-AEDD-1C818B42A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AAA9C9-8383-478B-94CC-9042A0D50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84D89E8-E1E7-443D-9734-229197560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8247426-CDF5-4EEC-BE48-493BB59AF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CA14DF-8DC6-4742-92E7-81D229973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E3C1BC-4B5D-44B4-BE31-E173F7229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E61D9A-FCA6-41DC-AECF-BED4E4491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EDF377-8617-4512-8FF6-C653BBE18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365C52-A06D-4D69-81FC-7735F5E09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B1B6E1-08A4-4942-B8A7-93E34CCB4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5E68CA-834A-43DC-9222-A2D50A8E8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9849BA-8CA0-4CB8-9A06-A425598E86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BF73-5740-4416-AA89-F0B5A2824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7A1D-347D-43D3-A6B5-15F7FF53D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rcot.com/content/meetings/rms/keydocs/2014/0909/08.__EPS_Meter_Holiday_Work_Sched_2014.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218960"/>
            <a:ext cx="7543800" cy="19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SEPTEMBER 2014 </a:t>
            </a: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9/25/2014</a:t>
            </a:r>
            <a:endParaRPr b="0" lang="en-US" sz="2800" spc="-1" strike="noStrike">
              <a:solidFill>
                <a:srgbClr val="000000"/>
              </a:solidFill>
              <a:latin typeface="Arial Black"/>
            </a:endParaRPr>
          </a:p>
        </p:txBody>
      </p:sp>
      <p:sp>
        <p:nvSpPr>
          <p:cNvPr id="87"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ny Marsh,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VOTING ITEMS for TAC from meeting on 09/10/14</a:t>
            </a:r>
            <a:endParaRPr b="0" lang="en-US" sz="2000" spc="-1" strike="noStrike">
              <a:solidFill>
                <a:srgbClr val="000000"/>
              </a:solidFill>
              <a:latin typeface="Arial Black"/>
            </a:endParaRPr>
          </a:p>
        </p:txBody>
      </p:sp>
      <p:sp>
        <p:nvSpPr>
          <p:cNvPr id="89"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PGRR052, Change to Oil &amp; Gas Assignment Process (Vote) </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oad Profiling Guide Revision Request (LPGRR) streamlines the Oil &amp; Gas Flat Profile Segment Assignment Process by eliminating the need for ERCOT to validate for weather-sensitive Load on an Advanced Metering System (AM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10/14, COPS unanimously voted to recommend approval of LPGRR052 as recommended by PWG in the 8/25/14 PWG Report.  The Consumer Market Segment was not present for the vo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MGRR037, Market Notification for Ad Hoc Invoices and COPMG Cleanup (Vote) </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mmercial Operations Market Guide Revision Request (COPMGRR) updates the Commercial Operations Market Guide (COPMG) to reflect current market practices and proposes changes to market communication for ad hoc Invoices, aligning the COPMG with revisions proposed in NPRR618.</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10/14, COPS unanimously voted to recommend approval of COPMGRR037 as recommended by CSWG in the 7/28/14 CSWG Rep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discussion items: EPS metering Holiday Work Schedules (cont.)</a:t>
            </a:r>
            <a:endParaRPr b="0" lang="en-US" sz="2000" spc="-1" strike="noStrike">
              <a:solidFill>
                <a:srgbClr val="000000"/>
              </a:solidFill>
              <a:latin typeface="Arial Black"/>
            </a:endParaRPr>
          </a:p>
        </p:txBody>
      </p:sp>
      <p:sp>
        <p:nvSpPr>
          <p:cNvPr id="91"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 EPS meter  data communication over long holidays.</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roactively reaching to TDSPs for the Thanksgiving and Christmas holidays  when the ERCOT market will settle first time OD + 5.</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on Tucker’s e-mail to MWG on 9/22/14).</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the Settlement Metering Operating Guides, the Saturdays during the 4 day holiday periods for Thanksgiving and Christmas will be scheduled work days requiring the resolution of:</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er events where there is a potential impact to data qual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ion issues.</a:t>
            </a:r>
            <a:endParaRPr b="0" lang="en-US" sz="16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08. EPS Meter Holiday Work Sched 2014</a:t>
            </a:r>
            <a:r>
              <a:rPr b="0" lang="en-US" sz="1200" spc="-1" strike="noStrike">
                <a:solidFill>
                  <a:srgbClr val="000000"/>
                </a:solidFill>
                <a:latin typeface="Arial"/>
              </a:rPr>
              <a:t>  (link for the presentation by ERCOT)</a:t>
            </a:r>
            <a:br>
              <a:rPr sz="1200"/>
            </a:br>
            <a:r>
              <a:rPr b="0" lang="en-US" sz="1200" spc="-1" strike="noStrike">
                <a:solidFill>
                  <a:srgbClr val="000000"/>
                </a:solidFill>
                <a:latin typeface="Arial"/>
              </a:rPr>
              <a:t>(09/09/2014, ppt, 1.1 MB).</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Tucker sent email out to the Meter Working Group on 09/22/14.</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SWG from web-ex meeting on 8/25/14</a:t>
            </a:r>
            <a:endParaRPr b="0" lang="en-US" sz="2000" spc="-1" strike="noStrike">
              <a:solidFill>
                <a:srgbClr val="000000"/>
              </a:solidFill>
              <a:latin typeface="Arial Black"/>
            </a:endParaRPr>
          </a:p>
        </p:txBody>
      </p:sp>
      <p:sp>
        <p:nvSpPr>
          <p:cNvPr id="93" name=""/>
          <p:cNvSpPr txBox="1"/>
          <p:nvPr/>
        </p:nvSpPr>
        <p:spPr>
          <a:xfrm>
            <a:off x="228600" y="762120"/>
            <a:ext cx="8229600" cy="5943600"/>
          </a:xfrm>
          <a:prstGeom prst="rect">
            <a:avLst/>
          </a:prstGeom>
          <a:noFill/>
          <a:ln w="0">
            <a:noFill/>
          </a:ln>
        </p:spPr>
        <p:txBody>
          <a:bodyPr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will continue to meet via remote Web Ex conference calls unless issues warrant a in person meeting.</a:t>
            </a: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will began two initiatives defined during July 28 meeting:</a:t>
            </a:r>
            <a:endParaRPr b="1" lang="en-US" sz="2000" spc="-1" strike="noStrike">
              <a:solidFill>
                <a:srgbClr val="000000"/>
              </a:solidFill>
              <a:latin typeface="Arial"/>
            </a:endParaRPr>
          </a:p>
          <a:p>
            <a:pPr lvl="1" marL="628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fications- work with ERCOT staff and identify improvements and/or requirements from ERCOT Market Notices.</a:t>
            </a:r>
            <a:endParaRPr b="0" lang="en-US" sz="2000" spc="-1" strike="noStrike">
              <a:solidFill>
                <a:srgbClr val="000000"/>
              </a:solidFill>
              <a:latin typeface="Arial"/>
            </a:endParaRPr>
          </a:p>
          <a:p>
            <a:pPr lvl="1" marL="628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ttlements- Review the 2% rule and how reporting of Resettlements can be improved and/or enhanced.</a:t>
            </a: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will resume meeting in October, September meeting will be cancelled.</a:t>
            </a: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PS thanks Jim Galvin of Luminant for all his many years of  excellent leadership in CSWG. </a:t>
            </a: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will be electing new Chair.</a:t>
            </a: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68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from meeting on 08/25/14</a:t>
            </a:r>
            <a:br>
              <a:rPr sz="2000"/>
            </a:br>
            <a:endParaRPr b="0" lang="en-US" sz="2000" spc="-1" strike="noStrike">
              <a:solidFill>
                <a:srgbClr val="000000"/>
              </a:solidFill>
              <a:latin typeface="Arial Black"/>
            </a:endParaRPr>
          </a:p>
        </p:txBody>
      </p:sp>
      <p:sp>
        <p:nvSpPr>
          <p:cNvPr id="95" name=""/>
          <p:cNvSpPr txBox="1"/>
          <p:nvPr/>
        </p:nvSpPr>
        <p:spPr>
          <a:xfrm>
            <a:off x="457200" y="685800"/>
            <a:ext cx="8229600" cy="594360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PS Approved unanimously  to  authorize  MISUG to file the following draft NPPRs for October  PRS.</a:t>
            </a: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5 </a:t>
            </a:r>
            <a:r>
              <a:rPr b="1" lang="en-US" sz="1600" spc="-1" strike="noStrike">
                <a:solidFill>
                  <a:srgbClr val="000000"/>
                </a:solidFill>
                <a:latin typeface="Calibri"/>
                <a:ea typeface="Times New Roman"/>
              </a:rPr>
              <a:t>reports have been recommended for discontinuation/decommissioning</a:t>
            </a:r>
            <a:endParaRPr b="1"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ISUG has reviewed the 15 reports that have been recommended for discontinuation.</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mments have been solicited from all working groups and subcommittees.</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aving had no comments, MISUG is proposing the following NPRRs, LPGRR, and NOGRR to decommission the following reports.</a:t>
            </a:r>
            <a:endParaRPr b="0" lang="en-US" sz="1600" spc="-1" strike="noStrike">
              <a:solidFill>
                <a:srgbClr val="000000"/>
              </a:solidFill>
              <a:latin typeface="Arial"/>
            </a:endParaRPr>
          </a:p>
          <a:p>
            <a:pPr lvl="2" marL="8002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ecommission Market Report - Reliability Must Run Cost Data Deviation Requests/Responses.</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ation of RUC Payments Made to Resources with Power Purchase Agreements (PPA) Annual Report.</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e Profile Data Evaluation Report.</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ation of Ancillary Service Requirement Methodology Assessment Report (Vote).</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ation of the Long-Term Weekly Peak Demand Forecast, 36 Month Resource Capacity Report, and Projected Transmission Constraints for Medium Term PASA Reports.</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e Backup Control Plan Submittal Results, Dispatch Instructions Compliance Metrics, and Backup Control Plan Test Dates and Results Summary Reports.</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PRR, Discontinue Contingency List Changes Due to Weather Report.</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LPGRR, Discontinue Profile Data Evaluation Report.</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RAFT NOGRR, Delete grey boxes for Backup Control Plan Test Dates and Results Summary and Backup Control Plan Submittal Results.</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NOGRR084 Workshop – Daily Grid Operations Report</a:t>
            </a:r>
            <a:br>
              <a:rPr sz="2000"/>
            </a:br>
            <a:r>
              <a:rPr b="0" lang="en-US" sz="2000" spc="-1" strike="noStrike">
                <a:solidFill>
                  <a:srgbClr val="000000"/>
                </a:solidFill>
                <a:latin typeface="Arial Black"/>
              </a:rPr>
              <a:t>(cont.)</a:t>
            </a:r>
            <a:endParaRPr b="0" lang="en-US" sz="2000" spc="-1" strike="noStrike">
              <a:solidFill>
                <a:srgbClr val="000000"/>
              </a:solidFill>
              <a:latin typeface="Arial Black"/>
            </a:endParaRPr>
          </a:p>
        </p:txBody>
      </p:sp>
      <p:sp>
        <p:nvSpPr>
          <p:cNvPr id="97" name=""/>
          <p:cNvSpPr txBox="1"/>
          <p:nvPr/>
        </p:nvSpPr>
        <p:spPr>
          <a:xfrm>
            <a:off x="457200" y="685800"/>
            <a:ext cx="8229600" cy="594360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ERCOT Operations brought forward a list of data elements that MISUG agreed should be included in the Daily Grid Operations Report.</a:t>
            </a:r>
            <a:endParaRPr b="1"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Some data were identified as unnecessary.</a:t>
            </a: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Additional data were proposed.</a:t>
            </a:r>
            <a:endParaRPr b="0"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Next Steps</a:t>
            </a:r>
            <a:endParaRPr b="1"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Distribute list to working groups and subcommittees.</a:t>
            </a: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Further discussion at next MISUG meeting.</a:t>
            </a: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Draft language to reflect new requirements.</a:t>
            </a: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RCOT is researching questions that came up in the workshop.</a:t>
            </a: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Workshop was not well attended.</a:t>
            </a:r>
            <a:endParaRPr b="1"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124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cont.)</a:t>
            </a:r>
            <a:endParaRPr b="0" lang="en-US" sz="2000" spc="-1" strike="noStrike">
              <a:solidFill>
                <a:srgbClr val="000000"/>
              </a:solidFill>
              <a:latin typeface="Arial Black"/>
            </a:endParaRPr>
          </a:p>
        </p:txBody>
      </p:sp>
      <p:sp>
        <p:nvSpPr>
          <p:cNvPr id="99" name=""/>
          <p:cNvSpPr txBox="1"/>
          <p:nvPr/>
        </p:nvSpPr>
        <p:spPr>
          <a:xfrm>
            <a:off x="457200" y="685800"/>
            <a:ext cx="8229600" cy="594360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Upcoming Project Efforts</a:t>
            </a:r>
            <a:endParaRPr b="1" lang="en-US" sz="2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lanning (POI) website will be decommissioned.</a:t>
            </a:r>
            <a:endParaRPr b="0" lang="en-US" sz="2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formation will be archived or moved to the MIS, as appropriate.</a:t>
            </a:r>
            <a:endParaRPr b="0" lang="en-US" sz="20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SCR 775 (Dashboard display for LZ Indicative LMPs).</a:t>
            </a:r>
            <a:endParaRPr b="0" lang="en-US" sz="2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ISUG will serve as the forum for the development and feedback for this project.</a:t>
            </a:r>
            <a:endParaRPr b="0" lang="en-US" sz="20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Market Reports True-Up is an on-going MISUG effort.</a:t>
            </a:r>
            <a:endParaRPr b="0" lang="en-US" sz="22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valuate existing reports for usefulness and accuracy.</a:t>
            </a:r>
            <a:endParaRPr b="0" lang="en-US" sz="2000" spc="-1" strike="noStrike">
              <a:solidFill>
                <a:srgbClr val="000000"/>
              </a:solidFill>
              <a:latin typeface="Arial"/>
            </a:endParaRPr>
          </a:p>
          <a:p>
            <a:pPr lvl="2" marL="8002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Next Meeting: September 29, 2014 – WebEx only.</a:t>
            </a:r>
            <a:endParaRPr b="1" lang="en-US" sz="2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a:t>
            </a:r>
            <a:endParaRPr b="0" lang="en-US" sz="2000" spc="-1" strike="noStrike">
              <a:solidFill>
                <a:srgbClr val="000000"/>
              </a:solidFill>
              <a:latin typeface="Arial Black"/>
            </a:endParaRPr>
          </a:p>
        </p:txBody>
      </p:sp>
      <p:sp>
        <p:nvSpPr>
          <p:cNvPr id="101" name=""/>
          <p:cNvSpPr txBox="1"/>
          <p:nvPr/>
        </p:nvSpPr>
        <p:spPr>
          <a:xfrm>
            <a:off x="304920" y="10663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LED OCTOBER COPS MEE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EVERY OTHER MONTH IS COPS’ GOAL FOR 201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PS MEETING IS ON  WEDNESDAY, NOV. 5, 2014.</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TO PROVIDE COPS’ 2015 GOALS TO TA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a:t>
            </a:r>
            <a:endParaRPr b="0" lang="en-US" sz="2000" spc="-1" strike="noStrike">
              <a:solidFill>
                <a:srgbClr val="000000"/>
              </a:solidFill>
              <a:latin typeface="Arial Black"/>
            </a:endParaRPr>
          </a:p>
        </p:txBody>
      </p:sp>
      <p:pic>
        <p:nvPicPr>
          <p:cNvPr id="103" name="Picture 6" descr="C:\Documents and Settings\basaranh\Local Settings\Temporary Internet Files\Content.IE5\JIWL6VC7\MC900156053[1].wmf"/>
          <p:cNvPicPr/>
          <p:nvPr/>
        </p:nvPicPr>
        <p:blipFill>
          <a:blip r:embed="rId1"/>
          <a:stretch/>
        </p:blipFill>
        <p:spPr>
          <a:xfrm>
            <a:off x="2133720" y="1884240"/>
            <a:ext cx="4343400" cy="26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Albracht, Brittney</cp:lastModifiedBy>
  <dcterms:modified xsi:type="dcterms:W3CDTF">2014-09-24T22:23:09Z</dcterms:modified>
  <cp:revision>982</cp:revision>
  <dc:subject/>
  <dc:title>Instructions</dc:title>
</cp:coreProperties>
</file>