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48A7-E597-4B1D-9FBA-9D0A7359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D89A-1B38-4D5F-A89E-EFA9525C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22D1-30AB-4D16-B77A-DC8C630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5F1A-CC2D-4E32-A0E2-8BAD137B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FF0D-83C5-4A70-9D35-0379236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E819-FF38-4F2C-9234-B31522C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4B15-CC25-499D-95EE-47032B7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29DD-44F3-46DF-8C01-7C3D4425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E93F-1129-4D6A-A3F6-DDDBE0D5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3FBE-8675-47F8-8FD0-E7D535ED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5B00-076A-4798-AD61-97ACD632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4431-0277-4FB0-A2BF-58E5B844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458040"/>
            <a:ext cx="698760" cy="2538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838640" y="649404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25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logo_C"/>
          <p:cNvPicPr/>
          <p:nvPr/>
        </p:nvPicPr>
        <p:blipFill>
          <a:blip r:embed="rId2"/>
          <a:stretch/>
        </p:blipFill>
        <p:spPr>
          <a:xfrm>
            <a:off x="63360" y="6458040"/>
            <a:ext cx="698760" cy="253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logo_C"/>
          <p:cNvPicPr/>
          <p:nvPr/>
        </p:nvPicPr>
        <p:blipFill>
          <a:blip r:embed="rId2"/>
          <a:stretch/>
        </p:blipFill>
        <p:spPr>
          <a:xfrm>
            <a:off x="63360" y="6458040"/>
            <a:ext cx="698760" cy="253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logo_C"/>
          <p:cNvPicPr/>
          <p:nvPr/>
        </p:nvPicPr>
        <p:blipFill>
          <a:blip r:embed="rId2"/>
          <a:stretch/>
        </p:blipFill>
        <p:spPr>
          <a:xfrm>
            <a:off x="63360" y="6458040"/>
            <a:ext cx="698760" cy="253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7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8"/>
          </p:nvPr>
        </p:nvSpPr>
        <p:spPr>
          <a:xfrm>
            <a:off x="7838640" y="649404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109-6881-40B1-8252-DB7E61E38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S Summer Performance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Patter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S-30 Performance (Jan, 6, 2014 Event)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851040" y="5452920"/>
            <a:ext cx="8292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01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 is based on 15-minute interval da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01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is based on a prorated obligation for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al 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(11.57 minutes) therefore prorated obligation fo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al interval was 86.11 M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01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et response = 94.831 M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5"/>
          <p:cNvSpPr/>
          <p:nvPr/>
        </p:nvSpPr>
        <p:spPr>
          <a:xfrm>
            <a:off x="4584600" y="4267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Chart 8" descr=""/>
          <p:cNvPicPr/>
          <p:nvPr/>
        </p:nvPicPr>
        <p:blipFill>
          <a:blip r:embed="rId1"/>
          <a:stretch/>
        </p:blipFill>
        <p:spPr>
          <a:xfrm>
            <a:off x="500040" y="609480"/>
            <a:ext cx="8167680" cy="484668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1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ABF-5F58-429B-A73B-E45F6A7665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S-10 Performance (Jan 6, 2014 Eve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485640" y="5181480"/>
            <a:ext cx="854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 is based on 15-minute interval dat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is based on a prorated obligation for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al interval and one full interva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Resource had prescheduled unavailability from HE0900 - 1600 on the day of the event (14.6 MW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et wide obligation less scheduled unavailability = 495.72 M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et Response = 594.86 M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4332240"/>
          </a:xfrm>
          <a:prstGeom prst="rect">
            <a:avLst/>
          </a:prstGeom>
          <a:ln w="0">
            <a:noFill/>
          </a:ln>
        </p:spPr>
      </p:pic>
      <p:sp>
        <p:nvSpPr>
          <p:cNvPr id="266" name="Date Placeholder 1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DA2-50BF-42A7-8034-4FC27E6E24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.6 MWs obligated in both BH2 (1 – 4 p.m.) and BH3 (4 – 8 pm) for June through September S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Resources (residential aggreg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Requirements (minimum 1 and maximum of 2 per mon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tests performed during current S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n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 Aug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-date in September (data not yet available for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B31-A2B3-4176-8F71-70E7FA224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4603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533520" y="5410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art: 15:24: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MW Reduction: 21.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op: 17:02: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M Dry Bulb: 92.8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559440" y="10476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3AE-0802-4D28-8762-8BE10D9B6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45720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art: 16:42:3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MW Reduction: 16.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op: 18:17: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M Dry Bulb: 94.0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"/>
          <p:cNvSpPr/>
          <p:nvPr/>
        </p:nvSpPr>
        <p:spPr>
          <a:xfrm>
            <a:off x="635760" y="15228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36E-CD25-4261-891B-9F6120160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45720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art: 16:03: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MW Reduction: 16.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op: 18:31: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M Dry Bulb: 96.3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635760" y="15228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526-27CE-44E8-9628-0523FCDF0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45720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art: 15:26: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MW Reduction: 21.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 Stop: 17:48: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M Dry Bulb: 99.3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635760" y="15228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1927-B690-4AA8-B23C-A223E64AA0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635760" y="15228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117440" y="1066680"/>
            <a:ext cx="6959880" cy="3043440"/>
          </a:xfrm>
          <a:prstGeom prst="rect">
            <a:avLst/>
          </a:prstGeom>
          <a:ln w="0">
            <a:noFill/>
          </a:ln>
        </p:spPr>
      </p:pic>
      <p:sp>
        <p:nvSpPr>
          <p:cNvPr id="246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F96-C70C-4774-B166-FE0944E0A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n-Weather Sensitive ERS Performa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Weather Sensitive ERS Resources are subject to deployment test every 365 day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ful deployment during deployment event will meet the annual testing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bligated non-weather sensitive ERS Resources (both 10 and 30-Minute) successfully deployed during the January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vent but new resources or reconstituted resources will have a testing requirement throughout the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no deployment event during the summer 2014 (to-date) there is no fleet wide event performance available to re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1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47A-6BB0-4EF5-8E2D-078491EB20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5200" y="7617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6, 2014 ERS Deploymen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15440" cy="24098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729720" y="15228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n-Weather Sensitive ER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7839000" y="649440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028B-631D-4E77-B9C2-80BB90E6E1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Patterson, Mark</cp:lastModifiedBy>
  <dcterms:modified xsi:type="dcterms:W3CDTF">2014-09-19T20:37:48Z</dcterms:modified>
  <cp:revision>492</cp:revision>
  <dc:subject/>
  <dc:title>Instructions</dc:title>
</cp:coreProperties>
</file>