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953D-23A3-4F2E-ADAE-F774500B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EF2-8B37-48D1-93F2-8D66DCFE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C507-E1A3-442F-95CA-411BE913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27C9-96B9-4C9E-8DB0-B24BE654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F199-5D4B-4983-8B9D-D645DACD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142D-ACDD-4F52-B307-D01793AF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782D-6BCC-40CF-BA1B-2EFF6AF2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7438-4E5B-427D-80F5-D1CE692D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4A67-57FF-4C96-AEB3-D1C9BE44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58E3-D5F0-4507-B5A1-79A3E4EE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E93B-FD96-4DBB-AF70-135929C1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4505-2AD6-45AD-850D-E607C8686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2CB988-9769-4682-A3F4-D1078910C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66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69CB48-9088-4E99-9F2D-814481877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507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7F28D4-8422-4107-BAA0-2F394E44B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ftr" idx="1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F6299D-525E-45F9-AEB4-EEF349CC43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53DD13-7995-4942-9D8B-67DA1A204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12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BA791B-AA91-49D0-A399-4DF2EE8D2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170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D5B7D-A351-4EFC-B53B-C6B0F3DB5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14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8D954A-0AB8-46F4-BF28-F13057E0B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58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3CED74-F65E-4A36-9B5A-3432554B8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30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31685A-9B7B-44A5-A8D4-57BAE2DC3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345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C91351-285E-46B0-81FD-0A37B8B1F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725400" y="132516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PS Me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liday Work Sched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 &amp; C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 Tuc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9 &amp; 1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3"/>
          <p:cNvSpPr/>
          <p:nvPr/>
        </p:nvSpPr>
        <p:spPr>
          <a:xfrm>
            <a:off x="662040" y="1387440"/>
            <a:ext cx="7750080" cy="43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TDSP Notification by ERCOT of Communication Problems with EPS 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Settlement Metering Process - 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fy the Transmission and/or Distribution Service Provider (TDSP) repair contact via phone and e-mail as soon as reasonably possible.  Note:  the TDSP repair contact was established by the TDSP in response to an e-mail request from ERCOT.  ERCOT may issue such a notification on a Business Day or on a Saturday where weekends and ERCOT holidays result in four consecutive days that are not Business Days.  The target time frame for such a notification is 09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Monday through Friday, excluding observed holidays listed belo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        New Year’s Da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        Memorial Da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        Independence Da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)        Labor Da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)        Thanksgiving Thursday and Friday;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)        Two days at Christmas, as designated from time to time by the ERCOT CEO. 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8" name=""/>
          <p:cNvGraphicFramePr/>
          <p:nvPr/>
        </p:nvGraphicFramePr>
        <p:xfrm>
          <a:off x="409680" y="863640"/>
          <a:ext cx="8437320" cy="4255920"/>
        </p:xfrm>
        <a:graphic>
          <a:graphicData uri="http://schemas.openxmlformats.org/drawingml/2006/table">
            <a:tbl>
              <a:tblPr/>
              <a:tblGrid>
                <a:gridCol w="1057320"/>
                <a:gridCol w="874440"/>
                <a:gridCol w="1044720"/>
                <a:gridCol w="736560"/>
                <a:gridCol w="915840"/>
                <a:gridCol w="1059120"/>
                <a:gridCol w="915840"/>
                <a:gridCol w="917640"/>
                <a:gridCol w="915840"/>
              </a:tblGrid>
              <a:tr h="24444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ing Holiday Work Schedu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44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00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08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ANKSGIVING 20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00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772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 HOLIDA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/24/20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/25/20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/26/20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/27/20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/28/20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/29/20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/30/20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/1/20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/2/20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AS Process 11/24 OD               12-Hour Notic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AS Process 11/24 OD              6-Hour Notic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 for 11/24 O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80"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AS Process 11/25 OD           12-Hour Notic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 for 11/25 O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AS Process 11/25 OD              6-Hour Notic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AS Process 11/26 OD              6-Hour Notic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 for 11/26 O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AS Process 11/27 OD            12-Hour Notic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 for 11/27 O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AS Process 11/27 OD              6-Hour Notic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AS Process 11/28 OD            12-Hour Notic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AS Process 11/28 OD              12-Hour Notic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 for 11/28 O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1448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528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 = Operating Da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ll range of functions;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44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s Issues (Meter notices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00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nt Handlin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44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tion Issu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"/>
          <p:cNvGraphicFramePr/>
          <p:nvPr/>
        </p:nvGraphicFramePr>
        <p:xfrm>
          <a:off x="606600" y="755640"/>
          <a:ext cx="7930800" cy="4525920"/>
        </p:xfrm>
        <a:graphic>
          <a:graphicData uri="http://schemas.openxmlformats.org/drawingml/2006/table">
            <a:tbl>
              <a:tblPr/>
              <a:tblGrid>
                <a:gridCol w="1009440"/>
                <a:gridCol w="912960"/>
                <a:gridCol w="798480"/>
                <a:gridCol w="701640"/>
                <a:gridCol w="874800"/>
                <a:gridCol w="1009440"/>
                <a:gridCol w="874800"/>
                <a:gridCol w="874800"/>
                <a:gridCol w="874440"/>
              </a:tblGrid>
              <a:tr h="2397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S Metering Holiday Work Schedu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20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5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304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ISTMAS 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5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20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5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60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COT HOLIDA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/22/20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/23/20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/24/20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/25/20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/26/20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/27/20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/28/20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/29/20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/30/20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AS Process 12/22 OD                                                          12-Hour Notic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AS Process 12/22 OD              6-Hour Notic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 for 12/22 O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AS Process 12/23 OD    12-Hour Notic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 for 12/23 O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AS Process 12/23 OD              6-Hour Notic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AS Process 12/24 OD              6-Hour Notic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 for 12/24 O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AS Process 12/25 OD            12-Hour Notic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 for 12/25 O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AS Process 12/25 OD              6-Hour Notic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AS Process 12/26 OD            12-Hour Notic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AS Process 12/26 OD              12-Hour Notic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gg Run for 12/26 OD           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1268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 D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772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 = Operating Da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ll range of functions;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20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s Issues (Meter notices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5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nt Handlin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20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tion Issu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lifton, Susan</cp:lastModifiedBy>
  <cp:lastPrinted>2014-05-01T15:23:10Z</cp:lastPrinted>
  <dcterms:modified xsi:type="dcterms:W3CDTF">2014-09-09T20:04:31Z</dcterms:modified>
  <cp:revision>383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>Public</vt:lpwstr>
  </property>
</Properties>
</file>