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2E14-A586-4799-8E91-217EBABE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2D5-56EA-42CE-824A-93A7A19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A18-AFEF-4C4C-A18E-BC85CDE4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975-FB4B-4095-81D4-1DA54AB8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9F3-53C7-4324-B629-934ED6E0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0F2-7862-4AD7-9180-4BF1DF22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541-7D66-406A-9943-1A89D652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5D2E-48DB-4E3C-8B19-6A9BC755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6D9-ADFB-486A-ABEB-20B1B58C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A30-8ECC-4A94-B25D-818F8B1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DD3-E39C-4E2D-8E9D-FC8EEF0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A76-1987-45B0-8987-277BE42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560D-AF19-4C7B-8A58-D022905D9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WG Upd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9-4-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GRR003 - Modifications to Improve Wind Fore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mmar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Resource Registration Glossary Revision Request (RRGRR) proposes modifications to the Resource Registration Glossary to improve ERCOT wind forecasting during weather related shutdown even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questing vote for urgency status and approv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DWG Consens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DWG endorses request for Urgency stat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DWG endorses the RRGRR with modifications identified in RDWG Report 081914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GRR004 - Steam Pressure Curve Information for Implementation of Regional Reliability Standard BAL-001-TRE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ummar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Resource Registration Glossary Revision Request (RRGRR) is needed to calculate the initial performance requirement for conventional steam turbine generators to support implementation of Regional Reliability Standard BAL-001-TRE-1, which becomes effective April 1, 201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uthor is requesting Urgency statu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DWG has not yet officially reviewed the RRGRR, but an informal review indicates a need for wording changes in the Detailed Description se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cellaneous Upd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inuing to review Resource Registration Gloss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n Form -  Planning, Protection, and Sub Sync Tab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R781 - MP Online Data Entry – Market Requirements currently at PRS waiting for IA revie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DWG chair will ensure that future RRGRRs are sent to ROS listserv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xt Meeting:  September 16, 20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8T14:10:42Z</dcterms:created>
  <dc:creator>Oncor</dc:creator>
  <dc:description/>
  <dc:language>en-US</dc:language>
  <cp:lastModifiedBy>NRGAdmin</cp:lastModifiedBy>
  <dcterms:modified xsi:type="dcterms:W3CDTF">2014-08-28T15:05:26Z</dcterms:modified>
  <cp:revision>3</cp:revision>
  <dc:subject/>
  <dc:title>RDWG Update</dc:title>
</cp:coreProperties>
</file>