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51F-1D79-45F6-BF78-67115F64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E28-A637-480C-A6AF-DDC85936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06F-700E-4FB8-A52B-242760C4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247-8BA8-4AC0-88A6-E0282EC8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913-7D49-4A5A-9FC3-4272E182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B55-8FE2-4A71-AA1D-CD588991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002-AAD2-4C1B-8F04-5D8D8534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5DA-4546-4ADF-BD1F-F848A6AB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12E-568C-4134-858C-7B17656C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320-CAE5-45A0-AAB3-5A92555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3A8-1414-4B06-8D19-B4053629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E4B-9F6E-46A6-9D50-D0485FB7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796D-600F-4230-9410-10C8677CBB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F7F7-BE36-45CE-8CD3-8E509D48F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ember 3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160" y="17524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raft NPRR for Resource Specific Fuel Pr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CE Indices for Real-Time MOC’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517B-39A4-440E-BC93-8DB50B5D4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B484-6FB0-4199-B934-C96F3CD7E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Draft NPRR for Resource Specific Fuel P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 Resource-specific Fuel Price (RFP) equal to eith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P (HSC), Waha, or Maximum of FIP or Wah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 dispute process for Resources mitigated below their cost due to exceptional fuel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language to RUC make-wh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lift allocated by L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ptional Event:  Actual price paid for delivered gas must be greater than RFP plus a threshold fuel p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reshold Fuel Price to be defined in the VC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CWG discussed a Threshold Fuel Price of at least $2/MMBtu or grea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-whole cost calculated as follo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culate a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djuste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tigated Offer Curve for the Resource utilizing its approved Verifiable Costs and the verified actual fuel cos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ke-whole calculated as the positive difference between the minimum of the price from the adjusted Mitigated Offer Curve or the Energy Offer Curve, and the real-time Settlement Point Price (i.e. price from original MOC), times the minimum of the aggregated base point or metered gener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F69C-E367-4D86-BB57-29F4F89F1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7"/>
          <p:cNvSpPr/>
          <p:nvPr/>
        </p:nvSpPr>
        <p:spPr>
          <a:xfrm>
            <a:off x="685800" y="5486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[ IHR x (RFP + fuel adder) + VOM] x CF Multip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justed MOC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[ IHR x (verified actual fuel cost + 0) +VOM] x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ke-Who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[Min(EOC, Adjusted MOC) – Original MOC] x Min(Agg. Base Point, Metered Gener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hart 8" descr=""/>
          <p:cNvPicPr/>
          <p:nvPr/>
        </p:nvPicPr>
        <p:blipFill>
          <a:blip r:embed="rId1"/>
          <a:stretch/>
        </p:blipFill>
        <p:spPr>
          <a:xfrm>
            <a:off x="835200" y="1517760"/>
            <a:ext cx="7265880" cy="3743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-Whole Calculation for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ptvinson</cp:lastModifiedBy>
  <dcterms:modified xsi:type="dcterms:W3CDTF">2014-08-28T16:10:26Z</dcterms:modified>
  <cp:revision>211</cp:revision>
  <dc:subject/>
  <dc:title>QMWG Update to WMS</dc:title>
</cp:coreProperties>
</file>