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4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2"/>
          <p:cNvSpPr>
            <a:spLocks noGrp="1"/>
          </p:cNvSpPr>
          <p:nvPr>
            <p:ph type="dt" idx="34"/>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4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65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1" name="PlaceHolder 5"/>
          <p:cNvSpPr>
            <a:spLocks noGrp="1"/>
          </p:cNvSpPr>
          <p:nvPr>
            <p:ph type="ftr" idx="35"/>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2" name="PlaceHolder 6"/>
          <p:cNvSpPr>
            <a:spLocks noGrp="1"/>
          </p:cNvSpPr>
          <p:nvPr>
            <p:ph type="sldNum" idx="36"/>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33B9D-7171-495F-9536-F48B40C8B86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81160" y="696960"/>
            <a:ext cx="4648320" cy="3486240"/>
          </a:xfrm>
          <a:prstGeom prst="rect">
            <a:avLst/>
          </a:prstGeom>
          <a:ln w="0">
            <a:noFill/>
          </a:ln>
        </p:spPr>
      </p:sp>
      <p:sp>
        <p:nvSpPr>
          <p:cNvPr id="6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BB29E4-C0C0-4E3E-AE91-4C890B6B8C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BDD53-54C4-4845-9400-A37372124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24307-527E-4D04-ACCF-86E2E47F3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45D83EC-A48C-4023-B54D-DE111D7D390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D896EDE-88DA-49D0-AA69-742CCAECB06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A54E915-E6C4-40FE-924F-29DDABC1060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A0019D2-4020-4607-B888-F7A0164FAEB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AB359D7-A5DA-4006-87D3-70127841167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8EDFD46-C9DB-4DB4-8113-F2C63B25BF8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E00B61E-2ECC-4D4F-907A-490ADB85D12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2B54633-E175-4C65-9246-0A5ECC02CFA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F2CF3C8-1639-41A1-9052-76AFA5075D0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36440BB1-40C8-41A0-821E-055BACFB56A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1DDCC-8134-48AD-9632-9D9A52F64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77406B02-5F3E-4302-8BB9-DE658E879E9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D1A5813E-2181-4421-BC29-EBEEF5DE12D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4CE5879F-C082-4D79-B9DA-1711012A38F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FFCF0045-C1D8-4170-A0EB-55EF78CE7A5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E2AECEB5-A815-4ACE-839C-F194C874C4C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3D184623-36DB-4C47-B731-2E5472E5EED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B65359FD-3AA2-498A-82F7-531E4183FBC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A38E0772-753A-4101-83AE-134C9C53DB0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CE3EB2F9-3590-4C94-8366-D63B35DBA00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EE7DD4AE-B04D-410E-A9FB-6A9364D33C6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3F2C5-BDD4-471A-A325-9D5A3B4A1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DD7BDB7A-94E0-4F44-850E-0CC69C12EDF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962D160-C069-4B22-9145-09D47EF78D5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9DC7FCD-22BE-4909-BC3B-FB4FC95093B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862E5DB-8571-42E8-933A-518E49B25FF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010CB57-E3D6-488D-AD70-C2F46D2AA90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FFA5460-9F72-4193-9AE9-A89C63524E5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75A0B4D-7CB0-41A0-928E-0294954ECF6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BC36B77-77D7-4324-AE75-AEAC5035B49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4D83D53-F1B8-46B0-A4A2-2BBF1FFC2CA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0A97D31-9194-4B12-AA87-765AB65059E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C7925-BDBC-4D54-8424-E6454AE719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8CAA780-D5D7-4BB4-8FBB-070BE0F48B1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5623133-45C5-4281-9268-744BA302F2D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FBB6D52-CD20-4FAF-AE74-9054E3222DF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0"/>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B3677-81E8-4FB3-B9DA-29DD697B4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1"/>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1"/>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1"/>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9BC9E-F379-4261-AE9C-5EEE0E478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1"/>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1"/>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1"/>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1"/>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4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1"/>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1"/>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1"/>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F0F0A-DE17-400A-8445-6B0234B04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2"/>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EE55D-CBCF-4118-9808-6B53E5F31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3"/>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3"/>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3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854E7-3752-497B-807C-6D8E17B66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149F6-8B17-4623-8BE9-7E0A21741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F88AD-C8C0-4D3F-8CC9-9EAE84912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8BE34-A8F7-48F2-B423-17B5B665E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74E68-ACC7-4B83-83C2-F18151612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25D14-340D-4A8C-B3D4-0CC72EF7D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895B0-625F-463D-A910-DAF387D82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DBC57-8FF9-45BA-BF72-90F9D796A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2082A-B6BB-4142-B109-EE7790E63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BABF5-EE5A-4DF5-8861-8A1EF2407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05AA59B-328F-4A85-AE10-2242ADBDF23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D4E48-650D-4CEF-BEAC-7A400BC79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EB35C39-3A3F-4E40-9B25-E4EEBD55638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DF24851-A70F-4760-BE91-E4371BD5CE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5B862F7-227A-4F29-8ADD-16CCA3B546D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0887094-7B38-4060-9B58-C1CA4CC8368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D077AE5-0C39-418C-A1F7-A145C8C4074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0AD2CC-7FF8-4514-BCF7-DAEF730DFF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7048FE-107E-47FA-B4CF-DBAB560132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CC954F-D143-4A43-98ED-C83AF08D8B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BB994E9-6CC1-4C94-B54F-AED57871A63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D0ACF02-38DF-46E8-8F0F-B6BCFDC6D0A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9D100-2FD3-430C-9499-8FF509D77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079B5CC-78DF-4877-BEBA-A33433DC17B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D9578047-C5F0-4BEE-B762-49F00D9FBDC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81691208-CD13-4747-A8B3-1602A6ECEBD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83B3FDDA-33EA-4CA1-A3CF-3FDAE238CA8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82295758-AF3C-4FB3-8F81-957BD6ED76D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D9C7F10A-095A-4196-B458-3A09B02AFEE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3935EFD5-DA54-41B9-96C1-AB380EB69BB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D8AEDBB7-EFE4-4C60-8FDF-82FE5927629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7EC74EAB-BF86-45D3-8F75-2DB564A26E5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EFB25927-BE08-4F87-B994-83FF925245E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B78D5-0049-4120-964C-156234556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2CD243BE-2133-4D55-BAAE-ABD54318622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18ECABDC-D5F9-4124-BB57-33D2A66EF4B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56B7B9F8-DBEA-433C-A6D8-518FB09CCC0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39E8BFA4-C07A-4C3F-930D-A1CA8EC46E2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2E999CC9-6AF9-4BD6-80B5-6C60385C3C2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8886AF3D-DD7B-4134-98AC-53D1F237BBF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E655B2F1-27C2-4C42-87BD-76264E9AE71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C3DF59FE-99B8-4090-8272-3D181C43FC2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2C009A0A-A813-4035-810C-FAC781FEFB6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84F60A70-A951-4123-A724-D4B0655055B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16670-4C8B-4FAC-92C5-CE0E9525C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B5C9257F-760A-48D2-ADAB-6E35AC6E299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E3385DFA-BBD1-479F-9BEB-C61EE24C196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7ABFD925-74C9-4D27-AE4E-179034E6DB6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24FB97B2-8FAF-483E-BEC3-AE53EF79296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4EF52DD3-0763-4058-9782-AC1DFA8A08A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A1234B5E-9DF3-40D5-95F4-98DEEC21E99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6D6E5FA6-40A9-4300-A957-F3F1871BD1F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EF15B950-8292-47DB-B714-8BCC38BDC10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E4FA03EB-98BC-434B-9F0C-24F5413861D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98CE0D54-2A13-4ECA-A59E-C97E767F97F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E4054-606D-4EEF-9567-CB2FCDE5D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F980CFF8-2341-4879-B50E-3125EEF04B4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D7450945-1BF6-40BB-BBA8-B6AD05F1DD1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739E49E7-7F57-4B8B-BF19-0BC014B21A5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29CF458B-00F7-4E94-8912-49C4773C5D8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FF686123-5474-46AB-B951-DE1A3D55676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33C3581A-E521-480D-8F13-88197198568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01959AB2-1C12-4BB0-91BA-75A6235CFC2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07446BB-A390-4F18-935D-707BF8C7B6B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E8922DA-E6D3-493F-8F37-B1D3D7E8F89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463490C-634F-4943-B1DE-49A8483C0831}"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08080" y="-6480"/>
            <a:ext cx="8727840" cy="1372896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047A86-A95F-43F8-920B-561E1F2B96B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June 26, 2014 TAC Meeting</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4AB9F1-354B-4E73-A33F-62C4E4E4F5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87" name="PlaceHolder 3"/>
          <p:cNvSpPr>
            <a:spLocks noGrp="1"/>
          </p:cNvSpPr>
          <p:nvPr>
            <p:ph type="dt" idx="24"/>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401C3-6A6F-49FD-925B-3DCBFAF77CEF}"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388" name="PlaceHolder 4"/>
          <p:cNvSpPr>
            <a:spLocks noGrp="1"/>
          </p:cNvSpPr>
          <p:nvPr>
            <p:ph type="sldNum" idx="25"/>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189AA-F01E-4815-9414-F816E9EEBE09}"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389" name="PlaceHolder 5"/>
          <p:cNvSpPr>
            <a:spLocks noGrp="1"/>
          </p:cNvSpPr>
          <p:nvPr>
            <p:ph type="ftr" idx="26"/>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31" name="PlaceHolder 3"/>
          <p:cNvSpPr>
            <a:spLocks noGrp="1"/>
          </p:cNvSpPr>
          <p:nvPr>
            <p:ph type="dt" idx="27"/>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9CA294-E6A4-4A1A-8A7E-C9E9D0131750}"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432" name="PlaceHolder 4"/>
          <p:cNvSpPr>
            <a:spLocks noGrp="1"/>
          </p:cNvSpPr>
          <p:nvPr>
            <p:ph type="ftr" idx="28"/>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
        <p:nvSpPr>
          <p:cNvPr id="433" name="PlaceHolder 5"/>
          <p:cNvSpPr>
            <a:spLocks noGrp="1"/>
          </p:cNvSpPr>
          <p:nvPr>
            <p:ph type="sldNum" idx="29"/>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016653-BBAD-4BE8-8285-3E4942B8A5F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3" name="Straight Connector 9"/>
          <p:cNvSpPr/>
          <p:nvPr/>
        </p:nvSpPr>
        <p:spPr>
          <a:xfrm>
            <a:off x="247680" y="641520"/>
            <a:ext cx="8648640" cy="0"/>
          </a:xfrm>
          <a:prstGeom prst="line">
            <a:avLst/>
          </a:prstGeom>
          <a:ln w="1584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FA8EF-5839-40FF-AF79-0F6AAE2861D9}" type="slidenum">
              <a:rPr b="0" lang="en-US" sz="1200" spc="-1" strike="noStrike">
                <a:solidFill>
                  <a:srgbClr val="000000"/>
                </a:solidFill>
                <a:latin typeface="Tw Cen MT"/>
              </a:rPr>
              <a:t>&lt;number&gt;</a:t>
            </a:fld>
            <a:endParaRPr b="0" lang="en-US" sz="1200" spc="-1" strike="noStrike">
              <a:solidFill>
                <a:srgbClr val="000000"/>
              </a:solidFill>
              <a:latin typeface="Arial"/>
            </a:endParaRPr>
          </a:p>
        </p:txBody>
      </p:sp>
      <p:sp>
        <p:nvSpPr>
          <p:cNvPr id="4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7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77" name="PlaceHolder 3"/>
          <p:cNvSpPr>
            <a:spLocks noGrp="1"/>
          </p:cNvSpPr>
          <p:nvPr>
            <p:ph type="ftr" idx="30"/>
          </p:nvPr>
        </p:nvSpPr>
        <p:spPr>
          <a:xfrm>
            <a:off x="3124080" y="6194160"/>
            <a:ext cx="2895840" cy="199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w Cen MT"/>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7" name="Straight Connector 9"/>
          <p:cNvSpPr/>
          <p:nvPr/>
        </p:nvSpPr>
        <p:spPr>
          <a:xfrm>
            <a:off x="247680" y="641520"/>
            <a:ext cx="8648640" cy="0"/>
          </a:xfrm>
          <a:prstGeom prst="line">
            <a:avLst/>
          </a:prstGeom>
          <a:ln w="1584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670262-BE1A-4A98-9AFD-6C69392CA400}" type="slidenum">
              <a:rPr b="0" lang="en-US" sz="1200" spc="-1" strike="noStrike">
                <a:solidFill>
                  <a:srgbClr val="000000"/>
                </a:solidFill>
                <a:latin typeface="Tw Cen MT"/>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2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21" name="PlaceHolder 3"/>
          <p:cNvSpPr>
            <a:spLocks noGrp="1"/>
          </p:cNvSpPr>
          <p:nvPr>
            <p:ph type="ftr" idx="31"/>
          </p:nvPr>
        </p:nvSpPr>
        <p:spPr>
          <a:xfrm>
            <a:off x="3124080" y="6194160"/>
            <a:ext cx="2895840" cy="199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w Cen MT"/>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1" name="Straight Connector 9"/>
          <p:cNvSpPr/>
          <p:nvPr/>
        </p:nvSpPr>
        <p:spPr>
          <a:xfrm>
            <a:off x="247680" y="641520"/>
            <a:ext cx="8648640" cy="0"/>
          </a:xfrm>
          <a:prstGeom prst="line">
            <a:avLst/>
          </a:prstGeom>
          <a:ln w="1584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615D64-FE62-46E8-A5B5-DEBA4BDD1AC5}" type="slidenum">
              <a:rPr b="0" lang="en-US" sz="1200" spc="-1" strike="noStrike">
                <a:solidFill>
                  <a:srgbClr val="000000"/>
                </a:solidFill>
                <a:latin typeface="Tw Cen MT"/>
              </a:rPr>
              <a:t>&lt;number&gt;</a:t>
            </a:fld>
            <a:endParaRPr b="0" lang="en-US" sz="1200" spc="-1" strike="noStrike">
              <a:solidFill>
                <a:srgbClr val="000000"/>
              </a:solidFill>
              <a:latin typeface="Arial"/>
            </a:endParaRPr>
          </a:p>
        </p:txBody>
      </p:sp>
      <p:sp>
        <p:nvSpPr>
          <p:cNvPr id="5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6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65" name="PlaceHolder 3"/>
          <p:cNvSpPr>
            <a:spLocks noGrp="1"/>
          </p:cNvSpPr>
          <p:nvPr>
            <p:ph type="ftr" idx="32"/>
          </p:nvPr>
        </p:nvSpPr>
        <p:spPr>
          <a:xfrm>
            <a:off x="3124080" y="6194160"/>
            <a:ext cx="2895840" cy="199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w Cen MT"/>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5" name="Straight Connector 9"/>
          <p:cNvSpPr/>
          <p:nvPr/>
        </p:nvSpPr>
        <p:spPr>
          <a:xfrm>
            <a:off x="247680" y="641520"/>
            <a:ext cx="8648640" cy="0"/>
          </a:xfrm>
          <a:prstGeom prst="line">
            <a:avLst/>
          </a:prstGeom>
          <a:ln w="1584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AE40BB-8D68-42A9-844F-D5BE2B34310E}" type="slidenum">
              <a:rPr b="0" lang="en-US" sz="1200" spc="-1" strike="noStrike">
                <a:solidFill>
                  <a:srgbClr val="000000"/>
                </a:solidFill>
                <a:latin typeface="Tw Cen MT"/>
              </a:rPr>
              <a:t>&lt;number&gt;</a:t>
            </a:fld>
            <a:endParaRPr b="0" lang="en-US" sz="1200" spc="-1" strike="noStrike">
              <a:solidFill>
                <a:srgbClr val="000000"/>
              </a:solidFill>
              <a:latin typeface="Arial"/>
            </a:endParaRPr>
          </a:p>
        </p:txBody>
      </p:sp>
      <p:sp>
        <p:nvSpPr>
          <p:cNvPr id="6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60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09" name="PlaceHolder 3"/>
          <p:cNvSpPr>
            <a:spLocks noGrp="1"/>
          </p:cNvSpPr>
          <p:nvPr>
            <p:ph type="ftr" idx="33"/>
          </p:nvPr>
        </p:nvSpPr>
        <p:spPr>
          <a:xfrm>
            <a:off x="3124080" y="6194160"/>
            <a:ext cx="2895840" cy="199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w Cen MT"/>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3"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1A66E-28DE-4AF5-9C64-DE9F805B8ABF}"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
        <p:nvSpPr>
          <p:cNvPr id="4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F20B3C-7935-464D-A7AC-E47D7C76A04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6" name="Picture 11" descr=""/>
          <p:cNvPicPr/>
          <p:nvPr/>
        </p:nvPicPr>
        <p:blipFill>
          <a:blip r:embed="rId2"/>
          <a:stretch/>
        </p:blipFill>
        <p:spPr>
          <a:xfrm>
            <a:off x="208080" y="-6480"/>
            <a:ext cx="8727840" cy="13728960"/>
          </a:xfrm>
          <a:prstGeom prst="rect">
            <a:avLst/>
          </a:prstGeom>
          <a:ln w="0">
            <a:noFill/>
          </a:ln>
        </p:spPr>
      </p:pic>
      <p:sp>
        <p:nvSpPr>
          <p:cNvPr id="87" name="PlaceHolder 1"/>
          <p:cNvSpPr>
            <a:spLocks noGrp="1"/>
          </p:cNvSpPr>
          <p:nvPr>
            <p:ph type="ftr" idx="7"/>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5" name="Picture 11" descr=""/>
          <p:cNvPicPr/>
          <p:nvPr/>
        </p:nvPicPr>
        <p:blipFill>
          <a:blip r:embed="rId2"/>
          <a:stretch/>
        </p:blipFill>
        <p:spPr>
          <a:xfrm>
            <a:off x="208080" y="-6480"/>
            <a:ext cx="8727840" cy="13728960"/>
          </a:xfrm>
          <a:prstGeom prst="rect">
            <a:avLst/>
          </a:prstGeom>
          <a:ln w="0">
            <a:noFill/>
          </a:ln>
        </p:spPr>
      </p:pic>
      <p:sp>
        <p:nvSpPr>
          <p:cNvPr id="126"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98E7A-23AC-4E96-A756-8AF1C8A9F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ftr" idx="8"/>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6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69" name="PlaceHolder 3"/>
          <p:cNvSpPr>
            <a:spLocks noGrp="1"/>
          </p:cNvSpPr>
          <p:nvPr>
            <p:ph type="dt" idx="9"/>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1E8FD-19C3-4B8C-A717-0FFC0D5CA9B5}" type="datetime">
              <a:rPr b="0" lang="en-US" sz="2000" spc="-1" strike="noStrike">
                <a:solidFill>
                  <a:srgbClr val="ffffff"/>
                </a:solidFill>
                <a:latin typeface="Times New Roman"/>
              </a:rPr>
              <a:t>07/30/26</a:t>
            </a:fld>
            <a:endParaRPr b="0" lang="en-US" sz="2000" spc="-1" strike="noStrike">
              <a:solidFill>
                <a:srgbClr val="000000"/>
              </a:solidFill>
              <a:latin typeface="Times New Roman"/>
            </a:endParaRPr>
          </a:p>
        </p:txBody>
      </p:sp>
      <p:sp>
        <p:nvSpPr>
          <p:cNvPr id="170" name="PlaceHolder 4"/>
          <p:cNvSpPr>
            <a:spLocks noGrp="1"/>
          </p:cNvSpPr>
          <p:nvPr>
            <p:ph type="ftr" idx="10"/>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ebddc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ebddc3"/>
                </a:solidFill>
                <a:latin typeface="Times New Roman"/>
              </a:rPr>
              <a:t>June 26, 2014 TAC Meeting</a:t>
            </a:r>
            <a:endParaRPr b="0" lang="en-US" sz="1400" spc="-1" strike="noStrike">
              <a:solidFill>
                <a:srgbClr val="000000"/>
              </a:solidFill>
              <a:latin typeface="Times New Roman"/>
            </a:endParaRPr>
          </a:p>
        </p:txBody>
      </p:sp>
      <p:sp>
        <p:nvSpPr>
          <p:cNvPr id="171" name="PlaceHolder 5"/>
          <p:cNvSpPr>
            <a:spLocks noGrp="1"/>
          </p:cNvSpPr>
          <p:nvPr>
            <p:ph type="sldNum" idx="11"/>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ebddc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5E1715-C29D-4C24-9E44-CB678513D63C}"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1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13" name="PlaceHolder 3"/>
          <p:cNvSpPr>
            <a:spLocks noGrp="1"/>
          </p:cNvSpPr>
          <p:nvPr>
            <p:ph type="dt" idx="12"/>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BC047E-9FD2-4411-8D12-4EC13F0CDA45}"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214" name="PlaceHolder 4"/>
          <p:cNvSpPr>
            <a:spLocks noGrp="1"/>
          </p:cNvSpPr>
          <p:nvPr>
            <p:ph type="sldNum" idx="13"/>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1DE23-4D6F-4A62-9EA8-DF09D98BDCC2}"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215" name="PlaceHolder 5"/>
          <p:cNvSpPr>
            <a:spLocks noGrp="1"/>
          </p:cNvSpPr>
          <p:nvPr>
            <p:ph type="ftr" idx="14"/>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5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57" name="PlaceHolder 3"/>
          <p:cNvSpPr>
            <a:spLocks noGrp="1"/>
          </p:cNvSpPr>
          <p:nvPr>
            <p:ph type="dt" idx="15"/>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FD28A-1B38-45FF-B64C-409DEDA815E0}"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258" name="PlaceHolder 4"/>
          <p:cNvSpPr>
            <a:spLocks noGrp="1"/>
          </p:cNvSpPr>
          <p:nvPr>
            <p:ph type="sldNum" idx="16"/>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0F728-BE28-4736-BEDB-F2EBBD708B5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9" name="PlaceHolder 5"/>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0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01" name="PlaceHolder 3"/>
          <p:cNvSpPr>
            <a:spLocks noGrp="1"/>
          </p:cNvSpPr>
          <p:nvPr>
            <p:ph type="dt" idx="18"/>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469BBF-8C70-49C5-B7AC-67BA30A4DBF9}"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302" name="PlaceHolder 4"/>
          <p:cNvSpPr>
            <a:spLocks noGrp="1"/>
          </p:cNvSpPr>
          <p:nvPr>
            <p:ph type="sldNum" idx="19"/>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CBC79E-CA70-472D-970F-4500DB24FFD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3" name="PlaceHolder 5"/>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4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42" name="PlaceHolder 3"/>
          <p:cNvSpPr>
            <a:spLocks noGrp="1"/>
          </p:cNvSpPr>
          <p:nvPr>
            <p:ph type="dt" idx="2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4E2EC0-98F9-40DF-8DF2-1479B2EED673}"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343" name="PlaceHolder 4"/>
          <p:cNvSpPr>
            <a:spLocks noGrp="1"/>
          </p:cNvSpPr>
          <p:nvPr>
            <p:ph type="ftr" idx="2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
        <p:nvSpPr>
          <p:cNvPr id="344" name="PlaceHolder 5"/>
          <p:cNvSpPr>
            <a:spLocks noGrp="1"/>
          </p:cNvSpPr>
          <p:nvPr>
            <p:ph type="sldNum" idx="23"/>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75f55"/>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0F662D-194A-4835-BAAB-F90A9DDD11D2}"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3" name="Group 13"/>
          <p:cNvGrpSpPr/>
          <p:nvPr/>
        </p:nvGrpSpPr>
        <p:grpSpPr>
          <a:xfrm>
            <a:off x="787320" y="2804760"/>
            <a:ext cx="7543800" cy="2840760"/>
            <a:chOff x="787320" y="2804760"/>
            <a:chExt cx="7543800" cy="2840760"/>
          </a:xfrm>
        </p:grpSpPr>
        <p:sp>
          <p:nvSpPr>
            <p:cNvPr id="654"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RO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ill Hatfield</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4 RO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5" name="Straight Connector 12"/>
            <p:cNvSpPr/>
            <p:nvPr/>
          </p:nvSpPr>
          <p:spPr>
            <a:xfrm flipV="1">
              <a:off x="787320" y="2804760"/>
              <a:ext cx="6286680" cy="12600"/>
            </a:xfrm>
            <a:prstGeom prst="line">
              <a:avLst/>
            </a:prstGeom>
            <a:ln w="1908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
        <p:nvSpPr>
          <p:cNvPr id="656" name="Footer Placeholder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g 28,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OS Recommended Voting Items</a:t>
            </a:r>
            <a:endParaRPr b="0" lang="en-US" sz="4400" spc="-1" strike="noStrike">
              <a:solidFill>
                <a:srgbClr val="775f55"/>
              </a:solidFill>
              <a:latin typeface="Tw Cen MT"/>
            </a:endParaRPr>
          </a:p>
        </p:txBody>
      </p:sp>
      <p:sp>
        <p:nvSpPr>
          <p:cNvPr id="658"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st ROS meeting</a:t>
            </a:r>
            <a:endParaRPr b="0" lang="en-US" sz="29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uly 10, 2014</a:t>
            </a:r>
            <a:endParaRPr b="0" lang="en-US" sz="26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ext ROS meeting</a:t>
            </a:r>
            <a:endParaRPr b="0" lang="en-US" sz="29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eptember 4, 2014</a:t>
            </a:r>
            <a:endParaRPr b="0" lang="en-US" sz="26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vision Requests Recommended for Approval (TAC Action required)</a:t>
            </a:r>
            <a:endParaRPr b="0" lang="en-US" sz="29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NOGRR134 – Posting Process for Black Start Plans</a:t>
            </a:r>
            <a:endParaRPr b="0" lang="en-US" sz="2600" spc="-1" strike="noStrike">
              <a:solidFill>
                <a:srgbClr val="000000"/>
              </a:solidFill>
              <a:latin typeface="Tw Cen MT"/>
            </a:endParaRPr>
          </a:p>
          <a:p>
            <a:pPr lvl="2" marL="877680" indent="-219240">
              <a:lnSpc>
                <a:spcPct val="9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w Cen MT"/>
              </a:rPr>
              <a:t>ROS Motion to Approve per OWG: Passed Unanimously Via E-mail Vote</a:t>
            </a:r>
            <a:endParaRPr b="0" lang="en-US" sz="2300" spc="-1" strike="noStrike">
              <a:solidFill>
                <a:srgbClr val="000000"/>
              </a:solidFill>
              <a:latin typeface="Tw Cen MT"/>
            </a:endParaRPr>
          </a:p>
        </p:txBody>
      </p:sp>
      <p:sp>
        <p:nvSpPr>
          <p:cNvPr id="659" name="Footer Placeholder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g 28,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tatus of Assignments</a:t>
            </a:r>
            <a:endParaRPr b="0" lang="en-US" sz="4400" spc="-1" strike="noStrike">
              <a:solidFill>
                <a:srgbClr val="775f55"/>
              </a:solidFill>
              <a:latin typeface="Tw Cen MT"/>
            </a:endParaRPr>
          </a:p>
        </p:txBody>
      </p:sp>
      <p:sp>
        <p:nvSpPr>
          <p:cNvPr id="661"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view of ERCOT planning reports and processes</a:t>
            </a:r>
            <a:endParaRPr b="0" lang="en-US" sz="28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LWG will draft a white paper describing the differences between the CDR and the Planning Models and why they exist.  This paper will include, but not be limited to, reviewing generation assumptions,  load forecast assumptions, and data sources and availability.</a:t>
            </a:r>
            <a:endParaRPr b="0" lang="en-US" sz="2400" spc="-1" strike="noStrike">
              <a:solidFill>
                <a:srgbClr val="000000"/>
              </a:solidFill>
              <a:latin typeface="Tw Cen MT"/>
            </a:endParaRPr>
          </a:p>
          <a:p>
            <a:pPr lvl="2" marL="813600" indent="-2034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w Cen MT"/>
              </a:rPr>
              <a:t>Status: Progress underway </a:t>
            </a:r>
            <a:endParaRPr b="0" lang="en-US" sz="24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 addition, PLWG will review load scaling methodologies used in Planning Models and make a recommendation to ROS on appropriateness of methodologies.</a:t>
            </a:r>
            <a:endParaRPr b="0" lang="en-US" sz="2400" spc="-1" strike="noStrike">
              <a:solidFill>
                <a:srgbClr val="000000"/>
              </a:solidFill>
              <a:latin typeface="Tw Cen MT"/>
            </a:endParaRPr>
          </a:p>
          <a:p>
            <a:pPr lvl="2" marL="813600" indent="-2034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w Cen MT"/>
              </a:rPr>
              <a:t>Status: Progress underway</a:t>
            </a:r>
            <a:endParaRPr b="0" lang="en-US" sz="2400" spc="-1" strike="noStrike">
              <a:solidFill>
                <a:srgbClr val="000000"/>
              </a:solidFill>
              <a:latin typeface="Tw Cen MT"/>
            </a:endParaRPr>
          </a:p>
        </p:txBody>
      </p:sp>
      <p:sp>
        <p:nvSpPr>
          <p:cNvPr id="662" name="Footer Placeholder 2"/>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g 28,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tatus of Assignments</a:t>
            </a:r>
            <a:endParaRPr b="0" lang="en-US" sz="4400" spc="-1" strike="noStrike">
              <a:solidFill>
                <a:srgbClr val="775f55"/>
              </a:solidFill>
              <a:latin typeface="Tw Cen MT"/>
            </a:endParaRPr>
          </a:p>
        </p:txBody>
      </p:sp>
      <p:sp>
        <p:nvSpPr>
          <p:cNvPr id="6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ordinate with ERCOT the need to add (verify) resource temperature limits in RARF to improve forecasting of Wind Resources during icing and cold weather even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Tw Cen MT"/>
              </a:rPr>
              <a:t>Status: RRGRR003 (Modifications to Improve Wind Forecasting) is up for review and vote at Sept. 4 ROS meeting.</a:t>
            </a:r>
            <a:endParaRPr b="0" lang="en-US" sz="2600" spc="-1" strike="noStrike">
              <a:solidFill>
                <a:srgbClr val="000000"/>
              </a:solidFill>
              <a:latin typeface="Tw Cen MT"/>
            </a:endParaRPr>
          </a:p>
        </p:txBody>
      </p:sp>
      <p:sp>
        <p:nvSpPr>
          <p:cNvPr id="665" name="Footer Placeholder 2"/>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g 28,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tatus of Assignments</a:t>
            </a:r>
            <a:endParaRPr b="0" lang="en-US" sz="4400" spc="-1" strike="noStrike">
              <a:solidFill>
                <a:srgbClr val="775f55"/>
              </a:solidFill>
              <a:latin typeface="Tw Cen MT"/>
            </a:endParaRPr>
          </a:p>
        </p:txBody>
      </p:sp>
      <p:sp>
        <p:nvSpPr>
          <p:cNvPr id="6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valuate concerns that ERCOT is having to bring RUC units earlier than required because of unit start-up failures; review need for ERCOT Operating procedures for RUCing uni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Tw Cen MT"/>
              </a:rPr>
              <a:t>Status:  ROS working with ERCOT to review unit failures/trips/de-rates occurring during extreme cold weather events</a:t>
            </a:r>
            <a:endParaRPr b="0" lang="en-US" sz="2600" spc="-1" strike="noStrike">
              <a:solidFill>
                <a:srgbClr val="000000"/>
              </a:solidFill>
              <a:latin typeface="Tw Cen MT"/>
            </a:endParaRPr>
          </a:p>
        </p:txBody>
      </p:sp>
      <p:sp>
        <p:nvSpPr>
          <p:cNvPr id="668" name="Footer Placeholder 2"/>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g 28,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bhatfiel</cp:lastModifiedBy>
  <cp:lastPrinted>2013-01-30T23:16:36Z</cp:lastPrinted>
  <dcterms:modified xsi:type="dcterms:W3CDTF">2014-08-25T13:04:19Z</dcterms:modified>
  <cp:revision>576</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4C4FFC4A894504CB30DBFB7150C9A36</vt:lpwstr>
  </property>
  <property fmtid="{D5CDD505-2E9C-101B-9397-08002B2CF9AE}" pid="3" name="Information Classification">
    <vt:lpwstr/>
  </property>
</Properties>
</file>