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0E705F-515A-4087-B11A-DE9602BCC66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llenges, dearth of scarcity events in ‘13; overlap between 4CP and price response (occur at same time);still learning about product typ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449000-F7A0-482E-9C4C-68420F92B4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k direction on Augmented ORD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E30D26-47E7-407C-ABCB-BE7B405110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0C1D-2E28-4D4A-A099-A44BBDC41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107D-26DE-4E7A-A9AB-638137E2D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0BD7-43B1-42D7-BC9E-1CAD6469D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32B7-F7D9-4981-ABCB-55DD144E5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1129-47BB-49FD-BBF5-9A13A6F0D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F6FD-6316-4103-A943-BBC7894AB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3CD5-5AA3-45FF-950F-DD929A9B8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15B8-15E2-4539-AC9F-D9C90D3AC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6FD7-E661-48C8-A5A3-AECF21708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C16F-F457-4BB7-B047-52ACF1C7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6A27-2259-4279-987E-21583177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7D6B-42E3-45C1-8832-31DE45AF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FAE0CE-EF73-4114-B470-B6589E4DAE5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Wholesale Market Subcommittee Upd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240" y="3895200"/>
            <a:ext cx="3051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Prepared for the August 28th TAC mee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R Auction Limits (vo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MS endorsed a 2,500 per CRR AH transaction limit in the Long-Term Auction Sequ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rrently the limit is 2,000 per CRR A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goal is to increase utilization of the 200,000 overall transaction lim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overall transaction limit is scheduled to be uprated to 300,000 with the implementation of SCR779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CMRR004, Caps for Energy Storage Resources - Urgent (vote)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ecifies the values for the caps used in the mitigation and make-whole calculation process for Energy Storage Resourc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cilitates implementation of NPRR560 by utilizing manual processes and thereby avoids project cost impacts at this 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111240" y="-3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AC Assignment List Upda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804960" y="849240"/>
          <a:ext cx="7313400" cy="4043520"/>
        </p:xfrm>
        <a:graphic>
          <a:graphicData uri="http://schemas.openxmlformats.org/drawingml/2006/table">
            <a:tbl>
              <a:tblPr/>
              <a:tblGrid>
                <a:gridCol w="839520"/>
                <a:gridCol w="3237120"/>
                <a:gridCol w="3236760"/>
              </a:tblGrid>
              <a:tr h="432000">
                <a:tc gridSpan="3"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MS Assignments From The TA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760"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ignm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10080" rIns="10080" tIns="100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/9/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ider long-term solution for credit requirements in light of revisions to System Wide Offer Ca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Market Credit Working Group is looking into insurance that would absorb monies owed due to market defaults.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10080" rIns="10080" tIns="100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/5/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ew steps ERCOT utilizes in the CDR load forecas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COT’s analysis of incorporating ERS, Load Resources providing RRS, energy efficiency, and distributive generation in ongoing (~Fall 2014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10080" rIns="10080" tIns="100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/27/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ew Operating Procedure that ERCOT uses to determine when they need RUC (specifically RUC for bad weather)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duct a review of the RUC process in the newly created RUC Task Force.  Optimize market based tools and minimize RUC.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10080" rIns="10080" tIns="100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/27/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ated to NPRR582, Refinements to Testing ERS – address testing requirements for all Resource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MWG review ongo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10080" rIns="10080" tIns="100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/27/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ated to NPRR598, Clarify Inputs to PRC and ORDC – address additional ORDC enhancements including addressing bandwidth oscillat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MWG review to be conducted  on operational data during emergency condit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10080" rIns="10080" tIns="100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/30/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gmented ORDC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RR 627 Augmented ORDC to Include Reliability Factor Methodology  was referred to the RUC Task Force, however was rejected at PRS.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 Resources in SCED Upd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LRIS version 2 subgroup continues to work on proposals to facilitate direct participation in the real-time market by DR Q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MS will be receiving an update at its September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e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4T20:43:11Z</dcterms:created>
  <dc:creator>Systems Administrator</dc:creator>
  <dc:description/>
  <dc:language>en-US</dc:language>
  <cp:lastModifiedBy>Systems Administrator</cp:lastModifiedBy>
  <cp:lastPrinted>2014-03-25T15:14:24Z</cp:lastPrinted>
  <dcterms:modified xsi:type="dcterms:W3CDTF">2014-08-25T17:09:28Z</dcterms:modified>
  <cp:revision>147</cp:revision>
  <dc:subject/>
  <dc:title>The Wholesale Market Subcommittee</dc:title>
</cp:coreProperties>
</file>