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2"/>
          <p:cNvSpPr>
            <a:spLocks noGrp="1"/>
          </p:cNvSpPr>
          <p:nvPr>
            <p:ph type="dt" idx="3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65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1" name="PlaceHolder 5"/>
          <p:cNvSpPr>
            <a:spLocks noGrp="1"/>
          </p:cNvSpPr>
          <p:nvPr>
            <p:ph type="ftr" idx="3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2" name="PlaceHolder 6"/>
          <p:cNvSpPr>
            <a:spLocks noGrp="1"/>
          </p:cNvSpPr>
          <p:nvPr>
            <p:ph type="sldNum" idx="3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96DBC-8638-414B-AC36-7F131C8BA1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28154-434D-4A11-874A-250ABC002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69B25-3F69-4E47-BAC0-654F9C378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7C09-73DA-4B01-A734-7E56B85C1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C4377A6-8FA1-40A1-B22A-24E1657FAF0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F5905C-52B9-4FCD-A570-7484C3F51C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6DF91A-1D82-429A-970C-55684268545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613F99-544C-409E-B260-A7C427A3A0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DD139B-78E5-4AF4-A328-44D27A2304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D33166-4FDC-4B7A-B6E4-740E0E0AB2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0AF8E63-33A9-41F6-8517-A64F325C172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4A6E44C-9339-4E3A-9943-1008725767F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EF958BC-45FC-4C59-86F7-52DE2D027BB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2160E3CC-9992-41E0-9F3F-40E026A4BD7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E592F-C85A-495B-BE9A-BAA2A9392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035C8BE4-D03C-4F5E-BC61-5E397893719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2B69FA7A-D6A2-4A19-8AFB-FA3A41B1709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019DE22F-F8DE-41AE-8971-9F472E4AB4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A372A61E-8786-4229-AA20-FEC82285F9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C655AB82-51B6-4032-9067-64066098E30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CC93419E-A0CE-43AC-8FF7-F3E312DE34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08FB5350-EECF-47E8-91ED-ABFDDB5A916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424843C-A89A-44E5-9DEA-E54AB8B51B7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6AE39B14-632A-4244-876C-B483DD4439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45D913CE-B4B4-41E2-9E5B-81DE44D0EAB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8B234-7601-4267-9F04-0CC79D728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86AC01F4-B6BE-4E13-A32D-9574F1E06F9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4D9C30E-1F3E-4FCE-8F99-9CACB77D4E3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10839F5-4535-48DC-8C67-6B61DB9AB5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941012-FC70-49A6-893B-8C5FE5C896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4DC4CA-B14D-4BCD-9AA2-CD484BC10E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4DA8581-2FAC-4ACE-9EA8-956C1B6A7B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96AE02-944A-4E6B-8BAC-72AC063090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BB74D8-7034-4754-A5A1-588535ABAB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4F4FDF-5547-42E8-BD38-D682935845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16D153-4213-48BE-9E00-ED1F81AEBE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CDF36-DB63-40FC-9F47-7C05EDA85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D411180-8299-48E1-BF5B-EEB1C23BE4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9902582-E4C0-4762-AAE9-FD9E4E1C108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D1C4D09-5CC1-4F3D-B94A-47B264A61C3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57B81-1327-48DB-BD4A-6D818FD38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A938A-0D80-458A-82D9-5C8A95330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1"/>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1"/>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F02FB-CD56-49C2-8F25-A2CF361EF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FF367-7F9B-4B46-86A4-C193CC6A3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180C7-4115-4F24-8910-BEE52C6E7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56B5E-4328-4811-8DB3-999E0910A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9257-4211-46A4-81A3-8438915F7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224D7-4E73-4EE1-B242-4579FC5BE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38FA0-C72A-4B4D-91C1-D35D4A609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4D2E7-FB21-4920-87FC-C63CDF9E5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47006-F49A-4F31-9EEA-B33EE2AAE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F01CD-1970-4842-B3B2-14D81E269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E1D7-B1EF-4A9D-A496-ABAC53349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0A27-F0F1-491A-A869-71440236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637473-10AA-43EC-B58B-B059412B68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6D79-4351-46AC-AECA-E3EB71D3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1DD92C-512A-4657-8CDA-A8B0B4D7BE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4F95BB-D7D9-49F6-9E2E-76A7A69ECD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EFFEAA-9A79-44F4-A80E-3FB33AEACB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609CBE-9C8F-4B18-969F-A608B92ACD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1C0145-4FC8-407F-89CB-D16E8D7A20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862326-6A37-44CE-BA88-5071EEB15E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30C3B3-C4C0-4A72-A3B3-D74F6C8C30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A7FEDE-FC6B-4F97-85D2-1F03D3E98B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A32BC8-0594-4D2B-9353-2459F85A5C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5AABFF-8ABF-4F10-999F-DE948F0F90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8958-9381-4A9B-95F6-9E6A37AD5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965B771-90F7-4200-A8C4-5310F2E6D9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9A0C3FC2-AC41-447B-8FEA-5EDC8B4DAF1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BCFECCC5-FE66-45DF-9165-56AB512AC1A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555C720-DA69-4C9F-BFC5-2B99468B82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196EFDC-A189-4733-8873-057F348FFE4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581C9017-9918-4446-ABA6-20A6A7BACC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4125125-2626-4CE4-A8A4-D2813E7DEA8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3173477-81DE-4149-B7C8-6CEF4C682A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88E13E4-1633-4289-A56D-7658F66465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A6DD6F5-1D6A-445C-8D7B-E028BB09B4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A9B5-19D4-4A60-B752-D1945B698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AEA07D1-71D7-42CB-9E5A-D44C296F1D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D5139959-251C-4444-AD59-3499EC059EC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E94BACBB-D625-4784-8FAD-5372FC59BD8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794ECB80-BFF3-4153-9914-B325CCC88C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731A4D94-6DE5-465D-BD9B-8F739A939E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287229C-EA4B-47D2-A659-452AFD532B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F847A2AC-D419-454E-9C2F-74F9622674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B32F8FAB-65AD-43C0-8629-53AF1A0F53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6B099D6-80FE-4D24-95DB-DCA9BDE7D7A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076B474-8C61-45FF-8057-1092FDBD8CA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19AE0-6A23-49ED-B76F-E2438A3A7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60C72FCD-F326-4AA3-9DFE-3F52086322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E5A9DC70-BF92-4D6C-953A-AF88F96FAE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AADE96F-2BBA-4B67-885B-21F162A979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39ACA4EE-C7CB-4EA5-80D9-3DA4966AB77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C494C3B1-A71E-4325-B73B-BDC7AB1DEC9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E709E9A1-F395-4632-B605-CA03ED1C06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9747DB4-CF23-462B-BF63-94C22F1E3CF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31DE5BE-233D-43EE-BA5B-1AAC41846D0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586C018-2DB3-42D1-8466-CA5079DE6C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1A3BD43-6270-4BC7-AE10-8E03D5D640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8BDC-6D7A-4874-899E-838E0124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09F5233-D504-49B8-9749-E1904C5255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7C8FDC1-BB42-41FA-AC69-82CB2D03FD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A4EEB97-6293-42C7-8354-5E7E7B0730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AE14E0D-3D33-45A2-8023-C990471FB4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E6748D8-2CFA-4A99-B742-5F6C123706D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AAF5D8C9-2E6D-46A9-85EA-0F253BFC021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DA12B096-A694-46E1-BCDD-AA3E1B0467E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8A3A725-ED77-4FC7-914C-FD38EAAC40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CE9551-9CE4-4AA9-BEDA-CFAE60CC43A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8F051B-E231-4027-96C5-D1A78344308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08080" y="-6480"/>
            <a:ext cx="8727840" cy="1372896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F33FE-7B25-46EA-97E5-6130EF5C570A}"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E66E4-0F2F-4D1C-B57D-A1D97DAE6A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87" name="PlaceHolder 3"/>
          <p:cNvSpPr>
            <a:spLocks noGrp="1"/>
          </p:cNvSpPr>
          <p:nvPr>
            <p:ph type="dt" idx="24"/>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71DE1-756B-4AEC-91A9-F2445594184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88" name="PlaceHolder 4"/>
          <p:cNvSpPr>
            <a:spLocks noGrp="1"/>
          </p:cNvSpPr>
          <p:nvPr>
            <p:ph type="sldNum" idx="25"/>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103F1-99DD-4157-9921-7B84F910D59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89" name="PlaceHolder 5"/>
          <p:cNvSpPr>
            <a:spLocks noGrp="1"/>
          </p:cNvSpPr>
          <p:nvPr>
            <p:ph type="ftr" idx="26"/>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1" name="PlaceHolder 3"/>
          <p:cNvSpPr>
            <a:spLocks noGrp="1"/>
          </p:cNvSpPr>
          <p:nvPr>
            <p:ph type="dt" idx="27"/>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E80AD-0414-4D57-A9BC-3BCE609FF703}"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32" name="PlaceHolder 4"/>
          <p:cNvSpPr>
            <a:spLocks noGrp="1"/>
          </p:cNvSpPr>
          <p:nvPr>
            <p:ph type="ftr" idx="28"/>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33" name="PlaceHolder 5"/>
          <p:cNvSpPr>
            <a:spLocks noGrp="1"/>
          </p:cNvSpPr>
          <p:nvPr>
            <p:ph type="sldNum" idx="29"/>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50BD6-E74C-4923-9867-D39994C1F3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7E29C-7D8C-4CD1-8926-6B1ED062DD28}"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7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7" name="PlaceHolder 3"/>
          <p:cNvSpPr>
            <a:spLocks noGrp="1"/>
          </p:cNvSpPr>
          <p:nvPr>
            <p:ph type="ftr" idx="30"/>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FEF3E-5839-4913-9B57-4DD958BF62A2}"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21" name="PlaceHolder 3"/>
          <p:cNvSpPr>
            <a:spLocks noGrp="1"/>
          </p:cNvSpPr>
          <p:nvPr>
            <p:ph type="ftr" idx="31"/>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9B8A5-70FA-4B2C-874C-EC7511272616}"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65" name="PlaceHolder 3"/>
          <p:cNvSpPr>
            <a:spLocks noGrp="1"/>
          </p:cNvSpPr>
          <p:nvPr>
            <p:ph type="ftr" idx="32"/>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5"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9B9D0-A7E0-494E-92EC-DF622C8F88BE}"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0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09" name="PlaceHolder 3"/>
          <p:cNvSpPr>
            <a:spLocks noGrp="1"/>
          </p:cNvSpPr>
          <p:nvPr>
            <p:ph type="ftr" idx="33"/>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9C2A6-49DD-4EED-94FF-532C2F7BDBF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9EF55-3017-4111-BEAB-E3A5086733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11" descr=""/>
          <p:cNvPicPr/>
          <p:nvPr/>
        </p:nvPicPr>
        <p:blipFill>
          <a:blip r:embed="rId2"/>
          <a:stretch/>
        </p:blipFill>
        <p:spPr>
          <a:xfrm>
            <a:off x="208080" y="-6480"/>
            <a:ext cx="8727840" cy="13728960"/>
          </a:xfrm>
          <a:prstGeom prst="rect">
            <a:avLst/>
          </a:prstGeom>
          <a:ln w="0">
            <a:noFill/>
          </a:ln>
        </p:spPr>
      </p:pic>
      <p:sp>
        <p:nvSpPr>
          <p:cNvPr id="87" name="PlaceHolder 1"/>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5" name="Picture 11" descr=""/>
          <p:cNvPicPr/>
          <p:nvPr/>
        </p:nvPicPr>
        <p:blipFill>
          <a:blip r:embed="rId2"/>
          <a:stretch/>
        </p:blipFill>
        <p:spPr>
          <a:xfrm>
            <a:off x="208080" y="-6480"/>
            <a:ext cx="8727840" cy="13728960"/>
          </a:xfrm>
          <a:prstGeom prst="rect">
            <a:avLst/>
          </a:prstGeom>
          <a:ln w="0">
            <a:noFill/>
          </a:ln>
        </p:spPr>
      </p:pic>
      <p:sp>
        <p:nvSpPr>
          <p:cNvPr id="12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56B5E-E059-4640-B307-8D728985D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6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69" name="PlaceHolder 3"/>
          <p:cNvSpPr>
            <a:spLocks noGrp="1"/>
          </p:cNvSpPr>
          <p:nvPr>
            <p:ph type="dt" idx="9"/>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74943-35C7-4E06-957E-61CB4161C82C}"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
        <p:nvSpPr>
          <p:cNvPr id="170" name="PlaceHolder 4"/>
          <p:cNvSpPr>
            <a:spLocks noGrp="1"/>
          </p:cNvSpPr>
          <p:nvPr>
            <p:ph type="ftr" idx="10"/>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ebddc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ebddc3"/>
                </a:solidFill>
                <a:latin typeface="Times New Roman"/>
              </a:rPr>
              <a:t>June 26, 2014 TAC Meeting</a:t>
            </a:r>
            <a:endParaRPr b="0" lang="en-US" sz="1400" spc="-1" strike="noStrike">
              <a:solidFill>
                <a:srgbClr val="000000"/>
              </a:solidFill>
              <a:latin typeface="Times New Roman"/>
            </a:endParaRPr>
          </a:p>
        </p:txBody>
      </p:sp>
      <p:sp>
        <p:nvSpPr>
          <p:cNvPr id="171" name="PlaceHolder 5"/>
          <p:cNvSpPr>
            <a:spLocks noGrp="1"/>
          </p:cNvSpPr>
          <p:nvPr>
            <p:ph type="sldNum" idx="11"/>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03ACE-B47A-4735-961E-6CF6DCC5472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1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3"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55237-7985-4215-AED8-8D8D060C4D3F}"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14" name="PlaceHolder 4"/>
          <p:cNvSpPr>
            <a:spLocks noGrp="1"/>
          </p:cNvSpPr>
          <p:nvPr>
            <p:ph type="sldNum" idx="13"/>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528E7-F4A0-4C28-B0AB-D38C7CEB004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15"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57"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E7DB7-9310-4C28-988C-DE509D1F729A}"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58"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5BAF5-A3E9-4C5D-8335-87D462F0E9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01"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83169-520C-475F-B328-20FD0D5BA07D}"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02" name="PlaceHolder 4"/>
          <p:cNvSpPr>
            <a:spLocks noGrp="1"/>
          </p:cNvSpPr>
          <p:nvPr>
            <p:ph type="sldNum" idx="1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E95E5-7952-4BB6-AB84-44700C4CE3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3" name="PlaceHolder 5"/>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4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42"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E2703-42A0-46B7-BED6-A69F95E8D7D2}"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43"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344"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1A3A1-C9AC-42EE-9D89-CAEADAE40FB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13"/>
          <p:cNvGrpSpPr/>
          <p:nvPr/>
        </p:nvGrpSpPr>
        <p:grpSpPr>
          <a:xfrm>
            <a:off x="787320" y="2804760"/>
            <a:ext cx="7543800" cy="2840760"/>
            <a:chOff x="787320" y="2804760"/>
            <a:chExt cx="7543800" cy="2840760"/>
          </a:xfrm>
        </p:grpSpPr>
        <p:sp>
          <p:nvSpPr>
            <p:cNvPr id="654"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RO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ll Hatfiel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RO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Straight Connector 12"/>
            <p:cNvSpPr/>
            <p:nvPr/>
          </p:nvSpPr>
          <p:spPr>
            <a:xfrm flipV="1">
              <a:off x="787320" y="2804760"/>
              <a:ext cx="6286680" cy="12600"/>
            </a:xfrm>
            <a:prstGeom prst="line">
              <a:avLst/>
            </a:prstGeom>
            <a:ln w="1908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656"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Recommended Voting Items</a:t>
            </a:r>
            <a:endParaRPr b="0" lang="en-US" sz="4400" spc="-1" strike="noStrike">
              <a:solidFill>
                <a:srgbClr val="775f55"/>
              </a:solidFill>
              <a:latin typeface="Tw Cen MT"/>
            </a:endParaRPr>
          </a:p>
        </p:txBody>
      </p:sp>
      <p:sp>
        <p:nvSpPr>
          <p:cNvPr id="65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s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uly 10,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eptember 4,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sion Requests Recommended for Approval (TAC Action required)</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GRR134 – Posting Process for Black Start Plans</a:t>
            </a:r>
            <a:endParaRPr b="0" lang="en-US" sz="2600" spc="-1" strike="noStrike">
              <a:solidFill>
                <a:srgbClr val="000000"/>
              </a:solidFill>
              <a:latin typeface="Tw Cen MT"/>
            </a:endParaRPr>
          </a:p>
          <a:p>
            <a:pPr lvl="2" marL="877680" indent="-21924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ROS Motion to Approve per OWG: Passed Unanimously Via E-mail Vote</a:t>
            </a:r>
            <a:endParaRPr b="0" lang="en-US" sz="2300" spc="-1" strike="noStrike">
              <a:solidFill>
                <a:srgbClr val="000000"/>
              </a:solidFill>
              <a:latin typeface="Tw Cen MT"/>
            </a:endParaRPr>
          </a:p>
        </p:txBody>
      </p:sp>
      <p:sp>
        <p:nvSpPr>
          <p:cNvPr id="659"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of ERCOT planning reports and processes</a:t>
            </a:r>
            <a:endParaRPr b="0" lang="en-US" sz="28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LWG will draft a white paper describing the differences between the CDR and the Planning Models and why they exist.  This paper will include, but not be limited to, reviewing generation assumptions,  load forecast assumptions, and data sources and availability.</a:t>
            </a:r>
            <a:endParaRPr b="0" lang="en-US" sz="2400" spc="-1" strike="noStrike">
              <a:solidFill>
                <a:srgbClr val="000000"/>
              </a:solidFill>
              <a:latin typeface="Tw Cen MT"/>
            </a:endParaRPr>
          </a:p>
          <a:p>
            <a:pPr lvl="2" marL="813600" indent="-2034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w Cen MT"/>
              </a:rPr>
              <a:t>Status: Progress underway </a:t>
            </a:r>
            <a:endParaRPr b="0" lang="en-US" sz="24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ddition, PLWG will review load scaling methodologies used in Planning Models and make a recommendation to ROS on appropriateness of methodologies.</a:t>
            </a:r>
            <a:endParaRPr b="0" lang="en-US" sz="2400" spc="-1" strike="noStrike">
              <a:solidFill>
                <a:srgbClr val="000000"/>
              </a:solidFill>
              <a:latin typeface="Tw Cen MT"/>
            </a:endParaRPr>
          </a:p>
          <a:p>
            <a:pPr lvl="2" marL="813600" indent="-2034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w Cen MT"/>
              </a:rPr>
              <a:t>Status: Progress underway</a:t>
            </a:r>
            <a:endParaRPr b="0" lang="en-US" sz="2400" spc="-1" strike="noStrike">
              <a:solidFill>
                <a:srgbClr val="000000"/>
              </a:solidFill>
              <a:latin typeface="Tw Cen MT"/>
            </a:endParaRPr>
          </a:p>
        </p:txBody>
      </p:sp>
      <p:sp>
        <p:nvSpPr>
          <p:cNvPr id="662"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ordinate with ERCOT the need to add (verify) resource temperature limits in RARF to improve forecasting of Wind Resources during icing and cold weather ev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w Cen MT"/>
              </a:rPr>
              <a:t>Status: RRGRR003 (Modifications to Improve Wind Forecasting) is up for review and vote at Sept. 4 ROS meeting.</a:t>
            </a:r>
            <a:endParaRPr b="0" lang="en-US" sz="2600" spc="-1" strike="noStrike">
              <a:solidFill>
                <a:srgbClr val="000000"/>
              </a:solidFill>
              <a:latin typeface="Tw Cen MT"/>
            </a:endParaRPr>
          </a:p>
        </p:txBody>
      </p:sp>
      <p:sp>
        <p:nvSpPr>
          <p:cNvPr id="665"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aluate concerns that ERCOT is having to bring RUC units earlier than required because of unit start-up failures; review need for ERCOT Operating procedures for RUCing uni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w Cen MT"/>
              </a:rPr>
              <a:t>Status:  ROS working with ERCOT to review unit failures/trips/de-rates occurring during extreme cold weather events</a:t>
            </a:r>
            <a:endParaRPr b="0" lang="en-US" sz="2600" spc="-1" strike="noStrike">
              <a:solidFill>
                <a:srgbClr val="000000"/>
              </a:solidFill>
              <a:latin typeface="Tw Cen MT"/>
            </a:endParaRPr>
          </a:p>
        </p:txBody>
      </p:sp>
      <p:sp>
        <p:nvSpPr>
          <p:cNvPr id="668"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bhatfiel</cp:lastModifiedBy>
  <cp:lastPrinted>2013-01-30T23:16:36Z</cp:lastPrinted>
  <dcterms:modified xsi:type="dcterms:W3CDTF">2014-08-25T13:04:19Z</dcterms:modified>
  <cp:revision>57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4C4FFC4A894504CB30DBFB7150C9A36</vt:lpwstr>
  </property>
  <property fmtid="{D5CDD505-2E9C-101B-9397-08002B2CF9AE}" pid="3" name="Information Classification">
    <vt:lpwstr/>
  </property>
</Properties>
</file>