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C3F11-ECE1-466C-9ECF-AE621DFDF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E37F4-4B64-4BA3-B3DA-40F2E9A8F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EBA25-9CCF-4810-AE21-C37AA42C3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583-4891-4C7A-850A-DCDBB367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181-2987-44A8-981D-D479EB77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FBC-8619-42FC-A9BF-43AC1214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858-F291-4FD0-B657-87EC6FC8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081-E83A-4D2C-8F91-CBAF0CF4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942-82BC-4F0C-9A67-4E04F4EE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740-9E8A-4F8A-87F7-A1139833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1F6-EA61-46F7-8643-BB4B2B06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B5F-9013-4DE3-B8B7-313D1EF8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413-7442-4541-9AE5-B157B3B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FD4-B9C2-430F-B6FA-9ADCD667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DF8-6917-4AE8-9763-595C24ED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A5110-D526-4128-B4ED-AC1D24C0EA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16A8A-8B87-45DE-9807-F838EF82B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171DE-2E8B-453D-BF5A-6BC8BD70D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5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gust 28, 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611, Modifications to CDR Wind Capacity Valu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632, Eliminate Manual Calculations When Producing 4-CP Billing Determinant Data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633, Removes Requirement for Confirmation of Ancillary Service Test  Using Primary and Secondary Voice Circuit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634, Clarification for the Reporting of Demand Respon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635, Clarification of Congestion Revenue Right Source/Sink Point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636, Cleanup to Remove Software Documentation Posting Requirement and Align Three-Part Supply Offer Languag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sion Requests Recommended for Approval by PRS – With Opposing Votes (Vo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637, Clarification of ERS Language and ERCOT Process for Co-located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sion Requests Recommended for Withdrawal by PRS (Vo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776, Retail Data Transport Upgrade to NAESB EDM v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780, Macomber Map System Operations Test Environment Enhanc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8"/>
          <p:cNvGrpSpPr/>
          <p:nvPr/>
        </p:nvGrpSpPr>
        <p:grpSpPr>
          <a:xfrm>
            <a:off x="1295280" y="2735280"/>
            <a:ext cx="6553440" cy="1387440"/>
            <a:chOff x="1295280" y="2735280"/>
            <a:chExt cx="6553440" cy="1387440"/>
          </a:xfrm>
        </p:grpSpPr>
        <p:sp>
          <p:nvSpPr>
            <p:cNvPr id="176" name="TextBox 1"/>
            <p:cNvSpPr/>
            <p:nvPr/>
          </p:nvSpPr>
          <p:spPr>
            <a:xfrm>
              <a:off x="1295280" y="2756160"/>
              <a:ext cx="655344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vision Requests Recommende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Approval by P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with Opposing Vo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3"/>
            <p:cNvSpPr/>
            <p:nvPr/>
          </p:nvSpPr>
          <p:spPr>
            <a:xfrm>
              <a:off x="1428480" y="273528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traight Connector 5"/>
            <p:cNvSpPr/>
            <p:nvPr/>
          </p:nvSpPr>
          <p:spPr>
            <a:xfrm>
              <a:off x="1437840" y="412272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403200" y="714240"/>
            <a:ext cx="849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79440" y="252000"/>
            <a:ext cx="8445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PRR637, Clarification of ERS Language and ERCOT Process for Co-located Resourc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03200" y="781200"/>
          <a:ext cx="8274240" cy="5333760"/>
        </p:xfrm>
        <a:graphic>
          <a:graphicData uri="http://schemas.openxmlformats.org/drawingml/2006/table">
            <a:tbl>
              <a:tblPr/>
              <a:tblGrid>
                <a:gridCol w="1758960"/>
                <a:gridCol w="651528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provides for changes to ERS, including: clarifying procedures for ERS procurement, classification and treatment of ERS Generators particularly when they are co-located with an ERS Load, calculating ERS Resource Availability when the obligation of one or more ERS Resources is exhausted, payment reduction for Weather Sensitive and Non-Weather Sensitive ERS Resources, and clarifying rules for testing of ERS Resourc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7/17/14, PRS voted to recommend approval of NPRR637 as amended by the 7/10/14 ERCOT comments.  There was one opposing vote from the IPM Market Segment.  On 8/14/14, PRS voted to endorse and forward the 7/17/14 PRS Report and Impact Analysis for NPRR637 to TAC.  There was one opposing vote from the IPM Market Segmen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1,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$5k (O&amp;M);  ERCOT business processes will be updated; modifications will need to be made to the ERS submission form and ERS SAS co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s and clarifies procedures for E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ERCOT</cp:lastModifiedBy>
  <cp:lastPrinted>2013-01-30T23:16:36Z</cp:lastPrinted>
  <dcterms:modified xsi:type="dcterms:W3CDTF">2014-08-22T19:11:48Z</dcterms:modified>
  <cp:revision>221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