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0FF545-C2A5-428A-9744-A1B5CEA76AA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llenges, dearth of scarcity events in ‘13; overlap between 4CP and price response (occur at same time);still learning about product ty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ABF28F-3817-4698-AD73-854096A559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k direction on Augmented ORD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9672C5-ABE4-45D8-B22B-24714A5043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953C-B05B-4ECE-95F2-5EA01A2B2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8EEE-E698-42DF-910A-64D966E5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5C24-5141-4F9D-A9ED-FC8542DE0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1732-CDFD-455E-8315-AD383A8EF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D63B-2D7A-4839-B9B8-C52A6A0B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300B-B7AB-42B6-96BE-2E0389FF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AE69-3D44-45AF-9927-2F30E1A4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FD80-1929-4755-A9C5-915DD1AE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B4D3-2847-43AB-A2BC-0A7E3F6B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B9E0-5426-42F2-AD1A-96AED96B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8C42-BE37-4DD3-8456-C130D497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5D7F-9D9A-4200-8C00-F4DB8057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5C9DF9-A550-4DA2-9152-FE4D04097A7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Wholesale Market Subcommittee Upd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3895200"/>
            <a:ext cx="3051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repared for the August 28th TAC mee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R Auction Limits (vo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MS endorsed a 2,500 per CRR AH transaction limit in the Long-Term Auction Sequ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ently the limit is 2,000 per CRR A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goal is to increase utilization of the 200,000 overall transaction lim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overall transaction limit is scheduled to be uprated to 300,000 with the implementation of SCR77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CMRR004, Caps for Energy Storage Resources - Urgent (vote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fies the values for the caps used in the mitigation and make-whole calculation process for Energy Storage Resour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ilitates implementation of NPRR560 by utilizing manual processes and thereby avoids project cost impacts at this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111240" y="-3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AC Assignment List Upd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04960" y="849240"/>
          <a:ext cx="7313400" cy="4043520"/>
        </p:xfrm>
        <a:graphic>
          <a:graphicData uri="http://schemas.openxmlformats.org/drawingml/2006/table">
            <a:tbl>
              <a:tblPr/>
              <a:tblGrid>
                <a:gridCol w="839520"/>
                <a:gridCol w="3237120"/>
                <a:gridCol w="3236760"/>
              </a:tblGrid>
              <a:tr h="432000">
                <a:tc gridSpan="3"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MS Assignments From The TA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76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ignm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/9/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ider long-term solution for credit requirements in light of revisions to System Wide Offer Ca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Market Credit Working Group is looking into insurance that would absorb monies owed due to market defaults.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/5/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ew steps ERCOT utilizes in the CDR load forecas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COT’s analysis of incorporating ERS, Load Resources providing RRS, energy efficiency, and distributive generation in ongoing (~Fall 201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27/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ew Operating Procedure that ERCOT uses to determine when they need RUC (specifically RUC for bad weather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duct a review of the RUC process in the newly created RUC Task Force.  Optimize market based tools and minimize RUC.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27/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ed to NPRR582, Refinements to Testing ERS – address testing requirements for all Resource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MWG review ongo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27/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ed to NPRR598, Clarify Inputs to PRC and ORDC – address additional ORDC enhancements including addressing bandwidth oscill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MWG review to be conducted  on operational data during emergency condi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/30/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gmented ORDC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RR 627 Augmented ORDC to Include Reliability Factor Methodology  was referred to the RUC Task Force, however was rejected at PRS.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 Resources in SCED Upd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LRIS version 2 subgroup continues to work on proposals to facilitate direct participation in the real-time market by DR Q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MS will be receiving an update at its September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4T20:43:11Z</dcterms:created>
  <dc:creator>Systems Administrator</dc:creator>
  <dc:description/>
  <dc:language>en-US</dc:language>
  <cp:lastModifiedBy>Systems Administrator</cp:lastModifiedBy>
  <cp:lastPrinted>2014-03-25T15:14:24Z</cp:lastPrinted>
  <dcterms:modified xsi:type="dcterms:W3CDTF">2014-08-25T17:09:28Z</dcterms:modified>
  <cp:revision>147</cp:revision>
  <dc:subject/>
  <dc:title>The Wholesale Market Subcommittee</dc:title>
</cp:coreProperties>
</file>