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47"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8" name="PlaceHolder 2"/>
          <p:cNvSpPr>
            <a:spLocks noGrp="1"/>
          </p:cNvSpPr>
          <p:nvPr>
            <p:ph type="dt" idx="34"/>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4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move the slide</a:t>
            </a:r>
            <a:endParaRPr b="0" lang="en-US" sz="4400" spc="-1" strike="noStrike">
              <a:solidFill>
                <a:srgbClr val="775f55"/>
              </a:solidFill>
              <a:latin typeface="Tw Cen MT"/>
            </a:endParaRPr>
          </a:p>
        </p:txBody>
      </p:sp>
      <p:sp>
        <p:nvSpPr>
          <p:cNvPr id="650"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1" name="PlaceHolder 5"/>
          <p:cNvSpPr>
            <a:spLocks noGrp="1"/>
          </p:cNvSpPr>
          <p:nvPr>
            <p:ph type="ftr" idx="35"/>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2" name="PlaceHolder 6"/>
          <p:cNvSpPr>
            <a:spLocks noGrp="1"/>
          </p:cNvSpPr>
          <p:nvPr>
            <p:ph type="sldNum" idx="36"/>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2234F2-EC10-4877-9159-03F2848D5D8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81160" y="696960"/>
            <a:ext cx="4648320" cy="3486240"/>
          </a:xfrm>
          <a:prstGeom prst="rect">
            <a:avLst/>
          </a:prstGeom>
          <a:ln w="0">
            <a:noFill/>
          </a:ln>
        </p:spPr>
      </p:sp>
      <p:sp>
        <p:nvSpPr>
          <p:cNvPr id="6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F935ED-B1A6-499F-9798-7D83C8319C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C0834-9735-49D6-BE42-C44C0268D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EFD3F-DA0E-4EFE-B98D-29A03954C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242FFEF-D701-481E-A260-FAB4ADE7125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E1B8699-75BD-4FFB-8343-5F5F4768E50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7DE83AC-4E9A-4B4F-9685-F7A1D6A54E9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79D9E1A-11B4-4857-B0A5-1E202F560DB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7EF6294-11A4-4172-8886-834D8FF3B66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8DD5D7D-5A1C-4135-BB28-1EC2118D911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6497A43-E79B-4ED4-94A3-AE9154E1A42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F9F097A-D508-438D-BDB6-21AF66DA99E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9119DDE-8902-445F-8B3D-277BA0E20CA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0D0726E3-F7BE-43D9-A279-D80AE2E005C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7D201-2C0F-4852-ACAE-C4C2F2BEA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D10D8275-553E-4A92-A83C-1C8CD1E6AA4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01876242-BA67-4C08-94AD-0630F1979FE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9EBA8DD4-400B-4E00-A68C-11AF6C45F43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1BB71260-4545-4FBB-94AF-A0C2F562D6D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424E9B9D-F0B5-42AE-84C9-43054F8E39F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8DF2E8B8-C321-49A4-B92C-CC08AC46F83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6D9FFCFB-F295-42B6-B889-1009A7C466E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B6D0B913-DE98-41D9-B383-17D3E1A9AD1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1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06519BD8-0616-4668-B17D-D0E99EF26B5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B8434CA4-07CE-4CFB-B74B-9B71CEE787E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EBD1C-3D94-4B9E-ABC7-58E8CF65C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363CE630-B60A-4F90-BA64-15D1901890E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353A1DA-28B6-4EF5-956F-C993EDC43C7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B3FE67E-93A3-44A3-851F-75AC36C21AB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7245A3D-6656-45C0-9557-DDE6FB7D092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647A2B1-DC8E-4D03-802F-A27AD29F4E5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8EF72C0-1AED-4531-A521-CA383714CF1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D2D6ED7-A6CC-45A2-836C-2C2D1557143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2230EB2-2C37-47AC-9E1B-628A011816D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69E36E8-6CF8-43CF-A60B-DE134E668B9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31EE77B-21D8-4766-B683-285BE1B4644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D13012-CA87-46C4-943B-9FD6BCC274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21A54E9-AE9C-4E65-8C59-DC29925E4D8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85C965EC-A202-4CAC-A428-3CF5B8A0700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269A66C-EA61-4818-9AB7-151F9C96F36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7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0"/>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0"/>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57DC9-C24B-472C-A6D4-14F1B3C85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9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9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0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0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0"/>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0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0"/>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2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1"/>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2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1"/>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1"/>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B1B52-BCC2-4EBC-A91A-1D5117300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1"/>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1"/>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1"/>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1"/>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4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1"/>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1"/>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1"/>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6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6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461C2-89EF-471F-AAC8-E0EF9BE90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2"/>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8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8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8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E77A8-D56E-40B8-91D1-33556D501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3"/>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3"/>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3"/>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3"/>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3"/>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3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3"/>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B6151-FC1F-4FB8-8771-3DBB9B0C5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4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23E52-4FA7-449A-9866-61A39B77C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B6CF9-F52C-4672-870C-AE8C907AC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442D1-1908-48AD-A8EE-608FA628E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5BE05-1696-43F3-A236-D2407400D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5516A-B0F1-48FB-B82D-49326FB3D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02EEA2-03F1-4A2C-8362-80D3900C2C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6394B5-C92C-4E8E-82D8-01FD784894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27F87-DB14-4747-89E2-35B89D380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7"/>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D6540-16C3-49B8-8E6E-A538FF157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D86A800-6BEC-4F1F-AC42-1377371A37B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6194C-FE11-4AB5-ADCC-D8C62E719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576E1AB-8AEF-4256-96F7-6F05B20D394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98ABDEC-F81C-41AA-9ECB-3DEDE327B4F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C7AF8C4-F972-42F6-B686-2A682F44540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DAEC4AA-2D80-4C0D-80E1-20ECAB280B4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D2F5EF5-C62D-4601-8071-B7C78BE0B2E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B67E8F9-69E0-47D6-B511-B39B8D7A9C2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DB7FBD4-6DC2-4771-8F99-7891F478DD0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3204D6D-D98E-400A-8780-D0047614E38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9CE21E3-0C7F-475C-AAA3-682B0623860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513CD71-A791-4A8E-85AD-ECD7F6A7613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4A3FD-C804-4B8B-909D-142C4667B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462FAB8-0092-4BF4-B2A3-BE266DE90E4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222EFC58-D29B-437D-9357-CE9221BA379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C567C4C2-4751-4E9B-9889-46EFC4EC162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021EF29D-1A9D-4EEA-BDF1-BA7D491C95F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890157C7-0C4D-41FF-A268-81B4817EEE7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DC2546D9-E075-43D9-9354-F63DF960501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F3B58AAA-7CB6-48F0-8E29-577ECFE430A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C2F447D1-6B03-432B-A7C8-AFF3CD3714C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14BDC1D9-7771-40DD-B99B-94A7DB8D14F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747C45BB-70C9-4064-9BFB-E2D425D5F27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C28CA-5216-407E-B53A-F9F574025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A1CECCF1-5FD3-4059-821F-50EDA4F3A0D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3F5BA219-EA9F-4C77-B667-A6447A8638B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87801CB9-5C41-41BB-BDE3-33F994B8C7C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F102A097-09FA-46C5-B1BE-D5CA41B5695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3C4A3633-7F29-44A3-8BF0-13BBDD81CA8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1D1AAC7C-690E-4F88-A9B0-491AEBAC54B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0F061AE2-AD94-4126-B917-CED41BD26F7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160BC2F0-4C75-4F6A-A85C-E36C66989CD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11DA5135-B6EB-4FC0-BCAE-A2E659B040D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73250CE3-A631-4393-9D12-CE3F7668951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1BD20-73E3-4644-924F-9E3B55C62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168DA3CB-BCFB-49DB-B5AC-D9EC77FC091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18506404-D578-4C90-BB60-F362E463138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6D2ED8EA-AC85-4B27-ABB0-92489776D50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BEC3AB98-03F1-4D01-952B-421F6B19A48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9EA5D4C2-0A60-487B-9966-A3478B72482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CD46CF3F-0BC3-4A6B-9920-72F0CE3355C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118D827B-3E8D-4F67-8449-DEF38F61F00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6DD2ADD2-B1AD-4C58-85C5-AE3AFEF04A5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94634660-072A-40C2-8EFC-11F844C9059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E26D6C7E-25F9-4F8C-951C-E8A6C6EFB51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2CD10-7A80-4808-90F2-EC6CC7D7A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8FBFC6FA-B8BC-4F49-941D-89ACD4BFF60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EAEADF7E-ACD7-4B6B-AB13-37FF78C8F3C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6E2A3751-09DE-4637-9694-F5DBD391B6F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364A34E5-8D6C-4EF8-892B-2CF3A608B8A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43CA4E24-F093-45FD-B9C1-AE1E987BD7B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BA5A6BC4-37B5-4E7B-90DC-C8ABAEAC91D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B01690D7-2710-473E-A398-0A55AE4FD38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C42E7D2-33F8-4EEC-8FAC-8AF863F8772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BACDE2F-80A4-4CB7-ABC8-62B305F821C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E22E970-E1A2-4B4D-8C55-5AC7917D8E40}"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08080" y="-6480"/>
            <a:ext cx="8727840" cy="1372896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04BF73-4682-4202-8479-20F9D8E316FC}"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June 26, 2014 TAC Meeting</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0A7205-B8F9-4CB4-922C-28FB8BDA020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8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87" name="PlaceHolder 3"/>
          <p:cNvSpPr>
            <a:spLocks noGrp="1"/>
          </p:cNvSpPr>
          <p:nvPr>
            <p:ph type="dt" idx="24"/>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0BD2BB-5B8B-4EB5-833B-8DD80D345054}"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388" name="PlaceHolder 4"/>
          <p:cNvSpPr>
            <a:spLocks noGrp="1"/>
          </p:cNvSpPr>
          <p:nvPr>
            <p:ph type="sldNum" idx="25"/>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8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35CD59-2C4D-4A70-9C2C-ECFB7A70428F}"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389" name="PlaceHolder 5"/>
          <p:cNvSpPr>
            <a:spLocks noGrp="1"/>
          </p:cNvSpPr>
          <p:nvPr>
            <p:ph type="ftr" idx="26"/>
          </p:nvPr>
        </p:nvSpPr>
        <p:spPr>
          <a:xfrm>
            <a:off x="1600200" y="6248520"/>
            <a:ext cx="45720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Times New Roman"/>
              </a:rPr>
              <a:t>June 26, 2014 TAC Mee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3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31" name="PlaceHolder 3"/>
          <p:cNvSpPr>
            <a:spLocks noGrp="1"/>
          </p:cNvSpPr>
          <p:nvPr>
            <p:ph type="dt" idx="27"/>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5A3DAA-4519-4A4D-99B5-FFF4575C3B8D}"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432" name="PlaceHolder 4"/>
          <p:cNvSpPr>
            <a:spLocks noGrp="1"/>
          </p:cNvSpPr>
          <p:nvPr>
            <p:ph type="ftr" idx="28"/>
          </p:nvPr>
        </p:nvSpPr>
        <p:spPr>
          <a:xfrm>
            <a:off x="456840" y="6248520"/>
            <a:ext cx="55738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Times New Roman"/>
              </a:rPr>
              <a:t>June 26, 2014 TAC Meeting</a:t>
            </a:r>
            <a:endParaRPr b="0" lang="en-US" sz="1400" spc="-1" strike="noStrike">
              <a:solidFill>
                <a:srgbClr val="000000"/>
              </a:solidFill>
              <a:latin typeface="Times New Roman"/>
            </a:endParaRPr>
          </a:p>
        </p:txBody>
      </p:sp>
      <p:sp>
        <p:nvSpPr>
          <p:cNvPr id="433" name="PlaceHolder 5"/>
          <p:cNvSpPr>
            <a:spLocks noGrp="1"/>
          </p:cNvSpPr>
          <p:nvPr>
            <p:ph type="sldNum" idx="29"/>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F82E7C-1AD6-4C68-B823-D572C868C68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1"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2"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3" name="Straight Connector 9"/>
          <p:cNvSpPr/>
          <p:nvPr/>
        </p:nvSpPr>
        <p:spPr>
          <a:xfrm>
            <a:off x="247680" y="641520"/>
            <a:ext cx="8648640" cy="0"/>
          </a:xfrm>
          <a:prstGeom prst="line">
            <a:avLst/>
          </a:prstGeom>
          <a:ln w="15840">
            <a:solidFill>
              <a:srgbClr val="775f5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FEAD91-01B4-4971-B689-308B6BA08C5B}" type="slidenum">
              <a:rPr b="0" lang="en-US" sz="1200" spc="-1" strike="noStrike">
                <a:solidFill>
                  <a:srgbClr val="000000"/>
                </a:solidFill>
                <a:latin typeface="Tw Cen MT"/>
              </a:rPr>
              <a:t>&lt;number&gt;</a:t>
            </a:fld>
            <a:endParaRPr b="0" lang="en-US" sz="1200" spc="-1" strike="noStrike">
              <a:solidFill>
                <a:srgbClr val="000000"/>
              </a:solidFill>
              <a:latin typeface="Arial"/>
            </a:endParaRPr>
          </a:p>
        </p:txBody>
      </p:sp>
      <p:sp>
        <p:nvSpPr>
          <p:cNvPr id="4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7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77" name="PlaceHolder 3"/>
          <p:cNvSpPr>
            <a:spLocks noGrp="1"/>
          </p:cNvSpPr>
          <p:nvPr>
            <p:ph type="ftr" idx="30"/>
          </p:nvPr>
        </p:nvSpPr>
        <p:spPr>
          <a:xfrm>
            <a:off x="3124080" y="6194160"/>
            <a:ext cx="2895840" cy="199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w Cen MT"/>
              </a:rPr>
              <a:t>June 26, 2014 TAC Meeti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7" name="Straight Connector 9"/>
          <p:cNvSpPr/>
          <p:nvPr/>
        </p:nvSpPr>
        <p:spPr>
          <a:xfrm>
            <a:off x="247680" y="641520"/>
            <a:ext cx="8648640" cy="0"/>
          </a:xfrm>
          <a:prstGeom prst="line">
            <a:avLst/>
          </a:prstGeom>
          <a:ln w="15840">
            <a:solidFill>
              <a:srgbClr val="775f5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0D791C-64C1-4BB4-96FF-1DF730E2AD84}" type="slidenum">
              <a:rPr b="0" lang="en-US" sz="1200" spc="-1" strike="noStrike">
                <a:solidFill>
                  <a:srgbClr val="000000"/>
                </a:solidFill>
                <a:latin typeface="Tw Cen MT"/>
              </a:rPr>
              <a:t>&lt;number&gt;</a:t>
            </a:fld>
            <a:endParaRPr b="0" lang="en-US" sz="1200" spc="-1" strike="noStrike">
              <a:solidFill>
                <a:srgbClr val="000000"/>
              </a:solidFill>
              <a:latin typeface="Arial"/>
            </a:endParaRPr>
          </a:p>
        </p:txBody>
      </p:sp>
      <p:sp>
        <p:nvSpPr>
          <p:cNvPr id="5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52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21" name="PlaceHolder 3"/>
          <p:cNvSpPr>
            <a:spLocks noGrp="1"/>
          </p:cNvSpPr>
          <p:nvPr>
            <p:ph type="ftr" idx="31"/>
          </p:nvPr>
        </p:nvSpPr>
        <p:spPr>
          <a:xfrm>
            <a:off x="3124080" y="6194160"/>
            <a:ext cx="2895840" cy="199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w Cen MT"/>
              </a:rPr>
              <a:t>June 26, 2014 TAC Meeti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9"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0"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1" name="Straight Connector 9"/>
          <p:cNvSpPr/>
          <p:nvPr/>
        </p:nvSpPr>
        <p:spPr>
          <a:xfrm>
            <a:off x="247680" y="641520"/>
            <a:ext cx="8648640" cy="0"/>
          </a:xfrm>
          <a:prstGeom prst="line">
            <a:avLst/>
          </a:prstGeom>
          <a:ln w="15840">
            <a:solidFill>
              <a:srgbClr val="775f5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613A40-9F14-4013-BC73-75A584542D84}" type="slidenum">
              <a:rPr b="0" lang="en-US" sz="1200" spc="-1" strike="noStrike">
                <a:solidFill>
                  <a:srgbClr val="000000"/>
                </a:solidFill>
                <a:latin typeface="Tw Cen MT"/>
              </a:rPr>
              <a:t>&lt;number&gt;</a:t>
            </a:fld>
            <a:endParaRPr b="0" lang="en-US" sz="1200" spc="-1" strike="noStrike">
              <a:solidFill>
                <a:srgbClr val="000000"/>
              </a:solidFill>
              <a:latin typeface="Arial"/>
            </a:endParaRPr>
          </a:p>
        </p:txBody>
      </p:sp>
      <p:sp>
        <p:nvSpPr>
          <p:cNvPr id="5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56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65" name="PlaceHolder 3"/>
          <p:cNvSpPr>
            <a:spLocks noGrp="1"/>
          </p:cNvSpPr>
          <p:nvPr>
            <p:ph type="ftr" idx="32"/>
          </p:nvPr>
        </p:nvSpPr>
        <p:spPr>
          <a:xfrm>
            <a:off x="3124080" y="6194160"/>
            <a:ext cx="2895840" cy="199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w Cen MT"/>
              </a:rPr>
              <a:t>June 26, 2014 TAC Meeti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5" name="Straight Connector 9"/>
          <p:cNvSpPr/>
          <p:nvPr/>
        </p:nvSpPr>
        <p:spPr>
          <a:xfrm>
            <a:off x="247680" y="641520"/>
            <a:ext cx="8648640" cy="0"/>
          </a:xfrm>
          <a:prstGeom prst="line">
            <a:avLst/>
          </a:prstGeom>
          <a:ln w="15840">
            <a:solidFill>
              <a:srgbClr val="775f5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F18C59-09D9-4A60-B029-B97A81E018C4}" type="slidenum">
              <a:rPr b="0" lang="en-US" sz="1200" spc="-1" strike="noStrike">
                <a:solidFill>
                  <a:srgbClr val="000000"/>
                </a:solidFill>
                <a:latin typeface="Tw Cen MT"/>
              </a:rPr>
              <a:t>&lt;number&gt;</a:t>
            </a:fld>
            <a:endParaRPr b="0" lang="en-US" sz="1200" spc="-1" strike="noStrike">
              <a:solidFill>
                <a:srgbClr val="000000"/>
              </a:solidFill>
              <a:latin typeface="Arial"/>
            </a:endParaRPr>
          </a:p>
        </p:txBody>
      </p:sp>
      <p:sp>
        <p:nvSpPr>
          <p:cNvPr id="6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60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609" name="PlaceHolder 3"/>
          <p:cNvSpPr>
            <a:spLocks noGrp="1"/>
          </p:cNvSpPr>
          <p:nvPr>
            <p:ph type="ftr" idx="33"/>
          </p:nvPr>
        </p:nvSpPr>
        <p:spPr>
          <a:xfrm>
            <a:off x="3124080" y="6194160"/>
            <a:ext cx="2895840" cy="199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w Cen MT"/>
              </a:rPr>
              <a:t>June 26, 2014 TAC Meeti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3" name="PlaceHolder 3"/>
          <p:cNvSpPr>
            <a:spLocks noGrp="1"/>
          </p:cNvSpPr>
          <p:nvPr>
            <p:ph type="dt" idx="4"/>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850F7A-785E-47F6-8BC7-C2CC41CDA9F6}"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Times New Roman"/>
              </a:rPr>
              <a:t>June 26, 2014 TAC Meeting</a:t>
            </a:r>
            <a:endParaRPr b="0" lang="en-US" sz="1400" spc="-1" strike="noStrike">
              <a:solidFill>
                <a:srgbClr val="000000"/>
              </a:solidFill>
              <a:latin typeface="Times New Roman"/>
            </a:endParaRPr>
          </a:p>
        </p:txBody>
      </p:sp>
      <p:sp>
        <p:nvSpPr>
          <p:cNvPr id="45"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13A170-C8D0-4D8D-BCB5-9385C4AE426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6" name="Picture 11" descr=""/>
          <p:cNvPicPr/>
          <p:nvPr/>
        </p:nvPicPr>
        <p:blipFill>
          <a:blip r:embed="rId2"/>
          <a:stretch/>
        </p:blipFill>
        <p:spPr>
          <a:xfrm>
            <a:off x="208080" y="-6480"/>
            <a:ext cx="8727840" cy="13728960"/>
          </a:xfrm>
          <a:prstGeom prst="rect">
            <a:avLst/>
          </a:prstGeom>
          <a:ln w="0">
            <a:noFill/>
          </a:ln>
        </p:spPr>
      </p:pic>
      <p:sp>
        <p:nvSpPr>
          <p:cNvPr id="87" name="PlaceHolder 1"/>
          <p:cNvSpPr>
            <a:spLocks noGrp="1"/>
          </p:cNvSpPr>
          <p:nvPr>
            <p:ph type="ftr" idx="7"/>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June 26, 2014 TAC Meeti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5" name="Picture 11" descr=""/>
          <p:cNvPicPr/>
          <p:nvPr/>
        </p:nvPicPr>
        <p:blipFill>
          <a:blip r:embed="rId2"/>
          <a:stretch/>
        </p:blipFill>
        <p:spPr>
          <a:xfrm>
            <a:off x="208080" y="-6480"/>
            <a:ext cx="8727840" cy="13728960"/>
          </a:xfrm>
          <a:prstGeom prst="rect">
            <a:avLst/>
          </a:prstGeom>
          <a:ln w="0">
            <a:noFill/>
          </a:ln>
        </p:spPr>
      </p:pic>
      <p:sp>
        <p:nvSpPr>
          <p:cNvPr id="126"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5B085F-1956-4307-9CC9-FAD648416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ftr" idx="8"/>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June 26, 2014 TAC Meeti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16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16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169" name="PlaceHolder 3"/>
          <p:cNvSpPr>
            <a:spLocks noGrp="1"/>
          </p:cNvSpPr>
          <p:nvPr>
            <p:ph type="dt" idx="9"/>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442AFF-D50B-4A8D-9ECE-11DF6392E680}" type="datetime">
              <a:rPr b="0" lang="en-US" sz="2000" spc="-1" strike="noStrike">
                <a:solidFill>
                  <a:srgbClr val="ffffff"/>
                </a:solidFill>
                <a:latin typeface="Times New Roman"/>
              </a:rPr>
              <a:t>07/31/26</a:t>
            </a:fld>
            <a:endParaRPr b="0" lang="en-US" sz="2000" spc="-1" strike="noStrike">
              <a:solidFill>
                <a:srgbClr val="000000"/>
              </a:solidFill>
              <a:latin typeface="Times New Roman"/>
            </a:endParaRPr>
          </a:p>
        </p:txBody>
      </p:sp>
      <p:sp>
        <p:nvSpPr>
          <p:cNvPr id="170" name="PlaceHolder 4"/>
          <p:cNvSpPr>
            <a:spLocks noGrp="1"/>
          </p:cNvSpPr>
          <p:nvPr>
            <p:ph type="ftr" idx="10"/>
          </p:nvPr>
        </p:nvSpPr>
        <p:spPr>
          <a:xfrm>
            <a:off x="2085480" y="236520"/>
            <a:ext cx="58676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ebddc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ebddc3"/>
                </a:solidFill>
                <a:latin typeface="Times New Roman"/>
              </a:rPr>
              <a:t>June 26, 2014 TAC Meeting</a:t>
            </a:r>
            <a:endParaRPr b="0" lang="en-US" sz="1400" spc="-1" strike="noStrike">
              <a:solidFill>
                <a:srgbClr val="000000"/>
              </a:solidFill>
              <a:latin typeface="Times New Roman"/>
            </a:endParaRPr>
          </a:p>
        </p:txBody>
      </p:sp>
      <p:sp>
        <p:nvSpPr>
          <p:cNvPr id="171" name="PlaceHolder 5"/>
          <p:cNvSpPr>
            <a:spLocks noGrp="1"/>
          </p:cNvSpPr>
          <p:nvPr>
            <p:ph type="sldNum" idx="11"/>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ebddc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A34FEF-5922-4C51-A9A0-4E5F67EC7951}"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1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13" name="PlaceHolder 3"/>
          <p:cNvSpPr>
            <a:spLocks noGrp="1"/>
          </p:cNvSpPr>
          <p:nvPr>
            <p:ph type="dt" idx="12"/>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F540BD-D007-4503-89A8-CCC72F80FB88}"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214" name="PlaceHolder 4"/>
          <p:cNvSpPr>
            <a:spLocks noGrp="1"/>
          </p:cNvSpPr>
          <p:nvPr>
            <p:ph type="sldNum" idx="13"/>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2A0C28-E8D0-4E96-A659-70842BC07C76}"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215" name="PlaceHolder 5"/>
          <p:cNvSpPr>
            <a:spLocks noGrp="1"/>
          </p:cNvSpPr>
          <p:nvPr>
            <p:ph type="ftr" idx="14"/>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Times New Roman"/>
              </a:rPr>
              <a:t>June 26, 2014 TAC Mee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5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57" name="PlaceHolder 3"/>
          <p:cNvSpPr>
            <a:spLocks noGrp="1"/>
          </p:cNvSpPr>
          <p:nvPr>
            <p:ph type="dt" idx="15"/>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F4FAD6-AA6F-4DD2-BE96-6E997414FE5A}"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258" name="PlaceHolder 4"/>
          <p:cNvSpPr>
            <a:spLocks noGrp="1"/>
          </p:cNvSpPr>
          <p:nvPr>
            <p:ph type="sldNum" idx="16"/>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087455-B526-4ED2-8D0F-47A98B62C6F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59" name="PlaceHolder 5"/>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Times New Roman"/>
              </a:rPr>
              <a:t>June 26, 2014 TAC Mee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0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01" name="PlaceHolder 3"/>
          <p:cNvSpPr>
            <a:spLocks noGrp="1"/>
          </p:cNvSpPr>
          <p:nvPr>
            <p:ph type="dt" idx="18"/>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3B0BB7-989B-4CFF-8439-BA82FB521009}"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302" name="PlaceHolder 4"/>
          <p:cNvSpPr>
            <a:spLocks noGrp="1"/>
          </p:cNvSpPr>
          <p:nvPr>
            <p:ph type="sldNum" idx="19"/>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481707-6890-460E-869D-CCD9772299E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03" name="PlaceHolder 5"/>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Times New Roman"/>
              </a:rPr>
              <a:t>June 26, 2014 TAC Mee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4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42" name="PlaceHolder 3"/>
          <p:cNvSpPr>
            <a:spLocks noGrp="1"/>
          </p:cNvSpPr>
          <p:nvPr>
            <p:ph type="dt" idx="2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9A4152-980B-4B14-B95E-F2F1185EFFC2}"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343" name="PlaceHolder 4"/>
          <p:cNvSpPr>
            <a:spLocks noGrp="1"/>
          </p:cNvSpPr>
          <p:nvPr>
            <p:ph type="ftr" idx="22"/>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Times New Roman"/>
              </a:rPr>
              <a:t>June 26, 2014 TAC Meeting</a:t>
            </a:r>
            <a:endParaRPr b="0" lang="en-US" sz="1400" spc="-1" strike="noStrike">
              <a:solidFill>
                <a:srgbClr val="000000"/>
              </a:solidFill>
              <a:latin typeface="Times New Roman"/>
            </a:endParaRPr>
          </a:p>
        </p:txBody>
      </p:sp>
      <p:sp>
        <p:nvSpPr>
          <p:cNvPr id="344" name="PlaceHolder 5"/>
          <p:cNvSpPr>
            <a:spLocks noGrp="1"/>
          </p:cNvSpPr>
          <p:nvPr>
            <p:ph type="sldNum" idx="23"/>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75f55"/>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449B82-86C8-4179-8877-AE143541EDB4}"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3" name="Group 13"/>
          <p:cNvGrpSpPr/>
          <p:nvPr/>
        </p:nvGrpSpPr>
        <p:grpSpPr>
          <a:xfrm>
            <a:off x="787320" y="2804760"/>
            <a:ext cx="7543800" cy="2840760"/>
            <a:chOff x="787320" y="2804760"/>
            <a:chExt cx="7543800" cy="2840760"/>
          </a:xfrm>
        </p:grpSpPr>
        <p:sp>
          <p:nvSpPr>
            <p:cNvPr id="654"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RO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ill Hatfield</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2014 RO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5" name="Straight Connector 12"/>
            <p:cNvSpPr/>
            <p:nvPr/>
          </p:nvSpPr>
          <p:spPr>
            <a:xfrm flipV="1">
              <a:off x="787320" y="2804760"/>
              <a:ext cx="6286680" cy="12600"/>
            </a:xfrm>
            <a:prstGeom prst="line">
              <a:avLst/>
            </a:prstGeom>
            <a:ln w="1908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
        <p:nvSpPr>
          <p:cNvPr id="656" name="Footer Placeholder 4"/>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ug 28, 2014 TAC Mee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OS Recommended Voting Items</a:t>
            </a:r>
            <a:endParaRPr b="0" lang="en-US" sz="4400" spc="-1" strike="noStrike">
              <a:solidFill>
                <a:srgbClr val="775f55"/>
              </a:solidFill>
              <a:latin typeface="Tw Cen MT"/>
            </a:endParaRPr>
          </a:p>
        </p:txBody>
      </p:sp>
      <p:sp>
        <p:nvSpPr>
          <p:cNvPr id="658"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ast ROS meeting</a:t>
            </a:r>
            <a:endParaRPr b="0" lang="en-US" sz="29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July 10, 2014</a:t>
            </a:r>
            <a:endParaRPr b="0" lang="en-US" sz="26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ext ROS meeting</a:t>
            </a:r>
            <a:endParaRPr b="0" lang="en-US" sz="29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eptember 4, 2014</a:t>
            </a:r>
            <a:endParaRPr b="0" lang="en-US" sz="26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vision Requests Recommended for Approval (TAC Action required)</a:t>
            </a:r>
            <a:endParaRPr b="0" lang="en-US" sz="29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NOGRR134 – Posting Process for Black Start Plans</a:t>
            </a:r>
            <a:endParaRPr b="0" lang="en-US" sz="2600" spc="-1" strike="noStrike">
              <a:solidFill>
                <a:srgbClr val="000000"/>
              </a:solidFill>
              <a:latin typeface="Tw Cen MT"/>
            </a:endParaRPr>
          </a:p>
          <a:p>
            <a:pPr lvl="2" marL="877680" indent="-219240">
              <a:lnSpc>
                <a:spcPct val="9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w Cen MT"/>
              </a:rPr>
              <a:t>ROS Motion to Approve per OWG: Passed Unanimously Via E-mail Vote</a:t>
            </a:r>
            <a:endParaRPr b="0" lang="en-US" sz="2300" spc="-1" strike="noStrike">
              <a:solidFill>
                <a:srgbClr val="000000"/>
              </a:solidFill>
              <a:latin typeface="Tw Cen MT"/>
            </a:endParaRPr>
          </a:p>
        </p:txBody>
      </p:sp>
      <p:sp>
        <p:nvSpPr>
          <p:cNvPr id="659" name="Footer Placeholder 4"/>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ug 28, 2014 TAC Mee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tatus of Assignments</a:t>
            </a:r>
            <a:endParaRPr b="0" lang="en-US" sz="4400" spc="-1" strike="noStrike">
              <a:solidFill>
                <a:srgbClr val="775f55"/>
              </a:solidFill>
              <a:latin typeface="Tw Cen MT"/>
            </a:endParaRPr>
          </a:p>
        </p:txBody>
      </p:sp>
      <p:sp>
        <p:nvSpPr>
          <p:cNvPr id="661"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view of ERCOT planning reports and processes</a:t>
            </a:r>
            <a:endParaRPr b="0" lang="en-US" sz="28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LWG will draft a white paper describing the differences between the CDR and the Planning Models and why they exist.  This paper will include, but not be limited to, reviewing generation assumptions,  load forecast assumptions, and data sources and availability.</a:t>
            </a:r>
            <a:endParaRPr b="0" lang="en-US" sz="2400" spc="-1" strike="noStrike">
              <a:solidFill>
                <a:srgbClr val="000000"/>
              </a:solidFill>
              <a:latin typeface="Tw Cen MT"/>
            </a:endParaRPr>
          </a:p>
          <a:p>
            <a:pPr lvl="2" marL="813600" indent="-2034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w Cen MT"/>
              </a:rPr>
              <a:t>Status: Progress underway </a:t>
            </a:r>
            <a:endParaRPr b="0" lang="en-US" sz="24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 addition, PLWG will review load scaling methodologies used in Planning Models and make a recommendation to ROS on appropriateness of methodologies.</a:t>
            </a:r>
            <a:endParaRPr b="0" lang="en-US" sz="2400" spc="-1" strike="noStrike">
              <a:solidFill>
                <a:srgbClr val="000000"/>
              </a:solidFill>
              <a:latin typeface="Tw Cen MT"/>
            </a:endParaRPr>
          </a:p>
          <a:p>
            <a:pPr lvl="2" marL="813600" indent="-2034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w Cen MT"/>
              </a:rPr>
              <a:t>Status: Progress underway</a:t>
            </a:r>
            <a:endParaRPr b="0" lang="en-US" sz="2400" spc="-1" strike="noStrike">
              <a:solidFill>
                <a:srgbClr val="000000"/>
              </a:solidFill>
              <a:latin typeface="Tw Cen MT"/>
            </a:endParaRPr>
          </a:p>
        </p:txBody>
      </p:sp>
      <p:sp>
        <p:nvSpPr>
          <p:cNvPr id="662" name="Footer Placeholder 2"/>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ug 28, 2014 TAC Mee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tatus of Assignments</a:t>
            </a:r>
            <a:endParaRPr b="0" lang="en-US" sz="4400" spc="-1" strike="noStrike">
              <a:solidFill>
                <a:srgbClr val="775f55"/>
              </a:solidFill>
              <a:latin typeface="Tw Cen MT"/>
            </a:endParaRPr>
          </a:p>
        </p:txBody>
      </p:sp>
      <p:sp>
        <p:nvSpPr>
          <p:cNvPr id="66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ordinate with ERCOT the need to add (verify) resource temperature limits in RARF to improve forecasting of Wind Resources during icing and cold weather event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Tw Cen MT"/>
              </a:rPr>
              <a:t>Status: RRGRR003 (Modifications to Improve Wind Forecasting) is up for review and vote at Sept. 4 ROS meeting.</a:t>
            </a:r>
            <a:endParaRPr b="0" lang="en-US" sz="2600" spc="-1" strike="noStrike">
              <a:solidFill>
                <a:srgbClr val="000000"/>
              </a:solidFill>
              <a:latin typeface="Tw Cen MT"/>
            </a:endParaRPr>
          </a:p>
        </p:txBody>
      </p:sp>
      <p:sp>
        <p:nvSpPr>
          <p:cNvPr id="665" name="Footer Placeholder 2"/>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ug 28, 2014 TAC Mee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tatus of Assignments</a:t>
            </a:r>
            <a:endParaRPr b="0" lang="en-US" sz="4400" spc="-1" strike="noStrike">
              <a:solidFill>
                <a:srgbClr val="775f55"/>
              </a:solidFill>
              <a:latin typeface="Tw Cen MT"/>
            </a:endParaRPr>
          </a:p>
        </p:txBody>
      </p:sp>
      <p:sp>
        <p:nvSpPr>
          <p:cNvPr id="6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valuate concerns that ERCOT is having to bring RUC units earlier than required because of unit start-up failures; review need for ERCOT Operating procedures for RUCing unit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Tw Cen MT"/>
              </a:rPr>
              <a:t>Status:  ROS working with ERCOT to review unit failures/trips/de-rates occurring during extreme cold weather events</a:t>
            </a:r>
            <a:endParaRPr b="0" lang="en-US" sz="2600" spc="-1" strike="noStrike">
              <a:solidFill>
                <a:srgbClr val="000000"/>
              </a:solidFill>
              <a:latin typeface="Tw Cen MT"/>
            </a:endParaRPr>
          </a:p>
        </p:txBody>
      </p:sp>
      <p:sp>
        <p:nvSpPr>
          <p:cNvPr id="668" name="Footer Placeholder 2"/>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ug 28, 2014 TAC Mee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bhatfiel</cp:lastModifiedBy>
  <cp:lastPrinted>2013-01-30T23:16:36Z</cp:lastPrinted>
  <dcterms:modified xsi:type="dcterms:W3CDTF">2014-08-25T13:04:19Z</dcterms:modified>
  <cp:revision>576</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4C4FFC4A894504CB30DBFB7150C9A36</vt:lpwstr>
  </property>
  <property fmtid="{D5CDD505-2E9C-101B-9397-08002B2CF9AE}" pid="3" name="Information Classification">
    <vt:lpwstr/>
  </property>
</Properties>
</file>