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7E335-01B0-44FC-92A2-473BC6F59D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, dearth of scarcity events in ‘13; overlap between 4CP and price response (occur at same time);still learning about product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E0F17-B26D-46C9-8EDE-FC810F9A8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direction on Augmented OR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14F50-6B7A-494B-A438-AF9AD93D6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7C6-CA02-4C61-8556-155288BB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CA8-E214-47B0-B99D-0E0B798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878-6F71-4686-8D12-CEEAF3FB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D48-0B1E-40B3-A078-3635DB98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300-6DD6-4FA1-A509-FA2FDE3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60E-D7B9-4AD8-916E-D2403B01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534-8AA7-4E0A-9CBE-FC353652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A3A-1FDF-4CD5-AF22-268D9004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F89-3D8B-4CF4-B245-25BA0FFD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7CC-7201-4BE0-967A-114FEB0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C76-15EC-4F76-8E19-14AC2DD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814-36F1-48DA-82ED-326E472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F3A08-B2EC-4864-B825-21A4C6667F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olesale Market Subcommittee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95200"/>
            <a:ext cx="305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pared for the August 28th TAC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R Auction Limits (vo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MS endorsed a 2,500 per CRR AH transaction limit in the Long-Term Auction Sequ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the limit is 2,000 per CRR 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oal is to increase utilization of the 200,000 overall transaction li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verall transaction limit is scheduled to be uprated to 300,000 with the implementation of SCR77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CMRR004, Caps for Energy Storage Resources - Urgent (vote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s the values for the caps used in the mitigation and make-whole calculation process for Energy Storage Re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s implementation of NPRR560 by utilizing manual processes and thereby avoids project cost impacts at thi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1124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 Assignment List 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4960" y="849240"/>
          <a:ext cx="7313400" cy="4043520"/>
        </p:xfrm>
        <a:graphic>
          <a:graphicData uri="http://schemas.openxmlformats.org/drawingml/2006/table">
            <a:tbl>
              <a:tblPr/>
              <a:tblGrid>
                <a:gridCol w="839520"/>
                <a:gridCol w="3237120"/>
                <a:gridCol w="3236760"/>
              </a:tblGrid>
              <a:tr h="432000">
                <a:tc gridSpan="3"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MS Assignments From The T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9/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long-term solution for credit requirements in light of revisions to System Wide Offer C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rket Credit Working Group is looking into insurance that would absorb monies owed due to market defaults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5/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steps ERCOT utilizes in the CDR load foreca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’s analysis of incorporating ERS, Load Resources providing RRS, energy efficiency, and distributive generation in ongoing (~Fall 20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perating Procedure that ERCOT uses to determine when they need RUC (specifically RUC for bad weather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 a review of the RUC process in the newly created RUC Task Force.  Optimize market based tools and minimize RUC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82, Refinements to Testing ERS – address testing requirements for all Resour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ongo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27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to NPRR598, Clarify Inputs to PRC and ORDC – address additional ORDC enhancements including addressing bandwidth oscill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MWG review to be conducted  on operational data during emergency condi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10080" rIns="10080" tIns="100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mented ORD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 627 Augmented ORDC to Include Reliability Factor Methodology  was referred to the RUC Task Force, however was rejected at PRS.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esources in SCED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RIS version 2 subgroup continues to work on proposals to facilitate direct participation in the real-time market by DR Q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S will be receiving an update at its Septembe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0:43:11Z</dcterms:created>
  <dc:creator>Systems Administrator</dc:creator>
  <dc:description/>
  <dc:language>en-US</dc:language>
  <cp:lastModifiedBy>Systems Administrator</cp:lastModifiedBy>
  <cp:lastPrinted>2014-03-25T15:14:24Z</cp:lastPrinted>
  <dcterms:modified xsi:type="dcterms:W3CDTF">2014-08-25T17:09:28Z</dcterms:modified>
  <cp:revision>147</cp:revision>
  <dc:subject/>
  <dc:title>The Wholesale Market Subcommittee</dc:title>
</cp:coreProperties>
</file>