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6A8-CCE4-41B2-8669-84C62C7D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5D9-F43B-4F03-B175-C5F886D9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9CD-4A35-4CC3-8AE6-BD923244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132-144F-4DA9-AF76-FAD96CDE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144-102C-4593-8FC5-8F515113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950-18C6-41C0-8757-BEEA7D7B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85B-E09B-4BC2-B113-66F4AE55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23D-3B2D-47CE-AEAB-F44BCB03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245-DC3D-44EA-B9B1-0E2F71EB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0C2-1B73-4DDE-BC79-795036B3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49B-CC95-44AF-8964-BD475193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6E4-A17D-4B50-B57F-B003D329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398-193D-44FA-87E6-8E757E306B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CBCD-EBB4-452D-989A-3D43ADF05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erging Technologies Working Grou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date to W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gust 06,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42D5-3C8C-48A1-843B-7AB0E79AC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563400" y="3597120"/>
            <a:ext cx="8077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on NPRR 6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on PVGR Forecasting 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ETWG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  Update on NPRR 6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09680" y="1371600"/>
            <a:ext cx="8353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July 3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TAC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gend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ttp://www.ercot.com/calendar/2014/07/20140731-TA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285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n 7/31/14, TAC voted to recommend approval of NPRR 615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s recommended by PRS in the 7/17/14 PRS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ll likely be on next week’s BoD Agenda (12AU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59B3-1583-4AC2-896A-16781EC4E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. Update on PVGR Forecasting RF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E PVGR RFP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FP Released on July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ercot.com/about/procurement/rfp/ind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– 10 Vendors submitted Notice of Intent to Pro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osals are due by August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cipated Contract Award by Decembe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bjective of this RFP is to allow ERCOT to produce accurate and reliable forecasts of PVGRs to be used as an input into the Day-Ahead Reliability Unit Commitment (DRUC) and Hour-Ahead Reliability Unit Commitment (HRUC) and to provide ERCOT a look-ahead capability to maintain a satisfactory level of reliability.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82CF-C4A4-4564-8799-BB5113630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. Update on PVGR Forecasting RF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the RFP: Figure 1 – Data Flow and Dependencies of Renewable Production (PVGR) Potential Fore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4ABA-C7D9-4FD1-ACD7-0D46ADB3F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841320" y="990720"/>
            <a:ext cx="73850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.  Next ETWG Meeting August 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s on responses received for PVGR R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items, T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B82E-ADAD-456E-8D58-62C8EC08F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F01D-EF8E-424D-AEE4-5208E6A84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ested WMS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6B69-9ACA-4FCB-A668-A50479601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3:39:14Z</dcterms:created>
  <dc:creator>Chad Blevins</dc:creator>
  <dc:description/>
  <dc:language>en-US</dc:language>
  <cp:lastModifiedBy>Albracht, Brittney</cp:lastModifiedBy>
  <dcterms:modified xsi:type="dcterms:W3CDTF">2014-08-06T01:06:44Z</dcterms:modified>
  <cp:revision>55</cp:revision>
  <dc:subject/>
  <dc:title>ETWG Update to WMS</dc:title>
</cp:coreProperties>
</file>