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CE4-5FFC-42EA-B966-8BC37970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255-C207-4C02-8EE0-C06B03D3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A1A-ACCB-4760-938A-100E0B9F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5B3-DAF9-4DD0-BD1F-009EB39C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599-C005-4C40-AD9C-035924E7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4B0-73CF-44CF-9276-D8AE22FA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090-5AC0-4EC3-9178-9E8CEF4F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8B9-EC21-4C99-B0A0-2275E221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AF9-C973-4CB4-B320-3E51AD43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62D-4C89-40C4-9BC9-8E323722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745-A2BD-4889-8AAF-AF6C8C29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DE9-09E9-496D-860B-27A120F5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AE33-C801-4E95-B3BD-4361507C10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E075-A176-4908-B37A-967097C94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gust 6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A4F8-B649-4E15-8D51-810EF21BD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 NPRR for Resource Specific Fuel P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ckground - Some Resources were mitigated in real-time to below their actual cost due to large differences between FIP and their actual gas price on certain days in February and March 2014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S directed RCWG to develop an NPRR for a resource specific fuel price equal to one of the follow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P (Houston Ship Chann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ximum of FIP or Wa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so discussed need for a make-whole mechanism for fuel events not covered by a Resource-specific fuel price (i.e. intraday gas purchase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8B44-0612-4C14-983C-9E16BBF56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of Draft NPRR for Resource Specific Fuel P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 Resource-specific Fuel Price (RFP) equal to eith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P (HSC), Waha, or Maximum of FIP or Wah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 dispute process for Resources mitigated below their cost due to exceptional fuel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language to RUC make-wh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lift allocated by L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ptional Event:  Actual price paid for delivered gas must be greater than RFP plus a threshold fuel p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reshold Fuel Price to be defined in the VC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CWG discussed a Threshold Fuel Price of at least $2/MMBtu or grea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-whole cost calculated as follo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culate a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djuste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tigated Offer Curve for the Resource utilizing its approved Verifiable Costs and the verified actual fuel cos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ke-whole calculated as the positive difference between the minimum of the price from the adjusted Mitigated Offer Curve or the Energy Offer Curve, and the real-time Settlement Point Price (i.e. price from original MOC), times the minimum of the aggregated base point or metered gener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have verifiable costs on file to qualif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0A93-83BB-4E84-A057-77D24F35F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7"/>
          <p:cNvSpPr/>
          <p:nvPr/>
        </p:nvSpPr>
        <p:spPr>
          <a:xfrm>
            <a:off x="6858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-Whole = [Min(EOC, Adjusted MOC) – Original MOC] x Min(Agg. Base Point, Metered Gener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hart 8" descr=""/>
          <p:cNvPicPr/>
          <p:nvPr/>
        </p:nvPicPr>
        <p:blipFill>
          <a:blip r:embed="rId1"/>
          <a:stretch/>
        </p:blipFill>
        <p:spPr>
          <a:xfrm>
            <a:off x="530280" y="1517760"/>
            <a:ext cx="7570800" cy="4047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-Whole Calculation for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752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e discussion of the NPRR 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August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CWG mee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CD5A-D1CE-4228-80A9-03F74CD1C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ptvinson</cp:lastModifiedBy>
  <dcterms:modified xsi:type="dcterms:W3CDTF">2014-08-01T19:58:20Z</dcterms:modified>
  <cp:revision>177</cp:revision>
  <dc:subject/>
  <dc:title>QMWG Update to WMS</dc:title>
</cp:coreProperties>
</file>