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dt" idx="13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ftr" idx="14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 type="sldNum" idx="15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A00A1-FE8D-4AE1-B66C-48C291192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6E3226-E7E5-4CF7-B724-25DE6C5DB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ooter Placeholder 5"/>
          <p:cNvSpPr/>
          <p:nvPr/>
        </p:nvSpPr>
        <p:spPr>
          <a:xfrm>
            <a:off x="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79D6B-3EE0-497E-8237-36AC76222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ooter Placeholder 5"/>
          <p:cNvSpPr/>
          <p:nvPr/>
        </p:nvSpPr>
        <p:spPr>
          <a:xfrm>
            <a:off x="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F7DE-98C6-4C67-B7C1-6A590F9E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F809-F0CB-4E17-9A56-137A277A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0F94-3C21-479A-82DB-455226D9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505-E622-4476-A1EB-481C1B7A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1130-4D9C-42EF-9DFC-9D696AE4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034D-5A83-4969-B21C-AC93B71F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88BE-9C65-4D30-BB9E-CE214CFC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CD8-5278-4CDD-BBC3-0FF616FD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3CA1-C0DF-4A4D-BCD9-4E03DA5C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4F8-4605-4A9C-9136-E1F7D7B0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FE55-13B4-4892-B77F-1819ECC80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A1C9-5C94-42AB-A2C5-F2D18E8E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ftr" idx="1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60BFC-D9FB-4D6D-BC59-9D43113FF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ftr" idx="1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8EFFF4-19AF-4624-86FC-808242DAE70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425FA6-5E11-4082-87B2-A61D9F7A7A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E3A575-3964-47E6-8441-DC1C7392D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29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50688-ACB5-4971-89CF-6B489EE6B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5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172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2BD0D-464B-4148-BA7E-83FAEFB3F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6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6AD02C-0C6B-4BDA-9AAE-D3EE50E83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260" name="Straight Connector 7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003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B6AEC8-4E2E-481D-9BF2-1D77D9161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ABCE5A-0119-4AD7-97B9-C5E5A9421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ftr" idx="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-47520" y="0"/>
            <a:ext cx="9239040" cy="685800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2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8" descr="ERCOT cmyk-01.png"/>
          <p:cNvPicPr/>
          <p:nvPr/>
        </p:nvPicPr>
        <p:blipFill>
          <a:blip r:embed="rId3"/>
          <a:stretch/>
        </p:blipFill>
        <p:spPr>
          <a:xfrm>
            <a:off x="247680" y="6024600"/>
            <a:ext cx="817560" cy="34596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7DAAD-6538-4BB5-BD65-E0626E81D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ftr" idx="1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13"/>
          <p:cNvGrpSpPr/>
          <p:nvPr/>
        </p:nvGrpSpPr>
        <p:grpSpPr>
          <a:xfrm>
            <a:off x="542880" y="422280"/>
            <a:ext cx="7728120" cy="1922400"/>
            <a:chOff x="542880" y="422280"/>
            <a:chExt cx="7728120" cy="1922400"/>
          </a:xfrm>
        </p:grpSpPr>
        <p:pic>
          <p:nvPicPr>
            <p:cNvPr id="474" name="Picture 8" descr="ERCOT cmyk-01.png"/>
            <p:cNvPicPr/>
            <p:nvPr/>
          </p:nvPicPr>
          <p:blipFill>
            <a:blip r:embed="rId1"/>
            <a:stretch/>
          </p:blipFill>
          <p:spPr>
            <a:xfrm>
              <a:off x="542880" y="422280"/>
              <a:ext cx="2457720" cy="104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TextBox 9"/>
            <p:cNvSpPr/>
            <p:nvPr/>
          </p:nvSpPr>
          <p:spPr>
            <a:xfrm>
              <a:off x="726840" y="2006280"/>
              <a:ext cx="754416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Straight Connector 12"/>
            <p:cNvSpPr/>
            <p:nvPr/>
          </p:nvSpPr>
          <p:spPr>
            <a:xfrm flipV="1">
              <a:off x="726840" y="1728360"/>
              <a:ext cx="6286680" cy="12600"/>
            </a:xfrm>
            <a:prstGeom prst="line">
              <a:avLst/>
            </a:prstGeom>
            <a:ln w="2556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TextBox 1"/>
          <p:cNvSpPr/>
          <p:nvPr/>
        </p:nvSpPr>
        <p:spPr>
          <a:xfrm>
            <a:off x="542880" y="2262240"/>
            <a:ext cx="810252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RCOT Updates-NPRR 570 Phase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RTM Final Settlement Timeline to 55 days after the Operating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ke H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/16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1"/>
          <p:cNvSpPr/>
          <p:nvPr/>
        </p:nvSpPr>
        <p:spPr>
          <a:xfrm>
            <a:off x="352440" y="1191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ase 2 – RTM Final Operating Day +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"/>
          <p:cNvSpPr/>
          <p:nvPr/>
        </p:nvSpPr>
        <p:spPr>
          <a:xfrm>
            <a:off x="352440" y="855720"/>
            <a:ext cx="83278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 the posting date for the RTM Final Settlement Statement to 55 days after Operating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ition to post OD + 55 occurred on 6/25/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issues to report from ERC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270000" y="2568600"/>
          <a:ext cx="8610480" cy="3257640"/>
        </p:xfrm>
        <a:graphic>
          <a:graphicData uri="http://schemas.openxmlformats.org/drawingml/2006/table">
            <a:tbl>
              <a:tblPr/>
              <a:tblGrid>
                <a:gridCol w="1028520"/>
                <a:gridCol w="1676520"/>
                <a:gridCol w="1447560"/>
                <a:gridCol w="1524240"/>
                <a:gridCol w="1446120"/>
                <a:gridCol w="1487520"/>
              </a:tblGrid>
              <a:tr h="647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56bb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/23/2014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56bb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/24/2014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56bb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/25/2014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56bb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/26/2014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T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56bb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/27/2014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56bb8"/>
                    </a:solidFill>
                  </a:tcPr>
                </a:tc>
              </a:tr>
              <a:tr h="53820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 6/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 6/20 – 6/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 6/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 6/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 6/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</a:tr>
              <a:tr h="64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6/16 – 6/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6/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6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6/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4/25 – 4/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4/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4/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inal 5/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4/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inal 5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5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4e6"/>
                    </a:solidFill>
                  </a:tcPr>
                </a:tc>
              </a:tr>
              <a:tr h="74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Up 12/23–12/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Up 12/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Up 12/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Up 12/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Up 12/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5:58:57Z</dcterms:created>
  <dc:creator>Nguyen, Hailey</dc:creator>
  <dc:description/>
  <dc:language>en-US</dc:language>
  <cp:lastModifiedBy>Holt, Blake</cp:lastModifiedBy>
  <cp:lastPrinted>2013-09-04T15:10:56Z</cp:lastPrinted>
  <dcterms:modified xsi:type="dcterms:W3CDTF">2014-07-11T16:06:09Z</dcterms:modified>
  <cp:revision>1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EB6C32BA7893B4D8D08DA703C6B8599</vt:lpwstr>
  </property>
  <property fmtid="{D5CDD505-2E9C-101B-9397-08002B2CF9AE}" pid="3" name="Information Classification">
    <vt:lpwstr>ERCOT Confidential</vt:lpwstr>
  </property>
</Properties>
</file>