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2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ftr" idx="2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 type="sldNum" idx="2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3071-5082-4ACD-98E5-BDCB03C02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CAE9-8846-4AF7-AE3B-1A9CA27EE7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AFD4-94AF-428E-874F-35E256DB4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45D-1DEA-432B-AC62-A6C437B880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6B42-337C-4EEF-9BC9-958E8188B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7D06-C43C-48BF-8909-A99165D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537CFB-433C-440D-A833-66248405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414A54-5CE3-4A7E-BD11-68C4F5F5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5F49C6-8E9D-4D16-B2D5-674702C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39CE6A-C28F-4838-B579-2F98B9C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A99A0F-9A2F-4935-A545-92C1B7E0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A014A6-EE5E-4A65-A2CA-0252C57B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B1B555-E0C0-4332-8C82-DAFC4E2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E0447-52DD-4AA7-8BC3-C37CDC2D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A2139C-EFDF-4C8B-A522-8562C937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2B72C-41F7-4425-86C7-4DDA6EBC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2111-2F88-4504-9A3A-8BA291A1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B9B1-750D-4220-B7F3-CFB4EC58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8DF-87D5-474B-B55F-4636924D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4CC-6526-4927-A1DB-EDB7CF044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3D6D-1F2E-4186-B8A8-E825EC7C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A99F5-5EEA-4C64-A8BD-F99C5955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77C5-336B-476A-975D-7F9EA348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520AE-36DF-4616-95E5-5AE91DB2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9F1F7-9C8A-4DEF-9278-568C3F2E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740C-EAD5-4C18-B791-F618853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C1BB-811A-4BD7-A743-9FB68CF4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A328-3053-48C8-B486-B7646F00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4634A-AA7D-4708-92EA-39E6CECA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22F0-74F0-485C-AED5-871F67C0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C3279-D48A-48E8-B4B3-DAA552DC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9BA8F-73B5-49D0-9C5F-31BC129B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8A371A-4730-4B60-989D-87B311E0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9E520B-55BA-4383-8230-8AB09DEB3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96D92-5A42-465A-92CB-04C62A3A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C98E07-022D-417C-BDFC-25C99EEB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726B52-41F0-4089-B825-28B8CCBB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002BED-8739-4190-AF49-E7D827E3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959675-6F04-479C-80BD-A837F66D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879960-1898-414F-8E85-8BF083A0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8C493-7346-4049-9933-4A8800B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951A9-5AC9-4DB1-9114-6EF471E9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D9F74A-2A49-4A8A-BE8B-90D9E6F4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FD823-398C-4169-9E89-E5D4AE707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232F43-41E9-49D2-AFAC-8B7B4DB5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0BFA4-9437-4F7F-B070-AA3C41F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B4588-C1AB-4DB9-872A-9E4A1DE7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B5D67-684D-473B-9356-8B50030F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D3DC3E-208E-402D-B50C-D9DB7764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D12252-A4B7-4090-A64D-7786CBCA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C150C5-BC85-4138-A2FB-12320E01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8FA5F-F9F4-4454-A6F0-E5F31821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731E8-C848-4F72-B0EB-EBF3A0C4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CB2D5-A948-4CBE-A595-67327DC4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6A9426-DFC0-4B33-97E2-1D7E598F6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5FE619-B520-4710-A5B1-66677CF11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8E1CE-CBAA-4301-9C27-45D7CE3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B94CC-A921-4739-98F4-C765F4B2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38A37-A372-455C-94AA-DE3594FAC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2C4F61-23DA-4ACB-83C7-3F1F3E29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639D3-D012-4AA7-9573-9034435B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1072EA-45E9-44C4-96B3-B760A945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80D0C4-6B29-4BBC-A7A8-AB8DA4A0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65464-D823-4E76-AFE5-675A607F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D9DFE-F927-4870-A13B-29E3E5C8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736B3F-12F0-4E84-A053-6578FE24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56D00-9219-4698-9D23-798D091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0159-A1B6-4230-A490-EEFAC12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DBC558-6C8A-4E84-9C2A-78C689B9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DD047B-1A45-41E9-9B29-41151E4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A30A0-4AF6-4765-9630-C7693BE0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E2EB18-E6FD-45B4-BE8A-36055FD1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E40660-4BB6-4872-9280-BCBC87B54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A1BB78-BF6D-4AFA-9058-D64E166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F9574A-6F81-4B48-8D3C-9C77F155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5EDE94-DEFA-47AC-BCC4-C52CD1F1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2A271-BFE1-48AE-ABB7-740AA649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CCDFE8-E157-4C2E-9656-9E018D4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9BC8-A0A6-4A59-85E6-8F826222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E48163-B85D-4447-9992-8259BDA0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03CEF-0CD8-4380-B9CF-2312181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DE65DE-DCAC-40D5-B641-7FF4FD21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FF413-E305-43CA-8D40-EC18EDC4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E276BA-25BB-4D62-8D0E-71360443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BAFF88-A46F-4724-9335-285491FDE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1CBA96-238D-432B-AC96-7937D2AE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15DD20-DE6D-41E0-8251-653063B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351DD-40BE-4124-995F-97485F86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2A396F-EBB3-43EB-8E83-49045FD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62C0-D299-468E-92C3-D83E8786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959598-AA84-42A7-BD12-FA0184AC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AEAA3F-5109-4670-A7B3-D1A92DE9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C6BAC-528B-43C2-B3C9-BB58E24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F0836-9E6A-429C-ACAD-5D067CA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C39952E-A0C7-426E-9D63-5F11505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B7CBB9-EDDD-41E4-B6AA-3E8E172F4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C34373-BE52-4EA5-85BD-09CF4E5A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981A1-9E02-4CF7-8FCE-8E23F010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5846DF-AC63-4BD0-AD5D-6DFE563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02FC2C-B90D-4985-BF05-A11D4602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95D7-D725-444D-B192-23ACF5353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FEA-8A0F-42F0-92D3-B6B9D86B4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8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7000-BAC3-41D2-A7ED-C23ADB40F5A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gust 13, 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MS Update to 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0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48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3B04-2D2B-4D6B-BB77-71075BCCB31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96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3B9A-762D-4960-ABD0-EB53AA4BA2E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E11B-B85D-4EFD-9C39-48BEF55497E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F5DC-6255-4EE4-8159-9CEE43017E6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AB86-9001-434A-854D-30B4667DBE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366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3E92-F376-4181-8E8C-ADEF302ECDA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ercot.webex.com/ercot" TargetMode="External"/><Relationship Id="rId2" Type="http://schemas.openxmlformats.org/officeDocument/2006/relationships/hyperlink" Target="https://ercot.webex.com/ercot" TargetMode="External"/><Relationship Id="rId3" Type="http://schemas.openxmlformats.org/officeDocument/2006/relationships/hyperlink" Target="http://www.ercot.com/calendar/2014/06/20140627-AMSDATAWORK" TargetMode="Externa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COP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477C-6BE4-4ECE-9CB5-D8D366352DF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95280" y="-152640"/>
            <a:ext cx="7499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3E8B-BD87-4425-B6EF-53F6EC8430F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Content Placeholder 4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601992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63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RMGRR122  Approved by RMS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3996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RMGRR122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Synchronization with NPRR608, Alignment of Transaction Timing to the PUCT Performance Measures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(Vote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5/06/14 Review/Vote:  This Retail Market Guide Revision Request aligns ERCOT’s processing time with the transactional timing in the Public Utility Commission of Texas’ (PUCT’s) Performance Measur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6/03/14 Impact Analysis Review/Vote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No project required. No impacts to ERCOT staffing, business functions or grid operations and practices.   This Retail Market Guide Revision Request RMGRR) can take effect upon Technical Advisory Committee (TAC) approval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05/06/14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RMS unanimously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Approved RMGRR122 as recommended by TDTWG and TX SE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.   IA is scheduled for RMS review on 6/3/14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Gill Sans MT"/>
              </a:rPr>
              <a:t>06/03/14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:  RMS Unanimously Approved  IA as submitte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nce RMGRR122 is a synchronization to NPRR608, 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RMS recommended and  TAC approved “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ABLING RMGRR122 at TAC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” awaiting NPRR608 approval at the August Board meeting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FC4-BB9F-408E-9A09-DB90C2BDBA3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639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TDTWG NAESB EDM v1.6 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3996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exas Data Transport Working Group (TDTWG) NAESB EDM V 1.6  Guide Update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lined changes supports NPRR555 “Load Resource Participation in Security-Constrained Economic Dispatch” and the file type definition for Aggregate Load Resources in SCED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w file types supported are – Site Data, Event Data, NIDR Meter Reads and Interval Data Meter Rea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09080" indent="-1591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PRR555 System implementation June 1, 2014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06/03/1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MS Unanimously Approved NAESB EDM v1.6 Implementation Guide with an effective date of June 4, 2014. 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520" indent="-25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94A8-B6F4-435E-9CEB-830B3C7B34B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90720" y="-2289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Gill Sans MT"/>
              </a:rPr>
              <a:t>GREAT NEWS </a:t>
            </a: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for COMPETITION</a:t>
            </a: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218960" y="762120"/>
            <a:ext cx="79246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haryland Utilities Completed their Transition to Competition with Meter Read Cycles on May 30, 2014!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On June 2, 2014 Sharyland Utilities (SU) read their first meter read cycle into Competition and SU EDI IDs are </a:t>
            </a: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100% in the ERCOT Retail Market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!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Gill Sans MT"/>
              </a:rPr>
              <a:t>71.2%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of their Customer base made their Choice of Retail Providers!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164160" indent="-164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81F81-AC8A-4ED6-99C4-7CF5E6C6821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Sharyland Transition Issue: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838080" y="1522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volved approximately 172 Customers with multiple ESI IDs where one ESI ID (primary) is with the Competitive REP and their remaining ESI IDs owned by same Customer with Default REP(s)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PUCT Staff and SU Concerns:   When Customer contracted with Competitive REP (CR) on one premise Customer may have thought that included all premises assigned to the same Customer. 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isconnect for Non-Payment (DNP) activities for these premises were temporarily suspended.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987120" indent="-1555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rkeTrak Issues were created by SU that included both Competitive and Default REPs to investigate Customer’s intent for all their ESI ID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797040" indent="-20556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ffective July 7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vestigations and recommendations were completed, therefore, DNP’s were reinstated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75640" indent="-2127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DDFC-BC64-43C5-BCA7-AA4F36E91192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SCR 756 MarkeTrak Phase III Part B: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91440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lanning Phase -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ecution/Development –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COMPL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RCOT Testing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– COMPLET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arket Training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– COMPLE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4 –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Housto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- CenterPoint Energy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1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4 –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 Dalla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ONCOR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June 2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2014 – </a:t>
            </a:r>
            <a:r>
              <a:rPr b="0" lang="en-US" sz="2000" spc="-1" strike="noStrike">
                <a:solidFill>
                  <a:srgbClr val="c00000"/>
                </a:solidFill>
                <a:latin typeface="Gill Sans MT"/>
              </a:rPr>
              <a:t>Austin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– ERCOT Met Cent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et Testing –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arted July 14, 201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duction Implementation </a:t>
            </a:r>
            <a:r>
              <a:rPr b="1" lang="en-US" sz="2400" spc="-1" strike="noStrike">
                <a:solidFill>
                  <a:srgbClr val="c00000"/>
                </a:solidFill>
                <a:latin typeface="Gill Sans MT"/>
              </a:rPr>
              <a:t>Go-LIVE – July 26/27, 2014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bilization Period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ssons Learned Mee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eTrak 101 Train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2E00-CB8C-40FB-8EAE-DF8C38446F65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nouncements!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S Data Worksho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AFE-7141-4FD7-8B9B-0D125A8CDD7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428840" y="1249200"/>
          <a:ext cx="7638840" cy="1646280"/>
        </p:xfrm>
        <a:graphic>
          <a:graphicData uri="http://schemas.openxmlformats.org/drawingml/2006/table">
            <a:tbl>
              <a:tblPr/>
              <a:tblGrid>
                <a:gridCol w="3889440"/>
                <a:gridCol w="3749400"/>
              </a:tblGrid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Friday,  June 27, 2014</a:t>
                      </a:r>
                      <a:br>
                        <a:rPr sz="1800"/>
                      </a:b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:00 AM - 1:00 P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8dc765"/>
                          </a:solidFill>
                          <a:uFillTx/>
                          <a:latin typeface="Gill Sans MT"/>
                          <a:hlinkClick r:id="rId1"/>
                        </a:rPr>
                        <a:t>WebEx </a:t>
                      </a:r>
                      <a:r>
                        <a:rPr b="0" lang="en-US" sz="1800" spc="-1" strike="noStrike" u="sng">
                          <a:solidFill>
                            <a:srgbClr val="8dc765"/>
                          </a:solidFill>
                          <a:uFillTx/>
                          <a:latin typeface="Gill Sans MT"/>
                          <a:hlinkClick r:id="rId2"/>
                        </a:rPr>
                        <a:t>C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leconference: 1-877-668-4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 number: 657 994 6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 password: A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3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RCOT Austin Room 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54" name=""/>
          <p:cNvGraphicFramePr/>
          <p:nvPr/>
        </p:nvGraphicFramePr>
        <p:xfrm>
          <a:off x="1434960" y="2590920"/>
          <a:ext cx="7499520" cy="2743200"/>
        </p:xfrm>
        <a:graphic>
          <a:graphicData uri="http://schemas.openxmlformats.org/drawingml/2006/table">
            <a:tbl>
              <a:tblPr/>
              <a:tblGrid>
                <a:gridCol w="7499520"/>
              </a:tblGrid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RCOT Overview of AMS Data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ata Loading Process &amp; Ti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pplicable Reports / Extr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Estimat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mpact to other ERCOT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3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DSP Overview of AMS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ermi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MS 15-minute Interval Meter Data Collectio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Timeline &amp; Data Handof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MS Missing Data Proce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</a:tbl>
          </a:graphicData>
        </a:graphic>
      </p:graphicFrame>
      <p:sp>
        <p:nvSpPr>
          <p:cNvPr id="455" name="TextBox 7"/>
          <p:cNvSpPr/>
          <p:nvPr/>
        </p:nvSpPr>
        <p:spPr>
          <a:xfrm>
            <a:off x="1295280" y="5410080"/>
            <a:ext cx="76201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dc765"/>
                </a:solidFill>
                <a:uFillTx/>
                <a:latin typeface="Arial"/>
                <a:ea typeface="Arial"/>
                <a:hlinkClick r:id="rId3"/>
              </a:rPr>
              <a:t>http://www.ercot.com/calendar/2014/06/20140627-AMSDATA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nouncements!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8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MS Data Workshop II:  </a:t>
            </a:r>
            <a:r>
              <a:rPr b="1" lang="it-IT" sz="2800" spc="-1" strike="noStrike">
                <a:solidFill>
                  <a:srgbClr val="000000"/>
                </a:solidFill>
                <a:latin typeface="Gill Sans MT"/>
              </a:rPr>
              <a:t>ERCOT AMS Data Monitoring &amp; Proc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781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This workshop wi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Be focused on ERCOT’s  AMS data monitoring and processes. 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im to provide insight into ERCOT’s processing of AMS data 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low Retail Electric Providers an opportunity to understand the monitoring, reporting and handling of issues that arise during AMS data processi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Gill Sans MT"/>
              </a:rPr>
              <a:t>http://www.ercot.com/calendar/2014/08/20140804-AMSDATAWork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ly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9309-EA6E-46C6-9018-70A46D31506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568520" y="2011320"/>
          <a:ext cx="7499160" cy="1646280"/>
        </p:xfrm>
        <a:graphic>
          <a:graphicData uri="http://schemas.openxmlformats.org/drawingml/2006/table">
            <a:tbl>
              <a:tblPr/>
              <a:tblGrid>
                <a:gridCol w="3749760"/>
                <a:gridCol w="3749400"/>
              </a:tblGrid>
              <a:tr h="1646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Monday,  August 4, 20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:30 PM  – 5:00 P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RCOT Austin Room 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bEx C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eleconference: 1-877-668-44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 number: 653 865 6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eting password: Workshop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-152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Announcements! 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914400" y="6094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7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July 8, 2014 RMS Meeting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Cancell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ith the Jul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oliday the weekend prior to RMS, concerns were voiced during the June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MS meeting that RMS may have issues establishing a quorum that would prevent voting on key documents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lso, with increased traffic on roads and in airports, potential increased cost for airfare and overnight hotel stay,  RMS Leadership along with ERCOT made the decision to cancel the July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MS meeting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9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ptember 2, 2014 RMS Meeting 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may be rescheduled due to the same holiday concerns identified above for the July 8</a:t>
            </a:r>
            <a:r>
              <a:rPr b="1" lang="en-US" sz="2800" spc="-1" strike="noStrike" baseline="30000">
                <a:solidFill>
                  <a:srgbClr val="c00000"/>
                </a:solidFill>
                <a:latin typeface="Gill Sans MT"/>
              </a:rPr>
              <a:t>th</a:t>
            </a:r>
            <a:r>
              <a:rPr b="1" lang="en-US" sz="2800" spc="-1" strike="noStrike">
                <a:solidFill>
                  <a:srgbClr val="c00000"/>
                </a:solidFill>
                <a:latin typeface="Gill Sans MT"/>
              </a:rPr>
              <a:t> RMS meeting. 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June 16,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3EFC-1C32-4500-8B4C-61E93E82D237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4-07-14T18:42:48Z</dcterms:modified>
  <cp:revision>588</cp:revision>
  <dc:subject/>
  <dc:title>Instructions</dc:title>
</cp:coreProperties>
</file>