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4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2"/>
          <p:cNvSpPr>
            <a:spLocks noGrp="1"/>
          </p:cNvSpPr>
          <p:nvPr>
            <p:ph type="dt" idx="34"/>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4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65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1" name="PlaceHolder 5"/>
          <p:cNvSpPr>
            <a:spLocks noGrp="1"/>
          </p:cNvSpPr>
          <p:nvPr>
            <p:ph type="ftr" idx="35"/>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2" name="PlaceHolder 6"/>
          <p:cNvSpPr>
            <a:spLocks noGrp="1"/>
          </p:cNvSpPr>
          <p:nvPr>
            <p:ph type="sldNum" idx="36"/>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183A4-C62B-49C9-8A9C-7E8CC699706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1160" y="696960"/>
            <a:ext cx="4648320" cy="3486240"/>
          </a:xfrm>
          <a:prstGeom prst="rect">
            <a:avLst/>
          </a:prstGeom>
          <a:ln w="0">
            <a:noFill/>
          </a:ln>
        </p:spPr>
      </p:sp>
      <p:sp>
        <p:nvSpPr>
          <p:cNvPr id="6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F7D1A0-181D-4295-8EB9-F7288FC19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E2061-68E0-4589-813F-70C9672A4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6001C-32D2-46C1-82A7-C92A8BE0B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48DB2E2-5362-4D27-BDF7-746066E6B8E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639F593-5AAD-4FC9-A103-85B12E93053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A39934A-A43E-406B-B40D-2D508F61A4C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3BECCDC-1D92-42EA-9C50-1346C22786B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C19C930-2FDF-4A04-ABEC-D1A9928D01F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E25451E-4459-4C14-8190-E37B0A71A05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A58CD02-B1DB-4C07-AEBD-73833B16111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6187EF9-CB89-4855-BB60-2ADCEBD42DB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17B3750-A648-4834-80D8-FE4007219B6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89A1FF69-2002-4202-A7FB-D25F37F4C55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6970B-4E3B-40A1-AFA5-A7242D736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20BF1B2F-46DB-4ED1-8A65-6E123658531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6FF698D7-6056-4488-AAB1-A2F5EDE2E70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4760E7CA-DE21-45F0-AC95-2D69A4E75EA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6BC25E6E-97F7-4B09-94C6-B05C5A2698A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58FBE7CA-E61D-4E5B-98B6-2E8F76442AA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AC3978F3-9F65-4ACF-B0B0-7D5B2155250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A49CAAD6-66BC-48D5-BAEC-922B81DBBA3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CFD80EC6-A2BB-4AE5-A3C4-9D7BE801800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86EDB66D-BBFC-4262-85FE-26593E810AB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2A583B3B-B4BC-4414-B878-991C06224BB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9ED5B-3BE0-42C1-9CD6-1E64CB370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1A3392A6-657B-4F10-880D-FC3942B4F7E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B2972BF-F7B4-4AC7-9D79-4FFC3D3F57C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801E348-4024-45B3-AAFE-A46E9A8D7A6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5CE466F-FCFB-4CB4-89DD-6E570D3783C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A12F8A4-A609-4D47-AD0E-6E4C3233343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543F032-5798-4A56-8BBF-CFA8AD5FD99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E3C6839-647D-49E6-BDC6-C6906FF06C0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514FF66-5987-4008-B641-2030DA58035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462B36C-3384-4BA4-90AD-959A364BB95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200076E-C5B9-4E74-BF1D-4F8F8EA2082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7B4653-8A6F-4832-8C05-462571E4A1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DD87657-28ED-4999-ACE9-43026EECB10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66FE92A-39A4-40E2-BB77-868509F401E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33DC9F0-25FD-468E-B971-C4FE9225B70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0"/>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7D3DA-C2F4-4441-8BFA-7012F0D49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1"/>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1"/>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1"/>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3DEFE-4BD9-4189-A4E8-51A06CE62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1"/>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1"/>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1"/>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1"/>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1"/>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1"/>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1"/>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D310F-B590-45D4-8A2F-430EA311D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2"/>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43AC2-623B-42B9-9D32-91703774F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3"/>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3"/>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B1888-CE34-4392-B246-7FF3D69F4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0FEFC-D623-4774-809B-C818A0341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A84AA-5E62-4475-964A-FE6ACE1C9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B48E0-D65D-4900-AAA8-B4D42E111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AD2F8-A1AE-4729-A8DD-A508A3DB2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4F27E-3986-4AB3-8CE8-7432AB87F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1D5029-1F54-453A-A386-A8D8222512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70D7D0-C95B-4547-9E4C-2B35CA87B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63CF1-9EE9-461A-A100-49142DDFB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A4E92-BA43-42E5-90B9-7F697F50C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3BC49B1-9092-4E00-A8E7-7A03D61E563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330B7-B149-410C-84A0-774129D23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9BBC2E9-9675-49E2-B487-8CDA000722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621101-0839-4FED-95EB-F82751F45B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5C23644-66AA-43A9-935F-B61DB54E33E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E019E27-CB35-4B81-B93E-25D4951D31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840D819-5FBF-4116-AC5E-6B3E3CC0796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2CEA47-1DB3-490D-9315-EECECFDFE0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919A6C7-9DE2-4401-8A42-A3B5E51792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3486BD-1E4C-4FD4-8239-55057ED8C2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567A54D-EF8B-4B0B-980D-C2000885288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685A0FC-0526-49C8-A3B2-590F6EC3073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957E4-9179-4BDE-9805-225B22182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284F417-6FC3-4F5E-9F0A-DD22B5F487B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78340530-C45D-4CBD-A9D4-6C40D253220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960E10EA-C27E-4B24-9812-0E2A564577C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FDDC3166-BD18-4AB7-86B0-CE0AD5BEF23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36BA4CB7-44F7-44EE-97AA-6F25167C982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E08D83BE-5C1E-4BD7-B948-905B93F99BC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ED90FBFA-8E38-4109-969D-A45B6310D81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478D06D4-CF2D-4102-BF74-9E57ACD448D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C120A5C1-0E70-4C6D-8AE3-82E527CE47B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FFE452BE-D6BC-42B1-AA57-CD9E6451ACB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5A47B-9AF8-4700-9BDD-790BDD937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85504519-15F5-4E76-B07F-BEA458F45D1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EB72444A-0D11-4CB7-9733-EABF3462032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41E9046B-3B47-4812-AF86-FB206A1065C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913064B8-03A9-45C2-BD72-575A713C24A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7882C412-217E-4169-8D36-C2D10B54B9F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8206FF40-282B-4FDF-9B7B-BCAA88DC0C9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582ECC1B-A6B3-4222-AF73-C9C3778104E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77459384-0AE8-4FB9-8BFF-D3AE165D357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57D9F196-A930-4850-9980-C579053F5BC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F0B12D70-B9F4-4EAF-A1E4-623112AE042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9B21F-63E1-438B-A7A8-EFDFEE9F4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47B112E7-FA81-44BA-9346-56FBF6265EC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04DADAC2-A3CB-4B0D-ADD4-9446FF6E409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7DA5000E-1635-4B53-821A-8E7F21136C7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79F1EDA3-6161-47DD-82DA-6B3359EBA75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AD03908C-483D-4DAE-98D2-B3CF29AAFFB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951E884F-EE00-4EFF-BEFD-BD3F2468DA9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9988BD0A-A8E3-4DC0-929D-CC5D0474108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5A092988-0958-4F4C-A965-1ACECDC094E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B741A29A-F571-443D-A616-7C9AE3A2C6F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C04CF437-0FFF-4340-8D57-ECAE2325C4F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D0BB1-B847-4874-B1C9-C39913714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F961D205-8B1A-465F-9FDD-F3D24E7F40B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59195B41-461D-450A-B433-93F784C8484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7F3C20A5-F134-4277-9E91-8AA2F89368D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28F88655-8CB8-49F4-B594-4C6B168BE27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3732C5C7-3825-43F9-B58F-05987762EDE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60379673-9E4F-4522-A07D-3F0D8CFF567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E6CA8E60-C356-45BB-9828-39667CA02DB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AE8A6E2-5947-40FE-85E2-A3A8DBE014B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D729218-6B41-4D44-8EC9-186F8DC9893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C5734BB-E1FF-4795-AFA1-413D98CB59A0}"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08080" y="-6480"/>
            <a:ext cx="8727840" cy="1372896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91576B-8373-4F87-894B-A40FA412D455}"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June 26, 2014 TAC Meeting</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C7249-8BA2-41BF-B6F3-A5C280662C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87" name="PlaceHolder 3"/>
          <p:cNvSpPr>
            <a:spLocks noGrp="1"/>
          </p:cNvSpPr>
          <p:nvPr>
            <p:ph type="dt" idx="24"/>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D900DF-5656-45A7-A053-97A56ED91CE5}"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388" name="PlaceHolder 4"/>
          <p:cNvSpPr>
            <a:spLocks noGrp="1"/>
          </p:cNvSpPr>
          <p:nvPr>
            <p:ph type="sldNum" idx="25"/>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74FA1-5187-4911-94FE-1DA786E99896}"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389" name="PlaceHolder 5"/>
          <p:cNvSpPr>
            <a:spLocks noGrp="1"/>
          </p:cNvSpPr>
          <p:nvPr>
            <p:ph type="ftr" idx="26"/>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31" name="PlaceHolder 3"/>
          <p:cNvSpPr>
            <a:spLocks noGrp="1"/>
          </p:cNvSpPr>
          <p:nvPr>
            <p:ph type="dt" idx="27"/>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A8D983-DFBC-49A6-865E-62C58C713537}"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432" name="PlaceHolder 4"/>
          <p:cNvSpPr>
            <a:spLocks noGrp="1"/>
          </p:cNvSpPr>
          <p:nvPr>
            <p:ph type="ftr" idx="28"/>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
        <p:nvSpPr>
          <p:cNvPr id="433" name="PlaceHolder 5"/>
          <p:cNvSpPr>
            <a:spLocks noGrp="1"/>
          </p:cNvSpPr>
          <p:nvPr>
            <p:ph type="sldNum" idx="29"/>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B4510-8207-4752-B9A5-4F5BEF75F92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3" name="Straight Connector 9"/>
          <p:cNvSpPr/>
          <p:nvPr/>
        </p:nvSpPr>
        <p:spPr>
          <a:xfrm>
            <a:off x="247680" y="641520"/>
            <a:ext cx="8648640" cy="0"/>
          </a:xfrm>
          <a:prstGeom prst="line">
            <a:avLst/>
          </a:prstGeom>
          <a:ln w="1584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37795A-C548-42A7-9402-3BD5233D238E}" type="slidenum">
              <a:rPr b="0" lang="en-US" sz="1200" spc="-1" strike="noStrike">
                <a:solidFill>
                  <a:srgbClr val="000000"/>
                </a:solidFill>
                <a:latin typeface="Tw Cen MT"/>
              </a:rPr>
              <a:t>&lt;number&gt;</a:t>
            </a:fld>
            <a:endParaRPr b="0" lang="en-US" sz="1200" spc="-1" strike="noStrike">
              <a:solidFill>
                <a:srgbClr val="000000"/>
              </a:solidFill>
              <a:latin typeface="Arial"/>
            </a:endParaRPr>
          </a:p>
        </p:txBody>
      </p:sp>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7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77" name="PlaceHolder 3"/>
          <p:cNvSpPr>
            <a:spLocks noGrp="1"/>
          </p:cNvSpPr>
          <p:nvPr>
            <p:ph type="ftr" idx="30"/>
          </p:nvPr>
        </p:nvSpPr>
        <p:spPr>
          <a:xfrm>
            <a:off x="3124080" y="6194160"/>
            <a:ext cx="2895840" cy="199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w Cen MT"/>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7" name="Straight Connector 9"/>
          <p:cNvSpPr/>
          <p:nvPr/>
        </p:nvSpPr>
        <p:spPr>
          <a:xfrm>
            <a:off x="247680" y="641520"/>
            <a:ext cx="8648640" cy="0"/>
          </a:xfrm>
          <a:prstGeom prst="line">
            <a:avLst/>
          </a:prstGeom>
          <a:ln w="1584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377E60-4948-4741-A3E0-D34610E32CE5}" type="slidenum">
              <a:rPr b="0" lang="en-US" sz="1200" spc="-1" strike="noStrike">
                <a:solidFill>
                  <a:srgbClr val="000000"/>
                </a:solidFill>
                <a:latin typeface="Tw Cen MT"/>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2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21" name="PlaceHolder 3"/>
          <p:cNvSpPr>
            <a:spLocks noGrp="1"/>
          </p:cNvSpPr>
          <p:nvPr>
            <p:ph type="ftr" idx="31"/>
          </p:nvPr>
        </p:nvSpPr>
        <p:spPr>
          <a:xfrm>
            <a:off x="3124080" y="6194160"/>
            <a:ext cx="2895840" cy="199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w Cen MT"/>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1" name="Straight Connector 9"/>
          <p:cNvSpPr/>
          <p:nvPr/>
        </p:nvSpPr>
        <p:spPr>
          <a:xfrm>
            <a:off x="247680" y="641520"/>
            <a:ext cx="8648640" cy="0"/>
          </a:xfrm>
          <a:prstGeom prst="line">
            <a:avLst/>
          </a:prstGeom>
          <a:ln w="1584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BBD58-737C-4429-A481-A9697AB33803}" type="slidenum">
              <a:rPr b="0" lang="en-US" sz="1200" spc="-1" strike="noStrike">
                <a:solidFill>
                  <a:srgbClr val="000000"/>
                </a:solidFill>
                <a:latin typeface="Tw Cen MT"/>
              </a:rPr>
              <a:t>&lt;number&gt;</a:t>
            </a:fld>
            <a:endParaRPr b="0" lang="en-US" sz="1200" spc="-1" strike="noStrike">
              <a:solidFill>
                <a:srgbClr val="000000"/>
              </a:solidFill>
              <a:latin typeface="Arial"/>
            </a:endParaRPr>
          </a:p>
        </p:txBody>
      </p:sp>
      <p:sp>
        <p:nvSpPr>
          <p:cNvPr id="5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6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65" name="PlaceHolder 3"/>
          <p:cNvSpPr>
            <a:spLocks noGrp="1"/>
          </p:cNvSpPr>
          <p:nvPr>
            <p:ph type="ftr" idx="32"/>
          </p:nvPr>
        </p:nvSpPr>
        <p:spPr>
          <a:xfrm>
            <a:off x="3124080" y="6194160"/>
            <a:ext cx="2895840" cy="199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w Cen MT"/>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5" name="Straight Connector 9"/>
          <p:cNvSpPr/>
          <p:nvPr/>
        </p:nvSpPr>
        <p:spPr>
          <a:xfrm>
            <a:off x="247680" y="641520"/>
            <a:ext cx="8648640" cy="0"/>
          </a:xfrm>
          <a:prstGeom prst="line">
            <a:avLst/>
          </a:prstGeom>
          <a:ln w="15840">
            <a:solidFill>
              <a:srgbClr val="775f5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B1E02-D76B-4602-87B5-91F45098C726}" type="slidenum">
              <a:rPr b="0" lang="en-US" sz="1200" spc="-1" strike="noStrike">
                <a:solidFill>
                  <a:srgbClr val="000000"/>
                </a:solidFill>
                <a:latin typeface="Tw Cen MT"/>
              </a:rPr>
              <a:t>&lt;number&gt;</a:t>
            </a:fld>
            <a:endParaRPr b="0" lang="en-US" sz="1200" spc="-1" strike="noStrike">
              <a:solidFill>
                <a:srgbClr val="000000"/>
              </a:solidFill>
              <a:latin typeface="Arial"/>
            </a:endParaRPr>
          </a:p>
        </p:txBody>
      </p:sp>
      <p:sp>
        <p:nvSpPr>
          <p:cNvPr id="6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60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09" name="PlaceHolder 3"/>
          <p:cNvSpPr>
            <a:spLocks noGrp="1"/>
          </p:cNvSpPr>
          <p:nvPr>
            <p:ph type="ftr" idx="33"/>
          </p:nvPr>
        </p:nvSpPr>
        <p:spPr>
          <a:xfrm>
            <a:off x="3124080" y="6194160"/>
            <a:ext cx="2895840" cy="199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w Cen MT"/>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3"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5F2E01-F83E-4E5B-819F-40F687F68203}"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
        <p:nvSpPr>
          <p:cNvPr id="4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62B6F9-8415-4436-A3CB-4A50059A618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6" name="Picture 11" descr=""/>
          <p:cNvPicPr/>
          <p:nvPr/>
        </p:nvPicPr>
        <p:blipFill>
          <a:blip r:embed="rId2"/>
          <a:stretch/>
        </p:blipFill>
        <p:spPr>
          <a:xfrm>
            <a:off x="208080" y="-6480"/>
            <a:ext cx="8727840" cy="13728960"/>
          </a:xfrm>
          <a:prstGeom prst="rect">
            <a:avLst/>
          </a:prstGeom>
          <a:ln w="0">
            <a:noFill/>
          </a:ln>
        </p:spPr>
      </p:pic>
      <p:sp>
        <p:nvSpPr>
          <p:cNvPr id="87" name="PlaceHolder 1"/>
          <p:cNvSpPr>
            <a:spLocks noGrp="1"/>
          </p:cNvSpPr>
          <p:nvPr>
            <p:ph type="ftr" idx="7"/>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5" name="Picture 11" descr=""/>
          <p:cNvPicPr/>
          <p:nvPr/>
        </p:nvPicPr>
        <p:blipFill>
          <a:blip r:embed="rId2"/>
          <a:stretch/>
        </p:blipFill>
        <p:spPr>
          <a:xfrm>
            <a:off x="208080" y="-6480"/>
            <a:ext cx="8727840" cy="13728960"/>
          </a:xfrm>
          <a:prstGeom prst="rect">
            <a:avLst/>
          </a:prstGeom>
          <a:ln w="0">
            <a:noFill/>
          </a:ln>
        </p:spPr>
      </p:pic>
      <p:sp>
        <p:nvSpPr>
          <p:cNvPr id="126"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4D4DEB-E505-4443-98C9-DAAD5F341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ftr" idx="8"/>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June 26, 2014 TAC Mee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6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69" name="PlaceHolder 3"/>
          <p:cNvSpPr>
            <a:spLocks noGrp="1"/>
          </p:cNvSpPr>
          <p:nvPr>
            <p:ph type="dt" idx="9"/>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4302E-AB69-4CDD-B115-1B1A8AF7C03E}" type="datetime">
              <a:rPr b="0" lang="en-US" sz="2000" spc="-1" strike="noStrike">
                <a:solidFill>
                  <a:srgbClr val="ffffff"/>
                </a:solidFill>
                <a:latin typeface="Times New Roman"/>
              </a:rPr>
              <a:t>07/30/26</a:t>
            </a:fld>
            <a:endParaRPr b="0" lang="en-US" sz="2000" spc="-1" strike="noStrike">
              <a:solidFill>
                <a:srgbClr val="000000"/>
              </a:solidFill>
              <a:latin typeface="Times New Roman"/>
            </a:endParaRPr>
          </a:p>
        </p:txBody>
      </p:sp>
      <p:sp>
        <p:nvSpPr>
          <p:cNvPr id="170" name="PlaceHolder 4"/>
          <p:cNvSpPr>
            <a:spLocks noGrp="1"/>
          </p:cNvSpPr>
          <p:nvPr>
            <p:ph type="ftr" idx="10"/>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ebddc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ebddc3"/>
                </a:solidFill>
                <a:latin typeface="Times New Roman"/>
              </a:rPr>
              <a:t>June 26, 2014 TAC Meeting</a:t>
            </a:r>
            <a:endParaRPr b="0" lang="en-US" sz="1400" spc="-1" strike="noStrike">
              <a:solidFill>
                <a:srgbClr val="000000"/>
              </a:solidFill>
              <a:latin typeface="Times New Roman"/>
            </a:endParaRPr>
          </a:p>
        </p:txBody>
      </p:sp>
      <p:sp>
        <p:nvSpPr>
          <p:cNvPr id="171" name="PlaceHolder 5"/>
          <p:cNvSpPr>
            <a:spLocks noGrp="1"/>
          </p:cNvSpPr>
          <p:nvPr>
            <p:ph type="sldNum" idx="11"/>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ebddc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05809D-6615-497B-8B3A-DF230608BC19}"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1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13" name="PlaceHolder 3"/>
          <p:cNvSpPr>
            <a:spLocks noGrp="1"/>
          </p:cNvSpPr>
          <p:nvPr>
            <p:ph type="dt" idx="12"/>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B78D6-7B51-4BEB-B482-C78F2DE5C76E}"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214" name="PlaceHolder 4"/>
          <p:cNvSpPr>
            <a:spLocks noGrp="1"/>
          </p:cNvSpPr>
          <p:nvPr>
            <p:ph type="sldNum" idx="13"/>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FA685-193F-41CD-9467-B5253D501E5F}"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215" name="PlaceHolder 5"/>
          <p:cNvSpPr>
            <a:spLocks noGrp="1"/>
          </p:cNvSpPr>
          <p:nvPr>
            <p:ph type="ftr" idx="14"/>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5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57" name="PlaceHolder 3"/>
          <p:cNvSpPr>
            <a:spLocks noGrp="1"/>
          </p:cNvSpPr>
          <p:nvPr>
            <p:ph type="dt" idx="15"/>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BF953-89C4-46DE-99DD-BB099272B6E3}"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258" name="PlaceHolder 4"/>
          <p:cNvSpPr>
            <a:spLocks noGrp="1"/>
          </p:cNvSpPr>
          <p:nvPr>
            <p:ph type="sldNum" idx="16"/>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2E02F3-6177-4B76-9299-46F398622A0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9" name="PlaceHolder 5"/>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0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01" name="PlaceHolder 3"/>
          <p:cNvSpPr>
            <a:spLocks noGrp="1"/>
          </p:cNvSpPr>
          <p:nvPr>
            <p:ph type="dt" idx="18"/>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8FB09D-8963-498D-99DC-01212A3712CD}"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302" name="PlaceHolder 4"/>
          <p:cNvSpPr>
            <a:spLocks noGrp="1"/>
          </p:cNvSpPr>
          <p:nvPr>
            <p:ph type="sldNum" idx="19"/>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F68D28-F411-43FB-ABCC-E436AD25B40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3" name="PlaceHolder 5"/>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4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42" name="PlaceHolder 3"/>
          <p:cNvSpPr>
            <a:spLocks noGrp="1"/>
          </p:cNvSpPr>
          <p:nvPr>
            <p:ph type="dt" idx="2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19BC30-150C-409F-B9FF-6773CB8F0570}" type="datetime">
              <a:rPr b="0" lang="en-US" sz="1400" spc="-1" strike="noStrike">
                <a:solidFill>
                  <a:srgbClr val="775f55"/>
                </a:solidFill>
                <a:latin typeface="Times New Roman"/>
              </a:rPr>
              <a:t>07/30/26</a:t>
            </a:fld>
            <a:endParaRPr b="0" lang="en-US" sz="1400" spc="-1" strike="noStrike">
              <a:solidFill>
                <a:srgbClr val="000000"/>
              </a:solidFill>
              <a:latin typeface="Times New Roman"/>
            </a:endParaRPr>
          </a:p>
        </p:txBody>
      </p:sp>
      <p:sp>
        <p:nvSpPr>
          <p:cNvPr id="343" name="PlaceHolder 4"/>
          <p:cNvSpPr>
            <a:spLocks noGrp="1"/>
          </p:cNvSpPr>
          <p:nvPr>
            <p:ph type="ftr" idx="2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Times New Roman"/>
              </a:rPr>
              <a:t>June 26, 2014 TAC Meeting</a:t>
            </a:r>
            <a:endParaRPr b="0" lang="en-US" sz="1400" spc="-1" strike="noStrike">
              <a:solidFill>
                <a:srgbClr val="000000"/>
              </a:solidFill>
              <a:latin typeface="Times New Roman"/>
            </a:endParaRPr>
          </a:p>
        </p:txBody>
      </p:sp>
      <p:sp>
        <p:nvSpPr>
          <p:cNvPr id="344" name="PlaceHolder 5"/>
          <p:cNvSpPr>
            <a:spLocks noGrp="1"/>
          </p:cNvSpPr>
          <p:nvPr>
            <p:ph type="sldNum" idx="23"/>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75f55"/>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2D7E6-BCAA-448D-99FE-E49C6D01386D}"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3" name="Group 13"/>
          <p:cNvGrpSpPr/>
          <p:nvPr/>
        </p:nvGrpSpPr>
        <p:grpSpPr>
          <a:xfrm>
            <a:off x="787320" y="2804760"/>
            <a:ext cx="7543800" cy="2840760"/>
            <a:chOff x="787320" y="2804760"/>
            <a:chExt cx="7543800" cy="2840760"/>
          </a:xfrm>
        </p:grpSpPr>
        <p:sp>
          <p:nvSpPr>
            <p:cNvPr id="654"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RO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ill Hatfield</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4 RO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5" name="Straight Connector 12"/>
            <p:cNvSpPr/>
            <p:nvPr/>
          </p:nvSpPr>
          <p:spPr>
            <a:xfrm flipV="1">
              <a:off x="787320" y="2804760"/>
              <a:ext cx="6286680" cy="12600"/>
            </a:xfrm>
            <a:prstGeom prst="line">
              <a:avLst/>
            </a:prstGeom>
            <a:ln w="1908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
        <p:nvSpPr>
          <p:cNvPr id="656" name="Footer Placeholder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June 26,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OS Recommended Voting Items</a:t>
            </a:r>
            <a:endParaRPr b="0" lang="en-US" sz="4400" spc="-1" strike="noStrike">
              <a:solidFill>
                <a:srgbClr val="775f55"/>
              </a:solidFill>
              <a:latin typeface="Tw Cen MT"/>
            </a:endParaRPr>
          </a:p>
        </p:txBody>
      </p:sp>
      <p:sp>
        <p:nvSpPr>
          <p:cNvPr id="658"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st ROS meeting</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une 5, 2014</a:t>
            </a:r>
            <a:endParaRPr b="0" lang="en-US" sz="26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xt ROS meeting</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uly 10, 2014</a:t>
            </a:r>
            <a:endParaRPr b="0" lang="en-US" sz="26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vision Requests Recommended for Approval (TAC Action required)</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NOGRR 129 - Implement Operational Preparedness for Geomagnetic</a:t>
            </a:r>
            <a:endParaRPr b="0" lang="en-US" sz="2600" spc="-1" strike="noStrike">
              <a:solidFill>
                <a:srgbClr val="000000"/>
              </a:solidFill>
              <a:latin typeface="Tw Cen MT"/>
            </a:endParaRPr>
          </a:p>
          <a:p>
            <a:pPr lvl="2" marL="877680" indent="-219240">
              <a:lnSpc>
                <a:spcPct val="9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w Cen MT"/>
              </a:rPr>
              <a:t>ROS Motion to Approve per OWG: Passed Unanimously</a:t>
            </a:r>
            <a:endParaRPr b="0" lang="en-US" sz="2300" spc="-1" strike="noStrike">
              <a:solidFill>
                <a:srgbClr val="000000"/>
              </a:solidFill>
              <a:latin typeface="Tw Cen MT"/>
            </a:endParaRPr>
          </a:p>
        </p:txBody>
      </p:sp>
      <p:sp>
        <p:nvSpPr>
          <p:cNvPr id="659" name="Footer Placeholder 4"/>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June 26,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OS Action Items from TAC/BOD</a:t>
            </a:r>
            <a:endParaRPr b="0" lang="en-US" sz="4400" spc="-1" strike="noStrike">
              <a:solidFill>
                <a:srgbClr val="775f55"/>
              </a:solidFill>
              <a:latin typeface="Tw Cen MT"/>
            </a:endParaRPr>
          </a:p>
        </p:txBody>
      </p:sp>
      <p:sp>
        <p:nvSpPr>
          <p:cNvPr id="661" name=""/>
          <p:cNvSpPr txBox="1"/>
          <p:nvPr/>
        </p:nvSpPr>
        <p:spPr>
          <a:xfrm>
            <a:off x="612720" y="1600200"/>
            <a:ext cx="8153280" cy="4495680"/>
          </a:xfrm>
          <a:prstGeom prst="rect">
            <a:avLst/>
          </a:prstGeom>
          <a:noFill/>
          <a:ln w="0">
            <a:noFill/>
          </a:ln>
        </p:spPr>
        <p:txBody>
          <a:bodyPr anchor="t">
            <a:normAutofit fontScale="90000"/>
          </a:bodyPr>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view of ERCOT planning reports and processes</a:t>
            </a:r>
            <a:endParaRPr b="0" lang="en-US" sz="29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LWG will draft a white paper describing the differences between the CDR and the Planning Models and why they exist.  This paper will include, but not be limited to, reviewing generation assumptions,  load forecast assumptions, and data sources and availability. </a:t>
            </a:r>
            <a:endParaRPr b="0" lang="en-US" sz="26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 addition, PLWG will review load scaling methodologies used in Planning Models and make a recommendation to ROS on appropriateness of methodologies.</a:t>
            </a:r>
            <a:endParaRPr b="0" lang="en-US" sz="2600" spc="-1" strike="noStrike">
              <a:solidFill>
                <a:srgbClr val="000000"/>
              </a:solidFill>
              <a:latin typeface="Tw Cen MT"/>
            </a:endParaRPr>
          </a:p>
        </p:txBody>
      </p:sp>
      <p:sp>
        <p:nvSpPr>
          <p:cNvPr id="662" name="Footer Placeholder 2"/>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Arial"/>
              </a:rPr>
              <a:t>June 26,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OS Action Items from TAC</a:t>
            </a:r>
            <a:endParaRPr b="0" lang="en-US" sz="4400" spc="-1" strike="noStrike">
              <a:solidFill>
                <a:srgbClr val="775f55"/>
              </a:solidFill>
              <a:latin typeface="Tw Cen MT"/>
            </a:endParaRPr>
          </a:p>
        </p:txBody>
      </p:sp>
      <p:sp>
        <p:nvSpPr>
          <p:cNvPr id="664"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valuate early release of HASL to SCED under ORDC </a:t>
            </a:r>
            <a:endParaRPr b="0" lang="en-US" sz="29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OS endorsed the business practice, “Manual Deployment and Recall of Responsive Reserve Service during Scarcity Conditions” proposed by ERCOT, to allow for quick implementation but expects a protocol/guide change to formally document this process. </a:t>
            </a:r>
            <a:endParaRPr b="0" lang="en-US" sz="24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otion to endorse also reflected ROS members concerns that future changes go through the normal stakeholder review process…not via updated ERCOT business processes</a:t>
            </a:r>
            <a:endParaRPr b="0" lang="en-US" sz="2400" spc="-1" strike="noStrike">
              <a:solidFill>
                <a:srgbClr val="000000"/>
              </a:solidFill>
              <a:latin typeface="Tw Cen MT"/>
            </a:endParaRPr>
          </a:p>
        </p:txBody>
      </p:sp>
      <p:sp>
        <p:nvSpPr>
          <p:cNvPr id="665" name="Footer Placeholder 2"/>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Arial"/>
              </a:rPr>
              <a:t>June 26,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OS Action Items from TAC</a:t>
            </a:r>
            <a:endParaRPr b="0" lang="en-US" sz="4400" spc="-1" strike="noStrike">
              <a:solidFill>
                <a:srgbClr val="775f55"/>
              </a:solidFill>
              <a:latin typeface="Tw Cen MT"/>
            </a:endParaRPr>
          </a:p>
        </p:txBody>
      </p:sp>
      <p:sp>
        <p:nvSpPr>
          <p:cNvPr id="667" name=""/>
          <p:cNvSpPr txBox="1"/>
          <p:nvPr/>
        </p:nvSpPr>
        <p:spPr>
          <a:xfrm>
            <a:off x="612720" y="1600200"/>
            <a:ext cx="8153280" cy="4495680"/>
          </a:xfrm>
          <a:prstGeom prst="rect">
            <a:avLst/>
          </a:prstGeom>
          <a:noFill/>
          <a:ln w="0">
            <a:noFill/>
          </a:ln>
        </p:spPr>
        <p:txBody>
          <a:bodyPr anchor="t">
            <a:normAutofit fontScale="97000"/>
          </a:bodyPr>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ordinate with ERCOT the need to add (verify) resource temperature limits in RARF to improve forecasting of Wind Resources during icing and cold weather events</a:t>
            </a:r>
            <a:endParaRPr b="0" lang="en-US" sz="2900" spc="-1" strike="noStrike">
              <a:solidFill>
                <a:srgbClr val="000000"/>
              </a:solidFill>
              <a:latin typeface="Tw Cen MT"/>
            </a:endParaRPr>
          </a:p>
          <a:p>
            <a:pPr lvl="1" marL="620280" indent="-26460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RCOT’s forecast vendor is proposing to improve the wind forecast by including cold temperature trips. ROS has requested that this solution be reviewed at the next QMWG, as ROS does not have a subgroup with wind forecasting experience for a timely response. ERCOT will follow up with any data requirements through the RDWG. </a:t>
            </a:r>
            <a:endParaRPr b="0" lang="en-US" sz="2600" spc="-1" strike="noStrike">
              <a:solidFill>
                <a:srgbClr val="000000"/>
              </a:solidFill>
              <a:latin typeface="Tw Cen MT"/>
            </a:endParaRPr>
          </a:p>
        </p:txBody>
      </p:sp>
      <p:sp>
        <p:nvSpPr>
          <p:cNvPr id="668" name="Footer Placeholder 2"/>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Arial"/>
              </a:rPr>
              <a:t>June 26,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OS Action Items from TAC</a:t>
            </a:r>
            <a:endParaRPr b="0" lang="en-US" sz="4400" spc="-1" strike="noStrike">
              <a:solidFill>
                <a:srgbClr val="775f55"/>
              </a:solidFill>
              <a:latin typeface="Tw Cen MT"/>
            </a:endParaRPr>
          </a:p>
        </p:txBody>
      </p:sp>
      <p:sp>
        <p:nvSpPr>
          <p:cNvPr id="670"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AC asked ROS to evaluate concerns that ERCOT is having to bring RUC units earlier than required because of unit start-up failures; review need for ERCOT Operating procedures for RUCing units.</a:t>
            </a:r>
            <a:endParaRPr b="0" lang="en-US" sz="2700" spc="-1" strike="noStrike">
              <a:solidFill>
                <a:srgbClr val="000000"/>
              </a:solidFill>
              <a:latin typeface="Tw Cen MT"/>
            </a:endParaRPr>
          </a:p>
          <a:p>
            <a:pPr lvl="1" marL="607680" indent="-25920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itial review from ERCOT indicates no increase in startup failures/trips/de-rates. Further focused review of cold weather timeframes where there is a higher likelihood of units failing to start is recommended. ERCOT is collecting data. OWG and ERCOT will review data. </a:t>
            </a:r>
            <a:endParaRPr b="0" lang="en-US" sz="2400" spc="-1" strike="noStrike">
              <a:solidFill>
                <a:srgbClr val="000000"/>
              </a:solidFill>
              <a:latin typeface="Tw Cen MT"/>
            </a:endParaRPr>
          </a:p>
          <a:p>
            <a:pPr lvl="1" marL="607680" indent="-25920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MS will create a RUC taskforce to review the market impact of RUC commitments. ROS is encouraged to participate in the taskforce.</a:t>
            </a:r>
            <a:endParaRPr b="0" lang="en-US" sz="2400" spc="-1" strike="noStrike">
              <a:solidFill>
                <a:srgbClr val="000000"/>
              </a:solidFill>
              <a:latin typeface="Tw Cen MT"/>
            </a:endParaRPr>
          </a:p>
        </p:txBody>
      </p:sp>
      <p:sp>
        <p:nvSpPr>
          <p:cNvPr id="671" name="Footer Placeholder 2"/>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Arial"/>
              </a:rPr>
              <a:t>June 26,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ther ROS Action Items</a:t>
            </a:r>
            <a:endParaRPr b="0" lang="en-US" sz="4400" spc="-1" strike="noStrike">
              <a:solidFill>
                <a:srgbClr val="775f55"/>
              </a:solidFill>
              <a:latin typeface="Tw Cen MT"/>
            </a:endParaRPr>
          </a:p>
        </p:txBody>
      </p:sp>
      <p:sp>
        <p:nvSpPr>
          <p:cNvPr id="67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NPRR576, Changing Non-Spin Service to be Dispatched by ERCOT (formerly “Changing Non-Spin Service to an Off-Line Service”)</a:t>
            </a:r>
            <a:endParaRPr b="0" lang="en-US" sz="27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mplete - approved by BOD in April. </a:t>
            </a:r>
            <a:endParaRPr b="0" lang="en-US" sz="24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Review generation resources that are limited by transmission (resulting from similar efforts ongoing with Panhandle CREZ)</a:t>
            </a:r>
            <a:endParaRPr b="0" lang="en-US" sz="27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No action</a:t>
            </a:r>
            <a:endParaRPr b="0" lang="en-US" sz="24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GRR028, Evaluation of Compliance with Reactive Requirements</a:t>
            </a:r>
            <a:endParaRPr b="0" lang="en-US" sz="27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ithdrawn</a:t>
            </a:r>
            <a:endParaRPr b="0" lang="en-US" sz="2400" spc="-1" strike="noStrike">
              <a:solidFill>
                <a:srgbClr val="000000"/>
              </a:solidFill>
              <a:latin typeface="Tw Cen MT"/>
            </a:endParaRPr>
          </a:p>
        </p:txBody>
      </p:sp>
      <p:sp>
        <p:nvSpPr>
          <p:cNvPr id="674" name="Footer Placeholder 2"/>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Arial"/>
              </a:rPr>
              <a:t>June 26,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YI…</a:t>
            </a:r>
            <a:endParaRPr b="0" lang="en-US" sz="4400" spc="-1" strike="noStrike">
              <a:solidFill>
                <a:srgbClr val="775f55"/>
              </a:solidFill>
              <a:latin typeface="Tw Cen MT"/>
            </a:endParaRPr>
          </a:p>
        </p:txBody>
      </p:sp>
      <p:sp>
        <p:nvSpPr>
          <p:cNvPr id="676"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tinue to monitor NERC CIP standards</a:t>
            </a:r>
            <a:endParaRPr b="0" lang="en-US" sz="2900" spc="-1" strike="noStrike">
              <a:solidFill>
                <a:srgbClr val="000000"/>
              </a:solidFill>
              <a:latin typeface="Tw Cen MT"/>
            </a:endParaRPr>
          </a:p>
          <a:p>
            <a:pPr lvl="1" marL="607680" indent="-25920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IP 014 is a physical security standard with an aggressive timeline</a:t>
            </a:r>
            <a:endParaRPr b="0" lang="en-US" sz="2600" spc="-1" strike="noStrike">
              <a:solidFill>
                <a:srgbClr val="000000"/>
              </a:solidFill>
              <a:latin typeface="Tw Cen MT"/>
            </a:endParaRPr>
          </a:p>
          <a:p>
            <a:pPr lvl="1" marL="607680" indent="-25920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IP v6 defining low-impact cyber-security requirements is moving forward quickly and affects virtually all NERC-registered entities. </a:t>
            </a:r>
            <a:endParaRPr b="0" lang="en-US" sz="2600" spc="-1" strike="noStrike">
              <a:solidFill>
                <a:srgbClr val="000000"/>
              </a:solidFill>
              <a:latin typeface="Tw Cen MT"/>
            </a:endParaRPr>
          </a:p>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lack start changes</a:t>
            </a:r>
            <a:endParaRPr b="0" lang="en-US" sz="2900" spc="-1" strike="noStrike">
              <a:solidFill>
                <a:srgbClr val="000000"/>
              </a:solidFill>
              <a:latin typeface="Tw Cen MT"/>
            </a:endParaRPr>
          </a:p>
          <a:p>
            <a:pPr lvl="1" marL="607680" indent="-25920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 consultant provided a review of ERCOTs black start procedures and provided recommendations. </a:t>
            </a:r>
            <a:endParaRPr b="0" lang="en-US" sz="2600" spc="-1" strike="noStrike">
              <a:solidFill>
                <a:srgbClr val="000000"/>
              </a:solidFill>
              <a:latin typeface="Tw Cen MT"/>
            </a:endParaRPr>
          </a:p>
          <a:p>
            <a:pPr lvl="1" marL="607680" indent="-25920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Goal is to implement appropriate changes before the 2015 procurement cycle. </a:t>
            </a:r>
            <a:endParaRPr b="0" lang="en-US" sz="2600" spc="-1" strike="noStrike">
              <a:solidFill>
                <a:srgbClr val="000000"/>
              </a:solidFill>
              <a:latin typeface="Tw Cen MT"/>
            </a:endParaRPr>
          </a:p>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07680" indent="-25920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7" name="Footer Placeholder 2"/>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75f55"/>
                </a:solidFill>
                <a:latin typeface="Arial"/>
              </a:rPr>
              <a:t>June 26, 2014 TAC Mee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bhatfiel</cp:lastModifiedBy>
  <cp:lastPrinted>2013-01-30T23:16:36Z</cp:lastPrinted>
  <dcterms:modified xsi:type="dcterms:W3CDTF">2014-06-17T18:44:14Z</dcterms:modified>
  <cp:revision>423</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4C4FFC4A894504CB30DBFB7150C9A36</vt:lpwstr>
  </property>
  <property fmtid="{D5CDD505-2E9C-101B-9397-08002B2CF9AE}" pid="3" name="Information Classification">
    <vt:lpwstr/>
  </property>
  <property fmtid="{D5CDD505-2E9C-101B-9397-08002B2CF9AE}" pid="4" name="Vault">
    <vt:lpwstr>0</vt:lpwstr>
  </property>
</Properties>
</file>