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E65C2-DDBF-4E9D-8C55-28D58A63F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48A0B-8173-49DF-8F0B-A2A7CAB3D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925C3-F0DF-471B-975A-28803DC17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CBB4A-A467-40EC-A870-A13ED7FA7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B2D67-361D-4F30-88F9-98B117729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80388-4037-4AE1-A041-D488C3BD8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C249E-9630-4D75-B5D5-655A52C7F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1FF20-73F8-4680-87F6-AA2CF7407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82640-8059-4753-AF1E-10E23918A4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60EC5-B4AB-464F-8B0E-D333DC6A7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F9C45-BCD9-4509-A8AE-A4913C9F4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3DFFA-2400-4367-B347-DE3A1175C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87C7F-8E4F-44F1-93FB-8A3F35EA221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SS/E Version 33 Dynamic Convers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DWG</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ROS June Meeting</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June 5, 2014</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ERCOT Met Center</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98989"/>
                </a:solidFill>
                <a:latin typeface="Calibri"/>
              </a:rPr>
              <a:t>Austin, TX</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ponse Summary </a:t>
            </a:r>
            <a:br>
              <a:rPr sz="4400"/>
            </a:br>
            <a:r>
              <a:rPr b="0" lang="en-US" sz="4400" spc="-1" strike="noStrike">
                <a:solidFill>
                  <a:srgbClr val="000000"/>
                </a:solidFill>
                <a:latin typeface="Calibri"/>
              </a:rPr>
              <a:t>(As of 5/20/2014)</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5% of submitted updated parameters and models (.obj or .dll) fi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egory 1: No model update in the RAR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9 Resource Entities have not provided updated UDM models for PSS/e V33.</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egory 2: Partial model update in the RAR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4 Resource Entities provided in-complete UDM models for PSS/E V33. </a:t>
            </a:r>
            <a:endParaRPr b="0" lang="en-US" sz="2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esource Entity with multiple units can be counted in both categori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act to DWG Dynamic Studie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riginally wanted to conduct CY2014 in v33 last year</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stponed transition to HWLL2017</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stponed transition to FY2019 starting in Mid Jun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ion of FY2019 may be slowed down </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RCOT and DWG will review incomplete or missing data</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be able to use old parameters on new model or models supplied by another generato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be able to suggest parameters from ERCOT’s TSAT Wind Model conversion projec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oor response to v33 update for UDM is troubling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ture data reques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clusion</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or response to data request for v33 UDM updat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ll impact DWG studi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bstitute models/parameters will be needed for those that did not submit a v33 update or submitted an incomplete updat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ll slow down the FY2019 Case Build starting in June 16</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xt step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COT will recommend substitute models/parameters for missing v33 data based on available v33 models similar to the old v32 models or the data parameters from ERCOT’s TSAT Conversion Stud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COT will update the data files used to add the wind models to the case (ini files and WindMachines33)</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ntative finish date for data conversion activities is mid Jul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 of v33</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eneric Program Enhancements</a:t>
            </a: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indows 7 Compatibility - </a:t>
            </a:r>
            <a:r>
              <a:rPr b="0" lang="en-US" sz="2400" spc="-1" strike="noStrike">
                <a:solidFill>
                  <a:srgbClr val="000000"/>
                </a:solidFill>
                <a:latin typeface="Calibri"/>
              </a:rPr>
              <a:t>V33.1 has been tested extensively on Windows 7 and is certified as Windows 7 compatibl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pdates to Environment Manager </a:t>
            </a:r>
            <a:r>
              <a:rPr b="0" lang="en-US" sz="2400" spc="-1" strike="noStrike">
                <a:solidFill>
                  <a:srgbClr val="000000"/>
                </a:solidFill>
                <a:latin typeface="Calibri"/>
              </a:rPr>
              <a:t>to better handle Python and compiler issues.</a:t>
            </a:r>
            <a:endParaRPr b="0" lang="en-US" sz="2400" spc="-1" strike="noStrike">
              <a:solidFill>
                <a:srgbClr val="000000"/>
              </a:solidFill>
              <a:latin typeface="Calibri"/>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pdated Aspen to PSS/E converter</a:t>
            </a:r>
            <a:r>
              <a:rPr b="0" lang="en-US" sz="4000" spc="-1" strike="noStrike">
                <a:solidFill>
                  <a:srgbClr val="000000"/>
                </a:solidFill>
                <a:latin typeface="Calibri"/>
              </a:rPr>
              <a:t>.</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provements Related to Dynamic Studies</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fontScale="95000"/>
          </a:bodyPr>
          <a:p>
            <a:pPr marL="325800" indent="-325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proved Dynamic Engine</a:t>
            </a:r>
            <a:endParaRPr b="0" lang="en-US" sz="1200" spc="-1" strike="noStrike">
              <a:solidFill>
                <a:srgbClr val="000000"/>
              </a:solidFill>
              <a:latin typeface="Calibri"/>
            </a:endParaRPr>
          </a:p>
          <a:p>
            <a:pPr lvl="1" marL="705600" indent="-2714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creased the number of CONs, VARs and ICONs at all size levels above 12,000 buses.</a:t>
            </a:r>
            <a:endParaRPr b="0" lang="en-US" sz="1100" spc="-1" strike="noStrike">
              <a:solidFill>
                <a:srgbClr val="000000"/>
              </a:solidFill>
              <a:latin typeface="Calibri"/>
            </a:endParaRPr>
          </a:p>
          <a:p>
            <a:pPr lvl="2" marL="1085760" indent="-21708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elpful when adding load models to the case</a:t>
            </a:r>
            <a:endParaRPr b="0" lang="en-US" sz="1300" spc="-1" strike="noStrike">
              <a:solidFill>
                <a:srgbClr val="000000"/>
              </a:solidFill>
              <a:latin typeface="Calibri"/>
            </a:endParaRPr>
          </a:p>
          <a:p>
            <a:pPr lvl="1" marL="705600" indent="-2714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 CONEC and CONET models have been “Table-ized”.  Improved handling of compilation of User Defined Models</a:t>
            </a:r>
            <a:endParaRPr b="0" lang="en-US" sz="1100" spc="-1" strike="noStrike">
              <a:solidFill>
                <a:srgbClr val="000000"/>
              </a:solidFill>
              <a:latin typeface="Calibri"/>
            </a:endParaRPr>
          </a:p>
          <a:p>
            <a:pPr marL="325800" indent="-325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proved Data Entry via GUI</a:t>
            </a:r>
            <a:endParaRPr b="0" lang="en-US" sz="1200" spc="-1" strike="noStrike">
              <a:solidFill>
                <a:srgbClr val="000000"/>
              </a:solidFill>
              <a:latin typeface="Calibri"/>
            </a:endParaRPr>
          </a:p>
          <a:p>
            <a:pPr lvl="1" marL="705600" indent="-2714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py/Paste of Models on the Dynamics Spreadsheet</a:t>
            </a:r>
            <a:endParaRPr b="0" lang="en-US" sz="1100" spc="-1" strike="noStrike">
              <a:solidFill>
                <a:srgbClr val="000000"/>
              </a:solidFill>
              <a:latin typeface="Calibri"/>
            </a:endParaRPr>
          </a:p>
          <a:p>
            <a:pPr marL="325800" indent="-325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mproved Data Checking</a:t>
            </a:r>
            <a:endParaRPr b="0" lang="en-US" sz="1200" spc="-1" strike="noStrike">
              <a:solidFill>
                <a:srgbClr val="000000"/>
              </a:solidFill>
              <a:latin typeface="Calibri"/>
            </a:endParaRPr>
          </a:p>
          <a:p>
            <a:pPr lvl="1" marL="705600" indent="-2714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nteractive Data Checking </a:t>
            </a:r>
            <a:endParaRPr b="0" lang="en-US" sz="1100" spc="-1" strike="noStrike">
              <a:solidFill>
                <a:srgbClr val="000000"/>
              </a:solidFill>
              <a:latin typeface="Calibri"/>
            </a:endParaRPr>
          </a:p>
          <a:p>
            <a:pPr lvl="2" marL="1085760" indent="-21708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ata warnings/error can now be visualized directly on the spreadsheets and model edit dialogs. The feature is enabled/disabled on the “General” tab of the Edit&gt;Preferences dialog. </a:t>
            </a:r>
            <a:endParaRPr b="0" lang="en-US" sz="1000" spc="-1" strike="noStrike">
              <a:solidFill>
                <a:srgbClr val="000000"/>
              </a:solidFill>
              <a:latin typeface="Calibri"/>
            </a:endParaRPr>
          </a:p>
          <a:p>
            <a:pPr lvl="1" marL="705600" indent="-2714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pdated exciter limit calculation (removed iteration with closed form calculation) for AC7B, AC8B, ESAC3A and EXAC2 models.</a:t>
            </a:r>
            <a:endParaRPr b="0" lang="en-US" sz="1100" spc="-1" strike="noStrike">
              <a:solidFill>
                <a:srgbClr val="000000"/>
              </a:solidFill>
              <a:latin typeface="Calibri"/>
            </a:endParaRPr>
          </a:p>
          <a:p>
            <a:pPr lvl="1" marL="705600" indent="-2714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ower Flow and Sequence Data Checking Report</a:t>
            </a:r>
            <a:endParaRPr b="0" lang="en-US" sz="1200" spc="-1" strike="noStrike">
              <a:solidFill>
                <a:srgbClr val="000000"/>
              </a:solidFill>
              <a:latin typeface="Calibri"/>
            </a:endParaRPr>
          </a:p>
          <a:p>
            <a:pPr lvl="2" marL="1085760" indent="-21708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wo new APIs, CHECK_POWERFLOW_DATA and CHECK_SEQUENCE_DATA, can be used to create a tabular report of the checks performed on the Power Flow and Sequence data by the interactive data checking function. </a:t>
            </a:r>
            <a:endParaRPr b="0" lang="en-US" sz="1000" spc="-1" strike="noStrike">
              <a:solidFill>
                <a:srgbClr val="000000"/>
              </a:solidFill>
              <a:latin typeface="Calibri"/>
            </a:endParaRPr>
          </a:p>
          <a:p>
            <a:pPr lvl="2" marL="1085760" indent="-21708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equence data is used in fault calculations</a:t>
            </a:r>
            <a:endParaRPr b="0" lang="en-US" sz="1000" spc="-1" strike="noStrike">
              <a:solidFill>
                <a:srgbClr val="000000"/>
              </a:solidFill>
              <a:latin typeface="Calibri"/>
            </a:endParaRPr>
          </a:p>
          <a:p>
            <a:pPr marL="325800" indent="-325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ore support for Node Breaker Modeling</a:t>
            </a:r>
            <a:endParaRPr b="0" lang="en-US" sz="1200" spc="-1" strike="noStrike">
              <a:solidFill>
                <a:srgbClr val="000000"/>
              </a:solidFill>
              <a:latin typeface="Calibri"/>
            </a:endParaRPr>
          </a:p>
          <a:p>
            <a:pPr lvl="1" marL="705600" indent="-2714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as a breaker tab</a:t>
            </a:r>
            <a:endParaRPr b="0" lang="en-US" sz="1100" spc="-1" strike="noStrike">
              <a:solidFill>
                <a:srgbClr val="000000"/>
              </a:solidFill>
              <a:latin typeface="Calibri"/>
            </a:endParaRPr>
          </a:p>
          <a:p>
            <a:pPr lvl="1" marL="705600" indent="-2714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is a factor of 10 increase in the maximum number of zero impedance lines allowed at all size levels. For example, at 50,000 buses, the maximum number of zero impedance lines is increased from 2,500 to 25,000.  Easier to handle an expansion of the Node Breaker Model</a:t>
            </a:r>
            <a:endParaRPr b="0" lang="en-US" sz="1100" spc="-1" strike="noStrike">
              <a:solidFill>
                <a:srgbClr val="000000"/>
              </a:solidFill>
              <a:latin typeface="Calibri"/>
            </a:endParaRPr>
          </a:p>
          <a:p>
            <a:pPr marL="325800" indent="-325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w Solution Parameter, MXTPSS</a:t>
            </a:r>
            <a:endParaRPr b="0" lang="en-US" sz="1200" spc="-1" strike="noStrike">
              <a:solidFill>
                <a:srgbClr val="000000"/>
              </a:solidFill>
              <a:latin typeface="Calibri"/>
            </a:endParaRPr>
          </a:p>
          <a:p>
            <a:pPr lvl="1" marL="705600" indent="-2714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XTPSS may be used to overcome the oscillations that can occur in the automatic adjustments of tap ratio and switched shunt settings during power flow solutions. Once tap and/or switched shunts have been adjusted MXTPSS times during a solution, further adjustments are suppressed</a:t>
            </a:r>
            <a:endParaRPr b="0" lang="en-US" sz="1100" spc="-1" strike="noStrike">
              <a:solidFill>
                <a:srgbClr val="000000"/>
              </a:solidFill>
              <a:latin typeface="Calibri"/>
            </a:endParaRPr>
          </a:p>
          <a:p>
            <a:pPr marL="325800" indent="-3258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ad Model Improvements</a:t>
            </a:r>
            <a:endParaRPr b="0" lang="en-US" sz="1200" spc="-1" strike="noStrike">
              <a:solidFill>
                <a:srgbClr val="000000"/>
              </a:solidFill>
              <a:latin typeface="Calibri"/>
            </a:endParaRPr>
          </a:p>
          <a:p>
            <a:pPr lvl="1" marL="705600" indent="-2714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ch load may be characterized as either interruptible or non-interruptible. This attribute will be  utilized in a future PSS®E release.</a:t>
            </a:r>
            <a:endParaRPr b="0" lang="en-US" sz="1100" spc="-1" strike="noStrike">
              <a:solidFill>
                <a:srgbClr val="000000"/>
              </a:solidFill>
              <a:latin typeface="Calibri"/>
            </a:endParaRPr>
          </a:p>
          <a:p>
            <a:pPr lvl="1" marL="705600" indent="-2714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ative Induction Machine Model</a:t>
            </a:r>
            <a:endParaRPr b="0" lang="en-US" sz="1100" spc="-1" strike="noStrike">
              <a:solidFill>
                <a:srgbClr val="000000"/>
              </a:solidFill>
              <a:latin typeface="Calibri"/>
            </a:endParaRPr>
          </a:p>
          <a:p>
            <a:pPr lvl="2" marL="1085760" indent="-21708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 native induction machine model is now in use throughout the PSS®E engine. In the RAW file the induction machine data now appears at the end of the file</a:t>
            </a:r>
            <a:endParaRPr b="0" lang="en-US" sz="1000" spc="-1" strike="noStrike">
              <a:solidFill>
                <a:srgbClr val="000000"/>
              </a:solidFill>
              <a:latin typeface="Calibri"/>
            </a:endParaRPr>
          </a:p>
          <a:p>
            <a:pPr marL="325800" indent="-32580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25800" indent="-325800">
              <a:lnSpc>
                <a:spcPct val="8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w Model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BBSVC1 </a:t>
            </a:r>
            <a:r>
              <a:rPr b="0" lang="en-US" sz="1800" spc="-1" strike="noStrike">
                <a:solidFill>
                  <a:srgbClr val="000000"/>
                </a:solidFill>
                <a:latin typeface="Calibri"/>
              </a:rPr>
              <a:t>– ABB SVC model used in DFW and the CREZ</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T4G2</a:t>
            </a:r>
            <a:r>
              <a:rPr b="0" lang="en-US" sz="1800" spc="-1" strike="noStrike">
                <a:solidFill>
                  <a:srgbClr val="000000"/>
                </a:solidFill>
                <a:latin typeface="Calibri"/>
              </a:rPr>
              <a:t>– Generic wind turbine model representing a generator connected to the grid via a power converter (Type – 4 wind machine)</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T4E2 </a:t>
            </a:r>
            <a:r>
              <a:rPr b="0" lang="en-US" sz="1800" spc="-1" strike="noStrike">
                <a:solidFill>
                  <a:srgbClr val="000000"/>
                </a:solidFill>
                <a:latin typeface="Calibri"/>
              </a:rPr>
              <a:t>– Generic electrical control model for Type 4 wind machine</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FT1 </a:t>
            </a:r>
            <a:r>
              <a:rPr b="0" lang="en-US" sz="1800" spc="-1" strike="noStrike">
                <a:solidFill>
                  <a:srgbClr val="000000"/>
                </a:solidFill>
                <a:latin typeface="Calibri"/>
              </a:rPr>
              <a:t>– GE variable frequency transformer</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VSMO </a:t>
            </a:r>
            <a:r>
              <a:rPr b="0" lang="en-US" sz="1800" spc="-1" strike="noStrike">
                <a:solidFill>
                  <a:srgbClr val="000000"/>
                </a:solidFill>
                <a:latin typeface="Calibri"/>
              </a:rPr>
              <a:t>(SVSMO1, SVSMO2 and SVSMO3) family of FACTs models.</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NTPJU1 </a:t>
            </a:r>
            <a:r>
              <a:rPr b="0" lang="en-US" sz="1800" spc="-1" strike="noStrike">
                <a:solidFill>
                  <a:srgbClr val="000000"/>
                </a:solidFill>
                <a:latin typeface="Calibri"/>
              </a:rPr>
              <a:t> - Synchronous generator model </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VDCPLU1</a:t>
            </a:r>
            <a:r>
              <a:rPr b="0" lang="en-US" sz="1800" spc="-1" strike="noStrike">
                <a:solidFill>
                  <a:srgbClr val="000000"/>
                </a:solidFill>
                <a:latin typeface="Calibri"/>
              </a:rPr>
              <a:t>  - Siemens HVDC plus model</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GOVRU </a:t>
            </a:r>
            <a:r>
              <a:rPr b="0" lang="en-US" sz="1800" spc="-1" strike="noStrike">
                <a:solidFill>
                  <a:srgbClr val="000000"/>
                </a:solidFill>
                <a:latin typeface="Calibri"/>
              </a:rPr>
              <a:t>– A Hydro-governor model</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STGOV1 </a:t>
            </a:r>
            <a:r>
              <a:rPr b="0" lang="en-US" sz="1800" spc="-1" strike="noStrike">
                <a:solidFill>
                  <a:srgbClr val="000000"/>
                </a:solidFill>
                <a:latin typeface="Calibri"/>
              </a:rPr>
              <a:t>– A frequency playback model. This model is used to measure machine response against a measured frequency input as gathered from field measurements or defined frequency inputs as found in a Grid Cod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 UDMs Are Importan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ows for modeling of new types of equipment</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FACTs devices</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ind</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olar</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proved accuracy of models</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Historically there have been problems with generic models accurately modeling wind farm performance</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ind Farm User Defined models were created to overcome this deficiency</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WECC has been working on improving Wind Farm Generic Models</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ource owner needs to submit accurate model parameters</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Default parameters may or may not model a wind farm correctly</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Models taken from a wind farm of the same type may or may not model a wind farm correctly</a:t>
            </a:r>
            <a:endParaRPr b="0" lang="en-US" sz="15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 Fairness</a:t>
            </a:r>
            <a:endParaRPr b="0" lang="en-US" sz="18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Expensive to get a recompile of UDM</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If one generator has to pay to recompile, then all need to pay to recompile or pay to have model entered into the PSS/E library</a:t>
            </a:r>
            <a:endParaRPr b="0" lang="en-US" sz="1500" spc="-1" strike="noStrike">
              <a:solidFill>
                <a:srgbClr val="000000"/>
              </a:solidFill>
              <a:latin typeface="Calibri"/>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COT Guides</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om the Planning Guid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2.1      Dynamics Data Requirements for Resources</a:t>
            </a:r>
            <a:endParaRPr b="0" lang="en-US" sz="20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A Resource Entity shall submit new or updated dynamics data in accordance with Section 5, Generation Resource Interconnection or Change Request.  The Resource Entity shall provide all dynamics data as described in the Dynamics Working Group Procedural Manual.  The Resource Entity shall provide an accurate and appropriate model and model parameters.  Resource Entities are encouraged to use standard models to represent the Resource’s dynamic and transient capability and response.  If no appropriate standard model is available, the Resource Entity shall submit a model, model documentation, and the associated model parameters to ERCOT for inclusion in simulation-ready study cases as described in the Dynamics Working Group Procedural Manual.</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om the DWG Procedure Manual</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Dynamics Data</a:t>
            </a:r>
            <a:endParaRPr b="0" lang="en-US" sz="18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1          General</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1.1      Software</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urrent version of the planning software used by the DWG is PSSE version 33.</a:t>
            </a:r>
            <a:endParaRPr b="0" lang="en-US" sz="14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dal Protocol</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dal Protocol: Section 17 Market Monitoring and Data Collection</a:t>
            </a:r>
            <a:endParaRPr b="0" lang="en-US" sz="20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3.2    Data Categories and Handling Procedures</a:t>
            </a:r>
            <a:endParaRPr b="0" lang="en-US" sz="18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RCOT shall develop, and refine based on experience, a detailed catalog of all data categories that it can acquire and the procedures that it will use to handle such data, including procedures for protecting Protected Information.  This catalog must include documentation of the meaning of the data elements, and must be updated upon any change in systems (e.g. EMMS or settlements) that affect the data elements or interpretation of these elements.  </a:t>
            </a:r>
            <a:endParaRPr b="0" lang="en-US" sz="14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3.3    Accuracy of Data Collection</a:t>
            </a:r>
            <a:endParaRPr b="0" lang="en-US" sz="18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ERCOT shall continuously apply appropriate procedures for the accurate collection of data into the Data Warehouse and accurate communication of that data for use by the PUCT Staff and IMM.  By written notice, ERCOT may require Market Participants to verify the accuracy of data previously submitted to ERCOT.</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ERCOT shall report to the PUCT and IMM any failure by a Market Participant to provide accurate and complete information in the manner and time requested under these Protocols, and that failure may be treated as grounds for action against the Market Participant.</a:t>
            </a: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ERCOT shall cause to be performed an audit on a periodic basis no less than once every three years of ERCOT data, data collection, and data documentation for adequacy and accuracy.  The auditor will provide recommendations to address potential areas of improvements.</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RC Standard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 12</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2.     The Transmission Owners, Transmission Planners, Generator Owners, and Resource Planners (specified in the data requirements and reporting procedures of MOD-013-0_R1) shall provide dynamics system modeling and simulation data to its Regional Reliability Organization(s), NERC, and those entities specified within the applicable reporting procedures identified in Reliability Standard MOD-013-0_R1. If no schedule exists, then these entities shall provide data on request (30 calendar day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 Notice History</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onversion to v33 for Dynamic Studies primarily impacts              User Defined Models (UDM) since Library models are backwards compatib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SWG</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SWG has been using v33 for several year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WG has to convert SSWG data in v33 to work in v32 </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otice in August 2013</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adline Extended to December 31</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Deadline Extended again to March 31</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Feb 2014, ERCOT offered model assistance to Wind Farms to switch to a Library model (previous project converted PSS/E Wind UDM to generic wind models for use in TSAT)</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9T14:30:33Z</dcterms:created>
  <dc:creator>Carol Chessmore-Oncor</dc:creator>
  <dc:description/>
  <dc:language>en-US</dc:language>
  <cp:lastModifiedBy>Carol Chessmore-Oncor</cp:lastModifiedBy>
  <dcterms:modified xsi:type="dcterms:W3CDTF">2014-06-03T18:15:54Z</dcterms:modified>
  <cp:revision>31</cp:revision>
  <dc:subject/>
  <dc:title>PSS/E Version 33 Dynamic Conversion</dc:title>
</cp:coreProperties>
</file>