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7FF-0539-42C6-BD6C-01334245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35E-C928-49BB-8079-8B88A584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B61-53E8-4FB1-805A-FFCF9869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D8E-7FC4-4FC4-A513-104E41C4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B18-BBCA-48F1-89E9-16FBF14E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518-6189-488E-8EDC-AAB83B37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1BB-1AD6-4B32-94A6-4068FFD0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495-CF4B-4B5F-B1BC-18F3A6F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AAA-E45C-43F8-91BA-D662809F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8F6-F107-4A26-949A-C5237262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C68-FF2D-445E-AED4-5A075A7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0A2-57E3-44BB-AEF5-52520263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61D6-9E0D-4939-83B3-9869B94EF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EB2B-DA04-489E-BD66-98CBBD80C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CWG Update to W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4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42EA-5C84-471D-BCA7-9DD68E91A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me Resources were mitigated  in real-time to below their actual cost due to large differences between FIP and their actual gas price on certain days in February and March 2014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Thursday February 6</a:t>
            </a:r>
            <a:r>
              <a:rPr b="0" lang="en-US" sz="23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- West Texas gas prices were much higher than the Houston Ship Channel daily index price used for FIP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SC index price appx. $10/MMBtu;  Waha index price appx. $20/MMB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C’s using $10 FIP, while West Texas gas prices &gt;$2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Monday March 3</a:t>
            </a:r>
            <a:r>
              <a:rPr b="0" lang="en-US" sz="2300" spc="-1" strike="noStrike" u="sng" baseline="30000">
                <a:solidFill>
                  <a:srgbClr val="000000"/>
                </a:solidFill>
                <a:uFillTx/>
                <a:latin typeface="Calibri"/>
              </a:rPr>
              <a:t>rd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- Intra-day gas prices were significantly higher than FIP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SC and Waha index prices &lt; $5/MMBtu for the weekend, based on Friday gas trading activ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der than forecasted cold front moved in over the weeke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-day gas prices &gt; $20/MMBtu on Monday. MOC’s using FIP&lt;$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index price reference available for intra-day g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100D-977B-4946-AED4-22BC2FA25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WMS Guidance – prefer market-based solution that minimizes the need for any settlement adjustment and resulting upli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WG developed 3 options for changes to FI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rovide a market-based solution for Feb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ype events (i.e. Waha index price &gt;&gt; HSC index pric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still need a make-whole mechanism for Ma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ype events (i.e. intra-day gas price &gt;&gt; FI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1522-B8B8-4319-B5FD-16E28EAB6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 – Use current FIP(HSC) unless Waha price is greater than HSC by a threshold “F”, then use Waha price for FI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(Waha-HSC)&gt;F, then FIP= Waha, else H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s current “market-accepted” FIP, unless the Waha pric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teri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igher than HS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changes are required but initial indications are changes could be minor (depending on impact analysi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result in inflated MOC’s for some Resources during exceptional ev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n’t address intra-day gas purchases that are higher than F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define threshold “F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D862-899B-4709-8374-3A2D9607D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19047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 – Change FIP to the higher of HSC or Waha daily index pr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es events when the Waha price is higher than HS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tter reflect ERCOT-wide marginal cost of gas in current gas mark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changes are required and would be similar to Option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result in inflated MOC’s for some Resources, more so than Option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n’t address intra-day gas purchases that are higher than F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7F2-55E8-47B3-96C0-3B50E1FAC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82480" indent="-285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– Resource specific FIP (designate HSC or Waha) with higher of HSC or Waha during exceptional events (similar to Option 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BS(Waha-HSC)&gt;F, then FIP=Max(Waha, HS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provide more accurate MOC’s for Resources with access to only HSC or Waha gas markets during normal con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es exceptional events when the HSC or Waha price is materially higher than the resource specific F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result in inflated MOC’s for some Resources during exceptional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n’t address intra-day gas purchases that are higher than F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ably a higher system implementation cost than the other op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define threshold “F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26B0-6DC2-44BA-A618-8D36D19F3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ed FIP options cover events where the Waha index price &gt;&gt; HSC index pr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2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need a make-whole mechanism for events not covered by FIP options, such as intra-day gas purchases &gt;&gt; F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e the dispute process and provide evidence of actual co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would require a settlement mechanism to allocate pay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Settl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lift Allocation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Load Ratio Sha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costs may be allocated to Loads that were not impacted by the conges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Zonal Load Ratio Sha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May provide a more appropriate allocation of costs to Loads, but difficult to identify which zone is being impa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8ABD-BCA9-4A4F-A345-195E1F088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l-Time Mitigation during Exceptional Fuel Cos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 from WMS, possible vo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FIP option, if any, should RCWG use to develop protocol languag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ption 1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Use current FIP(HSC) unless Waha price is greater than HSC by a threshold “F”.  Establish value for “F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ption 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Change FIP to the higher of HSC or Waha daily index pric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Option 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Resource specific FIP with higher of HSC or Waha during exceptional events.  Establish value for “F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a make-whole mechanism be implement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yes, how should the costs be allocated? LRS or Zonal LRS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ed with developing protocol and verifiable cost manual rev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C8A3-20D4-4E5B-9E52-DE53FEB92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1:58:48Z</dcterms:created>
  <dc:creator>Luminant</dc:creator>
  <dc:description/>
  <dc:language>en-US</dc:language>
  <cp:lastModifiedBy>ptvinson</cp:lastModifiedBy>
  <dcterms:modified xsi:type="dcterms:W3CDTF">2014-05-30T14:52:17Z</dcterms:modified>
  <cp:revision>136</cp:revision>
  <dc:subject/>
  <dc:title>QMWG Update to WMS</dc:title>
</cp:coreProperties>
</file>