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C64-996D-462D-814F-176A1FB9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41F-821D-4725-A678-0AE681EC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100-52AB-427D-996A-89CF0B7F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F53-9EAE-4461-87A3-F8335107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BAA-4A7E-4481-A4B5-7BDC0362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E4E-7955-4A88-8DB0-D6675577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9CB-FBEB-40AA-A744-AADA58CF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CB5-C858-40FD-BA54-C8304892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FF5-247D-4344-882D-9A267F4F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016-ABA8-4C58-9FA5-0922A3E2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DB4-F3E3-4686-B500-7F6F6B67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2C7-6BCA-47FB-9FDD-5E776FC5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D3BC-0AB0-4394-9A41-185DED8C08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E91C-8912-443D-9E1D-92145CAD8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merging Technologies Working Grou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date to W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ne 04,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0E3C-BB9D-4E86-9805-D74C6FEC6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563400" y="3048120"/>
            <a:ext cx="8077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on NPRR 6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Privacy for PVGRs (“X Valu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V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xt ETWG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.  Update on NPRR 6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09680" y="1371600"/>
            <a:ext cx="8353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 4/16/13, NPRR615 was pos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 5/15/14, PRS considered NPRR61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S unanimously voted to table NPRR615 and refer the issue to WMS.  All Market Segments were present for the vo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s requested that WMS recommend a value for X in Section 4.2.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 5/28/14, ETWG met to discuss section 4.2.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019B-4A9E-4B87-903A-2E37B2AF4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.  Data Privacy for PVGRs (“X Value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E DRAFT NPRR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aggregated ERCOT PVGR capacity reaches 1GW and the maximum PVGR capacity ratio of a single PVGR over the total ERCOT installed PVGR capacity is at or below 60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ach hour ERCOT shall post to the MIS Public Area, on a system-wide basis the hourly actual PhotoVoltaic (PV) power production, STPPF, PVGRPP, and aggregate COP HSLs for On-Line PVGRs for a rolling historical 48-hour period.  The system-wide STPPF, PVGRPP, and aggregate COP HSLs for On-Line PVGRs will also be posted for the rolling future 48-hour period.  ERCOT shall retain the STPPF and PVGRPP for each ho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7149-DC07-4F43-94F9-10E361AE4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.  Data Privacy for PVGRs (“X Value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E DRAFT NPRR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6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aggregated ERCOT PVGR capacity reaches 1GW and the maximum PVGR capacity ratio of a single PVGR over the total ERCOT installed PVGR capacity is at or below 60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very five minutes, ERCOT shall post to the MIS Public Area, on a system-wide basis, five-minute actual PV power production for a rolling historical 60-minute peri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595F-6824-40CA-AEF4-9ED880BB5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.  PV Foreca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49D6-8BE2-4A02-A971-56B106DCB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E FORECAST SL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hort-Term PhotoVoltaic Power Forecast (STPP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 ERCOT produced hourly 50% probability of exceedance forecast of the generation in MWh per hour from each PhotoVoltaic Generation Resource (PVGR) that could be generated from all available units of that Resour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in 3.9.1 Current Operating Plan Criteria, paragraph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the first 48 hours of the COP, QSE representing a PhotoVoltaic Generation Resource (PVGR) must enter an HSL value that is less than or equal to the amount for that Resource from the most recent Short-Term PhotoVoltaic Power Forecast (STPPF) provided by ERCO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.  PV Foreca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C958-23BF-4372-98D2-AB74AB490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E FORECAST SL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hotoVoltaic Generation Resource Production Potential (PVGRP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e generation in MWh per hour from a PVGR that could be generated from all available units of that Resource allocated from the 80% probability of exceedance of the Total ERCOT PhotoVoltaic Power Forecast (TEPPF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in  5.7.3 RUC Make-Whole Charges, paragraph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VGRPP used in the corresponding RUC is considered the available capacity of the PVGR when determining responsibility for the corresponding RUC charges, regardless of the Real-Time output of the PVG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.  Next ETWG Meeting June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s on NPRR 6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by ERCOT on PV Forecast RF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items, T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A24C-BE57-482E-9796-D69456EA9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ND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8D5F-CC19-4EF7-A26E-8CC1EB222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22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ested WMS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ion to endorse NPRR615 with May 28 ETWG edits and June 4 WMS ed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F89F-39EB-4A70-B07F-EF6E8E3D1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4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3:39:14Z</dcterms:created>
  <dc:creator>Chad Blevins</dc:creator>
  <dc:description/>
  <dc:language>en-US</dc:language>
  <cp:lastModifiedBy>Chad Blevins</cp:lastModifiedBy>
  <dcterms:modified xsi:type="dcterms:W3CDTF">2014-06-02T15:34:41Z</dcterms:modified>
  <cp:revision>53</cp:revision>
  <dc:subject/>
  <dc:title>ETWG Update to WMS</dc:title>
</cp:coreProperties>
</file>