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5AE1-38E8-4681-9CF5-937D54360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D4EA-CD9B-4597-9407-A06DA6E08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6D0A-100A-451F-858B-612663A1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E8B4-4D2A-458E-A9AE-F9944CE6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5089-2A33-4036-9652-B9F67049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91F4-AB2F-473D-A3E1-0F8563C5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D08D-0B07-41E9-B8AD-3A0B2BBE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E8FA-FEA8-4675-95E3-2BAD21A0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CF96-039B-4631-A4CB-9D111AC9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F3B5-0C39-4899-965A-F11C57AD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0753-8979-4D17-86C8-014BCCE2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F393-3B73-405B-9A16-8AA52F7D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CF15-139B-4288-9E70-36F01D3F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F77A-A2FA-4D8B-AEB2-B0CD9ECF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D509-4495-49E1-B98C-52D268028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4A77-B484-405E-B457-EC30D8FF0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6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3"/>
          <p:cNvGrpSpPr/>
          <p:nvPr/>
        </p:nvGrpSpPr>
        <p:grpSpPr>
          <a:xfrm>
            <a:off x="542880" y="422280"/>
            <a:ext cx="7728120" cy="1922400"/>
            <a:chOff x="542880" y="422280"/>
            <a:chExt cx="7728120" cy="1922400"/>
          </a:xfrm>
        </p:grpSpPr>
        <p:pic>
          <p:nvPicPr>
            <p:cNvPr id="96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542880" y="4222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9"/>
            <p:cNvSpPr/>
            <p:nvPr/>
          </p:nvSpPr>
          <p:spPr>
            <a:xfrm>
              <a:off x="726840" y="2006280"/>
              <a:ext cx="75441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traight Connector 12"/>
            <p:cNvSpPr/>
            <p:nvPr/>
          </p:nvSpPr>
          <p:spPr>
            <a:xfrm flipV="1">
              <a:off x="726840" y="17283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1"/>
          <p:cNvSpPr/>
          <p:nvPr/>
        </p:nvSpPr>
        <p:spPr>
          <a:xfrm>
            <a:off x="1382760" y="2262240"/>
            <a:ext cx="6084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67_03 Meter Data Loading  &amp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ror Cod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lly B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3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PS Update – timeline change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May 14, 2014 COPS meeting, Don Tucker presented the proposed 867_03 data loading timeline chang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oading execution time shift from 3am to 1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S membership had no ob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ate Placeholder 3"/>
          <p:cNvSpPr/>
          <p:nvPr/>
        </p:nvSpPr>
        <p:spPr>
          <a:xfrm>
            <a:off x="6324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6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ror Code Processing Proposed Chan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and TDSPs met via conference call on May 2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review and discuss the proposed removal of the following error cod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2 – Incorrect Meter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alidation occurs at the EDI level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– TOU status unkn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l ESIIDs in the ERCOT region must have a profile code assigned.  This error is only triggered by a null profile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bjections were raised regarding the removal of these error co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1"/>
          <p:cNvSpPr/>
          <p:nvPr/>
        </p:nvSpPr>
        <p:spPr>
          <a:xfrm>
            <a:off x="6324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6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oving the 867_03 data Loading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1"/>
          <p:cNvSpPr/>
          <p:nvPr/>
        </p:nvSpPr>
        <p:spPr>
          <a:xfrm>
            <a:off x="6324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6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lbracht, Brittney</dc:creator>
  <dc:description/>
  <dc:language>en-US</dc:language>
  <cp:lastModifiedBy>Brink, Kelly</cp:lastModifiedBy>
  <cp:lastPrinted>2014-04-25T21:12:45Z</cp:lastPrinted>
  <dcterms:modified xsi:type="dcterms:W3CDTF">2014-05-23T18:20:40Z</dcterms:modified>
  <cp:revision>151</cp:revision>
  <dc:subject/>
  <dc:title>Instructions</dc:title>
</cp:coreProperties>
</file>