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dt" idx="12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ftr" idx="13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6"/>
          <p:cNvSpPr>
            <a:spLocks noGrp="1"/>
          </p:cNvSpPr>
          <p:nvPr>
            <p:ph type="sldNum" idx="14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676F9-DE19-4F7E-872C-9529358F00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C7E5A-F2F5-492D-82FE-038C6061DAB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AA1447-691C-4E17-90E6-C35A82531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E0B0D3-5029-468B-A3CA-0E158048D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04565C-3685-4053-AD40-29BA1EF8C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0375BA-5349-41AF-81E4-53AAA70F3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1B328-93B8-421D-94CF-BB41875EA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BF51D-480B-4433-892F-C91EDA55F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7E40F-C9BD-4E3E-A270-94BB84C7B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86154-AD1C-4F8A-A49B-966EBEE5B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FF9E7-1E69-4E78-8D5B-983A90A51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3B27A-9688-461A-B40B-EA9ADB9D0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71D3D-B871-4A0E-ADFC-A270A254D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3AE9D5-B4D2-473E-86B1-1EFAFEC72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6E1CF-F6FB-49DA-86D0-69601FB18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07FCA-A7C9-4114-BCCC-67BFBA156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BD3B1-EBB5-40DD-82F8-111CE10D3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43F82-72E1-4FE5-AAF0-1C0A93D1B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845C0-3B8C-42B2-8492-73D5FFECF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79602D-694D-4133-A319-2547C8355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CBBBC0-A037-4300-BCBC-EC383753C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0FA0E4-EE4E-4447-82E3-BBDEC2378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294BB9-76D4-4654-90F0-D4F47EB6C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6AAB75-053C-4D03-9274-7AF8C3B69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F0162B-8C05-4283-B048-10EFA5F0D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90F864-E072-48DB-99D0-95A8EE7BC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C028ED-EB1E-4914-B81D-3FBCC8790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872772-4EB2-4519-B219-3B815C77F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D4C886-A481-4B5D-9C98-2C3CB475E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157D2D-2930-4931-9636-08D61537D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14F295-142F-4C43-BD3A-889192261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48DD65-D2DE-4FBF-9D41-AD5AB311F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8916CF-6C53-49B5-8875-CDB917914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379B22-2934-4AEC-9D56-E651DF94E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FB00BB-8F3F-45E4-9EA5-18426F618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CC6FA2-5B84-46B9-BAC2-B4FA6A61E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2D4AC-3283-4BF2-8448-CE7971FE8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E245B3-F267-4565-AF15-3B5270AD1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4FD1A-F7B8-47FD-BC3A-6DE06B3A43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8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COT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dt" idx="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une 20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Rectangle 13"/>
          <p:cNvSpPr/>
          <p:nvPr/>
        </p:nvSpPr>
        <p:spPr>
          <a:xfrm>
            <a:off x="3429000" y="64771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2166D-9FA0-4DDC-A270-EDF7884E5A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June 20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ERCOT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6038F-0EBD-46F7-8B31-F0BC3BBEE2D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12" descr="logo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88" name="Line 14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2333520" y="5466960"/>
            <a:ext cx="62769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une 20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2333520" y="5067360"/>
            <a:ext cx="627696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RCOT Publ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8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131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13"/>
          <p:cNvSpPr/>
          <p:nvPr/>
        </p:nvSpPr>
        <p:spPr>
          <a:xfrm>
            <a:off x="3429000" y="64771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B38E5-D2C9-4A77-8A81-FC25862D4E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2839B-280A-4724-BEF8-41658DE03E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0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COT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dt" idx="11"/>
          </p:nvPr>
        </p:nvSpPr>
        <p:spPr>
          <a:xfrm>
            <a:off x="1142640" y="64767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une 20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333520" y="1904760"/>
            <a:ext cx="6019920" cy="123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formation Technology Repor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2342880" y="3580920"/>
            <a:ext cx="634356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Trey Felt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Manager, IT Service Delive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Date Placeholder 5"/>
          <p:cNvSpPr/>
          <p:nvPr/>
        </p:nvSpPr>
        <p:spPr>
          <a:xfrm>
            <a:off x="2333520" y="5467320"/>
            <a:ext cx="62769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June 20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Footer Placeholder 6"/>
          <p:cNvSpPr/>
          <p:nvPr/>
        </p:nvSpPr>
        <p:spPr>
          <a:xfrm>
            <a:off x="2333520" y="5067360"/>
            <a:ext cx="62769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RCOT Publ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Footer Placeholder 4"/>
          <p:cNvSpPr/>
          <p:nvPr/>
        </p:nvSpPr>
        <p:spPr>
          <a:xfrm>
            <a:off x="624852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RCOT Pub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Date Placeholder 5"/>
          <p:cNvSpPr/>
          <p:nvPr/>
        </p:nvSpPr>
        <p:spPr>
          <a:xfrm>
            <a:off x="1143000" y="6458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June 20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Highlights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51920" y="6858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rvice Availability – M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rket Operations IT systems met all SLA targe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rket Data Transparency IT systems met all SLA targe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rid Operations IT systems met all SLA targe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tail Market IT Systems met all SLA targe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ndESIID planned maintenance outage on May 8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anned Maintenance outage completed on May 18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9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>Forfia, David</dc:creator>
  <dc:description/>
  <dc:language>en-US</dc:language>
  <cp:lastModifiedBy>Clifton, Susan</cp:lastModifiedBy>
  <cp:lastPrinted>2013-05-06T17:58:27Z</cp:lastPrinted>
  <dcterms:modified xsi:type="dcterms:W3CDTF">2014-06-02T18:50:13Z</dcterms:modified>
  <cp:revision>1299</cp:revision>
  <dc:subject/>
  <dc:title>Instructions</dc:title>
</cp:coreProperties>
</file>