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180-81BB-4BDC-BB70-B311CFA3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A61-43D0-4C86-B79D-BEA34F4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5DB-991C-403F-BF75-3AFE7ED3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4EA-9815-4F59-B1DF-64AF9C2F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552-FCFE-4BDE-9284-3B2FAC0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01F-5C3B-47A9-9B98-4CBAB61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FB7-B06A-419A-A302-2721895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269-9EE1-479D-B533-EFC929C2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6AB-1A10-4D04-A462-22D5D8E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E9D-1B7F-40DF-A381-896E374D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0E8-3FB2-4414-929E-1428D331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0AC-2864-4456-8278-4686496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3D8A-2DBE-440F-8CE7-4853D0D3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Days: 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id Inadvertent/Rescission Issues by Closed 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hart 3" descr=""/>
          <p:cNvPicPr/>
          <p:nvPr/>
        </p:nvPicPr>
        <p:blipFill>
          <a:blip r:embed="rId1"/>
          <a:stretch/>
        </p:blipFill>
        <p:spPr>
          <a:xfrm>
            <a:off x="152280" y="2664000"/>
            <a:ext cx="882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Cou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 Inadvertent Issues by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ssue Count" descr=""/>
          <p:cNvPicPr/>
          <p:nvPr/>
        </p:nvPicPr>
        <p:blipFill>
          <a:blip r:embed="rId1"/>
          <a:stretch/>
        </p:blipFill>
        <p:spPr>
          <a:xfrm>
            <a:off x="225360" y="2060640"/>
            <a:ext cx="876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dvertent/Rescission Issu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ntage of Enroll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hart 4" descr=""/>
          <p:cNvPicPr/>
          <p:nvPr/>
        </p:nvPicPr>
        <p:blipFill>
          <a:blip r:embed="rId1"/>
          <a:stretch/>
        </p:blipFill>
        <p:spPr>
          <a:xfrm>
            <a:off x="225360" y="2133720"/>
            <a:ext cx="859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41:46Z</dcterms:created>
  <dc:creator>Michelsen, David</dc:creator>
  <dc:description/>
  <dc:language>en-US</dc:language>
  <cp:lastModifiedBy>Yockey, Paul</cp:lastModifiedBy>
  <dcterms:modified xsi:type="dcterms:W3CDTF">2014-06-02T17:26:00Z</dcterms:modified>
  <cp:revision>86</cp:revision>
  <dc:subject/>
  <dc:title>PowerPoint Presentation</dc:title>
</cp:coreProperties>
</file>