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DC2-67EB-45E1-A188-7AC3D0F9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370-B35C-43A1-87D0-CC69D908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9F1-7D72-4C7B-8CF3-E6E08692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564-86D9-4B84-A030-8132FF37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A23-5F0C-4C95-AC00-DE94A8F6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B7B-9E3F-475D-9524-169FB65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1ACE-0D1D-41B8-96A8-E945F78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8B37-912E-49A3-92D1-E485223F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8BE7-9440-4512-A738-CB675AC7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1D2-D364-4C69-9FB6-EE1389A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9F99-D135-4BED-BFF4-9BA9F23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CBB-84FF-4291-829E-623C859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3E3-837F-41D2-A15F-440DC81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0AB-FD54-4888-BD0D-2B367C0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2017-E7AB-42E0-B88E-AF4CD31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B1BD-C4B5-476A-9691-A4F79708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EAD-4243-4815-B38A-F559506C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1276-D196-4A73-9F23-CE94A0B1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E52F-B019-4714-9BEA-32722CFB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CB90-192A-4EF8-92FF-D8469E1C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2056-2F37-45AB-B086-F3947EC0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49B2-573A-4BCE-B1B0-A9D68821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2D3-D484-49FF-8B40-A2CCE83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2504-C047-4F0F-A2AB-4B443040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DBA8-7884-4FC5-822C-32E9602E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6EF6-1B47-4198-A608-B57F101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7E24-7EF2-4A08-ACDB-F49243A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5D57-63CC-4CCE-961F-8421AAF5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00D3-991A-4E17-B14E-95A0F6F7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27B8-2827-4FA9-A697-8E600552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256-1B2B-40BB-A3B0-AD13EAF3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816-5F99-475C-9DD9-D9189D6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706-7D93-44C8-8C8F-AB97D98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1DE-1D2D-4D48-BFAD-657803F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57B-3E58-4F44-92BB-4978F52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DB0-B282-4D78-9510-EDBEE05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0F74B-D3B7-47C5-9DF8-ACD04E131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F377B-92B0-47CF-AFC0-6555D4417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4665C-8E06-47C0-A30E-48CA1D0E1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3"/>
          <p:cNvGrpSpPr/>
          <p:nvPr/>
        </p:nvGrpSpPr>
        <p:grpSpPr>
          <a:xfrm>
            <a:off x="603360" y="1498680"/>
            <a:ext cx="7727760" cy="3810960"/>
            <a:chOff x="603360" y="1498680"/>
            <a:chExt cx="7727760" cy="3810960"/>
          </a:xfrm>
        </p:grpSpPr>
        <p:pic>
          <p:nvPicPr>
            <p:cNvPr id="134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9"/>
            <p:cNvSpPr/>
            <p:nvPr/>
          </p:nvSpPr>
          <p:spPr>
            <a:xfrm>
              <a:off x="787320" y="3082320"/>
              <a:ext cx="75438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light Testing Upd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aul Yoc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ight Admini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ail Market Sub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6/03/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2"/>
            <p:cNvSpPr/>
            <p:nvPr/>
          </p:nvSpPr>
          <p:spPr>
            <a:xfrm flipV="1">
              <a:off x="787320" y="280440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2"/>
          <p:cNvSpPr/>
          <p:nvPr/>
        </p:nvSpPr>
        <p:spPr>
          <a:xfrm>
            <a:off x="6419880" y="5789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6/03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79440" y="17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06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ght 0614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1036800"/>
            <a:ext cx="85741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CRs (includes 2 Additional DUNS testing as new CRs) ar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CRs: 7 CRs are testing for new territories, and 1 CR is testing for a bank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6 tasks are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2"/>
          <p:cNvSpPr/>
          <p:nvPr/>
        </p:nvSpPr>
        <p:spPr>
          <a:xfrm>
            <a:off x="6419880" y="5789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6/03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379440" y="17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06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1036800"/>
            <a:ext cx="85741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signup began 05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deadline was 05/14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kick-off conference call was 05/20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kick-off conference call was 05/30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1 transactions began 06/02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0614 is scheduled to concluded 07/15/14 (contingency period until 08/05/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2"/>
          <p:cNvSpPr/>
          <p:nvPr/>
        </p:nvSpPr>
        <p:spPr>
          <a:xfrm>
            <a:off x="6553080" y="5808600"/>
            <a:ext cx="22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6/03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03040" y="2179800"/>
            <a:ext cx="85741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just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lifton, Susan</cp:lastModifiedBy>
  <cp:lastPrinted>2013-01-30T23:16:36Z</cp:lastPrinted>
  <dcterms:modified xsi:type="dcterms:W3CDTF">2014-05-29T21:29:40Z</dcterms:modified>
  <cp:revision>13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