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A9F9-865B-43FC-854E-2249D579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C422-431B-4FEE-820A-256A72D8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6B9DF-C824-4647-928C-1541834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22445-365D-4454-9635-5A9208D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4023D-43FB-46DF-AF63-EF9B921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FC76-8A21-4664-8F9F-82143E2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94F4-FEAE-4D5F-B855-0604FE6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FFAE-E0EB-4081-9B46-4D4C747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6139-B4D5-4845-B281-62E282C9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BA83D-98EE-46E1-B5B9-23CAE3A7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B3E0-A05B-4132-A3A7-4A4B1490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1C00E-6A4A-43ED-BBD6-C7F39F8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16A3-4210-4577-BADA-E0036CD3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77E0A-12C1-4A41-9A6D-0898DB72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C82CA-02CF-4B47-8086-7A46EEF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1CE4-49D5-4A7D-A8B1-BA0CBD6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B434C-A70F-42CE-AC82-3627103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164C4-9AB6-41E7-A220-79AA854A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0BD20-08BE-4DBA-8320-94A2A69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3010-1F9E-49E8-BBF7-7107717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02924-9BB7-494D-A5C6-78A1B2D5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0D339-6E43-40E9-B490-1EB2AA0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3C21A-CE4A-4E9A-A0FD-1168FCAE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C64A-5B9A-45C1-97FA-C2525427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5CFA9-0B93-4E5B-8CF8-33F801FA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7F03-AE95-427B-8246-EF3721BF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DD93C-3850-49DD-A0B7-71BE7C49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5CE5F-863E-49BB-ACEA-833B6CD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C9A7D-0D4E-4FEB-9F32-9B81774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2590B-E016-4221-A90A-AD549623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CD16-BDF1-4673-999D-37BF7631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7F93-2474-47C2-9526-0A971C4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2F694-F02A-4C79-944A-3D702D8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FA1AB-1D06-4F7B-B732-07245AB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35F84-1BAE-47D2-97E9-E9872FA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55613-BF02-44CA-B7DE-EC8896C3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95404-B165-491F-A327-DC998A1D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017C3-AC46-4C20-86B3-63D0A78B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A362C-5210-4668-A324-04A968A8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796A9-180C-4C3F-8574-4BF69C3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ED47-8306-4BED-A52C-02D4B794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4F5AC-D4AE-4767-A75D-DC5B544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734F8-1E24-4EDD-A295-1120B32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2008F-B1FC-4396-9F43-44A774E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1AF0-DD8E-4041-BE3E-8996359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23064-A9CD-4467-B30A-6ACC882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7681-91E5-434D-BD77-173C776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5D48-B760-4FB5-9D62-01FFCE97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BA3D-BC22-4825-A3E5-F6BC89F2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36FAF-77D4-473C-9DE3-F0722FE1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4742D-BD14-4E2B-B421-8B70381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03655-3186-4BDA-B453-F5DB982E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65E66-930C-42E3-AC0B-C2A40498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E60AC-A122-4641-B56C-F53D6B2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924D8-34AE-4604-8A25-197643D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1E66B-F7D2-454A-BBFA-3715C6F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E0716-7579-4AD9-BC2D-111C45C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7AC63-C992-4057-A1DB-E1DB0AC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C8B7C-03C9-4F09-845E-C4EB4C1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555AC-D721-4DEB-966F-FA0AC3A7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301D0-5938-4BDA-B0DF-93D29025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07419-EFA1-481E-8763-0E50EF07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F3758-8245-497B-8648-A3D31CE4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D2DC5-821F-433C-9885-E13514C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367AD-6CF6-4138-AFDE-45F82D4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6A39A-F170-423C-B7A4-48D8D5B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DBB1F-1B09-4F10-9B97-D91064CE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E13D9-5107-4D06-B79D-DE16F27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AFCFD-B6D0-4F17-90C7-C33D191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237F5-5729-4DC6-B5F5-5F0DC28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373C5-2A73-4747-B543-6847345E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04758-BA95-4C16-9B25-A5C2E2A6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C9037-19BA-49A5-8E71-B36C23F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D36E-EADD-4F23-AE7C-EC5AD8F3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7656-D438-42AB-B60E-0C718D2F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FB0B-F1C2-4762-A12A-E1870127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9ED-0BAF-438E-9901-59492B7F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FCE3-0C5D-4829-B585-C635B6D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9C36-8E9E-4BF5-8529-A21383A7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3B3-B252-49C1-9F0F-C168A250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D184-4DA0-414F-A701-476D8CA0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322-C7BC-47B3-B1F1-F3A99FA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97F-9CCB-4406-992E-63ABBC7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E1A-4D64-4642-95D7-0C55542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A7B7-7442-4C48-AD01-F55CAD7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C7D-0B4B-4780-A2E4-15EA23B8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BB3F-912D-46C7-B33E-0540A93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D781-0066-41D0-81C9-F920ADA9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D01B-89A6-4F4B-9BDB-0886933F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8FE5-6447-4230-8A6A-56F0ABC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A233-A790-4216-886A-E60B4E51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3DDD-A541-4C6B-B4CD-838F968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D67C-FAE3-44F3-BF75-CF877ACC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E8C0-FFC5-4458-931C-411EE52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C4AB-979F-4E52-87E4-310D336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02AD-DF52-41D8-B75E-DF2D3DC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26ED-E7F9-4943-B701-73F3B00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744E-F0B1-4C64-BA91-F48B9D0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5A94-14D8-4251-921A-7039518C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00B6-BE3A-4CCD-A988-48A23CE7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8891-1A5F-4F4A-8281-AC6A4CFB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6508-290D-418C-9DD1-C6ECDCA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3009-99E0-4ACF-A6E2-5F261CC7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B06D-867F-4005-BD6C-70B1691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A981-8BDD-47CE-AA05-D7C4FF5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93DA-9F8F-4762-B130-6DD5D84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AAB2B-6A80-4E4B-B677-8BFC2CC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4A9D-8DDD-4363-8ABA-FAF3B45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009A-6CF0-4DD9-8D47-D4BBA898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B9DD-40AD-49E7-A979-18D2E61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1030-669A-4B22-8983-0744E87D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530C-73A3-4B7A-9F77-47734956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89C3-466F-493A-AE9F-7647315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049F-CB73-4755-8904-AD00E9E3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DD48-8E87-4DC8-B99A-9603CDD1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F2B9-3007-43A0-B760-E03605CE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9E5F-4EED-4D6A-A579-1AD6F43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B685-10F4-4EB4-B9AB-A23D2DEC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FD7B-586A-4265-AB57-543F127E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99C0-659F-4978-A76D-903C1C0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2C57-D939-4551-BEF7-6F9819A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4FEB-DA77-4E6D-A487-B8DE565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3918-3907-447C-86A0-11A07BD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6221-42F9-49B9-8E92-FD7334A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D6D2-245E-4CD1-8E1A-766FABE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8A21-466F-4202-85A6-B37632CA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9F4B-A5E4-4D0D-AA72-14DC547A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A430-5D82-491B-88E1-40E634B0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F994-8403-4069-8D89-C308D0B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D0DA-533D-40E8-B86F-C3E1ECDC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0E42-C54F-4AEA-B38A-71FB119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83A0-90A8-4631-BE42-44D46B9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D5D1-832C-427C-8B0F-4203D4C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23F8-FFA8-4072-A0BA-A352617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C32D-EAF1-48C9-ABDA-3A526CB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3667-4C22-400D-96D8-69BCFA0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097F-F4A5-4F63-A2A0-D45E075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B980-4364-4DC5-A71B-BC1E598C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D9F7-E811-4DFC-9F77-E2A24CA4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A3FA-2DC8-4E96-8FAD-212E2B07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C9C8-0314-4A8F-9442-452F932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2F5B-2B7E-4638-9E16-C5AECECA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AB14-9B96-4824-AB4F-1515258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F38D-5676-4CBC-A916-1F0F9BD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8588-3D85-4B70-BCEA-EDFA7A04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CA0E-1FA4-40C4-8068-4E5C51F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0738-CFCE-4387-BE42-2BFB949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43FF-CE26-4FA7-BB00-D12D18E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6898-DBD5-436E-99EF-D229BF75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E0B0-AFD7-4682-945C-732B5A6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0280-67B1-4DFA-B22C-F386AB4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1A0C-7DFA-43EF-A115-A71C51C8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639E-2616-4214-9921-D7C110F6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AEF9C-38EB-4CBF-9D8E-756FD435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9D35-D9E8-433C-8B9F-60D95E5B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F72F-B829-4DBA-B805-37C4735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7BC6-81A0-4D14-805B-63022C55C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D086-0793-4136-BE09-525162E5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3A3D-0DB1-4892-AE2C-5FC52A72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5E4-A01C-42B0-82F4-FDC4B1AA1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2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9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ED8-EC95-4047-BF27-3EF1CB46E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FC0-DB20-460D-993F-F79CF39C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dt" idx="3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3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C9A-2401-4C39-B0BE-5956040D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7A8C-0823-4E6F-A807-8191E628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3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5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F13-3620-4554-834B-97D729A4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3F53-3795-4B3D-A682-F679CA072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dt" idx="3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38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FF05-0CCC-4E04-9F43-FB11638C3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2C93-37D5-4178-8E29-A106B24AE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dt" idx="4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6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35337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/Price Response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244-CEC8-40D8-935B-B3D9DC69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4BCD-5F7B-427D-ACC1-E354BCC9A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06A2-E46F-47AE-83AE-6234F4FF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3E8-5BC2-4C72-8B93-E85D217F6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9CF3-75F9-40D6-A6B9-B0C84E07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C10-6BC0-4EA6-9BAC-48EBC3C69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C7D-09F0-435C-B0C9-60AB8341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1CC-EF61-4BC1-9BE5-24245E6B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dt" idx="1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ADA-D706-42F3-B691-84C7ADE1F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97D-F955-446C-8368-48A52639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F5D-AEAB-4BDA-B28E-A510F5BA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950-E29F-41F2-B3CE-18C22F12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dt" idx="2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23A-3326-4056-9113-C5F9C068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198-71D5-4138-8C39-4213307D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dt" idx="2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6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ce Responsive Load / Retail DR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 to RM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2362320" y="414036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ren F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une 3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y it’s important to understand retail DR &amp; price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s of retail demand response and price response on the long term load fore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ment of DR is an important element in the return on the AMI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limits on the amount of DR that the ISO can contract for (e.g., Ancillary Services and ERS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true of TDSP load managemen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lk of new DR will likely need to be enabled by L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and 4CP-responsiv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tail DR incentiv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track growth of these products is a key metric in measuring the success of the ERCOT retail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C R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suant to PUC Subst. Rule §25.505(e) (5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oad Serving Entities (LSEs) shall provide ERCOT with complete information on load response capabilities that are self-arranged or pursuant to bilateral agreements between LSEs and their custom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ssons Learned from Summer 2013 Data Colle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we have the right categories ident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ame categories for another cycle and revisit when we discuss lessons learned in the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viewed and tweaked definitions at the April workshop; redlines are posted to the workshop web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up survey for REP event identif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Will continue using Survey Monkey and revisit when we discuss lessons learned in the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Will make edits / add questions to survey to address additional 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management / error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dlines to Demand Response Data Technical Specification File to explain differences in file (additional examples at end of documen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id not change format of file, added clarifying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Encourage REPs to communicate to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 for Summer 2014 Data Colle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14 Summer data collection timeli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30, 2014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by REPs for which ESI IDs are in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1, 2014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ubmission to ERCOT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15, 2014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rrection file submission to ERC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ushed file submission back by 2 weeks to allow any error handling to be completed prior to Thanksgiving Hol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 should make all necessary corrections and re-send the full file to ERCOT. ERCOT will use the last file sent for data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15, 2014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send Survey Monkey links to REPs to gather REP-specific event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COT will -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t the edits to Demand Response Data Technical Specification document (redlines during meeting for category descriptions)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- d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t materials to workshop meeting page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- d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nother workshop before the Sept 30 snapshot –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perhaps the afternoon of Sept RMS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WebEx between Sept 30/Nov 15 to answer ques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ture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Fall 2014 for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years (starting 201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REPs to evaluate 4 submissions for Summer 2015 (June, July, Aug, S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REPs to evaluate winter programs for future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ncourage RMS attendees to review categories to see if definitions fit or if new ‘winter’ categories would need to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possible dates and/or frequency of a winter fil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categories each year to see if adjustments need to be m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reporting of events via Survey Monkey to see if there is a better method to le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3962520" y="2514600"/>
            <a:ext cx="1143000" cy="1936800"/>
            <a:chOff x="3962520" y="2514600"/>
            <a:chExt cx="1143000" cy="1936800"/>
          </a:xfrm>
        </p:grpSpPr>
        <p:pic>
          <p:nvPicPr>
            <p:cNvPr id="673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962520" y="2514600"/>
              <a:ext cx="11430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 Box 5"/>
            <p:cNvSpPr/>
            <p:nvPr/>
          </p:nvSpPr>
          <p:spPr>
            <a:xfrm>
              <a:off x="4388760" y="2785680"/>
              <a:ext cx="464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ritannic Bold"/>
                  <a:ea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4388760" y="3871080"/>
              <a:ext cx="464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ritannic Bold"/>
                  <a:ea typeface="Arial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hased approa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1 – Survey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demand response programs are out there?  Should we learn mor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d to ESIID level data collection in phase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2 – Data collec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ected ESIID information from RE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itional survey used to collect events from RE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one calls with NOI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3 – Analysi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lysis will be at the aggregate, no specific market participant information will be shar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ase 4 – Report to marke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Target July RMS to share aggregate re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/Pric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attles, Paul</dc:creator>
  <dc:description/>
  <dc:language>en-US</dc:language>
  <cp:lastModifiedBy>Farley, Karen</cp:lastModifiedBy>
  <dcterms:modified xsi:type="dcterms:W3CDTF">2014-05-21T15:21:02Z</dcterms:modified>
  <cp:revision>824</cp:revision>
  <dc:subject/>
  <dc:title>Instructions</dc:title>
</cp:coreProperties>
</file>