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CB6-9CB1-4486-A5EB-91E571E4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692-812D-4BD9-BABF-3C4E9BF3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AA0-62BB-430F-ABA8-DD2330AF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BB1-8297-465E-9B77-1F801BE8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CB1-A9D7-4F2E-91A8-E41174D6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88D-ADA1-4F7E-A94C-3E77BF0E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5AE-CAD4-41CC-94A0-0F16AAAD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B31-02D5-42AC-90EC-47FD157B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C60-B2CD-40B0-B202-EDDD84EE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944-773F-426A-948B-6BBDA82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3AB-6BAE-4BC0-BDE1-2EC77764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570-25DB-43BC-9CA5-EDFBF2D7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F9B0-B137-41DE-A2C2-924ED03F1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F Policy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gress Report of RA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y 29, 201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F Policy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C Dir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ok at price reversal and impacts on ORDC from ERS Deployments, Load RRS Deployments, and RUC (0 – LS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F Policy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Goal for Toda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Endorse principles related to price reversal and impacts on ORDC from Load (ERS and Load RRS), and determine policy direction for RUC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All NPRR language will still need stakeholder approv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 Adequacy Task 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s Hel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3, 19, 20, 24, April 4 and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D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C meets May 30 and June 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 Action Nee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te on policy (not language) re:  ERS, Load RRS and RU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S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Propos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ract out ERS from Rs when ERS is deployed  in order to remove effect of deployment from reserve calc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estimated ERS deployment to demand and then perform pricing run (Three-Step SC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of the Proposals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s on ERS Proposal 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tract out ERS from Rs when ERS is deployed  in order to remove effect of deployment from reserve calculatio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ket Impact - Prevents price reduction to ORDC due to deployment of 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Schedu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*does not subject ERS to clawback or pay ERS the adder, not in the AS Imbal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 R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d RRS- Three Option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hing option: ORDC already addresses the effect of Load  RRS deployments in reserve calc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ract out Load RRS from Rs when deployed for price 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estimated Load RRS deployment to demand and then perform pricing run (Three-Step SC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C Discu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371600"/>
          <a:ext cx="8076960" cy="5203800"/>
        </p:xfrm>
        <a:graphic>
          <a:graphicData uri="http://schemas.openxmlformats.org/drawingml/2006/table">
            <a:tbl>
              <a:tblPr/>
              <a:tblGrid>
                <a:gridCol w="2286000"/>
                <a:gridCol w="3200400"/>
                <a:gridCol w="2590560"/>
              </a:tblGrid>
              <a:tr h="28116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4300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ifting mu by a factor of standard deviation (Augmented ORD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fts the ORDC curve by a standard deviation under set 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 OBD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ifting mu by fixed MW am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fts the ORDC curve by a fixed MW amount under set 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 OBD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0492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moving RUC HSL from 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lv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ract out RUC HSL from Rs when it is on line to remove impact in the ORDC add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 as Luminant Comments on NPRR598 would need updating to OBD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ED pricing r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xing LSL down to zero, figuring out what system lambda would have 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 NPRR develop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2080"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reasing AS procurement during risk peri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ing AS procurement amounts during pre-defined high risk peri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procurement methodology change would b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9:27:45Z</dcterms:created>
  <dc:creator>Morris, Sandra</dc:creator>
  <dc:description/>
  <dc:language>en-US</dc:language>
  <cp:lastModifiedBy>Albracht, Brittney</cp:lastModifiedBy>
  <dcterms:modified xsi:type="dcterms:W3CDTF">2014-05-22T21:17:01Z</dcterms:modified>
  <cp:revision>21</cp:revision>
  <dc:subject/>
  <dc:title>RATF Report to WMS</dc:title>
</cp:coreProperties>
</file>