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dt" idx="1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ftr" idx="1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 type="sldNum" idx="1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49329-7BF2-4F5D-B733-176268C88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4BCEA-567F-4296-AAA2-7289E3D9C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CDC1E-879A-432B-ACE4-12DCEA387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33E-B120-457B-A995-21CAE73B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DDC-71A2-430A-A899-B5CA38E8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4244-F412-4F42-B6D1-97248A84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A653-603B-4113-A16B-4D37D87F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2FF-7F35-40C6-8CBE-6890A7D3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900-9471-4F1A-9105-BFA11A31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426-1F7B-426B-A170-8084F830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772-845E-4D39-80F4-DB939A26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3D83-3F5D-4BE7-BA38-E76707C6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EFE-A971-41DB-90B0-EBADD5FA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4FD-A1DC-4800-B154-F73F04FF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E3C-392E-4379-9B88-5307275F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em 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44D32-9926-4047-8753-22BFB1CE7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ftr" idx="1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8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32ACE-2F60-44CE-BC2B-D3B10DE1D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ftr" idx="1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CC39D-971C-45F1-927E-4ED57C984B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em 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8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0E5AF-534B-496F-8F8D-097F6D414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em 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06AC9-B5E5-4274-A260-1BFD2C598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em 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8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3BD4B-DE6A-43B0-960A-FB9C2C705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em 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8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2457F-2FFF-4F8F-BB4E-831AF634E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em 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8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AC998-9BA8-49D8-A799-EAA716177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303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em 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052A1-A703-4CD3-A089-F7A5B1E60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em 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D2A2D-EDD4-4C58-91B4-7EDE62B42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517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tem 6: PR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ohn Varn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4 PR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y 29, 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03200" y="714240"/>
            <a:ext cx="8493120" cy="53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vision Requests Recommended for Approval by PRS – Unopposed (Vote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PRR606, Removal of Risk Management Verification Fee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PRR607, Short-Term System Adequacy Report Posting Modificatio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PRR609, ERCOT System Administration Fee and User Fe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PRR610, Eliminate Late Fees and Late Fee Inv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PRR612, Reduction of Cure Period Subsequent to Event of Default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PRR613, Clarification of Fuel Adder into the Mitigated Offer Ca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vision Requests Recommended for Approval by PRS – With Opposing Votes (Vote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PRR605, Ancillary Service Make-Whole Payments Under a Watch - UR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* denotes no imp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79440" y="179280"/>
            <a:ext cx="8445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8"/>
          <p:cNvGrpSpPr/>
          <p:nvPr/>
        </p:nvGrpSpPr>
        <p:grpSpPr>
          <a:xfrm>
            <a:off x="1295280" y="2735280"/>
            <a:ext cx="6553440" cy="1387440"/>
            <a:chOff x="1295280" y="2735280"/>
            <a:chExt cx="6553440" cy="1387440"/>
          </a:xfrm>
        </p:grpSpPr>
        <p:sp>
          <p:nvSpPr>
            <p:cNvPr id="522" name="TextBox 1"/>
            <p:cNvSpPr/>
            <p:nvPr/>
          </p:nvSpPr>
          <p:spPr>
            <a:xfrm>
              <a:off x="1295280" y="2756160"/>
              <a:ext cx="6553440" cy="12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evision Requests Recommende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r Approval by P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with Opposing Vo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Straight Connector 3"/>
            <p:cNvSpPr/>
            <p:nvPr/>
          </p:nvSpPr>
          <p:spPr>
            <a:xfrm>
              <a:off x="1428480" y="273528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Straight Connector 5"/>
            <p:cNvSpPr/>
            <p:nvPr/>
          </p:nvSpPr>
          <p:spPr>
            <a:xfrm>
              <a:off x="1437840" y="412272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403200" y="714240"/>
            <a:ext cx="849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79440" y="257040"/>
            <a:ext cx="84456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PRR605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cillary Service Make-Whole Payments Under a Watch - URG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403200" y="714240"/>
          <a:ext cx="8274240" cy="5164200"/>
        </p:xfrm>
        <a:graphic>
          <a:graphicData uri="http://schemas.openxmlformats.org/drawingml/2006/table">
            <a:tbl>
              <a:tblPr/>
              <a:tblGrid>
                <a:gridCol w="1758960"/>
                <a:gridCol w="6515280"/>
              </a:tblGrid>
              <a:tr h="1067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el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NPRR requires ERCOT to implement a Make-Whole Payment for Qualified Scheduling Entities (QSEs) that are unable to hedge the cost of serving Load due to a reassignment of capacity from energy to Ancillary Services that could occur under a Wat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  <a:tr h="1285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5/15/14, PRS voted to recommend approval of NPRR605 as amended by the 5/14/14 CPS comments.  There were two opposing votes from the Cooperative and Consumer Market Segments and one abstention from the Investor Owned Utility (IOU) Market Segment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/Prio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1,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  <a:tr h="77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$5k (Operations &amp; Maintenance (O&amp;M); ERCOT business processes will be updated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</a:tr>
              <a:tr h="146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Case Highl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ws QSEs to remain unharmed by price differential that exists under the Operating Reserve Demand Curve (ORDC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Albracht, Brittney</cp:lastModifiedBy>
  <cp:lastPrinted>2013-01-30T23:16:36Z</cp:lastPrinted>
  <dcterms:modified xsi:type="dcterms:W3CDTF">2014-05-28T20:27:14Z</dcterms:modified>
  <cp:revision>202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