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E9B6393-2FE5-4113-840E-7ED86580D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63CC9FB-E435-4CA7-9ED5-FCF7CB278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77BD92-1828-47F3-A73F-BEF88F9FA6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7CC7D1A-BA19-4CA1-8496-80F71D6061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5FCFB1-BDEA-4666-BA3A-6C1E36E9B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509E53-1DC2-48CB-8203-1E8EF39D2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4D054E-792E-42E7-A05F-44F5352F7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4493667-8E4E-4D61-93E7-3676EC8B7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8C67A1-D6E0-44EC-9C91-E1DBB46E2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F71C82-C8B3-413A-9176-C8AD21EA8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60CB90-C598-43F8-8BFD-45454AB28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02D4AB-B712-4015-A7F1-B3E6B5B5F5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FC0B-271B-48ED-AB21-9BAEAF7AC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B3B2-441E-46E9-8588-1B20D86CE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218960"/>
            <a:ext cx="8124840" cy="19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MAY 2014 UPDATE TO TAC</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	</a:t>
            </a:r>
            <a:br>
              <a:rPr sz="2800"/>
            </a:br>
            <a:r>
              <a:rPr b="0" lang="en-US" sz="2800" spc="-1" strike="noStrike">
                <a:solidFill>
                  <a:srgbClr val="000000"/>
                </a:solidFill>
                <a:latin typeface="Arial Black"/>
              </a:rPr>
              <a:t>                        5/29/2014</a:t>
            </a:r>
            <a:endParaRPr b="0" lang="en-US" sz="2800" spc="-1" strike="noStrike">
              <a:solidFill>
                <a:srgbClr val="000000"/>
              </a:solidFill>
              <a:latin typeface="Arial Black"/>
            </a:endParaRPr>
          </a:p>
        </p:txBody>
      </p:sp>
      <p:sp>
        <p:nvSpPr>
          <p:cNvPr id="87"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ny Marsh,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a:t>
            </a:r>
            <a:endParaRPr b="0" lang="en-US" sz="2000" spc="-1" strike="noStrike">
              <a:solidFill>
                <a:srgbClr val="000000"/>
              </a:solidFill>
              <a:latin typeface="Arial Black"/>
            </a:endParaRPr>
          </a:p>
        </p:txBody>
      </p:sp>
      <p:sp>
        <p:nvSpPr>
          <p:cNvPr id="89"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67_03 Data Loading Time Line Changes and Error Code Changes </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aw an opportunity to extend the time allowed for MPs submit their IDR meter data so that it can be used in Initial settlement. Instead of running the batch at 3 am, they will run it at 1 pm. Will be implemented with Settlement Upgrade project ( December 7, 2014).</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help entities like Brazos and LCRA with remote IDR meters.</a:t>
            </a:r>
            <a:endParaRPr b="0" lang="en-US" sz="1600" spc="-1" strike="noStrike">
              <a:solidFill>
                <a:srgbClr val="000000"/>
              </a:solidFill>
              <a:latin typeface="Arial"/>
            </a:endParaRPr>
          </a:p>
          <a:p>
            <a:pPr lvl="1" marL="743040" indent="-2858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COPS endorsed this change unanimously</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Enhancements and ORDC Loads in SCED</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ompleted 4 training sessions and one specific to CSW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dder is zero, calculated amounts won’t be pushed in Extrac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SID (Settlement Input Data, NOT approved ones, comes next day after the OD) extracts will have the inputs like HSL, discount factor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 cont.</a:t>
            </a:r>
            <a:endParaRPr b="0" lang="en-US" sz="2000" spc="-1" strike="noStrike">
              <a:solidFill>
                <a:srgbClr val="000000"/>
              </a:solidFill>
              <a:latin typeface="Arial Black"/>
            </a:endParaRPr>
          </a:p>
        </p:txBody>
      </p:sp>
      <p:sp>
        <p:nvSpPr>
          <p:cNvPr id="91" name=""/>
          <p:cNvSpPr txBox="1"/>
          <p:nvPr/>
        </p:nvSpPr>
        <p:spPr>
          <a:xfrm>
            <a:off x="228600" y="762120"/>
            <a:ext cx="8229600" cy="5943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 Systems Upgrade Project Update</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live targeted 12/7/2014. Huge project to replace 3rd party software with in-house code. Currently in testing phase, NPRR 580 and 467 are part of thi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 on MPs are expect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S settlement will still reside outside of the main settlement system and done by another group manually and then fed into settlement syst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70, Phase 2 Settlement Timeline Update (OD+5)</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with OD 5/1/2014.</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ther ERCOT nor MPs have observed any issues so fa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go through some long holiday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COPS will continue to monitor and report back to TA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SWG</a:t>
            </a:r>
            <a:endParaRPr b="0" lang="en-US" sz="2000" spc="-1" strike="noStrike">
              <a:solidFill>
                <a:srgbClr val="000000"/>
              </a:solidFill>
              <a:latin typeface="Arial Black"/>
            </a:endParaRPr>
          </a:p>
        </p:txBody>
      </p:sp>
      <p:sp>
        <p:nvSpPr>
          <p:cNvPr id="93" name=""/>
          <p:cNvSpPr txBox="1"/>
          <p:nvPr/>
        </p:nvSpPr>
        <p:spPr>
          <a:xfrm>
            <a:off x="228600" y="762120"/>
            <a:ext cx="8229600" cy="594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 NPRR 628 - Notification of Financial Impact of Settlement Disputes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 endorsed it </a:t>
            </a:r>
            <a:r>
              <a:rPr b="0" lang="en-US" sz="1600" spc="-1" strike="noStrike">
                <a:solidFill>
                  <a:srgbClr val="ff0000"/>
                </a:solidFill>
                <a:latin typeface="Arial"/>
              </a:rPr>
              <a:t>unanimously</a:t>
            </a:r>
            <a:r>
              <a:rPr b="0" lang="en-US" sz="1600" spc="-1" strike="noStrike">
                <a:solidFill>
                  <a:srgbClr val="000000"/>
                </a:solidFill>
                <a:latin typeface="Arial"/>
              </a:rPr>
              <a:t> so that CSWG can file it officially.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for clarification and to match what ERCOT actually is doing.</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WG submitted it on 5/21/14.</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be on PRS agenda in June.</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PRR 618- Market Notices for Resettlement Statements and True-up Settlement Timeline Change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odal Protocol Revision Request (NPRR) replaces requirements to post Notices on the Market Information System (MIS) for communication of Day-Ahead Market (DAM) and Real-Time Market (RTM) Resettlements and True-Up Settlement timeline changes with Market Notices. </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engaged in settlement do not use MIS for resettlements Notices and prefer </a:t>
            </a:r>
            <a:r>
              <a:rPr b="0" lang="en-US" sz="1600" spc="-1" strike="noStrike">
                <a:solidFill>
                  <a:srgbClr val="ff0000"/>
                </a:solidFill>
                <a:latin typeface="Arial"/>
              </a:rPr>
              <a:t>e-mail Notices</a:t>
            </a:r>
            <a:r>
              <a:rPr b="0" lang="en-US" sz="1600" spc="-1" strike="noStrike">
                <a:solidFill>
                  <a:srgbClr val="000000"/>
                </a:solidFill>
                <a:latin typeface="Arial"/>
              </a:rPr>
              <a:t> for timely communication.</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S endorsed NPRR 618 </a:t>
            </a:r>
            <a:r>
              <a:rPr b="0" lang="en-US" sz="1600" spc="-1" strike="noStrike">
                <a:solidFill>
                  <a:srgbClr val="ff0000"/>
                </a:solidFill>
                <a:latin typeface="Arial"/>
              </a:rPr>
              <a:t>unanimously</a:t>
            </a:r>
            <a:r>
              <a:rPr b="0" lang="en-US" sz="1600" spc="-1" strike="noStrike">
                <a:solidFill>
                  <a:srgbClr val="000000"/>
                </a:solidFill>
                <a:latin typeface="Arial"/>
              </a:rPr>
              <a:t> and filed comments to PR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MGRR037 Market Notification for Ad Hoc Invoices and COPMG Cleanup </a:t>
            </a:r>
            <a:r>
              <a:rPr b="0" lang="en-US" sz="1600" spc="-1" strike="noStrike">
                <a:solidFill>
                  <a:srgbClr val="000000"/>
                </a:solidFill>
                <a:latin typeface="Arial"/>
              </a:rPr>
              <a:t>also filed to revise COPMG accordingly.</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WG</a:t>
            </a:r>
            <a:endParaRPr b="0" lang="en-US" sz="2000" spc="-1" strike="noStrike">
              <a:solidFill>
                <a:srgbClr val="000000"/>
              </a:solidFill>
              <a:latin typeface="Arial Black"/>
            </a:endParaRPr>
          </a:p>
        </p:txBody>
      </p:sp>
      <p:sp>
        <p:nvSpPr>
          <p:cNvPr id="95" name=""/>
          <p:cNvSpPr txBox="1"/>
          <p:nvPr/>
        </p:nvSpPr>
        <p:spPr>
          <a:xfrm>
            <a:off x="457200" y="762120"/>
            <a:ext cx="8229600" cy="5333760"/>
          </a:xfrm>
          <a:prstGeom prst="rect">
            <a:avLst/>
          </a:prstGeom>
          <a:noFill/>
          <a:ln w="0">
            <a:noFill/>
          </a:ln>
        </p:spPr>
        <p:txBody>
          <a:bodyPr anchor="t">
            <a:normAutofit/>
          </a:bodyPr>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S confirmed 2014 Leadership</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Echols, ONCOR, Chair</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Lee, Direct Energy, Vice Chair</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s of Discussion</a:t>
            </a:r>
            <a:endParaRPr b="1"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Weather Sensitivity Determination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BUSIDRRQ vs AMS meter data flow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al of Profile Development Cost Recovery Fee – Protocol Section 9.18 (completed). </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 the Integration of the Validation and Assignment Processes</a:t>
            </a:r>
            <a:endParaRPr b="1"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 quarterly and annual validation processes (LPGRR050 - complete).</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language to allow TDSP to Manage the initial profile assignment process (in progress).</a:t>
            </a:r>
            <a:endParaRPr b="0" lang="en-US" sz="1600" spc="-1" strike="noStrike">
              <a:solidFill>
                <a:srgbClr val="000000"/>
              </a:solidFill>
              <a:latin typeface="Arial"/>
            </a:endParaRPr>
          </a:p>
          <a:p>
            <a:pPr lvl="1"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il &amp; Gas Assignment Validation Process (in progress).</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itle (optional)</a:t>
            </a:r>
            <a:endParaRPr b="0" lang="en-US" sz="1200" spc="-1" strike="noStrike">
              <a:solidFill>
                <a:srgbClr val="000000"/>
              </a:solidFill>
              <a:latin typeface="Arial"/>
            </a:endParaRPr>
          </a:p>
        </p:txBody>
      </p:sp>
      <p:sp>
        <p:nvSpPr>
          <p:cNvPr id="9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update from April 17 meeting</a:t>
            </a:r>
            <a:endParaRPr b="0" lang="en-US" sz="2000" spc="-1" strike="noStrike">
              <a:solidFill>
                <a:srgbClr val="000000"/>
              </a:solidFill>
              <a:latin typeface="Arial Black"/>
            </a:endParaRPr>
          </a:p>
        </p:txBody>
      </p:sp>
      <p:sp>
        <p:nvSpPr>
          <p:cNvPr id="99" name=""/>
          <p:cNvSpPr txBox="1"/>
          <p:nvPr/>
        </p:nvSpPr>
        <p:spPr>
          <a:xfrm>
            <a:off x="457200" y="685800"/>
            <a:ext cx="8229600" cy="510552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ORDC MIS Changes</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Information was presented regarding the changes to MIS for the ORDC release.</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following reports will be added:</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1 SCED Total Available Reserves and Price Adders Based on ORDC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0 Real-Time Reserve Prices Based on ORDC for 15 Minute Settlement Interval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22 RTD Indicative Total Available Reserves and Price Adders Based on ORDC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31 Historical Real-Time Reserve ORDC Price Adder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233 LOLP Distribution by Season and TOD Block (Public).</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ethodology for Implementing ORDC Real-Time Reserve Price Adder.</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OGRR084 – Tabled</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quirements for this report will be revisited at MISUG’s next official meeting, after the ORDC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SUG update from April 17 meeting cont.</a:t>
            </a:r>
            <a:endParaRPr b="0" lang="en-US" sz="2000" spc="-1" strike="noStrike">
              <a:solidFill>
                <a:srgbClr val="000000"/>
              </a:solidFill>
              <a:latin typeface="Arial Black"/>
            </a:endParaRPr>
          </a:p>
        </p:txBody>
      </p:sp>
      <p:sp>
        <p:nvSpPr>
          <p:cNvPr id="101" name=""/>
          <p:cNvSpPr txBox="1"/>
          <p:nvPr/>
        </p:nvSpPr>
        <p:spPr>
          <a:xfrm>
            <a:off x="457200" y="685800"/>
            <a:ext cx="8229600" cy="5105520"/>
          </a:xfrm>
          <a:prstGeom prst="rect">
            <a:avLst/>
          </a:prstGeom>
          <a:noFill/>
          <a:ln w="0">
            <a:noFill/>
          </a:ln>
        </p:spPr>
        <p:txBody>
          <a:bodyPr anchor="t">
            <a:normAutofit/>
          </a:bodyPr>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Upcoming Project Efforts</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arket Information Repository (MIR) replacement project.</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1 Implemented 04/13/2014 – Internal.</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2 Implemented 04/14/2014 – Internal.</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hase 3 To Be Implemented 04/22/2014 – File names to change.</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Updated file name convention for inclusion of milliseconds.</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AC Reporting on ERCOT Manual Efforts &amp; Market Report True-Up</a:t>
            </a:r>
            <a:endParaRPr b="1"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 reports recommended to discontinue - eliminates ~500 hrs of manual work.</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arket Participants to provide feedback by May 2, 2014.</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pecial meeting to draft any required NPRRs as a result of feedback on May 5, 2014.</a:t>
            </a:r>
            <a:endParaRPr b="0" lang="en-US" sz="1600" spc="-1" strike="noStrike">
              <a:solidFill>
                <a:srgbClr val="000000"/>
              </a:solidFill>
              <a:latin typeface="Arial"/>
            </a:endParaRPr>
          </a:p>
          <a:p>
            <a:pPr lvl="1" marL="399960" indent="-2854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ue-Up</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Julie Thomas will coordinate effort to review existing Market Reports.</a:t>
            </a:r>
            <a:endParaRPr b="0" lang="en-US" sz="1600" spc="-1" strike="noStrike">
              <a:solidFill>
                <a:srgbClr val="000000"/>
              </a:solidFill>
              <a:latin typeface="Arial"/>
            </a:endParaRPr>
          </a:p>
          <a:p>
            <a:pPr lvl="2" marL="800280" indent="-228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i-weekly touch-base conference calls will start April 25, 2014.</a:t>
            </a:r>
            <a:endParaRPr b="0"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ext Meeting: July 15, 2014</a:t>
            </a:r>
            <a:endParaRPr b="1" lang="en-US" sz="1600" spc="-1" strike="noStrike">
              <a:solidFill>
                <a:srgbClr val="000000"/>
              </a:solidFill>
              <a:latin typeface="Arial"/>
            </a:endParaRPr>
          </a:p>
          <a:p>
            <a:pPr marL="341280" indent="-341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THER</a:t>
            </a:r>
            <a:endParaRPr b="0" lang="en-US" sz="2000" spc="-1" strike="noStrike">
              <a:solidFill>
                <a:srgbClr val="000000"/>
              </a:solidFill>
              <a:latin typeface="Arial Black"/>
            </a:endParaRPr>
          </a:p>
        </p:txBody>
      </p:sp>
      <p:sp>
        <p:nvSpPr>
          <p:cNvPr id="103" name=""/>
          <p:cNvSpPr txBox="1"/>
          <p:nvPr/>
        </p:nvSpPr>
        <p:spPr>
          <a:xfrm>
            <a:off x="304920" y="10663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LED JUNE COPS MEE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EVERY OTHER MONTH IS COPS’ GOAL FOR 201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PS MEETING IS ON  JULY 16 WEDNESDAY, 2014.</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a:t>
            </a:r>
            <a:endParaRPr b="0" lang="en-US" sz="2000" spc="-1" strike="noStrike">
              <a:solidFill>
                <a:srgbClr val="000000"/>
              </a:solidFill>
              <a:latin typeface="Arial Black"/>
            </a:endParaRPr>
          </a:p>
        </p:txBody>
      </p:sp>
      <p:pic>
        <p:nvPicPr>
          <p:cNvPr id="105" name="Picture 6" descr="C:\Documents and Settings\basaranh\Local Settings\Temporary Internet Files\Content.IE5\JIWL6VC7\MC900156053[1].wmf"/>
          <p:cNvPicPr/>
          <p:nvPr/>
        </p:nvPicPr>
        <p:blipFill>
          <a:blip r:embed="rId1"/>
          <a:stretch/>
        </p:blipFill>
        <p:spPr>
          <a:xfrm>
            <a:off x="2133720" y="1884240"/>
            <a:ext cx="4343400" cy="26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ony Marsh</cp:lastModifiedBy>
  <dcterms:modified xsi:type="dcterms:W3CDTF">2014-05-28T12:45:25Z</dcterms:modified>
  <cp:revision>955</cp:revision>
  <dc:subject/>
  <dc:title>Instructions</dc:title>
</cp:coreProperties>
</file>