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F35F-5F3D-4CE4-B16E-62B4E0C7A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46A5-19E3-465D-968F-DCFC5BCD5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7772040" y="6514920"/>
            <a:ext cx="121932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114264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vember 7, 20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vember 7,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COT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2266920"/>
            <a:ext cx="736272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Updat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PRR568 /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Real-Time Reserve Price Adder Based on Operating Reserve Demand Curve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1371600" y="4140360"/>
            <a:ext cx="6400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nice Ayson,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ical Advisor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y 29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PRR568 Project Timeli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762120"/>
            <a:ext cx="865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ril - May 201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Internal Testing is compl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-off is compl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ne 1, 201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 L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1"/>
          <p:cNvSpPr/>
          <p:nvPr/>
        </p:nvSpPr>
        <p:spPr>
          <a:xfrm>
            <a:off x="7772400" y="6515280"/>
            <a:ext cx="1219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Date Placeholder 2"/>
          <p:cNvSpPr/>
          <p:nvPr/>
        </p:nvSpPr>
        <p:spPr>
          <a:xfrm>
            <a:off x="114300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 29,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200160" y="685800"/>
            <a:ext cx="874224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igbee, Nathan</dc:creator>
  <dc:description/>
  <dc:language>en-US</dc:language>
  <cp:lastModifiedBy>Albracht, Brittney</cp:lastModifiedBy>
  <cp:lastPrinted>2014-04-23T20:19:58Z</cp:lastPrinted>
  <dcterms:modified xsi:type="dcterms:W3CDTF">2014-05-28T20:24:39Z</dcterms:modified>
  <cp:revision>505</cp:revision>
  <dc:subject/>
  <dc:title>Instru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A371C9162F4A5D4CA058994F575CD4A4</vt:lpwstr>
  </property>
  <property fmtid="{D5CDD505-2E9C-101B-9397-08002B2CF9AE}" pid="3" name="Information Classification">
    <vt:lpwstr>ERCOT Limited</vt:lpwstr>
  </property>
</Properties>
</file>