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A7730-D152-4B5B-8578-0C0BA83C5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F9E1B-50B4-4A8D-95AB-F5C494C56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EBE-79EC-4680-9F19-03A2EA48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03A-49DF-4B19-91B0-606F0568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8D800-6663-479D-8160-78269698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C7E0F-0FEF-4E4E-997F-07B2208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EA490-F5F7-41FC-AF28-7971C49D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508B0-7382-4E76-8252-96B3B6A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3F222-9A2E-47EE-B840-6190D32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99525-ADF9-485D-82DD-CC8B57B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1DF23-47B8-4644-BFA7-84430532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3530A-B9A5-47CB-B691-3D38E4D8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21989-F4B3-4533-98CE-F35F22F8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4970F-5B07-4552-AAD5-8FE80157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955-6223-4B17-9A9E-8FD84161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48745-5CCB-4C4F-991E-B5C6283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8C199-90F3-4EE8-8EA8-F8B67BD4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04D8A-2062-4E42-B818-F4A6A652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8E3A1-8A58-4AA1-AE46-96DD461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0140C-0E49-487B-8ED9-28C57B6C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A7557-5E27-4BA8-A1D4-D20A246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0C748-DC20-48AD-BC0B-E1AF506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3083B-25B4-4EA4-B63E-38B3ACC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DE10D-CF1A-497F-84AD-6962DDA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356AE-9F1A-4F9F-B829-C88114E9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33A-E9D8-4BB0-991A-CCEE7998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630C4-E678-49F0-B4F6-4ABD0904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45317-7F77-4F0B-ADAE-425AB982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D7D8D-4387-49D7-8D53-C948E1C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91891E-B134-45C8-B2AF-C9E22999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917214-ECC0-4BD8-BC84-84949C86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CCB9B6-4B37-47D8-A240-5CEF14BC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9AD1DA-7BDB-4947-9F63-C916F416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6CA939-E09B-44A1-BF8D-D02789A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96ED20-CA99-485D-8A36-7DA3C66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907919-E970-4814-B3CF-3BCF358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E26-0816-42A9-8155-A8827E3E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A4D8C3-15D2-47B6-ACD2-F36B0CBF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286863-CE92-4FEA-9E58-77D7D8B0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DDC2FC-E5C6-45DC-9F5A-E2044977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D6B7-9F51-4FF3-BF09-27A64E2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4F4-B63C-4E6B-9D03-DFD96581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4D0D-CE03-408F-B0EB-AC6DBF72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E268-E634-46BC-BB3B-1BB20CEA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66E-90C3-4F5D-9395-C173C148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8E17-EDF1-4058-A092-398D23A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849-CB3D-4F30-8861-66488E9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345A-0FD7-4371-878C-524CD3B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252-5A9E-4735-9CC4-35925F7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295-9878-4FF1-B793-7E1237A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F40-DE39-44A6-96DB-9755B10A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424C-40CC-483E-9A6A-EBD09F18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174-D5C5-4E47-A825-4C33F25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931-C683-4766-84C8-58C2F057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0580C-248D-46B5-A378-C5C2004F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51C-01A8-40EC-BE77-CD2518C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67976-C856-4CD6-8917-64A8472F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F5660-0C2A-4269-95EF-9C7FA78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45C39-2BA5-43DC-B01A-E054F0E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761E9-D9F1-419E-B457-9A3C8D00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47F0E-F86F-42DB-BCEE-B39CB05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C30BF-2514-4102-AD61-32DE385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CF6B5-59E7-4F4E-8E3A-EC655FE3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6F620-CF08-45F1-B524-44A1731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8375F-407F-41D5-B8D0-0AB7697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B0166-1053-4425-83C1-D9FDE57A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085-741B-4DDF-94F4-A796A569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5F279-3CAE-45A7-9DA3-A4F7BC4B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751EF-FBE6-4142-947F-ED390D3A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B96AC-0176-4F33-A29E-EA5A491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0F217-843D-4F94-BCAB-06C9507C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056FDA-1377-438F-8D01-B956ABFD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F2EA62-2D82-44C2-BF04-906CA5D5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45085-3562-4536-A6C3-B04CAC9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A0D78-248A-4B7B-B20D-262F42F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74D541-DB49-4218-8840-83FB3DB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054E88-2907-49CF-B647-58DD924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1E8-F4DF-49CA-8AEB-11083AB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42E22-A1E0-44D3-B487-9EC6149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B98A1-5458-4548-A129-8D4A2CEA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040C91-DE1F-4854-A226-4AF2041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7C0C9-5336-4004-AAD0-799EBEF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B435F-EEB4-47A7-B797-8DCE3E16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C58586-045D-4F5A-9067-ECA3192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F8C1A-9627-4061-B3CC-36AF3D29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548BDE-A0B5-40C8-9504-A7A778A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BD4718-8BD8-4B18-95E8-E50D4EBD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EFDD5-EAE9-4B86-83A4-C95D7F0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78B-803E-41BB-A3BE-DECED97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9C7FF-0D17-4767-8372-AD7748D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77ED0A-8683-48FB-BEFA-9B3F6FC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75ECBF-CDE7-411F-B16E-1DE1C9D7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54F212-C05D-4B58-BBF1-5C412EC0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BC32AA-F4B8-4DA7-ADAE-3834419E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68C57-0BAB-447C-9567-2C5F2077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EF30A6-1AE9-44D5-9FE1-EE2A8D4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9CED6-2DE0-453F-A922-443E4E06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984A37-63A0-4066-BAC3-44215B4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E09B3-9AFB-4FF8-94FF-D5891102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4A2-7B21-4AD3-BFE9-03C7D888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54F769-C151-43DF-88EB-C99FC1E8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82ACB3-5E3B-4524-A212-A292AEC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54B10-A4C9-4AEE-A177-DC11F280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9EE1E-6615-485E-93CA-6BCE535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7DC29F-A4E8-4CB1-8E71-720ADD77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D73E5-2251-444D-AA4B-068F0938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455D9-034F-4CC2-A7C1-D9974E33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F045C-57A1-4151-B65C-3632CE4F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BD9BC-B5DC-448E-8830-A4C28098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BB109D-AA2B-444C-96CA-FD0DF33D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F0B76-3EB8-4B67-83DB-E24A665A5D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9B072-9AC6-4071-B87C-17FB26267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64B73-665E-4AE8-8471-2BC910949E9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D6784-465F-4720-9B26-6CACD29E291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5C013-74B0-489D-8A71-0F54CE181C1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6B8AF-7861-45E9-8B30-89BA84D23D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F45A0-F698-49B7-BB89-7A3D7BBF880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A2EAB-FEC2-4F33-BE2A-161D2C57822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12DCA-1746-4C58-9C2F-0911ABB4254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AC4F9-8AA9-431B-81DA-0E046F3DD41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CCD93-0C6B-4FF4-A361-2EB2201185D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EA658-6BFA-4A3E-BD39-20846BBA06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80EDA-83AA-4CB0-A20A-C2C204DCF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9F8D1-C211-4FB0-8CD2-85112F7ADDC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4B9F5-B7FA-4DC5-A80F-B0460113D28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159D6-05C7-41C8-A474-506E47E1A22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E2E93-5C90-4C6C-9418-F0250BBF6C9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94A27-9471-4D4F-8262-A7D433587E5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A196B-0A25-4C8F-A32D-AEB4AC2D73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C7B68-39EA-4FF6-B5B3-3791ECA5B3B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C83EB-E838-41FA-8E65-A67AEFB43D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197A1-6699-4E33-BB4B-1270275282E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A1308-D88D-4EFC-902B-CF77B694A8B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788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y 29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403200" y="1609560"/>
            <a:ext cx="84931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pril 3, 2014; The May 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ROS meeting was cance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xt RO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un 5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Revision Requests Recommended for Approval (TAC Ac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Other Items Recommending Approval (TAC Ac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ROS Recommended Vo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790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y 29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379440" y="1533600"/>
            <a:ext cx="84931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ROS Board Assignment: Review ERCOT planning process--related to Houston Impor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genda topic for June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ROS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Evaluate the early release of HASL to SCED under ORDC and coordinate solutions with ERCOT &amp; W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pril 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: ERCOT provided DRAFT Procedure to facilitate review and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iscussions occurring at WMS, PDCWG, and QM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RCOT to lead discussion at June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ROS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oordinate with ERCOT the need to add/clarify resource temperature limits in RARF to improve forecasting of Wind Resources during icing and cold weather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DWG/ERCOT discussions under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RCOT to discuss at June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ROS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Evaluate concerns that ERCOT is having to bring RUC units earlier than required because of unit start-up failures; Need to review ERCOT Operating Procedures for RUCing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MWG/WMS reviewing the RUCing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int Workshop – March 23, 2014; ERCOT field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RCOT to provide ROS information for reviewing unit start-up failures/de-ratings surrounding Jan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EEA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ROS Open Action Items to TAC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795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y 29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05-23T12:59:40Z</dcterms:modified>
  <cp:revision>40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