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9863-541F-44F8-8092-08D43476D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0704-16BF-4441-B338-0F282AD58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8864-2C6B-4D43-A1C1-BA8DD7604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7714-C1E2-4B20-ACC6-C06485CC6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AD781C1-6496-4DC1-B603-DFDFD523E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E25B9F-9657-46AF-B0A9-C1C60195D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C996FBE-70D6-4FD6-BA3B-22C49008204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E092FC-91BF-412B-97DA-4AE459811D9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54033A-A1D0-40E9-A968-46485863AE9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4C5F73-60C2-4EBC-AA93-D85E7B8577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C3B05E-7B92-4456-ADC5-921446DE67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57EE89-A06C-450F-80EC-6598CE3103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165258-28DC-426B-B1AC-1BF9787171F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B57E768-ABE0-4CC0-B617-B22A8DB18FD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E8BADD3-3EC4-49A8-A33E-9EA70F88844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C44885-131E-4127-A1BE-E2B7C65DC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46285A1-6C60-4F5A-BD0B-E96D37C319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18EAF-0956-4AC5-8890-EAABEDF6C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C488F-1E5F-4295-A9F3-53EC0EC99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72EB5-6593-4831-9721-D514FD4AD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C45A5-723D-4C99-BB77-AC9A0C36A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3333-1D96-4074-A63B-92D3203B3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A6889-130C-4735-9434-DD014CB3A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1A743-EB3F-45F0-B876-1776912C9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85A995-F7D0-43CB-9321-884978E0C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4EBE3-C40F-4611-9746-BA2EB01B8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005F4-5259-4428-8A53-72724483A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6A5DD-8BB9-430B-A70B-2F48CEF60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DFFC9-65FB-4D1B-8D72-5BD6C0BC7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D61EC-7B64-4E20-ABD7-4F7369511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3DAAE9-5AC2-4068-9C0D-CE24C163D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CF4DE2-6914-405B-B822-F46B3AB16D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AB2BFC-9FB8-4601-BA2C-F1D6CCB1C0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1162B4-3F40-4A31-8E6C-A63CFC66C5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3696C1-9E60-45CB-9345-84CDD0073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E35D17-0926-407F-8A89-45CEE36086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6056FC-B460-4732-B938-88034F03A9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5B9820-AEDE-4BE4-AC0E-3823C8D8D2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EBE01F-424A-4EDA-8140-52F81B6F6C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52BDDF-BBBD-43A1-B8CA-BE5D384752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4052D9-3330-4088-853D-2493E1A516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CB1BDC-4A32-419C-86A3-92ED096C7E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934EA44-782E-4551-B48B-5984E87B04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222FBD-471E-49EA-98CD-FD8F439A2C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8669B19-8BCF-4CA6-85E3-3E72E020858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757686-27C8-4B23-A2A0-83331324C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949F9D-03AD-4D9D-855B-53BCA874A6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A24718-8DE5-430B-A7B6-2697C85896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3EDDD1-42CB-425D-9D19-E8E0C1DCF9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790A9E-AF2B-45A5-B387-62B2D47F08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B0937B-2968-4B4D-9ED3-9A744D4FC25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301AB7-343C-4F7A-8B7C-4BA88A6924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960CCD-CE32-4D42-A4CA-E53A7EF675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BA197A-AFCF-486F-A197-90925C8F2E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60DBFB-B718-4B21-B094-7080952B0B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137EF1A-8BA8-4A4F-A3FF-0D0FB82C9D2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99C8720-6B75-4394-85F7-4F4E21176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DA16A2D-FF65-4605-8B33-61C0D351AC6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2326888-E7A0-4049-9943-B4F97BDBD7C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2C6ED1-DDF1-477E-833B-0E0EC3456ED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A14CDD-5BCE-41DC-B15B-FEBED3C900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97A90B-C0FF-4B81-BC24-F4980D5C0E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B54B7E-3916-4002-9E05-F33BB03EE8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765429-8355-4175-8312-BA79400E01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7A82B1-6B70-4030-AAC3-3241CE93A1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2DEDB9-2572-4B65-8810-25D1A5CA22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ECA145-175C-4D81-A576-1B8BFFE217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F6DE5A-CD3A-4789-8C3C-3535B3A83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CDFE16-9117-4C0E-AAE1-FD9179A18C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BDE5494-7DD3-40FB-A28F-7E350C737F3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E702A61-1987-42D6-B212-0EA07C23EAA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A1C3E5B-BBC6-41C0-B5BD-D1F3902587E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E4325D-93C2-4A86-BFE6-869DF1513FD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373A11-7F2E-402C-ACFF-1929E90BB60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763D0A7-21A1-4749-93D8-00A5E5D33C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B3BB491-0E2F-4837-A56F-90D4A51CC09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6A5D9D2-C67D-47D6-8B69-37AF75BF69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99781A-889C-4E69-95F6-558188367C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1641C0-443B-4D18-8E39-BB96B84F8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25B15C-7891-4DBB-9E46-673E1BD444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C19A6B-7BAD-48D0-81CB-1E85B32E87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04AF7B-11E8-4D6B-867D-AF698DCE12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CFF856C-B94D-4F8C-B080-C9BB96CE276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9611A5E-6536-43E2-8599-EF67CB31D8A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8EA7BDD-41FC-4308-9ACE-A30D7BEE57D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D1A761-5647-4407-9830-960EE26D38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4EB94B1-7020-484D-8634-C66B82D3D1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8B9629-25C0-40FD-B3AE-C79BF15C4F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7C49DD-E742-4D81-90E0-FE64D620C4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DC79B11-274B-42F4-8D9E-86B99274C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1B08702-AA43-4E66-8464-85B73FD1CD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DAA475-1F12-4A0A-9290-E6B0EF8922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D7652E-938F-414E-94F8-7D244D69E3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0919375-D331-4DBF-B9BC-4AD665141B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0128AA-56B5-4D97-AC47-19546B533D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2950190-5437-49CF-ACB4-6CE8A5ED645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03697F8-D188-4D39-8E22-2789F0D92E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99E9497-956D-4375-9380-CF6053E8909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FB7B8F-B887-4173-9443-073CC7E6EC7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D5ACC66-6EF9-490C-8F75-6DF517EF946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1FE-CF73-449A-AF07-8CFA7C9E8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F611-B73C-407D-A7F8-B5E7EB050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394B-57D5-4FB6-9753-8259F658927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2BD0-D18F-4F98-98AF-90CA177C88A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7955-16D9-44C6-AAB9-1E4F588500C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7515-7222-4E18-8909-0C8ACE36E63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D69F-C321-4746-86D2-F2196237948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6518-F7F6-46E5-B003-2581910CFC5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FE18-A06B-4679-835E-4960A90897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a:t>
            </a:r>
            <a:br>
              <a:rPr sz="2900"/>
            </a:br>
            <a:r>
              <a:rPr b="1" lang="en-US" sz="2900" spc="-1" strike="noStrike">
                <a:solidFill>
                  <a:srgbClr val="572314"/>
                </a:solidFill>
                <a:latin typeface="Gill Sans MT"/>
              </a:rPr>
              <a:t>Technical Advisory Committee (TAC) </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29,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69EB-566B-483E-B3FA-D5A45B95CD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71" name="Picture 5" descr="MCj04344110000[1]"/>
          <p:cNvPicPr/>
          <p:nvPr/>
        </p:nvPicPr>
        <p:blipFill>
          <a:blip r:embed="rId1"/>
          <a:stretch/>
        </p:blipFill>
        <p:spPr>
          <a:xfrm>
            <a:off x="2286000" y="1219320"/>
            <a:ext cx="5334120" cy="4038480"/>
          </a:xfrm>
          <a:prstGeom prst="rect">
            <a:avLst/>
          </a:prstGeom>
          <a:ln w="0">
            <a:noFill/>
          </a:ln>
        </p:spPr>
      </p:pic>
      <p:sp>
        <p:nvSpPr>
          <p:cNvPr id="47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16FD-2367-490E-B3FE-F2A3E9532D4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7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Approved RMGRR121</a:t>
            </a:r>
            <a:endParaRPr b="0" lang="en-US" sz="4300" spc="-1" strike="noStrike">
              <a:solidFill>
                <a:srgbClr val="572314"/>
              </a:solidFill>
              <a:latin typeface="Gill Sans MT"/>
            </a:endParaRPr>
          </a:p>
        </p:txBody>
      </p:sp>
      <p:sp>
        <p:nvSpPr>
          <p:cNvPr id="424" name=""/>
          <p:cNvSpPr txBox="1"/>
          <p:nvPr/>
        </p:nvSpPr>
        <p:spPr>
          <a:xfrm>
            <a:off x="939960" y="685800"/>
            <a:ext cx="822960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1</a:t>
            </a:r>
            <a:r>
              <a:rPr b="0" lang="en-US" sz="2400" spc="-1" strike="noStrike">
                <a:solidFill>
                  <a:srgbClr val="000000"/>
                </a:solidFill>
                <a:latin typeface="Gill Sans MT"/>
              </a:rPr>
              <a:t>, Clarification of Inadvertent Gain Processes </a:t>
            </a:r>
            <a:r>
              <a:rPr b="1" lang="en-US" sz="2400" spc="-1" strike="noStrike">
                <a:solidFill>
                  <a:srgbClr val="000000"/>
                </a:solidFill>
                <a:latin typeface="Gill Sans MT"/>
              </a:rPr>
              <a:t>(Vo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4/01/14: </a:t>
            </a:r>
            <a:r>
              <a:rPr b="1" lang="en-US" sz="1800" spc="-1" strike="noStrike">
                <a:solidFill>
                  <a:srgbClr val="000000"/>
                </a:solidFill>
                <a:latin typeface="Gill Sans MT"/>
              </a:rPr>
              <a:t>RMS unanimously voted to recommend approval of RMGRR121 as amended by the 2/27/14 MTTF comments.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Analysis:   No project required.  This Retail Market Guide Revision Request (RMGRR) can take effect upon the Technical Advisory Committee (TAC) approval.</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06/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1 Impact Analysis.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With TAC’s  Approval today will allow these process changes to be implemented and available to the Competitive Market with a June 1, 2014 effective date.</a:t>
            </a:r>
            <a:endParaRPr b="0" lang="en-US" sz="22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B482-B982-4FE1-892D-C3BB84EFA8B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6/14 - NPRR Approved by RMS </a:t>
            </a:r>
            <a:endParaRPr b="0" lang="en-US" sz="4300" spc="-1" strike="noStrike">
              <a:solidFill>
                <a:srgbClr val="572314"/>
              </a:solidFill>
              <a:latin typeface="Gill Sans MT"/>
            </a:endParaRPr>
          </a:p>
        </p:txBody>
      </p:sp>
      <p:sp>
        <p:nvSpPr>
          <p:cNvPr id="429" name=""/>
          <p:cNvSpPr txBox="1"/>
          <p:nvPr/>
        </p:nvSpPr>
        <p:spPr>
          <a:xfrm>
            <a:off x="939960" y="914400"/>
            <a:ext cx="8229600" cy="54100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NPRR608</a:t>
            </a:r>
            <a:r>
              <a:rPr b="0" lang="en-US" sz="2800" spc="-1" strike="noStrike">
                <a:solidFill>
                  <a:srgbClr val="000000"/>
                </a:solidFill>
                <a:latin typeface="Gill Sans MT"/>
              </a:rPr>
              <a:t>, Alignment of Transaction Timing to the PUCT Performance Measures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6/14: </a:t>
            </a:r>
            <a:r>
              <a:rPr b="0" lang="en-US" sz="2400" spc="-1" strike="noStrike">
                <a:solidFill>
                  <a:srgbClr val="000000"/>
                </a:solidFill>
                <a:latin typeface="Gill Sans MT"/>
              </a:rPr>
              <a:t>This Nodal Protocol Revision Request (NPRR) aligns ERCOT’s processing time with the transactional timing in the Public Utility Commission of Texas’ (PUCT’s) Performance Measures.</a:t>
            </a:r>
            <a:endParaRPr b="0" lang="en-US" sz="24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Guide Revision Request (RMGRR)122, Synchronization with NPRR608, Alignment of Transaction Timing to the PUCT Performance Measures</a:t>
            </a:r>
            <a:endParaRPr b="0" lang="en-US" sz="2000" spc="-1" strike="noStrike">
              <a:solidFill>
                <a:srgbClr val="000000"/>
              </a:solidFill>
              <a:latin typeface="Gill Sans MT"/>
            </a:endParaRPr>
          </a:p>
          <a:p>
            <a:pPr lvl="3" marL="1085760" indent="-1713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ason for change is a Regulatory Requirement </a:t>
            </a:r>
            <a:endParaRPr b="0" lang="en-US" sz="18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6/14</a:t>
            </a:r>
            <a:r>
              <a:rPr b="0" lang="en-US" sz="2000" spc="-1" strike="noStrike">
                <a:solidFill>
                  <a:srgbClr val="000000"/>
                </a:solidFill>
                <a:latin typeface="Gill Sans MT"/>
              </a:rPr>
              <a:t>:  </a:t>
            </a:r>
            <a:r>
              <a:rPr b="1" lang="en-US" sz="2000" spc="-1" strike="noStrike">
                <a:solidFill>
                  <a:srgbClr val="000000"/>
                </a:solidFill>
                <a:latin typeface="Gill Sans MT"/>
              </a:rPr>
              <a:t>RMS unanimously endorsed NPRR608 as submitted by ERCOT and recommended by TXSET and TDTWG</a:t>
            </a:r>
            <a:r>
              <a:rPr b="0" lang="en-US" sz="2000" spc="-1" strike="noStrike">
                <a:solidFill>
                  <a:srgbClr val="000000"/>
                </a:solidFill>
                <a:latin typeface="Gill Sans MT"/>
              </a:rPr>
              <a:t>.  This RMS recommendation was considered by PRS on May 15, 2014 </a:t>
            </a:r>
            <a:endParaRPr b="0" lang="en-US" sz="2000" spc="-1" strike="noStrike">
              <a:solidFill>
                <a:srgbClr val="000000"/>
              </a:solidFill>
              <a:latin typeface="Gill Sans MT"/>
            </a:endParaRPr>
          </a:p>
          <a:p>
            <a:pPr lvl="2" marL="87696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3E4F-9703-4F9A-AF43-FD85AFF578C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7160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ss Transition Update</a:t>
            </a:r>
            <a:endParaRPr b="0" lang="en-US" sz="4300" spc="-1" strike="noStrike">
              <a:solidFill>
                <a:srgbClr val="572314"/>
              </a:solidFill>
              <a:latin typeface="Gill Sans MT"/>
            </a:endParaRPr>
          </a:p>
        </p:txBody>
      </p:sp>
      <p:sp>
        <p:nvSpPr>
          <p:cNvPr id="434" name=""/>
          <p:cNvSpPr txBox="1"/>
          <p:nvPr/>
        </p:nvSpPr>
        <p:spPr>
          <a:xfrm>
            <a:off x="1434960" y="990360"/>
            <a:ext cx="7499520" cy="52578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CH ENERGY LLC, a Qualified Scheduling Entity (QSE) and Load Serving Entity (LSE), DUNS 791894152, defaulted under its Standard Form Market Participant Agreement (SFA) with ERCOT as of 5:00 pm on May 7, 2014.</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 number of ESI IDs involved is approximately </a:t>
            </a:r>
            <a:r>
              <a:rPr b="1" lang="en-US" sz="2000" spc="-1" strike="noStrike">
                <a:solidFill>
                  <a:srgbClr val="c00000"/>
                </a:solidFill>
                <a:latin typeface="Gill Sans MT"/>
              </a:rPr>
              <a:t>4,975</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jority of ESI IDs (4964 ESI IDs) associated with REACH were  gained by one (1) designated Competitive Retailer.  Since this designated CR wasn’t certified in Sharyland McAllen’s Service Territory, the remaining eleven (11) ESI IDs associated with REACH were gained by one or more POLRs according to the allocation process outlined in the PUCT Mass Transition rules/process</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ze of this Mass Transition’s load is approximately 222.02 MWhs per day.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ss Transition Transaction Requested Date </a:t>
            </a:r>
            <a:r>
              <a:rPr b="0" lang="en-US" sz="1800" spc="-1" strike="noStrike">
                <a:solidFill>
                  <a:srgbClr val="000000"/>
                </a:solidFill>
                <a:latin typeface="Gill Sans MT"/>
              </a:rPr>
              <a:t>=  </a:t>
            </a:r>
            <a:r>
              <a:rPr b="1" lang="en-US" sz="1800" spc="-1" strike="noStrike">
                <a:solidFill>
                  <a:srgbClr val="c00000"/>
                </a:solidFill>
                <a:latin typeface="Gill Sans MT"/>
              </a:rPr>
              <a:t>May 10, 2014</a:t>
            </a:r>
            <a:endParaRPr b="0" lang="en-US" sz="18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 </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935F-DBFD-4201-BDB6-4A1F523609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439" name=""/>
          <p:cNvSpPr txBox="1"/>
          <p:nvPr/>
        </p:nvSpPr>
        <p:spPr>
          <a:xfrm>
            <a:off x="838080" y="685800"/>
            <a:ext cx="83059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inal Stag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ffective May 1, 2014 and throughout the May 2014 Scheduled Meter Read Cycle all premises energized and assigned to SU shall be transitioned to either a Competitive REP or Default REP, therefore,  another ESI ID scrub will be performed at the end of May.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s of Thursday, May 22, 2014:</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74F5-9DE9-44C1-9160-F64907AA26A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3" name=""/>
          <p:cNvGraphicFramePr/>
          <p:nvPr/>
        </p:nvGraphicFramePr>
        <p:xfrm>
          <a:off x="1523880" y="2819520"/>
          <a:ext cx="7315200" cy="3208320"/>
        </p:xfrm>
        <a:graphic>
          <a:graphicData uri="http://schemas.openxmlformats.org/drawingml/2006/table">
            <a:tbl>
              <a:tblPr/>
              <a:tblGrid>
                <a:gridCol w="2819520"/>
                <a:gridCol w="1523880"/>
                <a:gridCol w="1764000"/>
                <a:gridCol w="1207800"/>
              </a:tblGrid>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remise_type_desc</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With Competitive REP</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Grand Tot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Percentag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95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Residenti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4,233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22,211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4.0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Lighting</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466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3,769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8.9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mall Non-Residential(Commerci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0,708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14,180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75.5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Large Non-Residenti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57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9,49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90.2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5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Grand Total</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34,979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49,659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70.4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s Unplanned IT System Outage</a:t>
            </a:r>
            <a:endParaRPr b="0" lang="en-US" sz="3900" spc="-1" strike="noStrike">
              <a:solidFill>
                <a:srgbClr val="572314"/>
              </a:solidFill>
              <a:latin typeface="Gill Sans MT"/>
            </a:endParaRPr>
          </a:p>
        </p:txBody>
      </p:sp>
      <p:sp>
        <p:nvSpPr>
          <p:cNvPr id="445" name=""/>
          <p:cNvSpPr txBox="1"/>
          <p:nvPr/>
        </p:nvSpPr>
        <p:spPr>
          <a:xfrm>
            <a:off x="838080" y="533160"/>
            <a:ext cx="8229600" cy="556236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n May 6, 2014 following RMS</a:t>
            </a:r>
            <a:r>
              <a:rPr b="0" lang="en-US" sz="2800" spc="-1" strike="noStrike">
                <a:solidFill>
                  <a:srgbClr val="000000"/>
                </a:solidFill>
                <a:latin typeface="Gill Sans MT"/>
              </a:rPr>
              <a:t>,  </a:t>
            </a:r>
            <a:r>
              <a:rPr b="1" lang="en-US" sz="2800" spc="-1" strike="noStrike">
                <a:solidFill>
                  <a:srgbClr val="000000"/>
                </a:solidFill>
                <a:latin typeface="Gill Sans MT"/>
              </a:rPr>
              <a:t>a Disaster Recovery Workshop was held to Review ERCOT’s Current Disaster Recovery Processes and to determine where areas of improvements may exist</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lot of good discussion and several action items were identified that requires additional follow-up meetings between ERCOT and Market Participants.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requested that ERCOT provide their Disaster Recovery workshop updates/feedback to the Texas Data Transport Working Group (TDTWG) since TDTWG is responsible for the maintenance and monitoring of the Retail Market IT Services - Service Level Agreement (SLA).  </a:t>
            </a:r>
            <a:endParaRPr b="0" lang="en-US" sz="2400" spc="-1" strike="noStrike">
              <a:solidFill>
                <a:srgbClr val="000000"/>
              </a:solidFill>
              <a:latin typeface="Gill Sans MT"/>
            </a:endParaRPr>
          </a:p>
          <a:p>
            <a:pPr lvl="1" marL="588240" indent="-21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46D9-C42F-4F96-B563-0FF7E5793A9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9" name="Object 2"/>
          <p:cNvGraphicFramePr/>
          <p:nvPr/>
        </p:nvGraphicFramePr>
        <p:xfrm>
          <a:off x="7848720" y="1371600"/>
          <a:ext cx="914400" cy="771480"/>
        </p:xfrm>
        <a:graphic>
          <a:graphicData uri="http://schemas.openxmlformats.org/presentationml/2006/ole">
            <p:oleObj r:id="rId1" spid="">
              <p:embed/>
              <p:pic>
                <p:nvPicPr>
                  <p:cNvPr id="450" name="Object 2" descr=""/>
                  <p:cNvPicPr/>
                  <p:nvPr/>
                </p:nvPicPr>
                <p:blipFill>
                  <a:blip r:embed="rId2"/>
                  <a:stretch/>
                </p:blipFill>
                <p:spPr>
                  <a:xfrm>
                    <a:off x="7848720" y="13716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G/TF and ERCOT Updates</a:t>
            </a:r>
            <a:endParaRPr b="0" lang="en-US" sz="4300" spc="-1" strike="noStrike">
              <a:solidFill>
                <a:srgbClr val="572314"/>
              </a:solidFill>
              <a:latin typeface="Gill Sans MT"/>
            </a:endParaRPr>
          </a:p>
        </p:txBody>
      </p:sp>
      <p:sp>
        <p:nvSpPr>
          <p:cNvPr id="452" name=""/>
          <p:cNvSpPr txBox="1"/>
          <p:nvPr/>
        </p:nvSpPr>
        <p:spPr>
          <a:xfrm>
            <a:off x="838080" y="533160"/>
            <a:ext cx="8305920" cy="5562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TTF currently working to develop test scripts for SCR756 Phase B MarkeTrak Enhancement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CR 756 Phase B MarkeTrak Enhancements Training has been scheduled for June: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9, 2014 in Houston at CenterPoint Energy Towe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17, 2014 in Dallas at Onco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24, 2014 in Austin at the ERCOT MET Center 206A </a:t>
            </a: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advertent Gain (IAG) upda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ared to prior months the April report reflects a decline in total IAG Numbers .  Per ERCOT these are the lowest numbers observed since ERCOT began tracking these numbers: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F1D7-4757-413E-9303-C202B654EB4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6" name="Object 2"/>
          <p:cNvGraphicFramePr/>
          <p:nvPr/>
        </p:nvGraphicFramePr>
        <p:xfrm>
          <a:off x="6095880" y="5334120"/>
          <a:ext cx="914400" cy="771480"/>
        </p:xfrm>
        <a:graphic>
          <a:graphicData uri="http://schemas.openxmlformats.org/presentationml/2006/ole">
            <p:oleObj progId="PowerPoint.Show.12" r:id="rId1" spid="">
              <p:embed/>
              <p:pic>
                <p:nvPicPr>
                  <p:cNvPr id="457" name="Object 2" descr=""/>
                  <p:cNvPicPr/>
                  <p:nvPr/>
                </p:nvPicPr>
                <p:blipFill>
                  <a:blip r:embed="rId2"/>
                  <a:stretch/>
                </p:blipFill>
                <p:spPr>
                  <a:xfrm>
                    <a:off x="6095880" y="5334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 Retail Workshop:</a:t>
            </a:r>
            <a:endParaRPr b="0" lang="en-US" sz="4300" spc="-1" strike="noStrike">
              <a:solidFill>
                <a:srgbClr val="572314"/>
              </a:solidFill>
              <a:latin typeface="Gill Sans MT"/>
            </a:endParaRPr>
          </a:p>
        </p:txBody>
      </p:sp>
      <p:sp>
        <p:nvSpPr>
          <p:cNvPr id="459" name=""/>
          <p:cNvSpPr txBox="1"/>
          <p:nvPr/>
        </p:nvSpPr>
        <p:spPr>
          <a:xfrm>
            <a:off x="838080" y="533160"/>
            <a:ext cx="8229600" cy="556236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MS Data Workshop on Friday, June 27, 2014  </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ERCOT and TDSPs to explain to Market Participants’ their AMS 15-minute Interval Data processes, such as:</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btaining AMS 15-minute Interval Meter data,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cess when AMS data is missing (full day or gaps in interval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equency of AMS data provided to ERCOT and Smart Meter Texas.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orkshop will be an exchange of information concerning both ERCOT’s and TDSPs’ AMS Data processes that includes ERCOT’s Settlements process of AMS Data if received or if data wasn’t received from the TDSP.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Workshop planning meeting between AMS TDSPs and ERCOT scheduled on Monday, June 2, 2014.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8F05-B6F8-4774-B681-71D1995299B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art Meter Texas &amp; 3</a:t>
            </a:r>
            <a:r>
              <a:rPr b="0" lang="en-US" sz="3900" spc="-1" strike="noStrike" baseline="30000">
                <a:solidFill>
                  <a:srgbClr val="572314"/>
                </a:solidFill>
                <a:latin typeface="Gill Sans MT"/>
              </a:rPr>
              <a:t>rd</a:t>
            </a:r>
            <a:r>
              <a:rPr b="0" lang="en-US" sz="3900" spc="-1" strike="noStrike">
                <a:solidFill>
                  <a:srgbClr val="572314"/>
                </a:solidFill>
                <a:latin typeface="Gill Sans MT"/>
              </a:rPr>
              <a:t> Party Access </a:t>
            </a:r>
            <a:endParaRPr b="0" lang="en-US" sz="3900" spc="-1" strike="noStrike">
              <a:solidFill>
                <a:srgbClr val="572314"/>
              </a:solidFill>
              <a:latin typeface="Gill Sans MT"/>
            </a:endParaRPr>
          </a:p>
        </p:txBody>
      </p:sp>
      <p:sp>
        <p:nvSpPr>
          <p:cNvPr id="464" name=""/>
          <p:cNvSpPr txBox="1"/>
          <p:nvPr/>
        </p:nvSpPr>
        <p:spPr>
          <a:xfrm>
            <a:off x="1295280" y="10663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vanced Metering Working Group (AMWG) Change Requests Update and 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y Access to SMT’s Historical Usage Project states report:</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art Meter Texas Development Oversight (SMT DO) scheduled meeting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y 22 at 10:00 AM (WebEx)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June 23 at 10:00 AM (WebEx)</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29, 2014</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9EB5-5C59-4C6E-86A0-A8C610733A8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8" name="Object 7"/>
          <p:cNvGraphicFramePr/>
          <p:nvPr/>
        </p:nvGraphicFramePr>
        <p:xfrm>
          <a:off x="4267080" y="2438280"/>
          <a:ext cx="914400" cy="771480"/>
        </p:xfrm>
        <a:graphic>
          <a:graphicData uri="http://schemas.openxmlformats.org/presentationml/2006/ole">
            <p:oleObj r:id="rId1" spid="">
              <p:embed/>
              <p:pic>
                <p:nvPicPr>
                  <p:cNvPr id="469" name="Object 7" descr=""/>
                  <p:cNvPicPr/>
                  <p:nvPr/>
                </p:nvPicPr>
                <p:blipFill>
                  <a:blip r:embed="rId2"/>
                  <a:stretch/>
                </p:blipFill>
                <p:spPr>
                  <a:xfrm>
                    <a:off x="426708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5-27T23:58:08Z</dcterms:modified>
  <cp:revision>573</cp:revision>
  <dc:subject/>
  <dc:title>Instructions</dc:title>
</cp:coreProperties>
</file>