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1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1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27744-63AC-4BB5-A957-B7EBB731C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44356-0692-4376-A57D-09F20CF02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B4F01-672C-4086-B143-D1F74B9A7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7DE-8862-4097-B866-12DD9D89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CA6-10CB-4127-9C08-D326781D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BF3-BDD4-4BD9-8119-364B1A60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497-6EE1-4E47-AFBC-E1C1AC0E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4A8-7DBA-4956-9F3E-1B9EA1F3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100-6F87-418F-970C-6540AE3B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F1A-8E4D-4BF0-A16F-4B0D188F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E83-2BB6-43DE-8001-2A6A2458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3F2-BD35-4925-94C6-845EEE1A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381-F11D-430C-9D34-5DFA3E95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D70-2959-41FF-BAC6-7F44E0CF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CCB-DBC3-4DF1-88D0-D1AFAB36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B270A-55CC-44AE-BBF5-BA4901F87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8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D0D67-E040-4E18-9485-80E8A6B4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ftr" idx="1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E017B-CFCC-4626-A6E0-38DFB67EB4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8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EF249-5744-454B-A099-981ACF908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70F2D-C2FF-4784-9E1A-9431EFBE7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CD40E-9D4F-4095-8E0F-3EF3768FE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2D295-F2D0-45C8-90E8-C2262931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8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FCFE6-E8B6-4643-922F-8D11D8EC7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96636-A7C1-4658-8553-8F50B38C3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m 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BDC76-204D-485A-A8CB-CBA6890E7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517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6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4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y 29, 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03200" y="714240"/>
            <a:ext cx="8493120" cy="53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vision Requests Recommended for Approval by PRS – Unopposed (Vote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06, Removal of Risk Management Verification Fe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07, Short-Term System Adequacy Report Posting Modificatio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09, ERCOT System Administration Fee and User Fe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10, Eliminate Late Fees and Late Fee Inv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12, Reduction of Cure Period Subsequent to Event of Defaul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13, Clarification of Fuel Adder into the Mitigated Offer Ca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vision Requests Recommended for Approval by PRS – With Opposing Votes (Vote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PRR605, Ancillary Service Make-Whole Payments Under a Watch - U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79440" y="179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8"/>
          <p:cNvGrpSpPr/>
          <p:nvPr/>
        </p:nvGrpSpPr>
        <p:grpSpPr>
          <a:xfrm>
            <a:off x="1295280" y="2735280"/>
            <a:ext cx="6553440" cy="1387440"/>
            <a:chOff x="1295280" y="2735280"/>
            <a:chExt cx="6553440" cy="1387440"/>
          </a:xfrm>
        </p:grpSpPr>
        <p:sp>
          <p:nvSpPr>
            <p:cNvPr id="522" name="TextBox 1"/>
            <p:cNvSpPr/>
            <p:nvPr/>
          </p:nvSpPr>
          <p:spPr>
            <a:xfrm>
              <a:off x="1295280" y="2756160"/>
              <a:ext cx="655344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vision Requests Recommende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Approval by P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with Opposing Vo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3"/>
            <p:cNvSpPr/>
            <p:nvPr/>
          </p:nvSpPr>
          <p:spPr>
            <a:xfrm>
              <a:off x="1428480" y="273528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Straight Connector 5"/>
            <p:cNvSpPr/>
            <p:nvPr/>
          </p:nvSpPr>
          <p:spPr>
            <a:xfrm>
              <a:off x="1437840" y="4122720"/>
              <a:ext cx="6287040" cy="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03200" y="714240"/>
            <a:ext cx="849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79440" y="25704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PRR605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cillary Service Make-Whole Payments Under a Watch - URG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03200" y="714240"/>
          <a:ext cx="8274240" cy="5164200"/>
        </p:xfrm>
        <a:graphic>
          <a:graphicData uri="http://schemas.openxmlformats.org/drawingml/2006/table">
            <a:tbl>
              <a:tblPr/>
              <a:tblGrid>
                <a:gridCol w="1758960"/>
                <a:gridCol w="6515280"/>
              </a:tblGrid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el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NPRR requires ERCOT to implement a Make-Whole Payment for Qualified Scheduling Entities (QSEs) that are unable to hedge the cost of serving Load due to a reassignment of capacity from energy to Ancillary Services that could occur under a Wat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1285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5/15/14, PRS voted to recommend approval of NPRR605 as amended by the 5/14/14 CPS comments.  There were two opposing votes from the Cooperative and Consumer Market Segments and one abstention from the Investor Owned Utility (IOU) Market Segment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/Prio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1,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$5k (Operations &amp; Maintenance (O&amp;M); ERCOT business processes will be update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5f4"/>
                    </a:solidFill>
                  </a:tcPr>
                </a:tc>
              </a:tr>
              <a:tr h="146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 Highligh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ws QSEs to remain unharmed by price differential that exists under the Operating Reserve Demand Curve (ORDC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Albracht, Brittney</cp:lastModifiedBy>
  <cp:lastPrinted>2013-01-30T23:16:36Z</cp:lastPrinted>
  <dcterms:modified xsi:type="dcterms:W3CDTF">2014-05-28T20:27:14Z</dcterms:modified>
  <cp:revision>20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