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378E-6685-499D-A472-2C050D4AC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0D88-75C5-4A05-B2A8-1EA44A55F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3C09-08DA-4322-BC97-79E3940FB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2AD3-7DB2-4153-993C-5396220F8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8236-5CFC-4EB3-98F4-4FC9796C0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17AB-BE1A-48CA-9730-38BCF9296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B0E2-9FD4-4980-9CBF-A24CD96DC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31C9-B996-4D61-9270-B69D029AD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F5ED-5FD7-4049-A69D-3E97780AE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DE61-0474-4614-B90A-847FA20E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1ADF-7584-4F2E-A7E9-0B239075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AC39-2E3E-4F36-8C92-D896090FF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BCFBB-E759-4435-828C-3C2F15230B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olution Days: </a:t>
            </a:r>
            <a:br>
              <a:rPr sz="32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alid Inadvertent/Rescission Issues by Closed Da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Chart 3" descr=""/>
          <p:cNvPicPr/>
          <p:nvPr/>
        </p:nvPicPr>
        <p:blipFill>
          <a:blip r:embed="rId1"/>
          <a:stretch/>
        </p:blipFill>
        <p:spPr>
          <a:xfrm>
            <a:off x="152280" y="2664000"/>
            <a:ext cx="882036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sue Counts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lid Inadvertent Issues by Mon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Issue Count" descr=""/>
          <p:cNvPicPr/>
          <p:nvPr/>
        </p:nvPicPr>
        <p:blipFill>
          <a:blip r:embed="rId1"/>
          <a:stretch/>
        </p:blipFill>
        <p:spPr>
          <a:xfrm>
            <a:off x="225360" y="2060640"/>
            <a:ext cx="8766360" cy="40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advertent/Rescission Issues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centage of Enroll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Chart 4" descr=""/>
          <p:cNvPicPr/>
          <p:nvPr/>
        </p:nvPicPr>
        <p:blipFill>
          <a:blip r:embed="rId1"/>
          <a:stretch/>
        </p:blipFill>
        <p:spPr>
          <a:xfrm>
            <a:off x="225360" y="2133720"/>
            <a:ext cx="8594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3T18:41:46Z</dcterms:created>
  <dc:creator>Michelsen, David</dc:creator>
  <dc:description/>
  <dc:language>en-US</dc:language>
  <cp:lastModifiedBy>Yockey, Paul</cp:lastModifiedBy>
  <dcterms:modified xsi:type="dcterms:W3CDTF">2014-05-01T14:47:43Z</dcterms:modified>
  <cp:revision>85</cp:revision>
  <dc:subject/>
  <dc:title>PowerPoint Presentation</dc:title>
</cp:coreProperties>
</file>