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8A6-7CF7-4EAE-876F-01433769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CD9-A73C-4122-845E-F27A631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0D5-366C-4A3A-8EEA-69A0A8C9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FBC-8E52-4E00-ABD8-E318334E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F48-25BB-4165-9BDE-A4757398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11D8-72FE-45E3-8BCE-E8FAC6F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D2AF-3B29-4059-B460-8236ED1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0E68-F315-4917-8D6E-2020EE2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BBC8-0B95-4780-AA2B-8CDC75BD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F7E-302A-4041-8E24-7643A22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520-4F14-4299-8C10-7BE0F71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715-92CB-480D-8766-C1EE6A58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3329-B6D7-4BEF-B993-04AED73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54CA-2485-4650-B3B5-4568787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938F-AEBB-49BA-A87C-560AEA7B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0D50-4170-4F1F-9A21-B8D52EB5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41CE-FC19-4C19-BDE8-68D2FCE1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1404-F972-4E5F-A321-575E3700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C944-6927-474A-A2AC-2CF7ACC6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2866B-4DED-48B5-BAB3-536F9BE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10E1-8CAE-4ACF-BA79-D2070F2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07E3-645B-4C1A-9955-DB4931D9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51C-53E1-4629-A105-23CCA1E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284E-3AB0-4F1D-A2B1-7FC3775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23D5-9031-485C-9907-0CA4DBF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0BBC-F860-41D0-B911-34A75A1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DC9A-26BF-4B75-A93D-332AE88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6EC0-088F-4C31-8EA7-4100785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215F-BD3B-4907-9CA3-063A5B8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89BD-6C4F-4464-AC8B-FA255E21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2C5-EAAA-4ECF-8BF1-4CE06A50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E3F-86AE-4DF7-ADCE-FFBE7999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825-FDB9-4A4E-99E8-626D1BD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445-E397-497F-B01E-AD97FCA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85C-9141-4EF2-8D1D-AA93E19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5C6-DF7E-4CAE-8D62-407C8FE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FC326-084F-4B67-A3B0-90824A376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99857-ACF3-433A-AAE5-5E5DAC14E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12760" y="-171360"/>
            <a:ext cx="8718480" cy="1327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394F4-349D-460D-98D3-61E36FB74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3"/>
          <p:cNvGrpSpPr/>
          <p:nvPr/>
        </p:nvGrpSpPr>
        <p:grpSpPr>
          <a:xfrm>
            <a:off x="603360" y="1498680"/>
            <a:ext cx="7727760" cy="4085280"/>
            <a:chOff x="603360" y="1498680"/>
            <a:chExt cx="7727760" cy="4085280"/>
          </a:xfrm>
        </p:grpSpPr>
        <p:pic>
          <p:nvPicPr>
            <p:cNvPr id="134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9"/>
            <p:cNvSpPr/>
            <p:nvPr/>
          </p:nvSpPr>
          <p:spPr>
            <a:xfrm>
              <a:off x="787320" y="3082320"/>
              <a:ext cx="754380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eling of Electric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ke McCa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COT Client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5/06/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12"/>
            <p:cNvSpPr/>
            <p:nvPr/>
          </p:nvSpPr>
          <p:spPr>
            <a:xfrm flipV="1">
              <a:off x="787320" y="280476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2"/>
          <p:cNvSpPr/>
          <p:nvPr/>
        </p:nvSpPr>
        <p:spPr>
          <a:xfrm>
            <a:off x="6419880" y="5843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79440" y="17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79440" y="714240"/>
            <a:ext cx="762012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CT Rule 25.4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newable and Green Energy Verification – Subchapter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establish the procedures by which Retail Electric Providers (REPs) calculate and compose their renewable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establish guidelines and verification for claims of “green”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2"/>
          <p:cNvSpPr/>
          <p:nvPr/>
        </p:nvSpPr>
        <p:spPr>
          <a:xfrm>
            <a:off x="6419880" y="5789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379440" y="17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or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03200" y="714240"/>
            <a:ext cx="77882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52400" y="744480"/>
            <a:ext cx="77151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later than March 1, each generation owner shall report the following to the registration agent (ERCOT) for the preceding calendar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d by ERCOT for ERCOT Polled Settlement Metered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Annual Emiss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bon diox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trogen oxid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iculat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lfur dioxid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clear w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942840"/>
            <a:ext cx="82296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or Score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reates and maintains generator scorecards for each generation owner for facilities located in Tex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Fuel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Emissions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te average fuel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wide average emission rates by emiss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fuel mix and emission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d on ERCOT’s web site by April 1 of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Content Calculator found at </a:t>
            </a:r>
            <a:r>
              <a:rPr b="0" lang="en-US" sz="1800" spc="-1" strike="noStrike">
                <a:solidFill>
                  <a:srgbClr val="55bab7"/>
                </a:solidFill>
                <a:latin typeface="Arial"/>
              </a:rPr>
              <a:t>http://www.ercot.com/mktinfo/retail/electric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5bab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6583320" y="5869080"/>
            <a:ext cx="222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819000"/>
            <a:ext cx="822960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ng renewable generation and authenticating “green”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s marketing “green” electricity based on natural gas produced in Tex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station from generators that the natural gas was produced in Tex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ERCOT no later than March 15 of each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s with contracts with out-of state generators needed to authenticate fuel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annual fuel mix from out-of state gen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ERCOT no later than March 1 of each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reporting obl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s must update renewable energy percentages on their Electricity Facts Label (EFL) and provide to ERCOT no later than July 1 of 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roducts currently offered or offered during the preceding calenda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eneration purchased during the preceding calenda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419880" y="5843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are we he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8856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has asked ERCOT to notify REPs of the requirements to update EFLs and submit to ERCOT by Jul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 percentage for each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 Facts Label for each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Renewable Content Calculator for each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send a market notice describing the reporting requirements an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Questions or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to electricitylabel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19880" y="5843520"/>
            <a:ext cx="235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McCarty, Michael</cp:lastModifiedBy>
  <cp:lastPrinted>2014-05-05T20:36:53Z</cp:lastPrinted>
  <dcterms:modified xsi:type="dcterms:W3CDTF">2014-05-05T21:36:13Z</dcterms:modified>
  <cp:revision>16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