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0FC4407-9DEF-48BF-9C96-66CFB52F34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4B41BA3-BCF8-420F-AD84-71A60EBBE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358519-675B-4954-9C85-073886930C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8D0E31-2FE9-4C6D-A41A-0B922C6597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5186D0A-EA47-444E-973E-655C75D2BA1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30C0DF-E3CA-4CCB-868E-77144AFDFF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D07949-2C1D-4E8F-AC99-D60F595323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333485-98A4-48CC-9D70-B158D7FF88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B7A40C-68AA-4BDF-9F5A-4545CEBCDA1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F9DAC12-38B1-4609-BE84-01335929384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3D7B15D-5D04-4BD3-9424-5D05EFB4E58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6903E94-1070-4DD3-84C8-466C58F8E2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3723470-8FF0-4422-82A8-861D510B6F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358EF-6929-4BDA-9D1B-0A98A57A9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0CBA-97E1-41C0-B7B6-E803D616F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70302-7F66-4F36-9C5F-803E5A607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61520-98F1-42BC-89A3-DD4BDD2E3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51BC4-63EF-4180-A2F2-25A1FEE8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D4C0D-98DA-4F16-BE2A-73317A685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048E2-A048-46A8-9FE0-3C650104B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022780-7FC3-4AA0-9D8E-19AFFB882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267F-6D7E-42E2-9559-06C2470F6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9C5C1-315F-4766-B1B7-FFE9F3C3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02438-3140-4DEC-AAB4-D997D5F09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43417-682E-4644-94A5-2709E8EB6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85914-DCD8-41C8-B20C-C559BD696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DE0EEB5-B784-4A6D-B904-F85E4A35E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2547E1-AAF6-48A4-9EE4-1D219FC51D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0D64DC-5DB0-4780-BBAB-7C6F71F027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A2710B-D889-4DAA-A576-6A9528AB26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367572-78A3-4757-AF01-9D100264E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018602-5EC2-4D11-9363-37FE7D5B25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6335A5-B47D-4EEC-820F-A387B5F30A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6F7670-5319-410F-910D-D5DD198532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C2F250-DFD5-4865-A731-06D153AA90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0DE16B-2015-4575-9069-184A05CA1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3A42D7-82F2-4377-AE96-A84B0FBDAA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2130DF-4562-4FEF-8B89-C304F11439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F4BF3E6-313E-4F43-B98C-FB639E15C9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9F1027-3A88-4B6C-A4EB-30598C2DB9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9065DC7-202D-4B10-A3BA-EBBBD64893A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AF2DBBE-522A-47C6-BEC4-972378698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CBAD29-7B6C-460A-A533-369168FB73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E926A1-0823-4866-9D3C-C328970945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FD49353-BF04-4D81-B693-AB7EC22253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D31428-ABEA-4231-9BC3-47AA283435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2AC07F-C9F1-4A5C-905E-B935F4A6EC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43E216-350B-4B67-93CC-C443E64BBE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5DE0CF-C2DB-4FF2-AB6F-6FBB49DAB2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865BFB-EEAC-45E1-8425-6BBEC08669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2D77410-CC4C-4418-99D4-F6663C6497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88C7967-C49A-4C18-94A9-2E8BC7A33C8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9211E8-71C8-4C57-B2F1-179566CF9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620D27D-8DB4-4835-9A5A-687363FA5C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C357DFE-31C1-4D0F-93AE-1B7762972F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A40C2D-D70B-48A5-A419-919A219D64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382B84-81D0-45B6-8B2C-953B2B1A63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3134B8-8622-43A1-BECF-A4B004AB932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881430-3A4E-4487-92FD-F71D696C8A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242C790-73DD-497E-B220-D1ACA2976D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7A0EE1-731F-4011-82DE-A3D8B7BB86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B01BB8-6AC4-4958-B9AD-12BCCD75AC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6007F3-09B1-4365-84A0-CB935B3F3B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7F525C-7672-4EB0-BF2D-1E9648D99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2138F2-DD4B-4E7F-8398-1A4BC487649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DEC2195-E039-49C7-A900-7E2096FEC8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66F73D-F11A-453F-890B-8B44A508629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6B05C5-C02B-4BF1-B6AC-B3816DBD051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0D3AEB-E28B-41CA-95F0-BFA9CBB66F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10B80CB-B78B-4934-852F-CD78E8A0D0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1EFB33-673A-4C1F-A372-0CD013C354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81934DF-DEC1-4298-AC2C-4F2D7036A0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A988F4-B2B1-42C9-A5E7-F8CBCEF54B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77033A-8B2A-41A7-B4DA-9307786F781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7C4929-AED0-408F-8323-12B2D7240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9B56DE-842D-4ED4-A947-954BF3A28F9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D48397-B802-4C9C-BD3E-19712171B8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7273DCE-F305-494A-9E57-0B0D850058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BC47037-78EB-4C80-A999-791728EE8AC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56D7B19-5091-4FF8-BBB0-DAFF4E2C93C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DA8CD16-3AB8-4F07-A59E-A91AC7B4D4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EBD28F-24C1-417D-BC47-3483A9D495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91270F-CDD5-4DC6-BF0F-A3BD03D3CB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998AF3-04BA-4EC1-8FED-56FDDEC11C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7E6E10-C3DD-419F-9D82-720899C086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2AF9444-7E0C-41D6-B7CC-AC370031C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E9D20C-7E80-4153-92B3-33970F6547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DFA66D-57EB-4764-91DF-6E56F162C8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CABF1B-03D7-4193-A509-88CF80625D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19B57B-34D4-4285-B6B4-F41BD9A1E8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38EA65-A73C-4751-9F48-51270609E1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D4A08FA-71F8-437B-AAD6-B63862DB271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4F514A1-771A-4FDD-B2F5-100E15DE09F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B1DE852-A633-4690-9521-5691091000F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68974D5-105A-4308-8D69-AD980A105FA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4D5506-97DE-46F8-A94F-FA7A9924C0A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DFA6-088D-4292-8770-2D1B7CE8F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B51F-206E-49F7-8188-2497E0A5B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BA4E-3D8C-44FC-B760-3DB9C2AE66F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C690-AA9D-431E-8552-EF0289DE427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63F6-7D21-4F3C-AA69-6AD5C08ACF8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042C-6002-488C-A1F0-A31BCDFBCC2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34AA-41CA-4061-9E2D-A10D5209111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2262-3D67-4A8B-9D86-C7BEA916EBE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51AC-DF99-46F0-BE84-5CC770BD4B8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ercot.com/mktrules/guides/retail/current" TargetMode="External"/><Relationship Id="rId2" Type="http://schemas.openxmlformats.org/officeDocument/2006/relationships/hyperlink" Target="http://www.ercot.com/mktrules/guides/retail/current"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April 24, 2014</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6, 2014</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C Update to RMS</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2202-CC74-4CDE-8E53-BD83CC22F0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59" name="Picture 5" descr="MCj04344110000[1]"/>
          <p:cNvPicPr/>
          <p:nvPr/>
        </p:nvPicPr>
        <p:blipFill>
          <a:blip r:embed="rId1"/>
          <a:stretch/>
        </p:blipFill>
        <p:spPr>
          <a:xfrm>
            <a:off x="2286000" y="1905120"/>
            <a:ext cx="5029200" cy="4038480"/>
          </a:xfrm>
          <a:prstGeom prst="rect">
            <a:avLst/>
          </a:prstGeom>
          <a:ln w="0">
            <a:noFill/>
          </a:ln>
        </p:spPr>
      </p:pic>
      <p:sp>
        <p:nvSpPr>
          <p:cNvPr id="46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2954-F53D-433B-9010-27B490CB926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Board Update</a:t>
            </a:r>
            <a:endParaRPr b="0" lang="en-US" sz="4300" spc="-1" strike="noStrike">
              <a:solidFill>
                <a:srgbClr val="572314"/>
              </a:solidFill>
              <a:latin typeface="Gill Sans MT"/>
            </a:endParaRPr>
          </a:p>
        </p:txBody>
      </p:sp>
      <p:sp>
        <p:nvSpPr>
          <p:cNvPr id="417" name=""/>
          <p:cNvSpPr txBox="1"/>
          <p:nvPr/>
        </p:nvSpPr>
        <p:spPr>
          <a:xfrm>
            <a:off x="1066320" y="762120"/>
            <a:ext cx="807732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ll NPRRs </a:t>
            </a:r>
            <a:r>
              <a:rPr b="0" lang="en-US" sz="2800" spc="-1" strike="noStrike">
                <a:solidFill>
                  <a:srgbClr val="000000"/>
                </a:solidFill>
                <a:latin typeface="Gill Sans MT"/>
              </a:rPr>
              <a:t>that were approved during the March 27</a:t>
            </a:r>
            <a:r>
              <a:rPr b="0" lang="en-US" sz="2800" spc="-1" strike="noStrike" baseline="30000">
                <a:solidFill>
                  <a:srgbClr val="000000"/>
                </a:solidFill>
                <a:latin typeface="Gill Sans MT"/>
              </a:rPr>
              <a:t>th</a:t>
            </a:r>
            <a:r>
              <a:rPr b="0" lang="en-US" sz="2800" spc="-1" strike="noStrike">
                <a:solidFill>
                  <a:srgbClr val="000000"/>
                </a:solidFill>
                <a:latin typeface="Gill Sans MT"/>
              </a:rPr>
              <a:t> TAC meeting were Approved by the ERCOT Board during their April 9</a:t>
            </a:r>
            <a:r>
              <a:rPr b="0" lang="en-US" sz="2800" spc="-1" strike="noStrike" baseline="30000">
                <a:solidFill>
                  <a:srgbClr val="000000"/>
                </a:solidFill>
                <a:latin typeface="Gill Sans MT"/>
              </a:rPr>
              <a:t>th</a:t>
            </a:r>
            <a:r>
              <a:rPr b="0" lang="en-US" sz="2800" spc="-1" strike="noStrike">
                <a:solidFill>
                  <a:srgbClr val="000000"/>
                </a:solidFill>
                <a:latin typeface="Gill Sans MT"/>
              </a:rPr>
              <a:t> meeting.  </a:t>
            </a: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2800" spc="-1" strike="noStrike">
                <a:solidFill>
                  <a:srgbClr val="000000"/>
                </a:solidFill>
                <a:latin typeface="Gill Sans MT"/>
              </a:rPr>
              <a:t>Houston Import Project (HIP)</a:t>
            </a:r>
            <a:r>
              <a:rPr b="0" lang="en-US" sz="2800" spc="-1" strike="noStrike">
                <a:solidFill>
                  <a:srgbClr val="000000"/>
                </a:solidFill>
                <a:latin typeface="Gill Sans MT"/>
              </a:rPr>
              <a:t>: </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pril 9</a:t>
            </a:r>
            <a:r>
              <a:rPr b="0" lang="en-US" sz="2400" spc="-1" strike="noStrike" baseline="30000">
                <a:solidFill>
                  <a:srgbClr val="000000"/>
                </a:solidFill>
                <a:latin typeface="Gill Sans MT"/>
              </a:rPr>
              <a:t>th</a:t>
            </a:r>
            <a:r>
              <a:rPr b="0" lang="en-US" sz="2400" spc="-1" strike="noStrike">
                <a:solidFill>
                  <a:srgbClr val="000000"/>
                </a:solidFill>
                <a:latin typeface="Gill Sans MT"/>
              </a:rPr>
              <a:t> this approximately $590 million Project was endorsed by the ERCOT Board and deemed critical for future market reliability.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steps,  </a:t>
            </a:r>
            <a:r>
              <a:rPr b="1" lang="en-US" sz="2400" spc="-1" strike="noStrike">
                <a:solidFill>
                  <a:srgbClr val="000000"/>
                </a:solidFill>
                <a:latin typeface="Gill Sans MT"/>
              </a:rPr>
              <a:t>HIP</a:t>
            </a:r>
            <a:r>
              <a:rPr b="0" lang="en-US" sz="2400" spc="-1" strike="noStrike">
                <a:solidFill>
                  <a:srgbClr val="000000"/>
                </a:solidFill>
                <a:latin typeface="Gill Sans MT"/>
              </a:rPr>
              <a:t> will be subject to additional reviews and approvals by the Public Utility Commission of Texas.</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nguage being developed by ERCOT to create an Appeal process to the ERCOT Board.  Language maybe available for review at the May TAC meeting. </a:t>
            </a: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617D-8D21-4F18-B375-05989E29303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a:t>
            </a:r>
            <a:endParaRPr b="0" lang="en-US" sz="4300" spc="-1" strike="noStrike">
              <a:solidFill>
                <a:srgbClr val="572314"/>
              </a:solidFill>
              <a:latin typeface="Gill Sans MT"/>
            </a:endParaRPr>
          </a:p>
        </p:txBody>
      </p:sp>
      <p:sp>
        <p:nvSpPr>
          <p:cNvPr id="422" name=""/>
          <p:cNvSpPr txBox="1"/>
          <p:nvPr/>
        </p:nvSpPr>
        <p:spPr>
          <a:xfrm>
            <a:off x="838080" y="83808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dal Protocol Revision Requests (NPRRs) </a:t>
            </a:r>
            <a:r>
              <a:rPr b="0" lang="en-US" sz="2400" spc="-1" strike="noStrike">
                <a:solidFill>
                  <a:srgbClr val="000000"/>
                </a:solidFill>
                <a:latin typeface="Gill Sans MT"/>
              </a:rPr>
              <a:t>(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588</a:t>
            </a:r>
            <a:r>
              <a:rPr b="0" lang="en-US" sz="2000" spc="-1" strike="noStrike">
                <a:solidFill>
                  <a:srgbClr val="000000"/>
                </a:solidFill>
                <a:latin typeface="Gill Sans MT"/>
              </a:rPr>
              <a:t>, Clarifications for PV Generation Resour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ill Sans MT"/>
              </a:rPr>
              <a:t>Unanimously </a:t>
            </a:r>
            <a:r>
              <a:rPr b="1" lang="en-US" sz="1800" spc="-1" strike="noStrike">
                <a:solidFill>
                  <a:srgbClr val="c00000"/>
                </a:solidFill>
                <a:latin typeface="Gill Sans MT"/>
              </a:rPr>
              <a:t>Approved</a:t>
            </a:r>
            <a:r>
              <a:rPr b="0" lang="en-US" sz="1800" spc="-1" strike="noStrike">
                <a:solidFill>
                  <a:srgbClr val="c00000"/>
                </a:solidFill>
                <a:latin typeface="Gill Sans MT"/>
              </a:rPr>
              <a:t> by TAC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597</a:t>
            </a:r>
            <a:r>
              <a:rPr b="0" lang="en-US" sz="2000" spc="-1" strike="noStrike">
                <a:solidFill>
                  <a:srgbClr val="000000"/>
                </a:solidFill>
                <a:latin typeface="Gill Sans MT"/>
              </a:rPr>
              <a:t>, Utilize Initial Estimated Liability (IEL) Only During Initial Market Activity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 </a:t>
            </a:r>
            <a:r>
              <a:rPr b="0" lang="en-US" sz="1800" spc="-1" strike="noStrike">
                <a:solidFill>
                  <a:srgbClr val="c00000"/>
                </a:solidFill>
                <a:latin typeface="Gill Sans MT"/>
              </a:rPr>
              <a:t>by TAC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599</a:t>
            </a:r>
            <a:r>
              <a:rPr b="0" lang="en-US" sz="2000" spc="-1" strike="noStrike">
                <a:solidFill>
                  <a:srgbClr val="000000"/>
                </a:solidFill>
                <a:latin typeface="Gill Sans MT"/>
              </a:rPr>
              <a:t>, Removal of FGR-Specific Settlement Language*</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a:t>
            </a:r>
            <a:r>
              <a:rPr b="1" lang="en-US" sz="1800" spc="-1" strike="noStrike">
                <a:solidFill>
                  <a:srgbClr val="000000"/>
                </a:solidFill>
                <a:latin typeface="Gill Sans MT"/>
              </a:rPr>
              <a:t> </a:t>
            </a:r>
            <a:r>
              <a:rPr b="0" lang="en-US" sz="1800" spc="-1" strike="noStrike">
                <a:solidFill>
                  <a:srgbClr val="c00000"/>
                </a:solidFill>
                <a:latin typeface="Gill Sans MT"/>
              </a:rPr>
              <a:t>by TAC</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0</a:t>
            </a:r>
            <a:r>
              <a:rPr b="0" lang="en-US" sz="2000" spc="-1" strike="noStrike">
                <a:solidFill>
                  <a:srgbClr val="000000"/>
                </a:solidFill>
                <a:latin typeface="Gill Sans MT"/>
              </a:rPr>
              <a:t>, Removal of Outdated Language to Scheduling and Operations of BLT Section*</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a:t>
            </a:r>
            <a:r>
              <a:rPr b="0" lang="en-US" sz="1800" spc="-1" strike="noStrike">
                <a:solidFill>
                  <a:srgbClr val="c00000"/>
                </a:solidFill>
                <a:latin typeface="Gill Sans MT"/>
              </a:rPr>
              <a:t> by TAC</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601</a:t>
            </a:r>
            <a:r>
              <a:rPr b="0" lang="en-US" sz="2000" spc="-1" strike="noStrike">
                <a:solidFill>
                  <a:srgbClr val="000000"/>
                </a:solidFill>
                <a:latin typeface="Gill Sans MT"/>
              </a:rPr>
              <a:t>, Inclusion of Incremental Exposure in Mass Transitions to Counter-Parties that are Registered as QSEs and LSEs and Provide POLR Service</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 </a:t>
            </a:r>
            <a:r>
              <a:rPr b="0" lang="en-US" sz="1800" spc="-1" strike="noStrike">
                <a:solidFill>
                  <a:srgbClr val="c00000"/>
                </a:solidFill>
                <a:latin typeface="Gill Sans MT"/>
              </a:rPr>
              <a:t>by TAC with one abstention </a:t>
            </a:r>
            <a:endParaRPr b="0" lang="en-US" sz="18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040F-FAF7-4D9F-BCEF-EB4D5627D91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 </a:t>
            </a:r>
            <a:endParaRPr b="0" lang="en-US" sz="4300" spc="-1" strike="noStrike">
              <a:solidFill>
                <a:srgbClr val="572314"/>
              </a:solidFill>
              <a:latin typeface="Gill Sans MT"/>
            </a:endParaRPr>
          </a:p>
        </p:txBody>
      </p:sp>
      <p:sp>
        <p:nvSpPr>
          <p:cNvPr id="427" name=""/>
          <p:cNvSpPr txBox="1"/>
          <p:nvPr/>
        </p:nvSpPr>
        <p:spPr>
          <a:xfrm>
            <a:off x="838080" y="838080"/>
            <a:ext cx="830592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tice of Withdrawal</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585</a:t>
            </a:r>
            <a:r>
              <a:rPr b="0" lang="en-US" sz="2000" spc="-1" strike="noStrike">
                <a:solidFill>
                  <a:srgbClr val="000000"/>
                </a:solidFill>
                <a:latin typeface="Gill Sans MT"/>
              </a:rPr>
              <a:t>, Clarification of Administrative Pricing Requirements for Self-Committed Combined Cycle Combustion Turbines on a Resource Committed by RUC.</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ormation only no action was necessary by TAC </a:t>
            </a: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Business Case Process Improvement </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4/10/14</a:t>
            </a:r>
            <a:r>
              <a:rPr b="0" lang="en-US" sz="2000" spc="-1" strike="noStrike">
                <a:solidFill>
                  <a:srgbClr val="000000"/>
                </a:solidFill>
                <a:latin typeface="Gill Sans MT"/>
              </a:rPr>
              <a:t> – PRS discussed TAC’s assignment to better assess the cost and benefit of Revision Requests submitted to PRS for approval.  </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S will scrutinize Business Cases for Revision Requests having a cost impact, particularly those with an IA of $100k or higher threshold and/or those benefiting a limited number of Market segments.</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t is the responsibility of the submitter or those supporting the Revision Request(s) to develop a more robust Business Case to justify the cost and benefit of the Revision Request(s).  </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process improvement will be provided as an update to the ERCOT Board by TAC Leadership </a:t>
            </a:r>
            <a:endParaRPr b="0" lang="en-US" sz="20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B03D-0840-4500-B621-21896DD2BB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990720" y="1143000"/>
            <a:ext cx="815328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OGRR014</a:t>
            </a:r>
            <a:r>
              <a:rPr b="0" lang="en-US" sz="2000" spc="-1" strike="noStrike">
                <a:solidFill>
                  <a:srgbClr val="000000"/>
                </a:solidFill>
                <a:latin typeface="Gill Sans MT"/>
              </a:rPr>
              <a:t>, Communications Regarding EPS Meter Repairs, and Related Notice Deadlines and Clarifications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 with ERCOT’s comments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CMRR002</a:t>
            </a:r>
            <a:r>
              <a:rPr b="0" lang="en-US" sz="2000" spc="-1" strike="noStrike">
                <a:solidFill>
                  <a:srgbClr val="000000"/>
                </a:solidFill>
                <a:latin typeface="Gill Sans MT"/>
              </a:rPr>
              <a:t>, Verifiable Costs for Cancellation of RUC- Committed Resources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ther Binding Document, Requirements for Aggregate Load Resource Participation in the ERCOT Markets</a:t>
            </a:r>
            <a:r>
              <a:rPr b="0" lang="en-US" sz="2000" spc="-1" strike="noStrike">
                <a:solidFill>
                  <a:srgbClr val="000000"/>
                </a:solidFill>
                <a:latin typeface="Gill Sans MT"/>
              </a:rPr>
              <a:t>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 Wattle (ERCOT) made a request to delay TAC consideration on this voting item because an issue was identified that still needed to be worked out by ERCOT and MPs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RR Activity Calendar </a:t>
            </a:r>
            <a:r>
              <a:rPr b="0" lang="en-US" sz="2000" spc="-1" strike="noStrike">
                <a:solidFill>
                  <a:srgbClr val="000000"/>
                </a:solidFill>
                <a:latin typeface="Gill Sans MT"/>
              </a:rPr>
              <a:t>(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Approved by TAC </a:t>
            </a:r>
            <a:r>
              <a:rPr b="0" lang="en-US" sz="1800" spc="-1" strike="noStrike">
                <a:solidFill>
                  <a:srgbClr val="c00000"/>
                </a:solidFill>
                <a:latin typeface="Gill Sans MT"/>
              </a:rPr>
              <a:t>with WMS clarifying edits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94A4-65EF-45F3-8608-C118B6D5791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35" name="Title 1"/>
          <p:cNvSpPr/>
          <p:nvPr/>
        </p:nvSpPr>
        <p:spPr>
          <a:xfrm>
            <a:off x="1143000" y="-15228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0"/>
            <a:ext cx="8261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MS Initiatives and Votes</a:t>
            </a:r>
            <a:endParaRPr b="0" lang="en-US" sz="4300" spc="-1" strike="noStrike">
              <a:solidFill>
                <a:srgbClr val="572314"/>
              </a:solidFill>
              <a:latin typeface="Gill Sans MT"/>
            </a:endParaRPr>
          </a:p>
        </p:txBody>
      </p:sp>
      <p:sp>
        <p:nvSpPr>
          <p:cNvPr id="437" name=""/>
          <p:cNvSpPr txBox="1"/>
          <p:nvPr/>
        </p:nvSpPr>
        <p:spPr>
          <a:xfrm>
            <a:off x="914400" y="914040"/>
            <a:ext cx="8153280" cy="5257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M Collateral Requirements </a:t>
            </a:r>
            <a:r>
              <a:rPr b="0" lang="en-US" sz="2400" spc="-1" strike="noStrike">
                <a:solidFill>
                  <a:srgbClr val="000000"/>
                </a:solidFill>
                <a:latin typeface="Gill Sans MT"/>
              </a:rPr>
              <a:t>(Vote</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commended that the requirements remain unchanged—</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Credit Working Group already working on this item and should work in conjunction with WMS to develop a recommendation to TAC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a:t>
            </a:r>
            <a:r>
              <a:rPr b="0" lang="en-US" sz="2000" spc="-1" strike="noStrike">
                <a:solidFill>
                  <a:srgbClr val="c00000"/>
                </a:solidFill>
                <a:latin typeface="Gill Sans MT"/>
              </a:rPr>
              <a:t> by TAC</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source Adequacy Task Force (RATF) Update </a:t>
            </a:r>
            <a:r>
              <a:rPr b="0" lang="en-US" sz="2400" spc="-1" strike="noStrike">
                <a:solidFill>
                  <a:srgbClr val="000000"/>
                </a:solidFill>
                <a:latin typeface="Gill Sans MT"/>
              </a:rPr>
              <a:t>(Possible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rkshop was suggested by TAC members to gain consensus and to develop an ERS and Load RRS voting recommendation by TAC that can be submitted to the June 10</a:t>
            </a:r>
            <a:r>
              <a:rPr b="0" lang="en-US" sz="2000" spc="-1" strike="noStrike" baseline="30000">
                <a:solidFill>
                  <a:srgbClr val="000000"/>
                </a:solidFill>
                <a:latin typeface="Gill Sans MT"/>
              </a:rPr>
              <a:t>th</a:t>
            </a:r>
            <a:r>
              <a:rPr b="0" lang="en-US" sz="2000" spc="-1" strike="noStrike">
                <a:solidFill>
                  <a:srgbClr val="000000"/>
                </a:solidFill>
                <a:latin typeface="Gill Sans MT"/>
              </a:rPr>
              <a:t> Board and June 20</a:t>
            </a:r>
            <a:r>
              <a:rPr b="0" lang="en-US" sz="2000" spc="-1" strike="noStrike" baseline="30000">
                <a:solidFill>
                  <a:srgbClr val="000000"/>
                </a:solidFill>
                <a:latin typeface="Gill Sans MT"/>
              </a:rPr>
              <a:t>th</a:t>
            </a:r>
            <a:r>
              <a:rPr b="0" lang="en-US" sz="2000" spc="-1" strike="noStrike">
                <a:solidFill>
                  <a:srgbClr val="000000"/>
                </a:solidFill>
                <a:latin typeface="Gill Sans MT"/>
              </a:rPr>
              <a:t> PUCT meetings for approval.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timeline may require that the May 29</a:t>
            </a:r>
            <a:r>
              <a:rPr b="0" lang="en-US" sz="1800" spc="-1" strike="noStrike" baseline="30000">
                <a:solidFill>
                  <a:srgbClr val="000000"/>
                </a:solidFill>
                <a:latin typeface="Gill Sans MT"/>
              </a:rPr>
              <a:t>th</a:t>
            </a:r>
            <a:r>
              <a:rPr b="0" lang="en-US" sz="1800" spc="-1" strike="noStrike">
                <a:solidFill>
                  <a:srgbClr val="000000"/>
                </a:solidFill>
                <a:latin typeface="Gill Sans MT"/>
              </a:rPr>
              <a:t> TAC meeting will be rescheduled, TAC leadership will work with ERCOT on alternative date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8B64-F6AF-4467-B6A9-5ECCF785CA3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47560" y="-1526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ROS and RMS Initiatives and Votes</a:t>
            </a:r>
            <a:endParaRPr b="0" lang="en-US" sz="3900" spc="-1" strike="noStrike">
              <a:solidFill>
                <a:srgbClr val="572314"/>
              </a:solidFill>
              <a:latin typeface="Gill Sans MT"/>
            </a:endParaRPr>
          </a:p>
        </p:txBody>
      </p:sp>
      <p:sp>
        <p:nvSpPr>
          <p:cNvPr id="442" name=""/>
          <p:cNvSpPr txBox="1"/>
          <p:nvPr/>
        </p:nvSpPr>
        <p:spPr>
          <a:xfrm>
            <a:off x="990720" y="990720"/>
            <a:ext cx="8153280" cy="487656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and Operations Subcommittee (ROS) Repor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24</a:t>
            </a:r>
            <a:r>
              <a:rPr b="0" lang="en-US" sz="2000" spc="-1" strike="noStrike">
                <a:solidFill>
                  <a:srgbClr val="000000"/>
                </a:solidFill>
                <a:latin typeface="Gill Sans MT"/>
              </a:rPr>
              <a:t>, Additional VRT Requirement for IRRs (Vote)</a:t>
            </a: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30</a:t>
            </a:r>
            <a:r>
              <a:rPr b="0" lang="en-US" sz="2000" spc="-1" strike="noStrike">
                <a:solidFill>
                  <a:srgbClr val="000000"/>
                </a:solidFill>
                <a:latin typeface="Gill Sans MT"/>
              </a:rPr>
              <a:t>, Alignment with NPRR555 and NPRR434 – URGENT (Vote)</a:t>
            </a: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Repor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20</a:t>
            </a:r>
            <a:r>
              <a:rPr b="0" lang="en-US" sz="2000" spc="-1" strike="noStrike">
                <a:solidFill>
                  <a:srgbClr val="000000"/>
                </a:solidFill>
                <a:latin typeface="Gill Sans MT"/>
              </a:rPr>
              <a:t>, Sharyland Updates – URGENT (Vote)</a:t>
            </a: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  </a:t>
            </a:r>
            <a:endParaRPr b="0" lang="en-US" sz="18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With Technical Advisory Committee’s (TAC) approval RMGRR120 took effect on May1, 2014</a:t>
            </a:r>
            <a:endParaRPr b="0" lang="en-US" sz="14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1"/>
              </a:rPr>
              <a:t>http://</a:t>
            </a:r>
            <a:r>
              <a:rPr b="0" lang="en-US" sz="1400" spc="-1" strike="noStrike" u="sng">
                <a:solidFill>
                  <a:srgbClr val="8dc765"/>
                </a:solidFill>
                <a:uFillTx/>
                <a:latin typeface="Gill Sans MT"/>
                <a:hlinkClick r:id="rId2"/>
              </a:rPr>
              <a:t>www.ercot.com/mktrules/guides/retail/current</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4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B327-E3C0-4E46-BA54-6FFEC337948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RCOT Operations, Planning &amp; IT Reports</a:t>
            </a:r>
            <a:endParaRPr b="0" lang="en-US" sz="3200" spc="-1" strike="noStrike">
              <a:solidFill>
                <a:srgbClr val="572314"/>
              </a:solidFill>
              <a:latin typeface="Gill Sans MT"/>
            </a:endParaRPr>
          </a:p>
        </p:txBody>
      </p:sp>
      <p:sp>
        <p:nvSpPr>
          <p:cNvPr id="447" name=""/>
          <p:cNvSpPr txBox="1"/>
          <p:nvPr/>
        </p:nvSpPr>
        <p:spPr>
          <a:xfrm>
            <a:off x="838080" y="456840"/>
            <a:ext cx="8305920" cy="5715000"/>
          </a:xfrm>
          <a:prstGeom prst="rect">
            <a:avLst/>
          </a:prstGeom>
          <a:noFill/>
          <a:ln w="0">
            <a:noFill/>
          </a:ln>
        </p:spPr>
        <p:txBody>
          <a:bodyPr anchor="t">
            <a:normAutofit fontScale="78000"/>
          </a:bodyPr>
          <a:p>
            <a:pPr marL="284400" indent="-220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84400" indent="-220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568, </a:t>
            </a:r>
            <a:r>
              <a:rPr b="0" lang="en-US" sz="2800" spc="-1" strike="noStrike">
                <a:solidFill>
                  <a:srgbClr val="000000"/>
                </a:solidFill>
                <a:latin typeface="Gill Sans MT"/>
              </a:rPr>
              <a:t>Real Time Reserve Price Adder Based on Operating Reserve Demand Curve (ORDC), Update: </a:t>
            </a:r>
            <a:endParaRPr b="0" lang="en-US" sz="2800" spc="-1" strike="noStrike">
              <a:solidFill>
                <a:srgbClr val="000000"/>
              </a:solidFill>
              <a:latin typeface="Gill Sans MT"/>
            </a:endParaRPr>
          </a:p>
          <a:p>
            <a:pPr lvl="1" marL="498960" indent="-18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ril - May 2014</a:t>
            </a:r>
            <a:endParaRPr b="0" lang="en-US" sz="2400" spc="-1" strike="noStrike">
              <a:solidFill>
                <a:srgbClr val="000000"/>
              </a:solidFill>
              <a:latin typeface="Gill Sans MT"/>
            </a:endParaRPr>
          </a:p>
          <a:p>
            <a:pPr lvl="2" marL="690840" indent="-1782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Internal Testing is in progress</a:t>
            </a:r>
            <a:endParaRPr b="0" lang="en-US" sz="2000" spc="-1" strike="noStrike">
              <a:solidFill>
                <a:srgbClr val="000000"/>
              </a:solidFill>
              <a:latin typeface="Gill Sans MT"/>
            </a:endParaRPr>
          </a:p>
          <a:p>
            <a:pPr lvl="2" marL="690840" indent="-1782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Notice with draft XSD’s, ICCP Points and new Bill Determinants released</a:t>
            </a:r>
            <a:endParaRPr b="0" lang="en-US" sz="2000" spc="-1" strike="noStrike">
              <a:solidFill>
                <a:srgbClr val="000000"/>
              </a:solidFill>
              <a:latin typeface="Gill Sans MT"/>
            </a:endParaRPr>
          </a:p>
          <a:p>
            <a:pPr lvl="1" marL="498960" indent="-18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98960" indent="-18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RDC Workshops</a:t>
            </a:r>
            <a:endParaRPr b="0" lang="en-US" sz="2400" spc="-1" strike="noStrike">
              <a:solidFill>
                <a:srgbClr val="000000"/>
              </a:solidFill>
              <a:latin typeface="Gill Sans MT"/>
            </a:endParaRPr>
          </a:p>
          <a:p>
            <a:pPr lvl="2" marL="690840" indent="-1782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workshops held in April</a:t>
            </a:r>
            <a:endParaRPr b="0" lang="en-US" sz="2000" spc="-1" strike="noStrike">
              <a:solidFill>
                <a:srgbClr val="000000"/>
              </a:solidFill>
              <a:latin typeface="Gill Sans MT"/>
            </a:endParaRPr>
          </a:p>
          <a:p>
            <a:pPr lvl="2" marL="690840" indent="-1782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e additional workshop is scheduled for May 12</a:t>
            </a:r>
            <a:r>
              <a:rPr b="0" lang="en-US" sz="2000" spc="-1" strike="noStrike" baseline="30000">
                <a:solidFill>
                  <a:srgbClr val="000000"/>
                </a:solidFill>
                <a:latin typeface="Gill Sans MT"/>
              </a:rPr>
              <a:t>th</a:t>
            </a:r>
            <a:endParaRPr b="0" lang="en-US" sz="2000" spc="-1" strike="noStrike">
              <a:solidFill>
                <a:srgbClr val="000000"/>
              </a:solidFill>
              <a:latin typeface="Gill Sans MT"/>
            </a:endParaRPr>
          </a:p>
          <a:p>
            <a:pPr lvl="2" marL="690840" indent="-1782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Settlements staff  provided training on ORDC settlement implementation details at 4-19-2014 CSWG meeting</a:t>
            </a:r>
            <a:endParaRPr b="0" lang="en-US" sz="2000" spc="-1" strike="noStrike">
              <a:solidFill>
                <a:srgbClr val="000000"/>
              </a:solidFill>
              <a:latin typeface="Gill Sans MT"/>
            </a:endParaRPr>
          </a:p>
          <a:p>
            <a:pPr lvl="1" marL="498960" indent="-18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June 1</a:t>
            </a:r>
            <a:r>
              <a:rPr b="1" lang="en-US" sz="2000" spc="-1" strike="noStrike" baseline="30000">
                <a:solidFill>
                  <a:srgbClr val="ff0000"/>
                </a:solidFill>
                <a:latin typeface="Gill Sans MT"/>
              </a:rPr>
              <a:t>st</a:t>
            </a:r>
            <a:r>
              <a:rPr b="1" lang="en-US" sz="2000" spc="-1" strike="noStrike">
                <a:solidFill>
                  <a:srgbClr val="ff0000"/>
                </a:solidFill>
                <a:latin typeface="Gill Sans MT"/>
              </a:rPr>
              <a:t> - Go Live!!!!</a:t>
            </a:r>
            <a:endParaRPr b="0" lang="en-US" sz="2000" spc="-1" strike="noStrike">
              <a:solidFill>
                <a:srgbClr val="000000"/>
              </a:solidFill>
              <a:latin typeface="Gill Sans MT"/>
            </a:endParaRPr>
          </a:p>
          <a:p>
            <a:pPr lvl="3" marL="855360" indent="-1350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855360" indent="-1350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855360" indent="-13500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98960" indent="-18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98960" indent="-18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F99D-805C-4A6B-B1FA-B3D2D834522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RCOT Operations, Planning &amp; IT Reports</a:t>
            </a:r>
            <a:endParaRPr b="0" lang="en-US" sz="3200" spc="-1" strike="noStrike">
              <a:solidFill>
                <a:srgbClr val="572314"/>
              </a:solidFill>
              <a:latin typeface="Gill Sans MT"/>
            </a:endParaRPr>
          </a:p>
        </p:txBody>
      </p:sp>
      <p:sp>
        <p:nvSpPr>
          <p:cNvPr id="452" name=""/>
          <p:cNvSpPr txBox="1"/>
          <p:nvPr/>
        </p:nvSpPr>
        <p:spPr>
          <a:xfrm>
            <a:off x="838080" y="380520"/>
            <a:ext cx="830592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LRDF_1 and LRDF_2 Values associated with NPRR555, Load Resource Participation in Security-Constrained Economic Dispatch</a:t>
            </a:r>
            <a:r>
              <a:rPr b="0" lang="en-US" sz="2400" spc="-1" strike="noStrike">
                <a:solidFill>
                  <a:srgbClr val="000000"/>
                </a:solidFill>
                <a:latin typeface="Gill Sans MT"/>
              </a:rPr>
              <a:t> (Vot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r>
              <a:rPr b="0" lang="en-US" sz="1800" spc="-1" strike="noStrike">
                <a:solidFill>
                  <a:srgbClr val="c00000"/>
                </a:solidFill>
                <a:latin typeface="Gill Sans MT"/>
              </a:rPr>
              <a:t>by TAC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uture Ancillary Services Team (FAST) Update:</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orking documents are black-lined the and ERCOT is requesting written comments be sent to TAC, ROS and WMS exploders allowing10 day comment period.  Per TAC members will need more than 10 day comment period.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Update on Changes to Nodal Non-Spinning Reserve Service Deployment Procedures – HASL Release</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inued to be discussed and ERCOT’s proposal was taken to WMS – WMS referred to the QSE Managers Working Group (QMWG) for a recommendation. </a:t>
            </a: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ind Effective Load Carrying Capability (ELCC) Issues/NPRR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ATF will propose an NPRR to change how ERCOT accounts for Wind, Solar and DC ties.  These changes will have market and regulatory impacts.   This language is expected to be finalized by July 2014 so look for upcoming NPRR.    </a:t>
            </a:r>
            <a:endParaRPr b="0" lang="en-US" sz="1800" spc="-1" strike="noStrike">
              <a:solidFill>
                <a:srgbClr val="000000"/>
              </a:solidFill>
              <a:latin typeface="Gill Sans MT"/>
            </a:endParaRPr>
          </a:p>
        </p:txBody>
      </p:sp>
      <p:sp>
        <p:nvSpPr>
          <p:cNvPr id="4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6, 2014</a:t>
            </a:r>
            <a:endParaRPr b="0" lang="en-US" sz="1200" spc="-1" strike="noStrike">
              <a:solidFill>
                <a:srgbClr val="000000"/>
              </a:solidFill>
              <a:latin typeface="Arial"/>
            </a:endParaRPr>
          </a:p>
        </p:txBody>
      </p:sp>
      <p:sp>
        <p:nvSpPr>
          <p:cNvPr id="4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0300-4E25-423C-8CC1-290D8D4E0AE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6" name="Object 2"/>
          <p:cNvGraphicFramePr/>
          <p:nvPr/>
        </p:nvGraphicFramePr>
        <p:xfrm>
          <a:off x="7086600" y="2057400"/>
          <a:ext cx="914400" cy="771480"/>
        </p:xfrm>
        <a:graphic>
          <a:graphicData uri="http://schemas.openxmlformats.org/presentationml/2006/ole">
            <p:oleObj progId="PowerPoint.Show.12" r:id="rId1" spid="">
              <p:embed/>
              <p:pic>
                <p:nvPicPr>
                  <p:cNvPr id="457" name="Object 2" descr=""/>
                  <p:cNvPicPr/>
                  <p:nvPr/>
                </p:nvPicPr>
                <p:blipFill>
                  <a:blip r:embed="rId2"/>
                  <a:stretch/>
                </p:blipFill>
                <p:spPr>
                  <a:xfrm>
                    <a:off x="7086600" y="2057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5-01T14:27:43Z</dcterms:modified>
  <cp:revision>463</cp:revision>
  <dc:subject/>
  <dc:title>Instructions</dc:title>
</cp:coreProperties>
</file>