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8C28-FC00-4E2E-B81F-C8F8B811D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214B-685C-445D-A89E-3570B1C90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61EB-D413-4510-BB93-FCF73F89E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9BAE-82F0-4514-A97F-A9129CFD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9CC2-F9C8-47C2-81B6-48BD4A47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AEDD-9983-4993-9B5F-8BBE5910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77BD-10E9-4004-95DA-813C732A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6A91-EA71-4F91-9EE8-6523E353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2380-7E2F-429D-A486-461735E6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AF83-8059-4DDA-82EF-97A1BD28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B222-099F-4E0F-B0B5-C2E26751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0B69-3D13-4E56-A604-67E191C2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99FA-5E60-44BC-BC7F-3C74B6FD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B6B77-2692-4810-8644-56D2ADF7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B05F-F8CE-4343-8D8B-7977AA59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5C1A-3588-42C2-AAC2-6BEBA1ADA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2F2E-B76D-4E16-B505-092340831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6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3"/>
          <p:cNvGrpSpPr/>
          <p:nvPr/>
        </p:nvGrpSpPr>
        <p:grpSpPr>
          <a:xfrm>
            <a:off x="542880" y="422280"/>
            <a:ext cx="7728120" cy="1922400"/>
            <a:chOff x="542880" y="422280"/>
            <a:chExt cx="7728120" cy="1922400"/>
          </a:xfrm>
        </p:grpSpPr>
        <p:pic>
          <p:nvPicPr>
            <p:cNvPr id="96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542880" y="4222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9"/>
            <p:cNvSpPr/>
            <p:nvPr/>
          </p:nvSpPr>
          <p:spPr>
            <a:xfrm>
              <a:off x="726840" y="2006280"/>
              <a:ext cx="75441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traight Connector 12"/>
            <p:cNvSpPr/>
            <p:nvPr/>
          </p:nvSpPr>
          <p:spPr>
            <a:xfrm flipV="1">
              <a:off x="726840" y="17283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1"/>
          <p:cNvSpPr/>
          <p:nvPr/>
        </p:nvSpPr>
        <p:spPr>
          <a:xfrm>
            <a:off x="1382760" y="2262240"/>
            <a:ext cx="6084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67_03 Meter Data Loading  &amp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ror Cod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Tucker/Kelly B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6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867_03 Data Loading – Current Timeline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frame for loading data initiated at 3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s data submitted  from 3am on Day 1 through 2:59 am on Day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activity report provided per meter type submitted (IDR, NI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67_03 Activity Reports provided via MIS to both the MRE and REP listed in N1SJ loop of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ate Placeholder 1"/>
          <p:cNvSpPr/>
          <p:nvPr/>
        </p:nvSpPr>
        <p:spPr>
          <a:xfrm>
            <a:off x="6324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6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867_03 Data Loading – Proposed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56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frame for loading data initiated at 1 p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s data submitted  from 1pm on Day 1 through 12:59pm on Day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activity report  provided per meter type submitted (IDR, NI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67_03 Activity Reports provided via MIS to both the MRE and REP listed in N1SJ loop of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1"/>
          <p:cNvSpPr/>
          <p:nvPr/>
        </p:nvSpPr>
        <p:spPr>
          <a:xfrm>
            <a:off x="6324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6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867_03 Data Loading Timeline Shif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Straight Connector 4"/>
          <p:cNvSpPr/>
          <p:nvPr/>
        </p:nvSpPr>
        <p:spPr>
          <a:xfrm>
            <a:off x="380880" y="1809720"/>
            <a:ext cx="28958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152280" y="20779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am Day 1 file pick up for data 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6"/>
          <p:cNvSpPr/>
          <p:nvPr/>
        </p:nvSpPr>
        <p:spPr>
          <a:xfrm flipV="1">
            <a:off x="3333600" y="2655360"/>
            <a:ext cx="2729160" cy="16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2962440" y="2077920"/>
            <a:ext cx="717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:59am Da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834160" y="2905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:59am Da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3129120" y="2857680"/>
            <a:ext cx="117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am Da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e pick up for data 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10"/>
          <p:cNvCxnSpPr/>
          <p:nvPr/>
        </p:nvCxnSpPr>
        <p:spPr>
          <a:xfrm flipV="1">
            <a:off x="3276360" y="1875960"/>
            <a:ext cx="1080" cy="202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/>
          <p:nvPr/>
        </p:nvCxnSpPr>
        <p:spPr>
          <a:xfrm flipV="1">
            <a:off x="380520" y="1848600"/>
            <a:ext cx="1080" cy="229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2"/>
          <p:cNvCxnSpPr/>
          <p:nvPr/>
        </p:nvCxnSpPr>
        <p:spPr>
          <a:xfrm flipV="1">
            <a:off x="3333240" y="2717280"/>
            <a:ext cx="1080" cy="202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Straight Arrow Connector 13"/>
          <p:cNvCxnSpPr/>
          <p:nvPr/>
        </p:nvCxnSpPr>
        <p:spPr>
          <a:xfrm flipV="1">
            <a:off x="6062400" y="2711160"/>
            <a:ext cx="1080" cy="202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Pentagon 14"/>
          <p:cNvSpPr/>
          <p:nvPr/>
        </p:nvSpPr>
        <p:spPr>
          <a:xfrm rot="16200000">
            <a:off x="1742760" y="2706120"/>
            <a:ext cx="939960" cy="882720"/>
          </a:xfrm>
          <a:custGeom>
            <a:avLst/>
            <a:gdLst>
              <a:gd name="textAreaLeft" fmla="*/ 0 w 939960"/>
              <a:gd name="textAreaRight" fmla="*/ 940320 w 9399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57" y="0"/>
                </a:lnTo>
                <a:lnTo>
                  <a:pt x="21600" y="10800"/>
                </a:lnTo>
                <a:lnTo>
                  <a:pt x="11457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:30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Agg exec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15"/>
          <p:cNvCxnSpPr/>
          <p:nvPr/>
        </p:nvCxnSpPr>
        <p:spPr>
          <a:xfrm flipV="1">
            <a:off x="2212560" y="1809360"/>
            <a:ext cx="1080" cy="869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9" name="Straight Connector 32"/>
          <p:cNvSpPr/>
          <p:nvPr/>
        </p:nvSpPr>
        <p:spPr>
          <a:xfrm>
            <a:off x="1717560" y="4406760"/>
            <a:ext cx="270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143000" y="465768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:00 pm Day 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e pick up for data 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34"/>
          <p:cNvSpPr/>
          <p:nvPr/>
        </p:nvSpPr>
        <p:spPr>
          <a:xfrm>
            <a:off x="4460760" y="5257800"/>
            <a:ext cx="29307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4038480" y="46483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:59pm Da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7086600" y="5661000"/>
            <a:ext cx="91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:59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3886200" y="5567400"/>
            <a:ext cx="122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:00 pm Da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e pick up f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Arrow Connector 38"/>
          <p:cNvCxnSpPr/>
          <p:nvPr/>
        </p:nvCxnSpPr>
        <p:spPr>
          <a:xfrm flipV="1">
            <a:off x="4417560" y="4470120"/>
            <a:ext cx="1080" cy="202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Straight Arrow Connector 39"/>
          <p:cNvCxnSpPr/>
          <p:nvPr/>
        </p:nvCxnSpPr>
        <p:spPr>
          <a:xfrm flipV="1">
            <a:off x="1712520" y="4455360"/>
            <a:ext cx="1080" cy="1832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Straight Arrow Connector 40"/>
          <p:cNvCxnSpPr/>
          <p:nvPr/>
        </p:nvCxnSpPr>
        <p:spPr>
          <a:xfrm flipV="1">
            <a:off x="4465440" y="5344920"/>
            <a:ext cx="1080" cy="202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Straight Arrow Connector 41"/>
          <p:cNvCxnSpPr/>
          <p:nvPr/>
        </p:nvCxnSpPr>
        <p:spPr>
          <a:xfrm flipV="1">
            <a:off x="7391160" y="5322600"/>
            <a:ext cx="1080" cy="244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Straight Arrow Connector 43"/>
          <p:cNvCxnSpPr>
            <a:stCxn id="117" idx="0"/>
          </p:cNvCxnSpPr>
          <p:nvPr/>
        </p:nvCxnSpPr>
        <p:spPr>
          <a:xfrm flipH="1">
            <a:off x="2212200" y="3617640"/>
            <a:ext cx="1080" cy="757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0" name="Rectangle 51"/>
          <p:cNvSpPr/>
          <p:nvPr/>
        </p:nvSpPr>
        <p:spPr>
          <a:xfrm>
            <a:off x="152280" y="1143000"/>
            <a:ext cx="2819520" cy="304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y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70000" y="1142640"/>
            <a:ext cx="2819160" cy="304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 fontScale="88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y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ontent Placeholder 56"/>
          <p:cNvSpPr/>
          <p:nvPr/>
        </p:nvSpPr>
        <p:spPr>
          <a:xfrm>
            <a:off x="5802480" y="1143000"/>
            <a:ext cx="2819160" cy="304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entagon 90"/>
          <p:cNvSpPr/>
          <p:nvPr/>
        </p:nvSpPr>
        <p:spPr>
          <a:xfrm rot="16200000">
            <a:off x="4578120" y="3228480"/>
            <a:ext cx="939960" cy="882720"/>
          </a:xfrm>
          <a:custGeom>
            <a:avLst/>
            <a:gdLst>
              <a:gd name="textAreaLeft" fmla="*/ 0 w 939960"/>
              <a:gd name="textAreaRight" fmla="*/ 940320 w 9399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57" y="0"/>
                </a:lnTo>
                <a:lnTo>
                  <a:pt x="21600" y="10800"/>
                </a:lnTo>
                <a:lnTo>
                  <a:pt x="11457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:30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Agg exec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91"/>
          <p:cNvCxnSpPr>
            <a:stCxn id="133" idx="0"/>
          </p:cNvCxnSpPr>
          <p:nvPr/>
        </p:nvCxnSpPr>
        <p:spPr>
          <a:xfrm flipH="1" flipV="1">
            <a:off x="5046480" y="2657160"/>
            <a:ext cx="2160" cy="543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Straight Arrow Connector 92"/>
          <p:cNvCxnSpPr>
            <a:stCxn id="133" idx="1"/>
          </p:cNvCxnSpPr>
          <p:nvPr/>
        </p:nvCxnSpPr>
        <p:spPr>
          <a:xfrm>
            <a:off x="5047920" y="4140360"/>
            <a:ext cx="1080" cy="1127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Date Placeholder 1"/>
          <p:cNvSpPr/>
          <p:nvPr/>
        </p:nvSpPr>
        <p:spPr>
          <a:xfrm>
            <a:off x="6324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6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por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67_03 IDR/NIDR Activity Repor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ing time is tied to completion of data 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ing time will move from early morning to late afterno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hange to delivery method (ERCOT M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IID Service History and Usage Extr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h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ing Consumption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h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ate Placeholder 1"/>
          <p:cNvSpPr/>
          <p:nvPr/>
        </p:nvSpPr>
        <p:spPr>
          <a:xfrm>
            <a:off x="6324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6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oving the 867_03 data Loading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the discuss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 the time window for TDSP data submittals for inclusion in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4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: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RMS in agreement that ERCOT should proceed with moving the initiation of the 867_03 data loading process from 3:00 am to 1:00 pm, as described in this presen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1"/>
          <p:cNvSpPr/>
          <p:nvPr/>
        </p:nvSpPr>
        <p:spPr>
          <a:xfrm>
            <a:off x="6324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6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ror Code Processing Proposed Chan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ing the retirement of a few error cod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2 – Usage sent does not coincide with current ESIID/RESID history rec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rror code 01 - ESIID/RESID does not exist, would occur first and negate the need for this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2 – Incorrect Meter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ter level information is not considered for loading data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– TOU status unkn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l ESIIDs in the ERCOT region must have a profile code assigned.  This error is only triggered by a null profile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ate Placeholder 1"/>
          <p:cNvSpPr/>
          <p:nvPr/>
        </p:nvSpPr>
        <p:spPr>
          <a:xfrm>
            <a:off x="6324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6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oving the 867_03 data Loading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the discuss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ve unneeded error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4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: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RMS in agreement with ERCOT proceeding with re-moving the 867_03 processing error codes as described in this presen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ate Placeholder 1"/>
          <p:cNvSpPr/>
          <p:nvPr/>
        </p:nvSpPr>
        <p:spPr>
          <a:xfrm>
            <a:off x="6324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6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lbracht, Brittney</dc:creator>
  <dc:description/>
  <dc:language>en-US</dc:language>
  <cp:lastModifiedBy>Tucker, Donald</cp:lastModifiedBy>
  <cp:lastPrinted>2014-04-25T21:12:45Z</cp:lastPrinted>
  <dcterms:modified xsi:type="dcterms:W3CDTF">2014-05-02T18:32:29Z</dcterms:modified>
  <cp:revision>143</cp:revision>
  <dc:subject/>
  <dc:title>Instructions</dc:title>
</cp:coreProperties>
</file>