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D0C-9AFB-4C74-8D7A-D11BC7EF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896-7BF1-48E4-B0C4-8CBCD7F9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844-8573-491C-BBEA-D9571501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5FD-E9AA-4279-93C8-681F8701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A800-C4CF-4041-8930-EA1EAB87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33F0-6F97-41B7-AD26-720AB000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2FCE-7F3E-4C00-97E6-DF14169D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FCD4-8704-4770-8168-B20A7963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376C-2BF7-49D8-B8C7-0ED2FCC2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335E-2789-42A9-AA49-4FED22AE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B985-A5D9-42FA-BC3A-A3CD8AB5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87D-7BD1-4AF6-859D-FFAD22A7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A7A7-360F-452D-A08D-5DA3EF7F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64F4-955D-401D-9606-2EDC2CE3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E699-74AD-4CEE-B0F8-E3988ACF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A3C7-A348-4F58-AC83-26E18ABE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E777-0268-4F15-91F4-7E1EB6B7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3D88E-81A6-41D1-9510-E3CB6B05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C2AEF-901F-485A-BF9E-1960EC44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CB374-37B8-4A3D-88B0-863045B5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92F9C-414F-4812-9707-7F61EC24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E9ACB-1040-4875-A0A2-5A044705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3B9-E8E1-430C-A949-AFDA0F6B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09F92-173C-49A8-AA6E-1CD9D770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158C1-16C4-46AC-9E84-23F05024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694BB-84B3-49C5-9547-82E40DBD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71C5-DABE-4A13-9EC2-3A49D519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FD907-9845-4426-A120-8242D7EA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68BE7-4419-473E-BAA9-3C806167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5B89-05EE-404B-89DF-BE80F966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CB0C1-77E0-43CD-A968-FD4D1A9B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54337-3E95-44A0-8B83-BE9B5A70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E53DB-774A-44E0-941A-EA3407B3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A9A-B9F7-4D04-8486-504DDDF2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C9B79-15FC-48FE-95DF-EC77293C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98EE4-9468-420F-B193-94BF1DD1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0EFAC-17FD-439F-9AB1-E2395084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D4756-1C69-49BA-A444-C33066BD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B2395-449D-467B-BBF0-00F10E5A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8D0DF-CAAD-40F8-84F3-213D61F8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2F417-AB54-4FF0-AE06-34954368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75572-BBDD-4EC8-8E6D-FA28D75D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739BB-4063-48DC-84D6-87813AEE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73284-6B8D-4F3B-B0FF-D289AE44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553-7E1F-4E17-B58F-7580E975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6FB43-13E4-4726-A951-7ED3CA23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AEB56-3A30-439C-B59D-E5D9A2A9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82092-2DF9-445E-8644-9BBA6FC0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92360-EC1F-4B0A-8EF0-F2E8A02B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24B5B-6734-4325-B7D4-94082A95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03EFC-D85C-4779-8AF6-C55F0E70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D7CCE-2DC0-4231-9689-BD845262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9E72D-EEB6-46E9-B7E5-79142154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A18B6-2AAE-4B9A-A230-BA34D802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85ACC-4D15-486A-B8EF-55DF9176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F6F5-4EFF-4868-A092-DB11DF7A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98548-20A7-4D79-A422-95454322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AC7-251E-4C86-B95A-35966157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A4D-7EEC-4EFB-82E5-5BF140D9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5E1-4A80-49A4-A8DB-3B47E1D6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974E-FE6A-41D1-A990-99346F144B3D}" type="datetime"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98F3-2687-4D9D-B43E-34812FC0D6C6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EE29-7507-4881-93CE-7EA95651ACDA}" type="datetime"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C308-12CC-4AC8-A5AD-D627300998C5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A0FC-B4B3-4856-A327-C316FA6936E9}" type="datetime"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43CC-3B4E-438F-A71F-6062F67A0409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199F-801D-48BA-98A9-5D4198F023F4}" type="datetime"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7E94-74C0-49E5-9420-1533DEFD807C}" type="slidenum">
              <a:rPr b="0" lang="en-US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A3F7-1EBA-457D-80CE-1A9C8F180405}" type="datetime"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B126-8022-4978-A129-279BBFF1A2B2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HARYLAND TRANSI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ASKFORCE (STTF) UPD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5/6/2014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943600" y="5943240"/>
            <a:ext cx="2743200" cy="32868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anklin Gothic Book"/>
                <a:ea typeface="Tunga"/>
              </a:rPr>
              <a:t>RMS MEETING</a:t>
            </a:r>
            <a:endParaRPr b="1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E2A3-3374-4337-B715-2C1AC69EB9C5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UPDATES ON SHARYLAND TRANSITION TO COMPETITION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9144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haryland Utilities began accepting enrollment transactions on Feb 1, 2014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On April 14, 2014 Sharyland identified the customers who had not made a positive choice and assigned those customers to the PUC Approved Default REP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22,018 ESIIDs were distributed to Default Providers on 4/16 and all corresponding transactions had been accounted for by 04/25, an additional 980 ESIIDs were dropped on 5/2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ince that time REPs who held orders according to the Market agreement have been sending their MVI Enrollments.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U has issued 5,156  “unexecutable” responses to Default REPs ensuring customer choice is honored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0981-FE7F-4CE4-90EE-A054AB546527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2819520" y="4038480"/>
          <a:ext cx="3838320" cy="25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038480"/>
                    <a:ext cx="383832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ETER READ PROCESSIN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haryland will complete the transition process utilizing our May Monthly Meter Reads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eter Reads taken on May 1, will be provided to the Market May 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Franklin Gothic Book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.  This delay in sending Initial Meter Reads to the Market is an outcome of Sharyland  final billing our customers, ensuring reads are as accurate as possible and deposits are applied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haryland estimates that the meter reads and invoices will lag  around  5 business days through out this month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5E72-AB2D-4954-87BD-F5CF5142C39C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7" name="Picture 5" descr="MCj04344110000[1]"/>
          <p:cNvPicPr/>
          <p:nvPr/>
        </p:nvPicPr>
        <p:blipFill>
          <a:blip r:embed="rId1"/>
          <a:stretch/>
        </p:blipFill>
        <p:spPr>
          <a:xfrm>
            <a:off x="2057400" y="838080"/>
            <a:ext cx="5029200" cy="4038840"/>
          </a:xfrm>
          <a:prstGeom prst="rect">
            <a:avLst/>
          </a:prstGeom>
          <a:ln w="0">
            <a:noFill/>
          </a:ln>
        </p:spPr>
      </p:pic>
      <p:sp>
        <p:nvSpPr>
          <p:cNvPr id="228" name="Slide Number Placeholder 2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9FC3-E3DE-4AB8-BB31-0832E5BD67A7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5:54:21Z</dcterms:created>
  <dc:creator>00015621</dc:creator>
  <dc:description/>
  <dc:language>en-US</dc:language>
  <cp:lastModifiedBy>BJ Flowers</cp:lastModifiedBy>
  <dcterms:modified xsi:type="dcterms:W3CDTF">2014-05-05T21:58:17Z</dcterms:modified>
  <cp:revision>60</cp:revision>
  <dc:subject/>
  <dc:title>Sharyland Transition Taskforce (STTF)</dc:title>
</cp:coreProperties>
</file>