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2F04-6A5B-42BB-ABCB-226F23F25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41C8-7894-4C23-B1BE-DBB57667BA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DF8B-3137-47A6-B878-EE829AE98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8FF39-54EE-48C9-9386-A531AFF3A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F0AF3-8662-46E4-954C-6EDB9D68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76E86-804A-4CC4-8E4D-42DDB2E57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51A27-A69F-4F2E-89C5-C948AB579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8A6EC-2DFC-4409-AD9A-A90653E1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059A9-3099-49F0-B580-72840348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DB4D2-8E23-44D0-865A-EE188098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5F27D-C789-44EE-B532-4082DF9C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3523A-6C9D-4781-A2F7-FEA0ECF1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77349-5773-4995-9B4C-0DDE86F5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20640-42A4-402B-8A09-511B8D5A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DF1C8-E648-44D1-905F-250DA83B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DF69-C639-4F4C-979B-08C291E4E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CFB7-8655-4D09-BC26-26F0BC1FF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3241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6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62481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3"/>
          <p:cNvGrpSpPr/>
          <p:nvPr/>
        </p:nvGrpSpPr>
        <p:grpSpPr>
          <a:xfrm>
            <a:off x="542880" y="422280"/>
            <a:ext cx="7728120" cy="1922400"/>
            <a:chOff x="542880" y="422280"/>
            <a:chExt cx="7728120" cy="1922400"/>
          </a:xfrm>
        </p:grpSpPr>
        <p:pic>
          <p:nvPicPr>
            <p:cNvPr id="96" name="Picture 8" descr="ERCOT cmyk-01.png"/>
            <p:cNvPicPr/>
            <p:nvPr/>
          </p:nvPicPr>
          <p:blipFill>
            <a:blip r:embed="rId1"/>
            <a:stretch/>
          </p:blipFill>
          <p:spPr>
            <a:xfrm>
              <a:off x="542880" y="422280"/>
              <a:ext cx="2457720" cy="104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Box 9"/>
            <p:cNvSpPr/>
            <p:nvPr/>
          </p:nvSpPr>
          <p:spPr>
            <a:xfrm>
              <a:off x="726840" y="2006280"/>
              <a:ext cx="754416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Straight Connector 12"/>
            <p:cNvSpPr/>
            <p:nvPr/>
          </p:nvSpPr>
          <p:spPr>
            <a:xfrm flipV="1">
              <a:off x="726840" y="1728360"/>
              <a:ext cx="6286680" cy="1260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Box 1"/>
          <p:cNvSpPr/>
          <p:nvPr/>
        </p:nvSpPr>
        <p:spPr>
          <a:xfrm>
            <a:off x="1382760" y="2262240"/>
            <a:ext cx="608472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67_03 Meter Data Loading  &amp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ror Code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Tucker/Kelly Br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/6/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867_03 Data Loading – Current Timeline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eframe for loading data initiated at 3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ludes data submitted  from 3am on Day 1 through 2:59 am on Day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 activity report provided per meter type submitted (IDR, NID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67_03 Activity Reports provided via MIS to both the MRE and REP listed in N1SJ loop of trans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Date Placeholder 1"/>
          <p:cNvSpPr/>
          <p:nvPr/>
        </p:nvSpPr>
        <p:spPr>
          <a:xfrm>
            <a:off x="63244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6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867_03 Data Loading – Proposed Timelin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4560" y="9903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eframe for loading data initiated at 1 p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ludes data submitted  from 1pm on Day 1 through 12:59pm on Day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 activity report  provided per meter type submitted (IDR, NID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67_03 Activity Reports provided via MIS to both the MRE and REP listed in N1SJ loop of trans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ate Placeholder 1"/>
          <p:cNvSpPr/>
          <p:nvPr/>
        </p:nvSpPr>
        <p:spPr>
          <a:xfrm>
            <a:off x="63244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6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867_03 Data Loading Timeline Shif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Straight Connector 4"/>
          <p:cNvSpPr/>
          <p:nvPr/>
        </p:nvSpPr>
        <p:spPr>
          <a:xfrm>
            <a:off x="380880" y="1809720"/>
            <a:ext cx="28958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152280" y="207792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am Day 1 file pick up for data lo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6"/>
          <p:cNvSpPr/>
          <p:nvPr/>
        </p:nvSpPr>
        <p:spPr>
          <a:xfrm flipV="1">
            <a:off x="3333600" y="2655360"/>
            <a:ext cx="2729160" cy="16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1"/>
          <p:cNvSpPr/>
          <p:nvPr/>
        </p:nvSpPr>
        <p:spPr>
          <a:xfrm>
            <a:off x="2962440" y="2077920"/>
            <a:ext cx="717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:59am Da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5834160" y="29052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:59am Day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3"/>
          <p:cNvSpPr/>
          <p:nvPr/>
        </p:nvSpPr>
        <p:spPr>
          <a:xfrm>
            <a:off x="3129120" y="2857680"/>
            <a:ext cx="117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am Da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le pick up for data lo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Straight Arrow Connector 10"/>
          <p:cNvCxnSpPr/>
          <p:nvPr/>
        </p:nvCxnSpPr>
        <p:spPr>
          <a:xfrm flipV="1">
            <a:off x="3276360" y="1875960"/>
            <a:ext cx="1080" cy="2023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/>
          <p:nvPr/>
        </p:nvCxnSpPr>
        <p:spPr>
          <a:xfrm flipV="1">
            <a:off x="380520" y="1848600"/>
            <a:ext cx="1080" cy="2293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5" name="Straight Arrow Connector 12"/>
          <p:cNvCxnSpPr/>
          <p:nvPr/>
        </p:nvCxnSpPr>
        <p:spPr>
          <a:xfrm flipV="1">
            <a:off x="3333240" y="2717280"/>
            <a:ext cx="1080" cy="2023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6" name="Straight Arrow Connector 13"/>
          <p:cNvCxnSpPr/>
          <p:nvPr/>
        </p:nvCxnSpPr>
        <p:spPr>
          <a:xfrm flipV="1">
            <a:off x="6062400" y="2711160"/>
            <a:ext cx="1080" cy="2023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7" name="Pentagon 14"/>
          <p:cNvSpPr/>
          <p:nvPr/>
        </p:nvSpPr>
        <p:spPr>
          <a:xfrm rot="16200000">
            <a:off x="1742760" y="2706120"/>
            <a:ext cx="939960" cy="882720"/>
          </a:xfrm>
          <a:custGeom>
            <a:avLst/>
            <a:gdLst>
              <a:gd name="textAreaLeft" fmla="*/ 0 w 939960"/>
              <a:gd name="textAreaRight" fmla="*/ 940320 w 93996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457" y="0"/>
                </a:lnTo>
                <a:lnTo>
                  <a:pt x="21600" y="10800"/>
                </a:lnTo>
                <a:lnTo>
                  <a:pt x="11457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:30p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 Agg execu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Straight Arrow Connector 15"/>
          <p:cNvCxnSpPr/>
          <p:nvPr/>
        </p:nvCxnSpPr>
        <p:spPr>
          <a:xfrm flipV="1">
            <a:off x="2212560" y="1809360"/>
            <a:ext cx="1080" cy="869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9" name="Straight Connector 32"/>
          <p:cNvSpPr/>
          <p:nvPr/>
        </p:nvSpPr>
        <p:spPr>
          <a:xfrm>
            <a:off x="1717560" y="4406760"/>
            <a:ext cx="27003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143000" y="4657680"/>
            <a:ext cx="122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:00 pm Day 1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le pick up for data lo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traight Connector 34"/>
          <p:cNvSpPr/>
          <p:nvPr/>
        </p:nvSpPr>
        <p:spPr>
          <a:xfrm>
            <a:off x="4460760" y="5257800"/>
            <a:ext cx="29307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1"/>
          <p:cNvSpPr/>
          <p:nvPr/>
        </p:nvSpPr>
        <p:spPr>
          <a:xfrm>
            <a:off x="4038480" y="46483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:59pm Da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2"/>
          <p:cNvSpPr/>
          <p:nvPr/>
        </p:nvSpPr>
        <p:spPr>
          <a:xfrm>
            <a:off x="7086600" y="5661000"/>
            <a:ext cx="915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:59 p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y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3"/>
          <p:cNvSpPr/>
          <p:nvPr/>
        </p:nvSpPr>
        <p:spPr>
          <a:xfrm>
            <a:off x="3886200" y="5567400"/>
            <a:ext cx="122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:00 pm Day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le pick up f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 lo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Straight Arrow Connector 38"/>
          <p:cNvCxnSpPr/>
          <p:nvPr/>
        </p:nvCxnSpPr>
        <p:spPr>
          <a:xfrm flipV="1">
            <a:off x="4417560" y="4470120"/>
            <a:ext cx="1080" cy="2023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6" name="Straight Arrow Connector 39"/>
          <p:cNvCxnSpPr/>
          <p:nvPr/>
        </p:nvCxnSpPr>
        <p:spPr>
          <a:xfrm flipV="1">
            <a:off x="1712520" y="4455360"/>
            <a:ext cx="1080" cy="1832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7" name="Straight Arrow Connector 40"/>
          <p:cNvCxnSpPr/>
          <p:nvPr/>
        </p:nvCxnSpPr>
        <p:spPr>
          <a:xfrm flipV="1">
            <a:off x="4465440" y="5344920"/>
            <a:ext cx="1080" cy="2023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8" name="Straight Arrow Connector 41"/>
          <p:cNvCxnSpPr/>
          <p:nvPr/>
        </p:nvCxnSpPr>
        <p:spPr>
          <a:xfrm flipV="1">
            <a:off x="7391160" y="5322600"/>
            <a:ext cx="1080" cy="244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9" name="Straight Arrow Connector 43"/>
          <p:cNvCxnSpPr>
            <a:stCxn id="117" idx="0"/>
          </p:cNvCxnSpPr>
          <p:nvPr/>
        </p:nvCxnSpPr>
        <p:spPr>
          <a:xfrm flipH="1">
            <a:off x="2212200" y="3617640"/>
            <a:ext cx="1080" cy="757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0" name="Rectangle 51"/>
          <p:cNvSpPr/>
          <p:nvPr/>
        </p:nvSpPr>
        <p:spPr>
          <a:xfrm>
            <a:off x="152280" y="1143000"/>
            <a:ext cx="2819520" cy="304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y 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970000" y="1142640"/>
            <a:ext cx="2819160" cy="304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txBody>
          <a:bodyPr anchor="ctr">
            <a:normAutofit fontScale="88000"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y 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ontent Placeholder 56"/>
          <p:cNvSpPr/>
          <p:nvPr/>
        </p:nvSpPr>
        <p:spPr>
          <a:xfrm>
            <a:off x="5802480" y="1143000"/>
            <a:ext cx="2819160" cy="304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y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entagon 90"/>
          <p:cNvSpPr/>
          <p:nvPr/>
        </p:nvSpPr>
        <p:spPr>
          <a:xfrm rot="16200000">
            <a:off x="4578120" y="3228480"/>
            <a:ext cx="939960" cy="882720"/>
          </a:xfrm>
          <a:custGeom>
            <a:avLst/>
            <a:gdLst>
              <a:gd name="textAreaLeft" fmla="*/ 0 w 939960"/>
              <a:gd name="textAreaRight" fmla="*/ 940320 w 93996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457" y="0"/>
                </a:lnTo>
                <a:lnTo>
                  <a:pt x="21600" y="10800"/>
                </a:lnTo>
                <a:lnTo>
                  <a:pt x="11457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:30p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 Agg execu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Straight Arrow Connector 91"/>
          <p:cNvCxnSpPr>
            <a:stCxn id="133" idx="0"/>
          </p:cNvCxnSpPr>
          <p:nvPr/>
        </p:nvCxnSpPr>
        <p:spPr>
          <a:xfrm flipH="1" flipV="1">
            <a:off x="5046480" y="2657160"/>
            <a:ext cx="2160" cy="5436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5" name="Straight Arrow Connector 92"/>
          <p:cNvCxnSpPr>
            <a:stCxn id="133" idx="1"/>
          </p:cNvCxnSpPr>
          <p:nvPr/>
        </p:nvCxnSpPr>
        <p:spPr>
          <a:xfrm>
            <a:off x="5047920" y="4140360"/>
            <a:ext cx="1080" cy="1127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6" name="Date Placeholder 1"/>
          <p:cNvSpPr/>
          <p:nvPr/>
        </p:nvSpPr>
        <p:spPr>
          <a:xfrm>
            <a:off x="63244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6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port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67_03 IDR/NIDR Activity Report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ing time is tied to completion of data lo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ing time will move from early morning to late afterno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change to delivery method (ERCOT M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IID Service History and Usage Extra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chan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ssing Consumption Re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chan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ate Placeholder 1"/>
          <p:cNvSpPr/>
          <p:nvPr/>
        </p:nvSpPr>
        <p:spPr>
          <a:xfrm>
            <a:off x="63244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6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oving the 867_03 data Loading Timelin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the discussio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and the time window for TDSP data submittals for inclusion in sett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ed implemen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4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: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RMS in agreement that ERCOT should proceed with moving the initiation of the 867_03 data loading process from 3:00 am to 1:00 pm, as described in this present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ate Placeholder 1"/>
          <p:cNvSpPr/>
          <p:nvPr/>
        </p:nvSpPr>
        <p:spPr>
          <a:xfrm>
            <a:off x="63244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6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ror Code Processing Proposed Chang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idering the retirement of a few error cod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2 – Usage sent does not coincide with current ESIID/RESID history reco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rror code 01 - ESIID/RESID does not exist, would occur first and negate the need for this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2 – Incorrect Meter R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eter level information is not considered for loading data.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 – TOU status unknow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ll ESIIDs in the ERCOT region must have a profile code assigned.  This error is only triggered by a null profile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Date Placeholder 1"/>
          <p:cNvSpPr/>
          <p:nvPr/>
        </p:nvSpPr>
        <p:spPr>
          <a:xfrm>
            <a:off x="63244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6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oving the 867_03 data Loading Timelin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the discussio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ove unneeded error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ed implemen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4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: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RMS in agreement with ERCOT proceeding with re-moving the 867_03 processing error codes as described in this present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ate Placeholder 1"/>
          <p:cNvSpPr/>
          <p:nvPr/>
        </p:nvSpPr>
        <p:spPr>
          <a:xfrm>
            <a:off x="63244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6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Albracht, Brittney</dc:creator>
  <dc:description/>
  <dc:language>en-US</dc:language>
  <cp:lastModifiedBy>Tucker, Donald</cp:lastModifiedBy>
  <cp:lastPrinted>2014-04-25T21:12:45Z</cp:lastPrinted>
  <dcterms:modified xsi:type="dcterms:W3CDTF">2014-05-02T18:32:29Z</dcterms:modified>
  <cp:revision>143</cp:revision>
  <dc:subject/>
  <dc:title>Instructions</dc:title>
</cp:coreProperties>
</file>