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7EAF-745B-4297-8B3B-07C5702F9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C5F9-4595-48CA-B522-86B62B078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B2D6-FB1B-474D-B92D-3DA99AB16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B8A9-0BE1-48F9-B66E-0EA54069A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9811-572A-480D-A8C0-3146553D8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058109B-C7C9-41BF-98A1-E488EEF61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85484A-6732-4932-A5A8-C0809CC36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5F017D-AB1C-4575-B331-CCBB8D8C40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52370A-3593-49D5-A518-F902857437C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2A6AAF0-5B24-43C3-A595-B15617A28EA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42595A-55D3-4B43-92AA-9C94235202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A7B19AE-DFF6-4535-82EE-8F2A3FF8140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C80908-57A2-49AF-AC81-7199BBBE51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90A396-5397-44DD-B5FF-E5137B040A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1A5D3C4-B05D-4FED-8600-B016011FD90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0D343EE-069E-4D46-9C23-B6393D3DE74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88FA0A1-454A-4BC0-949C-7E1E69DA45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669DA9-9979-4B80-B9B1-4D2F19987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F2A29-4891-4923-9472-3F90E7688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5C31F-9A7F-4669-A802-C70A205AA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274A1-34DB-4515-A009-2C8EB3640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AF3BD-811A-4E92-B025-1875956AF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DB137-3D50-440A-9184-ACDFC0AEE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015B3-9D24-4B11-AC00-8E927342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6E3B1-2CA7-42BA-893C-1812CE133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29DE5F2-E31A-4A9B-9EC9-78E1D5CFA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006B-C902-4307-B275-C03678657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E41B3-3729-44E2-921E-2210A002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194B5-DEDA-48EA-94CB-12AE7BDCC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64000-94B1-40B6-A5DE-6C90249A2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FA88E5-1113-4316-89F7-B1BE08A90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1AD84D-C0DF-425B-A034-D87F7CFD3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B65953-7DAA-4009-A9EB-0D5B2A3180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1B478D-7C01-4F8C-8D36-7A7E6A159F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D69DA0-EDBF-421D-9625-D037B48187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ABE372-FE58-48B7-8E10-51E6C620B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50556A-792D-457E-A0AE-370024720B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EB1B5C-AC67-4566-BFE2-B1D832EA40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5C2CA7-3A0F-4BB3-AAFA-56C484BF16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60E5A0-F749-435C-8D36-315A62824C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2BEE6E-EE59-4EDA-B3D8-C71AF5DA54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23134D-0BAE-415A-977B-998C99B7C3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E8536B-A3E5-4CEE-B70D-7C62CFBA80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8C953E9-4818-4072-A51A-74BE955D5CF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FBBE2C-2010-4E16-B857-A530AE7ED4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83D695C-F4E8-48EB-9D49-AD6216F7B04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032F12C-C59D-4429-A697-0F51F0156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8E2A7F2-B515-48AC-A1CB-250C4A2B50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AD4A05E-843D-416E-B513-13A743C41B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B891F7-FCC9-426D-9A1E-466D652762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2AFBF9-7922-4C04-BEB5-A0DA9937433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97944A-B7F5-44F8-846E-6283859B0C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7C0D49C-8608-4027-BBF4-6A183B2F9D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1DCF58-7CD1-4BE1-AE1B-59FBA30B02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7E2A139-C474-4D2E-8CA6-A04A250861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F6B685-4833-40BD-BBD9-29A340065B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ED3DCC-3007-409D-A408-E0B3EA81031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97A153-02C4-4246-9DEE-3FD38E34C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F04402C-3B79-41B8-B9AA-2DA6136058F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F168E90-AC76-4FA9-B2B0-4BDCE51D7D6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9E26673-39B9-4873-B573-9D09656DDA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A7D160-6B09-48A1-8B67-54471FEA35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2B1CCB-2BA8-42EF-B070-C33FFDAA2C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F98730-283E-472F-A332-951BC6B7220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A4A287-7C5D-4095-9E4C-A23A067CD9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5698A5-5864-48E2-A7BA-CC6374406E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4E3B59-E876-4EDB-9264-C4A3D26377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E34ED3-A1EF-44F5-AC88-CD107B339C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B38B51E-36CA-48DD-8A75-2A258EEF1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AA67236-EE91-4F69-A548-28F6754AAF0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AF5796B-9A94-4A73-B81B-5C7F9EF180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770CD9-6759-40C9-B5D0-0DE611130CE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6E3972C-82B6-4733-AD0C-207CE5C03FE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5E438B-5C64-440C-AF9E-D8EDE196FF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94037F0-3731-4B36-AA05-6F7227F9F3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7F6166-850E-4339-97F3-C9CAB6D8B87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650B76-4504-47C5-8957-9A8FD468CF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818064-FEA4-447A-B08E-8F243CEED5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36C359-209E-4A2A-BC97-63E943BA01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37944D-BAD4-4CF2-A356-4AB118DB0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9D944FA-DD50-45FB-A205-E0EC6363D3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24D0F4-D848-47C3-9818-3FBF35E12D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EB904B-4EB3-4594-B9A3-1E99C42011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BBC83EF-C945-4610-8CFB-D8585DED3D0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02C9535-A8B9-4431-9849-63252C1EE78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825082-932F-4CF6-BE5B-9A32A5DEA0E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10E736-7112-4FB1-A4A1-E0AFD31B66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E5D05FC-85BF-4D71-88BA-6234C9751E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DB826D3-E1D4-463A-9719-634BB35426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CA8296-1CBE-40C1-879F-7BC2687057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A20138E-984A-4565-937D-E026427D6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D605C0E-54A9-4A1C-9364-9E6F05F3981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A61A6A-95B8-4D94-B454-C9B1D3C191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49D8741-BE02-4CC1-BFA4-3C60B02305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72AC9E-4DEC-4AE9-92C2-2955926935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A2262E-3A8A-4132-8343-B57DFA3DE9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6B2FB42-F617-426A-B80A-DF47724CBCA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54EC4A-AF24-436C-A2C2-448E956C6B9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B0D40B0-A75C-4BED-98C6-39A6C1576BF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4A1EC7A-4A84-4B3E-821D-D17346AC1C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12FE50-F62F-43EE-8382-C179148EF0B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C930-BA66-4C49-BC61-B347EBB5B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25E8-B171-4E7B-A5A4-877E40965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A873-4258-477B-B082-42A4100CC74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F00D-9832-4F8C-A3E7-44F079F0AEA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B9B7-A27D-422E-83A8-239F840893F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A3E3-A10F-4B58-B052-C1E5DCFA50B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58DB-74C4-4C47-A42E-7B32ECAD3D9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6B7D-44FE-493A-A91D-0EED94FE530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2E88-61AD-4AA1-96E4-FCCBDE24791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mailto:electricitylabel@ercot.com"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rcot.com/mktrules/guides/retail/current"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4,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3370-225A-4631-9590-8DC65DD5DF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ss Transition Update</a:t>
            </a:r>
            <a:endParaRPr b="0" lang="en-US" sz="4300" spc="-1" strike="noStrike">
              <a:solidFill>
                <a:srgbClr val="572314"/>
              </a:solidFill>
              <a:latin typeface="Gill Sans MT"/>
            </a:endParaRPr>
          </a:p>
        </p:txBody>
      </p:sp>
      <p:sp>
        <p:nvSpPr>
          <p:cNvPr id="467" name=""/>
          <p:cNvSpPr txBox="1"/>
          <p:nvPr/>
        </p:nvSpPr>
        <p:spPr>
          <a:xfrm>
            <a:off x="1434960" y="990360"/>
            <a:ext cx="7499520" cy="52578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CH ENERGY LLC, a Qualified Scheduling Entity (QSE) and Load Serving Entity (LSE), DUNS 791894152, defaulted under its Standard Form Market Participant Agreement (SFA) with ERCOT as of 5:00 pm on May 7, 2014.</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e number of ESI IDs involved is approximately </a:t>
            </a:r>
            <a:r>
              <a:rPr b="1" lang="en-US" sz="2000" spc="-1" strike="noStrike">
                <a:solidFill>
                  <a:srgbClr val="c00000"/>
                </a:solidFill>
                <a:latin typeface="Gill Sans MT"/>
              </a:rPr>
              <a:t>4,975</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jority of ESI IDs (4964 ESI IDs) associated with REACH were  gained by one (1) designated Competitive Retailer.  Since this designated CR wasn’t certified in Sharyland McAllen’s Service Territory, the remaining eleven (11) ESI IDs associated with REACH were gained by one or more POLRs according to the allocation process outlined in the PUCT Mass Transition rules/process</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ze of this Mass Transition’s load is approximately 222.02 MWhs per day.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Mass Transition Transaction Requested Date </a:t>
            </a:r>
            <a:r>
              <a:rPr b="0" lang="en-US" sz="1800" spc="-1" strike="noStrike">
                <a:solidFill>
                  <a:srgbClr val="000000"/>
                </a:solidFill>
                <a:latin typeface="Gill Sans MT"/>
              </a:rPr>
              <a:t>=  </a:t>
            </a:r>
            <a:r>
              <a:rPr b="1" lang="en-US" sz="1800" spc="-1" strike="noStrike">
                <a:solidFill>
                  <a:srgbClr val="c00000"/>
                </a:solidFill>
                <a:latin typeface="Gill Sans MT"/>
              </a:rPr>
              <a:t>May 10, 2014</a:t>
            </a:r>
            <a:endParaRPr b="0" lang="en-US" sz="1800" spc="-1" strike="noStrike">
              <a:solidFill>
                <a:srgbClr val="000000"/>
              </a:solidFill>
              <a:latin typeface="Gill Sans MT"/>
            </a:endParaRPr>
          </a:p>
        </p:txBody>
      </p:sp>
      <p:sp>
        <p:nvSpPr>
          <p:cNvPr id="4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 </a:t>
            </a:r>
            <a:endParaRPr b="0" lang="en-US" sz="1200" spc="-1" strike="noStrike">
              <a:solidFill>
                <a:srgbClr val="000000"/>
              </a:solidFill>
              <a:latin typeface="Arial"/>
            </a:endParaRPr>
          </a:p>
        </p:txBody>
      </p:sp>
      <p:sp>
        <p:nvSpPr>
          <p:cNvPr id="46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1790-2930-4ACA-96F6-3806D46FB36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G/TF and ERCOT Updates</a:t>
            </a:r>
            <a:endParaRPr b="0" lang="en-US" sz="4300" spc="-1" strike="noStrike">
              <a:solidFill>
                <a:srgbClr val="572314"/>
              </a:solidFill>
              <a:latin typeface="Gill Sans MT"/>
            </a:endParaRPr>
          </a:p>
        </p:txBody>
      </p:sp>
      <p:sp>
        <p:nvSpPr>
          <p:cNvPr id="472" name=""/>
          <p:cNvSpPr txBox="1"/>
          <p:nvPr/>
        </p:nvSpPr>
        <p:spPr>
          <a:xfrm>
            <a:off x="838080" y="533160"/>
            <a:ext cx="8305920" cy="5562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TTF currently working to develop test scripts for SCR756 Phase B MarkeTrak Enhancement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CR 756 Phase B MarkeTrak Enhancements Training has been scheduled for June: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9, 2014 in Houston at CenterPoint Energy Towe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17, 2014 in Dallas at Oncor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ne 24, 2014 in Austin at the ERCOT MET Center 206A </a:t>
            </a: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IAG)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ared to prior months the April report reflects a decline in total IAG Numbers .  Per ERCOT these are the lowest numbers observed since ERCOT began tracking these numbers: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7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9981-B268-4201-8AF8-718F18F00D1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76" name="Object 2"/>
          <p:cNvGraphicFramePr/>
          <p:nvPr/>
        </p:nvGraphicFramePr>
        <p:xfrm>
          <a:off x="6095880" y="5334120"/>
          <a:ext cx="914400" cy="771480"/>
        </p:xfrm>
        <a:graphic>
          <a:graphicData uri="http://schemas.openxmlformats.org/presentationml/2006/ole">
            <p:oleObj progId="PowerPoint.Show.12" r:id="rId1" spid="">
              <p:embed/>
              <p:pic>
                <p:nvPicPr>
                  <p:cNvPr id="477" name="Object 2" descr=""/>
                  <p:cNvPicPr/>
                  <p:nvPr/>
                </p:nvPicPr>
                <p:blipFill>
                  <a:blip r:embed="rId2"/>
                  <a:stretch/>
                </p:blipFill>
                <p:spPr>
                  <a:xfrm>
                    <a:off x="6095880" y="5334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G/TF and ERCOT Updates</a:t>
            </a:r>
            <a:endParaRPr b="0" lang="en-US" sz="4300" spc="-1" strike="noStrike">
              <a:solidFill>
                <a:srgbClr val="572314"/>
              </a:solidFill>
              <a:latin typeface="Gill Sans MT"/>
            </a:endParaRPr>
          </a:p>
        </p:txBody>
      </p:sp>
      <p:sp>
        <p:nvSpPr>
          <p:cNvPr id="479" name=""/>
          <p:cNvSpPr txBox="1"/>
          <p:nvPr/>
        </p:nvSpPr>
        <p:spPr>
          <a:xfrm>
            <a:off x="838080" y="457200"/>
            <a:ext cx="8229600" cy="5562720"/>
          </a:xfrm>
          <a:prstGeom prst="rect">
            <a:avLst/>
          </a:prstGeom>
          <a:noFill/>
          <a:ln w="0">
            <a:noFill/>
          </a:ln>
        </p:spPr>
        <p:txBody>
          <a:bodyPr anchor="t">
            <a:normAutofit fontScale="95000"/>
          </a:bodyPr>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867_03 Data Loading Time Line Changes and Error Code Changes</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agreed that if COPS doesn’t have any issues with ERCOT’s proposal to change ERCOT’s 3:00 AM 867_03 Data Loading Timeline to 1:00 PM then RMS would  support the 1:00 PM data loading change. </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Joint  TDSPs will conduct another conference call with ERCOT on May 21, 2014  to discuss the complete list of ERROR Code retirements  in order to gain TDSPs’ agreement of all the codes planned for 867_03 ERROR </a:t>
            </a:r>
            <a:r>
              <a:rPr b="1" lang="en-US" sz="1600" spc="-1" strike="noStrike">
                <a:solidFill>
                  <a:srgbClr val="000000"/>
                </a:solidFill>
                <a:latin typeface="Gill Sans MT"/>
              </a:rPr>
              <a:t>Code</a:t>
            </a:r>
            <a:r>
              <a:rPr b="0" lang="en-US" sz="1600" spc="-1" strike="noStrike">
                <a:solidFill>
                  <a:srgbClr val="000000"/>
                </a:solidFill>
                <a:latin typeface="Gill Sans MT"/>
              </a:rPr>
              <a:t> </a:t>
            </a:r>
            <a:r>
              <a:rPr b="1" lang="en-US" sz="1600" spc="-1" strike="noStrike">
                <a:solidFill>
                  <a:srgbClr val="000000"/>
                </a:solidFill>
                <a:latin typeface="Gill Sans MT"/>
              </a:rPr>
              <a:t>retirement</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lectric Facts Labels (EFLs):</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PUCT has asked ERCOT to notify REPs of the requirements to update EFLs and submit this information to ERCOT by July 1</a:t>
            </a:r>
            <a:endParaRPr b="0" lang="en-US" sz="18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ptions:</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newable energy percentage for each product</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ectricity Facts Label for each product</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mpleted Renewable Content Calculator for each product</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will send a market notice describing the reporting requirements and process</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Questions or Concerns send to </a:t>
            </a:r>
            <a:r>
              <a:rPr b="0" lang="en-US" sz="1600" spc="-1" strike="noStrike" u="sng">
                <a:solidFill>
                  <a:srgbClr val="8dc765"/>
                </a:solidFill>
                <a:uFillTx/>
                <a:latin typeface="Gill Sans MT"/>
                <a:hlinkClick r:id="rId1"/>
              </a:rPr>
              <a:t>electricitylabel@ercot.com</a:t>
            </a: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8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CE78-EB49-45D0-AFD2-A00A62FF73A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G/TF and ERCOT Updates</a:t>
            </a:r>
            <a:endParaRPr b="0" lang="en-US" sz="4300" spc="-1" strike="noStrike">
              <a:solidFill>
                <a:srgbClr val="572314"/>
              </a:solidFill>
              <a:latin typeface="Gill Sans MT"/>
            </a:endParaRPr>
          </a:p>
        </p:txBody>
      </p:sp>
      <p:sp>
        <p:nvSpPr>
          <p:cNvPr id="484" name=""/>
          <p:cNvSpPr txBox="1"/>
          <p:nvPr/>
        </p:nvSpPr>
        <p:spPr>
          <a:xfrm>
            <a:off x="838080" y="304560"/>
            <a:ext cx="8229600" cy="5562360"/>
          </a:xfrm>
          <a:prstGeom prst="rect">
            <a:avLst/>
          </a:prstGeom>
          <a:noFill/>
          <a:ln w="0">
            <a:noFill/>
          </a:ln>
        </p:spPr>
        <p:txBody>
          <a:bodyPr anchor="t">
            <a:normAutofit fontScale="89000"/>
          </a:bodyPr>
          <a:p>
            <a:pPr marL="7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3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otential AMS Data Workshop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ERCOT and TDSPs to explain to Market Participants’ their AMS 15-minute Interval Data processes, such as:</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btaining AMS 15-minute Interval Meter data, </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cess when AMS data is missing (full day or gaps in intervals) </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equency of AMS data provided to ERCOT and Smart Meter Texas.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orkshop is planned to be an exchange of information  concerning both ERCOT’s and TDSPs’ AMS Data Processes, which includes ERCOT’s Settlements process of AMS Data.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e-Workshop planning meeting between AMS TDSPs and ERCOT scheduled on June 2, 2014.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MS 15-minute Interval Data Workshop tentatively scheduled for late June or early July 2014, look for future Market notice on location, date, time and WebEx info.  </a:t>
            </a:r>
            <a:endParaRPr b="0" lang="en-US" sz="2400" spc="-1" strike="noStrike">
              <a:solidFill>
                <a:srgbClr val="000000"/>
              </a:solidFill>
              <a:latin typeface="Gill Sans MT"/>
            </a:endParaRPr>
          </a:p>
          <a:p>
            <a:pPr marL="7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3EDE-1E1A-47AD-9AB4-13BBB521231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mart Meter Texas &amp; 3</a:t>
            </a:r>
            <a:r>
              <a:rPr b="0" lang="en-US" sz="3900" spc="-1" strike="noStrike" baseline="30000">
                <a:solidFill>
                  <a:srgbClr val="572314"/>
                </a:solidFill>
                <a:latin typeface="Gill Sans MT"/>
              </a:rPr>
              <a:t>rd</a:t>
            </a:r>
            <a:r>
              <a:rPr b="0" lang="en-US" sz="3900" spc="-1" strike="noStrike">
                <a:solidFill>
                  <a:srgbClr val="572314"/>
                </a:solidFill>
                <a:latin typeface="Gill Sans MT"/>
              </a:rPr>
              <a:t> Party Access </a:t>
            </a:r>
            <a:endParaRPr b="0" lang="en-US" sz="3900" spc="-1" strike="noStrike">
              <a:solidFill>
                <a:srgbClr val="572314"/>
              </a:solidFill>
              <a:latin typeface="Gill Sans MT"/>
            </a:endParaRPr>
          </a:p>
        </p:txBody>
      </p:sp>
      <p:sp>
        <p:nvSpPr>
          <p:cNvPr id="489" name=""/>
          <p:cNvSpPr txBox="1"/>
          <p:nvPr/>
        </p:nvSpPr>
        <p:spPr>
          <a:xfrm>
            <a:off x="1295280" y="10663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dvanced Metering Working Group (AMWG) Change Requests Update and 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y Access to SMT’s Historical Usage Project states report:</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art Meter Texas Development Oversight (SMT DO) scheduled meeting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2 at 10:00 AM (WebEx)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3 at 10:00 AM (WebEx)</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9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D71C-B08E-4D9B-AF01-85CB32281F9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93" name="Object 7"/>
          <p:cNvGraphicFramePr/>
          <p:nvPr/>
        </p:nvGraphicFramePr>
        <p:xfrm>
          <a:off x="4267080" y="2438280"/>
          <a:ext cx="914400" cy="771480"/>
        </p:xfrm>
        <a:graphic>
          <a:graphicData uri="http://schemas.openxmlformats.org/presentationml/2006/ole">
            <p:oleObj r:id="rId1" spid="">
              <p:embed/>
              <p:pic>
                <p:nvPicPr>
                  <p:cNvPr id="494" name="Object 7" descr=""/>
                  <p:cNvPicPr/>
                  <p:nvPr/>
                </p:nvPicPr>
                <p:blipFill>
                  <a:blip r:embed="rId2"/>
                  <a:stretch/>
                </p:blipFill>
                <p:spPr>
                  <a:xfrm>
                    <a:off x="426708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4/1/14:   2014 RMS Approved Goals:</a:t>
            </a:r>
            <a:endParaRPr b="0" lang="en-US" sz="3900" spc="-1" strike="noStrike">
              <a:solidFill>
                <a:srgbClr val="572314"/>
              </a:solidFill>
              <a:latin typeface="Gill Sans MT"/>
            </a:endParaRPr>
          </a:p>
        </p:txBody>
      </p:sp>
      <p:sp>
        <p:nvSpPr>
          <p:cNvPr id="496" name=""/>
          <p:cNvSpPr txBox="1"/>
          <p:nvPr/>
        </p:nvSpPr>
        <p:spPr>
          <a:xfrm>
            <a:off x="990720" y="914040"/>
            <a:ext cx="8153280" cy="533412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ign Retail Market Subcommittee (RMS) Goals with TAC goals and the strategic vision of the ERCOT Board of Directors.  </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intain market rules that support Retail Market processes that are consistent with PURA and PUC.</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pport the appropriate incorporation of load participation.</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plore and Implement Retail Market Enhancements. </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cilitate market enhancements necessary to leverage the capabilities of Advanced Metering Systems in the Retail market.  </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intain market rules that support open access to the ERCOT Retail market.</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work with ERCOT to ensure appropriate credit and collateral rules exist or are created.</a:t>
            </a:r>
            <a:endParaRPr b="0" lang="en-US" sz="2000" spc="-1" strike="noStrike">
              <a:solidFill>
                <a:srgbClr val="000000"/>
              </a:solidFill>
              <a:latin typeface="Gill Sans MT"/>
            </a:endParaRPr>
          </a:p>
        </p:txBody>
      </p:sp>
      <p:sp>
        <p:nvSpPr>
          <p:cNvPr id="49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9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9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8B054-DDF1-4FE2-9F1D-C066B53F707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4/1/14:   2014 RMS Approved Goals:</a:t>
            </a:r>
            <a:endParaRPr b="0" lang="en-US" sz="3900" spc="-1" strike="noStrike">
              <a:solidFill>
                <a:srgbClr val="572314"/>
              </a:solidFill>
              <a:latin typeface="Gill Sans MT"/>
            </a:endParaRPr>
          </a:p>
        </p:txBody>
      </p:sp>
      <p:sp>
        <p:nvSpPr>
          <p:cNvPr id="501" name=""/>
          <p:cNvSpPr txBox="1"/>
          <p:nvPr/>
        </p:nvSpPr>
        <p:spPr>
          <a:xfrm>
            <a:off x="990720" y="837720"/>
            <a:ext cx="8153280" cy="533412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ccessfully implement Project (PR) 010_03 MarkeTrak Phase III Enhancements via System Change Request (SCR756) Part B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Board approved, support all phases of SCR 776, Retail Data Transport Upgrade to NAESB EDM v2.2</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oject Planning,  Project Execution,  Market Testing and </a:t>
            </a:r>
            <a:endParaRPr b="0" lang="en-US" sz="1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ducation &amp; Communication</a:t>
            </a:r>
            <a:endParaRPr b="0" lang="en-US" sz="1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lete review of current Flight Testing and scripts in an effort to find opportunities for improvements and efficiencies for future Market test flights.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ccessfully implement Sharyland Utilities (SU) transition to competition.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nset the following taskforces:</a:t>
            </a:r>
            <a:endParaRPr b="0" lang="en-US" sz="2000" spc="-1" strike="noStrike">
              <a:solidFill>
                <a:srgbClr val="000000"/>
              </a:solidFill>
              <a:latin typeface="Gill Sans MT"/>
            </a:endParaRPr>
          </a:p>
          <a:p>
            <a:pPr lvl="2" marL="779400" indent="-2008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rak Task Force, if all Phase III Enhancements (SCR756) are successfully implemented and plan is developed to transition all MarkeTrak Taskforce responsibilities to the Texas Data Transport Working Group</a:t>
            </a:r>
            <a:endParaRPr b="0" lang="en-US" sz="1800" spc="-1" strike="noStrike">
              <a:solidFill>
                <a:srgbClr val="000000"/>
              </a:solidFill>
              <a:latin typeface="Gill Sans MT"/>
            </a:endParaRPr>
          </a:p>
          <a:p>
            <a:pPr lvl="2" marL="779400" indent="-2008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haryland Transition Taskforce, if all transition to competition tasks have been successfully implemented.  </a:t>
            </a:r>
            <a:endParaRPr b="0" lang="en-US" sz="18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779400" indent="-2008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50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0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372C-431B-4FCB-8907-6A56802045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506" name="Picture 5" descr="MCj04344110000[1]"/>
          <p:cNvPicPr/>
          <p:nvPr/>
        </p:nvPicPr>
        <p:blipFill>
          <a:blip r:embed="rId1"/>
          <a:stretch/>
        </p:blipFill>
        <p:spPr>
          <a:xfrm>
            <a:off x="2286000" y="1219320"/>
            <a:ext cx="5334120" cy="4038480"/>
          </a:xfrm>
          <a:prstGeom prst="rect">
            <a:avLst/>
          </a:prstGeom>
          <a:ln w="0">
            <a:noFill/>
          </a:ln>
        </p:spPr>
      </p:pic>
      <p:sp>
        <p:nvSpPr>
          <p:cNvPr id="50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0B2C-0B6D-4EA2-8701-526BB743CF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0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50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0  RMS/TAC Approved</a:t>
            </a:r>
            <a:endParaRPr b="0" lang="en-US" sz="4300" spc="-1" strike="noStrike">
              <a:solidFill>
                <a:srgbClr val="572314"/>
              </a:solidFill>
              <a:latin typeface="Gill Sans MT"/>
            </a:endParaRPr>
          </a:p>
        </p:txBody>
      </p:sp>
      <p:sp>
        <p:nvSpPr>
          <p:cNvPr id="424" name=""/>
          <p:cNvSpPr txBox="1"/>
          <p:nvPr/>
        </p:nvSpPr>
        <p:spPr>
          <a:xfrm>
            <a:off x="939960" y="685800"/>
            <a:ext cx="8229600" cy="54100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0</a:t>
            </a:r>
            <a:r>
              <a:rPr b="0" lang="en-US" sz="2800" spc="-1" strike="noStrike">
                <a:solidFill>
                  <a:srgbClr val="000000"/>
                </a:solidFill>
                <a:latin typeface="Gill Sans MT"/>
              </a:rPr>
              <a:t>, Sharyland Updates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updates Sharyland business processes and contact information to support the Sharyland transition to competition and proposes non-substantive administrative changes to correct title references and acronym usage.</a:t>
            </a:r>
            <a:endParaRPr b="0" lang="en-US" sz="20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4/01/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0 language changes and its implementation with an Urgent Status.</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s Impact Analysis reflects: </a:t>
            </a:r>
            <a:endParaRPr b="0" lang="en-US" sz="20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project required.  This Retail Market Guide Revision Request (RMGRR) can take effect upon the Technical Advisory Committee (TAC) approval.</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impacts to Staffing, Computer Systems or Business Functions </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 April 24</a:t>
            </a:r>
            <a:r>
              <a:rPr b="1" lang="en-US" sz="2000" spc="-1" strike="noStrike" baseline="30000">
                <a:solidFill>
                  <a:srgbClr val="000000"/>
                </a:solidFill>
                <a:latin typeface="Gill Sans MT"/>
              </a:rPr>
              <a:t>th</a:t>
            </a:r>
            <a:r>
              <a:rPr b="1" lang="en-US" sz="2000" spc="-1" strike="noStrike">
                <a:solidFill>
                  <a:srgbClr val="000000"/>
                </a:solidFill>
                <a:latin typeface="Gill Sans MT"/>
              </a:rPr>
              <a:t> TAC Approved RMGRR120 </a:t>
            </a:r>
            <a:r>
              <a:rPr b="0" lang="en-US" sz="2000" spc="-1" strike="noStrike">
                <a:solidFill>
                  <a:srgbClr val="000000"/>
                </a:solidFill>
                <a:latin typeface="Gill Sans MT"/>
              </a:rPr>
              <a:t>where these changes were implemented and available to MPs in the Retail Market Guide (RMG) on 5/1/14 that synchronized with Sharyland Utilities’ transition effective date.  </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mktrules/guides/retail/curr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982A-7A1F-4CB8-9A9E-3B1190D5A8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5/6/14 – RMGRRs Approved by RMS </a:t>
            </a:r>
            <a:endParaRPr b="0" lang="en-US" sz="3900" spc="-1" strike="noStrike">
              <a:solidFill>
                <a:srgbClr val="572314"/>
              </a:solidFill>
              <a:latin typeface="Gill Sans MT"/>
            </a:endParaRPr>
          </a:p>
        </p:txBody>
      </p:sp>
      <p:sp>
        <p:nvSpPr>
          <p:cNvPr id="429" name=""/>
          <p:cNvSpPr txBox="1"/>
          <p:nvPr/>
        </p:nvSpPr>
        <p:spPr>
          <a:xfrm>
            <a:off x="939960" y="685800"/>
            <a:ext cx="8229600" cy="54100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1</a:t>
            </a:r>
            <a:r>
              <a:rPr b="0" lang="en-US" sz="2400" spc="-1" strike="noStrike">
                <a:solidFill>
                  <a:srgbClr val="000000"/>
                </a:solidFill>
                <a:latin typeface="Gill Sans MT"/>
              </a:rPr>
              <a:t>, Clarification of Inadvertent Gain Process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06/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1.   This RMGRR will be scheduled for TAC’s consideration during their May 29</a:t>
            </a:r>
            <a:r>
              <a:rPr b="1" lang="en-US" sz="1800" spc="-1" strike="noStrike" baseline="30000">
                <a:solidFill>
                  <a:srgbClr val="000000"/>
                </a:solidFill>
                <a:latin typeface="Gill Sans MT"/>
              </a:rPr>
              <a:t>th</a:t>
            </a:r>
            <a:r>
              <a:rPr b="1" lang="en-US" sz="1800" spc="-1" strike="noStrike">
                <a:solidFill>
                  <a:srgbClr val="000000"/>
                </a:solidFill>
                <a:latin typeface="Gill Sans MT"/>
              </a:rPr>
              <a:t> meeting. </a:t>
            </a:r>
            <a:endParaRPr b="0" lang="en-US" sz="1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2</a:t>
            </a:r>
            <a:r>
              <a:rPr b="0" lang="en-US" sz="2400" spc="-1" strike="noStrike">
                <a:solidFill>
                  <a:srgbClr val="000000"/>
                </a:solidFill>
                <a:latin typeface="Gill Sans MT"/>
              </a:rPr>
              <a:t>, Synchronization with NPRR608, Alignment of Transaction Timing to the PUCT Performance Measures </a:t>
            </a:r>
            <a:r>
              <a:rPr b="1" lang="en-US" sz="2400" spc="-1" strike="noStrike">
                <a:solidFill>
                  <a:srgbClr val="000000"/>
                </a:solidFill>
                <a:latin typeface="Gill Sans MT"/>
              </a:rPr>
              <a:t>(Vo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6/14:</a:t>
            </a:r>
            <a:r>
              <a:rPr b="0" lang="en-US" sz="2000" spc="-1" strike="noStrike">
                <a:solidFill>
                  <a:srgbClr val="000000"/>
                </a:solidFill>
                <a:latin typeface="Gill Sans MT"/>
              </a:rPr>
              <a:t>  This Retail Market Guide Revision Request aligns ERCOT’s processing time with the transactional timing in the Public Utility Commission of Texas’ (PUCT’s) Performance Measures.</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5/06/14</a:t>
            </a:r>
            <a:r>
              <a:rPr b="0" lang="en-US" sz="1800" spc="-1" strike="noStrike">
                <a:solidFill>
                  <a:srgbClr val="000000"/>
                </a:solidFill>
                <a:latin typeface="Gill Sans MT"/>
              </a:rPr>
              <a:t>:  RMS unanimously </a:t>
            </a:r>
            <a:r>
              <a:rPr b="1" lang="en-US" sz="1800" spc="-1" strike="noStrike">
                <a:solidFill>
                  <a:srgbClr val="000000"/>
                </a:solidFill>
                <a:latin typeface="Gill Sans MT"/>
              </a:rPr>
              <a:t>Approved RMGRR122 as recommended by TDTWG and TX SET</a:t>
            </a:r>
            <a:r>
              <a:rPr b="0" lang="en-US" sz="1800" spc="-1" strike="noStrike">
                <a:solidFill>
                  <a:srgbClr val="000000"/>
                </a:solidFill>
                <a:latin typeface="Gill Sans MT"/>
              </a:rPr>
              <a:t>.   IA is scheduled for RMS review on 6/3/14</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AD65-7CC0-4B86-A747-904ECB12AB7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5/6/14 - NPRR Approved by RMS </a:t>
            </a:r>
            <a:endParaRPr b="0" lang="en-US" sz="4300" spc="-1" strike="noStrike">
              <a:solidFill>
                <a:srgbClr val="572314"/>
              </a:solidFill>
              <a:latin typeface="Gill Sans MT"/>
            </a:endParaRPr>
          </a:p>
        </p:txBody>
      </p:sp>
      <p:sp>
        <p:nvSpPr>
          <p:cNvPr id="434" name=""/>
          <p:cNvSpPr txBox="1"/>
          <p:nvPr/>
        </p:nvSpPr>
        <p:spPr>
          <a:xfrm>
            <a:off x="939960" y="685800"/>
            <a:ext cx="8229600" cy="541008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NPRR608</a:t>
            </a:r>
            <a:r>
              <a:rPr b="0" lang="en-US" sz="2800" spc="-1" strike="noStrike">
                <a:solidFill>
                  <a:srgbClr val="000000"/>
                </a:solidFill>
                <a:latin typeface="Gill Sans MT"/>
              </a:rPr>
              <a:t>, Alignment of Transaction Timing to the PUCT Performance Measures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6/14: </a:t>
            </a:r>
            <a:r>
              <a:rPr b="0" lang="en-US" sz="2400" spc="-1" strike="noStrike">
                <a:solidFill>
                  <a:srgbClr val="000000"/>
                </a:solidFill>
                <a:latin typeface="Gill Sans MT"/>
              </a:rPr>
              <a:t>This Nodal Protocol Revision Request (NPRR) aligns ERCOT’s processing time with the transactional timing in the Public Utility Commission of Texas’ (PUCT’s) Performance Measures.</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Guide Revision Request (RMGRR)122, Synchronization with NPRR608, Alignment of Transaction Timing to the PUCT Performance Measures</a:t>
            </a:r>
            <a:endParaRPr b="0" lang="en-US" sz="2000" spc="-1" strike="noStrike">
              <a:solidFill>
                <a:srgbClr val="000000"/>
              </a:solidFill>
              <a:latin typeface="Gill Sans MT"/>
            </a:endParaRPr>
          </a:p>
          <a:p>
            <a:pPr lvl="3" marL="1085760" indent="-1713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ason for change is a Regulatory Requirement </a:t>
            </a:r>
            <a:endParaRPr b="0" lang="en-US" sz="1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6/14</a:t>
            </a:r>
            <a:r>
              <a:rPr b="0" lang="en-US" sz="2000" spc="-1" strike="noStrike">
                <a:solidFill>
                  <a:srgbClr val="000000"/>
                </a:solidFill>
                <a:latin typeface="Gill Sans MT"/>
              </a:rPr>
              <a:t>:  </a:t>
            </a:r>
            <a:r>
              <a:rPr b="1" lang="en-US" sz="2000" spc="-1" strike="noStrike">
                <a:solidFill>
                  <a:srgbClr val="000000"/>
                </a:solidFill>
                <a:latin typeface="Gill Sans MT"/>
              </a:rPr>
              <a:t>RMS unanimously endorsed NPRR608 as submitted by ERCOT and recommended by TXSET and TDTWG</a:t>
            </a:r>
            <a:r>
              <a:rPr b="0" lang="en-US" sz="2000" spc="-1" strike="noStrike">
                <a:solidFill>
                  <a:srgbClr val="000000"/>
                </a:solidFill>
                <a:latin typeface="Gill Sans MT"/>
              </a:rPr>
              <a:t>.  This RMS recommendation will be provided to PRS during their May 15, 2014 meeting for their voting consideration.   </a:t>
            </a:r>
            <a:endParaRPr b="0" lang="en-US" sz="2000" spc="-1" strike="noStrike">
              <a:solidFill>
                <a:srgbClr val="000000"/>
              </a:solidFill>
              <a:latin typeface="Gill Sans MT"/>
            </a:endParaRPr>
          </a:p>
          <a:p>
            <a:pPr lvl="2" marL="87696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77AF-B2C9-40B3-A29B-AA5D659E53F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39" name=""/>
          <p:cNvSpPr txBox="1"/>
          <p:nvPr/>
        </p:nvSpPr>
        <p:spPr>
          <a:xfrm>
            <a:off x="838080" y="762120"/>
            <a:ext cx="8382240" cy="54100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en-US" sz="2400" spc="-1" strike="noStrike" baseline="30000">
                <a:solidFill>
                  <a:srgbClr val="000000"/>
                </a:solidFill>
                <a:latin typeface="Gill Sans MT"/>
              </a:rPr>
              <a:t>st</a:t>
            </a:r>
            <a:r>
              <a:rPr b="1" lang="en-US" sz="2400" spc="-1" strike="noStrike">
                <a:solidFill>
                  <a:srgbClr val="000000"/>
                </a:solidFill>
                <a:latin typeface="Gill Sans MT"/>
              </a:rPr>
              <a:t> Stag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Sharyland’s Customers would Select a REP during February 1- April 13, 2014: </a:t>
            </a:r>
            <a:endParaRPr b="0" lang="en-US" sz="22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etitive REPs were allowed to sign-up Sharyland Customers and submit Move-In transactions during this timeframe requesting the Customer’s May 2014 meter read date as the initial transition to competition requested date</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en-US" sz="2400" spc="-1" strike="noStrike" baseline="30000">
                <a:solidFill>
                  <a:srgbClr val="000000"/>
                </a:solidFill>
                <a:latin typeface="Gill Sans MT"/>
              </a:rPr>
              <a:t>nd</a:t>
            </a:r>
            <a:r>
              <a:rPr b="1" lang="en-US" sz="2400" spc="-1" strike="noStrike">
                <a:solidFill>
                  <a:srgbClr val="000000"/>
                </a:solidFill>
                <a:latin typeface="Gill Sans MT"/>
              </a:rPr>
              <a:t> Stag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or Sharyland’s Customers that Did NOT Select a REP: </a:t>
            </a:r>
            <a:endParaRPr b="0" lang="en-US" sz="22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rom April 14-16</a:t>
            </a:r>
            <a:r>
              <a:rPr b="0" lang="en-US" sz="1800" spc="-1" strike="noStrike">
                <a:solidFill>
                  <a:srgbClr val="000000"/>
                </a:solidFill>
                <a:latin typeface="Gill Sans MT"/>
              </a:rPr>
              <a:t>,  Sharyland determined which customers </a:t>
            </a:r>
            <a:r>
              <a:rPr b="0" lang="en-US" sz="1800" spc="-1" strike="noStrike" u="sng">
                <a:solidFill>
                  <a:srgbClr val="000000"/>
                </a:solidFill>
                <a:uFillTx/>
                <a:latin typeface="Gill Sans MT"/>
              </a:rPr>
              <a:t>had not chosen a Competitive REP </a:t>
            </a:r>
            <a:r>
              <a:rPr b="0" lang="en-US" sz="1800" spc="-1" strike="noStrike">
                <a:solidFill>
                  <a:srgbClr val="000000"/>
                </a:solidFill>
                <a:latin typeface="Gill Sans MT"/>
              </a:rPr>
              <a:t>and randomly assigned those customers to </a:t>
            </a:r>
            <a:r>
              <a:rPr b="1" lang="en-US" sz="1800" spc="-1" strike="noStrike">
                <a:solidFill>
                  <a:srgbClr val="000000"/>
                </a:solidFill>
                <a:latin typeface="Gill Sans MT"/>
              </a:rPr>
              <a:t>Default REPs</a:t>
            </a:r>
            <a:r>
              <a:rPr b="0" lang="en-US" sz="1800" spc="-1" strike="noStrike">
                <a:solidFill>
                  <a:srgbClr val="000000"/>
                </a:solidFill>
                <a:latin typeface="Gill Sans MT"/>
              </a:rPr>
              <a:t>, as identified in the PUCT Order.</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Default REPs will submit their Move-Ins</a:t>
            </a:r>
            <a:r>
              <a:rPr b="0" lang="en-US" sz="1800" spc="-1" strike="noStrike">
                <a:solidFill>
                  <a:srgbClr val="000000"/>
                </a:solidFill>
                <a:latin typeface="Gill Sans MT"/>
              </a:rPr>
              <a:t> for their assigned Customer’s ESI IDs between April 17 and 27, 2014. </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2,018 ESIIDs were distributed to Default Providers on 4/16 and all corresponding transactions had been accounted for by 04/25, an additional 980 ESIIDs were dropped to Default REPs on 5/2/14</a:t>
            </a: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250B-7086-40F6-9FA7-F673494F52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44" name=""/>
          <p:cNvSpPr txBox="1"/>
          <p:nvPr/>
        </p:nvSpPr>
        <p:spPr>
          <a:xfrm>
            <a:off x="838080" y="685800"/>
            <a:ext cx="830592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en-US" sz="2400" spc="-1" strike="noStrike" baseline="30000">
                <a:solidFill>
                  <a:srgbClr val="000000"/>
                </a:solidFill>
                <a:latin typeface="Gill Sans MT"/>
              </a:rPr>
              <a:t>RD </a:t>
            </a:r>
            <a:r>
              <a:rPr b="1" lang="en-US" sz="2400" spc="-1" strike="noStrike">
                <a:solidFill>
                  <a:srgbClr val="000000"/>
                </a:solidFill>
                <a:latin typeface="Gill Sans MT"/>
              </a:rPr>
              <a:t> Stag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Beginning April 28, 2014 </a:t>
            </a:r>
            <a:r>
              <a:rPr b="0" lang="en-US" sz="2200" spc="-1" strike="noStrike">
                <a:solidFill>
                  <a:srgbClr val="000000"/>
                </a:solidFill>
                <a:latin typeface="Gill Sans MT"/>
              </a:rPr>
              <a:t>since all Customers will have either selected Competitive Retailer or were assigned a Provider by Default; </a:t>
            </a:r>
            <a:endParaRPr b="0" lang="en-US" sz="22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Sharyland receives a Move-In from the Competitive REP with a May date as defined in the SU Transition Taskforce documentation,  the initial Default REP’s Move-In will be rejected as unexecutable and Sharyland will execute the Competitive REP’s Move-In for the May 2014 Scheduled Meter Read Date allowing Customer’s Choice of REP to prevail.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inal Stag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Effective May 1, 2014 and during the May 2014 Scheduled Meter Read Date all premises energized and assigned to SU shall be transitioned to either a Competitive REP or Default REP, therefore,  another ESI ID scrub will be performed end of May </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FE88-DAB4-455C-9665-3E367FE3333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449" name=""/>
          <p:cNvSpPr txBox="1"/>
          <p:nvPr/>
        </p:nvSpPr>
        <p:spPr>
          <a:xfrm>
            <a:off x="838080" y="762120"/>
            <a:ext cx="8305920" cy="5333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Transition Numbers :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Effective May 2, 2014: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ED3B-7DC5-470A-9476-20CBEC0E3A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3" name=""/>
          <p:cNvGraphicFramePr/>
          <p:nvPr/>
        </p:nvGraphicFramePr>
        <p:xfrm>
          <a:off x="1523880" y="2057400"/>
          <a:ext cx="6934320" cy="3886200"/>
        </p:xfrm>
        <a:graphic>
          <a:graphicData uri="http://schemas.openxmlformats.org/drawingml/2006/table">
            <a:tbl>
              <a:tblPr/>
              <a:tblGrid>
                <a:gridCol w="1773360"/>
                <a:gridCol w="1049400"/>
                <a:gridCol w="885600"/>
                <a:gridCol w="646200"/>
                <a:gridCol w="885960"/>
                <a:gridCol w="243000"/>
                <a:gridCol w="1450800"/>
              </a:tblGrid>
              <a:tr h="2092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Customer Clas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Total Number of ESI ID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of ESI IDs with MVIs Scheduled and In Review</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With Chosen REP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of ESI IDs assigned to Default REPs 4/14/201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Number of ESI IDs assigned to Default REPs on 5/2/201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72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RE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21,88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0,6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48.4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1,27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16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Smal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Non-RE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26,38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5,84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60.0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0,54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Medi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Non-RES</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91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5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63.8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3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16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Lar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Non-RES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78.9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2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Total</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49,20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27,18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55.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22,01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MT"/>
                        </a:rPr>
                        <a:t>96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s Unplanned IT System Outage</a:t>
            </a:r>
            <a:endParaRPr b="0" lang="en-US" sz="3900" spc="-1" strike="noStrike">
              <a:solidFill>
                <a:srgbClr val="572314"/>
              </a:solidFill>
              <a:latin typeface="Gill Sans MT"/>
            </a:endParaRPr>
          </a:p>
        </p:txBody>
      </p:sp>
      <p:sp>
        <p:nvSpPr>
          <p:cNvPr id="455" name=""/>
          <p:cNvSpPr txBox="1"/>
          <p:nvPr/>
        </p:nvSpPr>
        <p:spPr>
          <a:xfrm>
            <a:off x="838080" y="685800"/>
            <a:ext cx="8229600" cy="541008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RCOT’s Infrastructure Failure occurred on Tuesday (3/11) beginning at 9:27AM affected numerous market systems.</a:t>
            </a:r>
            <a:r>
              <a:rPr b="0" lang="en-US" sz="3200" spc="-1" strike="noStrike">
                <a:solidFill>
                  <a:srgbClr val="000000"/>
                </a:solidFill>
                <a:latin typeface="Gill Sans MT"/>
              </a:rPr>
              <a:t>  </a:t>
            </a:r>
            <a:r>
              <a:rPr b="0" lang="en-US" sz="2800" spc="-1" strike="noStrike">
                <a:solidFill>
                  <a:srgbClr val="000000"/>
                </a:solidFill>
                <a:latin typeface="Gill Sans MT"/>
              </a:rPr>
              <a:t>Duration of Outage</a:t>
            </a:r>
            <a:r>
              <a:rPr b="1" lang="en-US" sz="2800" spc="-1" strike="noStrike">
                <a:solidFill>
                  <a:srgbClr val="c00000"/>
                </a:solidFill>
                <a:latin typeface="Gill Sans MT"/>
              </a:rPr>
              <a:t>1,688</a:t>
            </a:r>
            <a:r>
              <a:rPr b="0" lang="en-US" sz="2800" spc="-1" strike="noStrike">
                <a:solidFill>
                  <a:srgbClr val="000000"/>
                </a:solidFill>
                <a:latin typeface="Gill Sans MT"/>
              </a:rPr>
              <a:t> minutes</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he following services were restored at ERCOT’s alternate data center between 03/12 and 03/14</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Transaction Processing</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Requests &amp; Settlement Disputes</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 Participant ID Management (MPIM)</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 Information System (MIS) Retail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RCOT.com</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API</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GUI</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Testing Environment (Market Flight 0214 in progress)</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rid Operations IT systems were not affected </a:t>
            </a:r>
            <a:endParaRPr b="0" lang="en-US" sz="2000" spc="-1" strike="noStrike">
              <a:solidFill>
                <a:srgbClr val="000000"/>
              </a:solidFill>
              <a:latin typeface="Gill Sans MT"/>
            </a:endParaRPr>
          </a:p>
        </p:txBody>
      </p:sp>
      <p:sp>
        <p:nvSpPr>
          <p:cNvPr id="4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 </a:t>
            </a:r>
            <a:endParaRPr b="0" lang="en-US" sz="1200" spc="-1" strike="noStrike">
              <a:solidFill>
                <a:srgbClr val="000000"/>
              </a:solidFill>
              <a:latin typeface="Arial"/>
            </a:endParaRPr>
          </a:p>
        </p:txBody>
      </p:sp>
      <p:sp>
        <p:nvSpPr>
          <p:cNvPr id="4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B410-AFC5-46E2-B0CF-B4031A6A289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s Unplanned IT System Outage</a:t>
            </a:r>
            <a:endParaRPr b="0" lang="en-US" sz="3900" spc="-1" strike="noStrike">
              <a:solidFill>
                <a:srgbClr val="572314"/>
              </a:solidFill>
              <a:latin typeface="Gill Sans MT"/>
            </a:endParaRPr>
          </a:p>
        </p:txBody>
      </p:sp>
      <p:sp>
        <p:nvSpPr>
          <p:cNvPr id="460" name=""/>
          <p:cNvSpPr txBox="1"/>
          <p:nvPr/>
        </p:nvSpPr>
        <p:spPr>
          <a:xfrm>
            <a:off x="838080" y="533160"/>
            <a:ext cx="8229600" cy="556236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n May 6, 2014 following RMS</a:t>
            </a:r>
            <a:r>
              <a:rPr b="0" lang="en-US" sz="2800" spc="-1" strike="noStrike">
                <a:solidFill>
                  <a:srgbClr val="000000"/>
                </a:solidFill>
                <a:latin typeface="Gill Sans MT"/>
              </a:rPr>
              <a:t>,  </a:t>
            </a:r>
            <a:r>
              <a:rPr b="1" lang="en-US" sz="2800" spc="-1" strike="noStrike">
                <a:solidFill>
                  <a:srgbClr val="000000"/>
                </a:solidFill>
                <a:latin typeface="Gill Sans MT"/>
              </a:rPr>
              <a:t>a Disaster Recovery Workshop was held to Review ERCOT’s Current Disaster Recovery Processes and to determine where areas of improvements may exist</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lot of good discussion and several action items were identified that will require additional follow-up meetings between ERCOT and Market Participants.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requested that ERCOT provide their Disaster Recovery workshop updates/feedback to the Texas Data Transport Working Group (TDTWG) since TDTWG is responsible for the maintenance and monitoring of the Retail Market IT Services - Service Level Agreement (SLA).  </a:t>
            </a:r>
            <a:endParaRPr b="0" lang="en-US" sz="2400" spc="-1" strike="noStrike">
              <a:solidFill>
                <a:srgbClr val="000000"/>
              </a:solidFill>
              <a:latin typeface="Gill Sans MT"/>
            </a:endParaRPr>
          </a:p>
          <a:p>
            <a:pPr lvl="1" marL="588240" indent="-217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4, 2014</a:t>
            </a:r>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107B-9257-4597-8878-D36DD56FBB0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64" name="Object 2"/>
          <p:cNvGraphicFramePr/>
          <p:nvPr/>
        </p:nvGraphicFramePr>
        <p:xfrm>
          <a:off x="7848720" y="1371600"/>
          <a:ext cx="914400" cy="771480"/>
        </p:xfrm>
        <a:graphic>
          <a:graphicData uri="http://schemas.openxmlformats.org/presentationml/2006/ole">
            <p:oleObj r:id="rId1" spid="">
              <p:embed/>
              <p:pic>
                <p:nvPicPr>
                  <p:cNvPr id="465" name="Object 2" descr=""/>
                  <p:cNvPicPr/>
                  <p:nvPr/>
                </p:nvPicPr>
                <p:blipFill>
                  <a:blip r:embed="rId2"/>
                  <a:stretch/>
                </p:blipFill>
                <p:spPr>
                  <a:xfrm>
                    <a:off x="7848720" y="13716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5-13T03:03:59Z</dcterms:modified>
  <cp:revision>552</cp:revision>
  <dc:subject/>
  <dc:title>Instructions</dc:title>
</cp:coreProperties>
</file>