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085-1AE2-487B-B148-E693988E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CF5-B02C-4F63-B5D7-7D7E922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A82-8465-47BD-BDA0-CDDE8F0E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9BD-B3A2-4A56-A17B-FAC842E1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6DA-EB95-4674-89A2-2076280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1D5-0A60-431F-946E-6FE47BA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F09-4938-4818-AFDB-D6EEE06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BB0-59C5-4001-9905-00258A7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F3F-A909-4233-B8B8-A3F8698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D6-3B2F-4242-B981-71B2C7C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AED-FB0F-4213-A6A0-DA992B2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E8D-42B0-4AD8-A46B-4ECBA00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7B1-3881-408A-BBDD-C098B66BA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A82-D95D-4334-AEFA-3883EAAB7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7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ADBC-C2A0-4B8A-838B-D1110EB92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COT Reporting Requirements of RUC Make-Whole Payments for Resources with PPAs and RUC Cancel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819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currently required to produce a report each April that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centage of RUC Make-Whole Payments for Resources with PPAs during the 12 months of the previous calendar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centage of the RUC Decommitment Payment Amounts that are a result of RUC cancellations during the 12 months of the previous calendar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hing to report since the start of No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discussion for ERCOT to report only when there are occurrences to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PS Energy will submit an NPR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A7E6-1AB2-4B13-8834-D1D04BD17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ding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itigated Offer Caps for QSGRs and CCGR Power Augm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ERCOT working on analysis of QSGRs operating in non-quickstart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erifiable Costs for New Technolog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planning to investigate verifiable costs for CAES upon resolution of NPRR5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E5B-D053-44FC-89E6-4C7BF9D89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Resources were mitigated  in real-time to below their actual cost due to large differences between FIP and the actual spot gas price during February and March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Texas spot gas prices were much higher than the Houston Ship Channel daily index price used for F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-day gas prices were significantly higher than FIP on certain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MS Guidance – prefer market-based solution that minimizes the need for any settlement adjustment and resulting upl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CWG discussed 3 Options for changes to F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657-35C2-43AC-B3FF-21B890A7F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 – Use current FIP(HSC) unless Waha price is greater than HSC by a threshold “F”, then use Waha price for FI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(Waha-HSC)&gt;F, then FIP= Waha, else H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s current “market-accepted” FIP, unless the Waha pric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teri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igher than HS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changes are required but initial indications are changes could be minor (depending on impact analys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 during exceptional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same-day gas purchases that are higher than 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define threshold “F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B3E-ABFF-4FD5-B328-916A7BA56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9047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 – Change FIP to the higher of HSC or Waha daily index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es events when the Waha price is higher than HS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tter reflect ERCOT-wide marginal cost of gas in current gas mark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changes are required and would be similar to Op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, more so than Op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same-day gas purchases that are higher than 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13F5-9B60-4FB4-B533-65184C59B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82480" indent="-285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– Resource specific FIP (designate HSC or Waha) with higher of HSC or Waha during exceptional events (similar to Option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BS(Waha-HSC)&gt;F, then FIP=Max(Waha, 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provide more accurate MOC’s for Resources with access to only HSC or Waha gas markets during normal con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es exceptional events when the HSC or Waha price is materially higher than the resource specific F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 during exceptional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same-day gas purchases that are higher than 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a higher system implementation cost than the other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define threshold “F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F978-D476-41DA-914B-AE1A27BB1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FIP option should RCWG use to develop protocol languag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ption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Use current FIP(HSC) unless Waha price is greater than HSC by a threshold “F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ption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hange FIP to the higher of HSC or Waha daily index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ption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Resource specific FIP with higher of HSC or Waha during exception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795-D614-465A-AEAE-EF6DA2EE0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Payments for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one of these FIP options shoul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du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need for a post-settlement adju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a settlement make-whole adjustment may still be needed to address events such as same-day gas purchases higher than F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F23-19E8-4F63-BCCB-13D3ED4D2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Payments for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Re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e the dispute process and provide evidence of actual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COT would require a settlement mechanism to allocate paymen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anual Settle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Uplift Allocation Op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Load Ratio Shar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costs may be allocated to Loads that were not impacted by the cong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Zonal Load Ratio Shar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May provide a more appropriate allocation of costs to Loads, but difficult to identify which zone is being impa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664-83EA-4705-9E5E-DC91E8F2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Payments for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rection from W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a make-whole mechanism be implement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es, how should the costs be al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l L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ed with developing protocol and verifiable cost manual revi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371-1106-4066-9BE8-FA1B711D0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4-05-01T20:18:01Z</dcterms:modified>
  <cp:revision>104</cp:revision>
  <dc:subject/>
  <dc:title>QMWG Update to WMS</dc:title>
</cp:coreProperties>
</file>