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41CEE-1E2A-42D1-89FA-293F0033F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1CC23-B57A-4A14-86AA-97BBF4B0D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EEB-0950-4ACD-BF22-B3240898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E02-9F28-4909-963F-71AAC0B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1DACBB-4D01-4683-882B-60BAEE96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9E00DC-72F0-42B3-9A08-1D51AD1D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7CF7B-E6C0-4720-B2CD-3D6B61FB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356D1-65E9-4B83-AB4D-2973F8A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2731C-7B5A-42EE-A383-DE1D664F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4CC89-AAA0-43FB-B3F5-7ED79791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E8947-1FCD-454F-A35D-87D4C0BF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681581-54B4-4E59-90C4-8D8BFAF5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B273E-10C4-4C10-8844-1F90595B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DCEA3-71CC-4014-A81D-496AEBF5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E29-F9C6-4248-8608-EFEDC110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717E3-8170-4096-B378-9C329B9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77D29-5010-42AA-99B8-B365EB26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BDB79-ACFB-4CA8-8295-3EDD5ABF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43D65-9FA3-4B51-9F3F-6B3E2216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53C75-7CCB-43F4-B417-E742877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23C5E-41D7-43A3-9BC1-E756F6D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34524-15FD-4D68-9AD4-8681C0DB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80183-AB28-4327-88A9-0CBB4BB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EBC06-53CA-416B-A0C1-47BE01A1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F9737-47CA-4CEA-A7FE-44FF2A2C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EDE-2DC4-4E24-84DB-4EB2B060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5C056-F48F-45BE-9B9E-8F0992A0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B5646-A632-4779-A0E0-EE5465B5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F93811-B20C-4683-9A2F-7EE0E00D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9453AE-C2FF-416F-972E-59CF1D07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B80549-D8A0-4B7F-BEB5-F7A2544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50090A-2097-4B02-ABCE-F6B1E665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622E20-01D7-4208-9D72-DCCC8B6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CA30B3-3E12-4C17-93C0-F699E87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81B842-87C9-4AB8-B4C2-BFE8B8AB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03390A-7525-4B83-BBFB-7E730CF7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C912-0C5A-4DCA-B29D-D2E3151D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8B6E68-3E25-42DA-A87F-544EB56B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C2DBA7-6F5B-49C3-AB48-7FF65399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6DE50D-588C-442F-9178-19C344C0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35B3-A1E5-4184-B190-AF1DAB2C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F22-FB16-4B21-B066-65C6A3C5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0216-7B87-4241-A81E-6AAB7BA2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DA3C-2044-48DD-B521-8C0157BF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F937-B980-4D99-A2D9-86682B8A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93A7-6A48-42E4-96A5-E94F8F13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2DC-5783-4409-9545-00DC9137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69C8-F2FC-4D5D-9C46-C0A8AF1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2741-517B-4945-928C-8E56136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13CD-BE64-4E93-AFC5-664D60A9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B4DA-49CC-48EE-927D-0333F44B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A68-2C9E-4554-92C9-C4D5DED2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71B-FEB5-4A93-8334-23139522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3CA-709D-4BB3-B586-31BE26ED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B3B44-3DF0-4F08-9437-068703E5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CC7-C97B-454B-8F54-A0FE1C7F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B6C28-17B6-4C7A-AF2B-42EBA1F4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3DF31-D6DB-4666-BE6B-0AE1A3E0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810F5-647E-443D-9976-24F8BD4C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E7D7D-619B-454F-B1BC-C9EEA40E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225F8-1E84-4899-BAB8-E86F9E6C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FF642-31FE-45FE-B0D8-0A8CAF2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A09C8-C761-4C14-AB87-3C47371D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C6136-55F1-43F1-8F7D-82D6760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BC16C-4490-469E-ACE9-D24E53D3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ED6A7-ACAF-4ACB-8528-B8BEC68B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7C8-6136-435B-B2E1-A4FB4749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FB617-5527-4045-B40D-5BC6B68C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2AEF3-3D3E-4C66-86DE-51EE8DEC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559EC-D7DA-409A-B1AB-823A1F5F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9C035A-D067-4347-9C7F-09B86AF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78C2D-3D7A-4B48-A4D2-101822C8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FE0D37-BAE2-46A5-AE24-E31D05CF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146DC-2D6C-4A5F-8746-1A0ABD6D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FDFAC4-7BA2-4CBD-9426-1FD5B988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470CE-4E23-4806-93AC-3D7D3599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7C575-31A0-4F18-808A-E1179B6D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035-4BF5-4DC4-A522-5B7A5AF7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90F92-F802-4635-BD74-07D5A2DC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BDA13-66E3-47CE-8038-1E5CB359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BE7307-799B-42B9-8273-F91D00B1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3C9503-5DB7-46C0-9B88-748ADCE6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0406F7-18A3-480C-AAE0-199766E2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30EDF5-C842-41DD-B6FA-372B7B5D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F45466-AFE2-45FA-B0CE-48675F6A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ADCB7F-3CB8-43A0-AD32-B04EA270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F38CF1-2466-4AC4-83C4-69E43AF2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AD5EE3-A368-4001-93B6-1CE08D6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79C-CC69-40FA-82E8-6C58E4F8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4E80F0-B78F-4F32-BC71-201BFCF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E43BD-4175-48E7-AF3C-B1EECA75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A1FEA-4BA3-49FB-87B6-8927A411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810A0A-EABB-4AB9-818C-70249CED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41024D-C5C8-4847-9386-89D10F0F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F92102-E3A5-4466-B9A5-F79746E2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EAF856-2420-4BC4-B611-B8E99D07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F88C46-DB6D-4604-A7C5-D774F58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23AA63-09BE-40E3-970C-EF6B5421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4FC664-55C2-4078-A302-0DAEF54C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859-90F2-42E7-84C3-E54B5576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C086B-0BBD-4C0B-9848-569723E4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7ACEF2-81F6-47DB-916E-75F8E51E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F8BAD-B49B-45AC-A2CA-2CBAC1E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633C9B-7DF3-41F7-BCD6-BBCCE6B0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B62DC5-83D8-4F59-BAB3-F420544B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C8D863-7953-4B8A-8A1F-F6EAF140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5F867-424A-4D70-A153-BA8A7F92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DA6E92-7896-4F19-9823-66B9526D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CF0A68-A816-4714-840E-66807DF1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38DC9-FADF-4492-9F63-877439CE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5AD89-DD11-438E-88A6-B0A97A2D32C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F4118-8E3C-4A78-BA4E-1D66CE21E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723CE-C444-4824-B0E0-88D7AC63903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030D9-ABBE-4581-AC78-7B2C8EF7842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C8736-3C2D-4FAD-87AB-F145A98CD3D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1F139-A8F7-4F3B-815D-1F2FB9D7CB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0D8DC-2359-49B3-BFF6-F9B20DF7446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BC449-D83E-4187-B331-CC5C9E6FD40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8A53D-2CEF-4274-888F-9591CF5DF3B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B2D3C-B1FF-463F-83B4-5D1F6F2C8E1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4F998-5595-48C1-BFDE-C5ADB7A0797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6E022-C843-4600-9904-C51E2D17D0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4E14A-B50C-49FF-9287-3A7772196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823E0-A701-4E71-9CDB-788979EB3C70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0CCE0-5FA6-46DC-81C3-94EDA608168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34EBE-CDB0-4D18-B645-8F811927936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731B3-C87D-4DE2-BCE4-B297267F672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6F2FF-E025-48C1-8B50-23BBD8BCEF0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DAA9F-E673-4A35-A821-C4884499BD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13159-8CD9-4820-A7BF-0F917AA4E3D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E492E-C4D9-41D9-9F9C-F4AF21083B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4D462-6D71-45F5-ADBF-65962B23383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89C89-76AF-4DC0-BDE9-8BEAA0E3A89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788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April 24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3"/>
          <p:cNvSpPr/>
          <p:nvPr/>
        </p:nvSpPr>
        <p:spPr>
          <a:xfrm>
            <a:off x="403200" y="1609560"/>
            <a:ext cx="84931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pril 3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ext ROS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ay 8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Revision Requests Recommended for Approval (TAC Action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GRR130 – Alignment with NPRR555 and NPRR4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Arial"/>
              </a:rPr>
              <a:t>URGENCY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APPROVED UNANIM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Arial"/>
              </a:rPr>
              <a:t>MOTION TO APPROVE PER OWG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PASSED UNANIM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GRR124 – ADDITIONAL VRT REQUIREMENTTS FOR IR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Arial"/>
              </a:rPr>
              <a:t>MOTION TO APPROVE PER OWG W/ JAN 16, 2014 EFFECTIVE DATE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PASSED (ONE ABSTEN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Arial"/>
              </a:rPr>
              <a:t>MOTION INCLUDES COMMENT ABOUT HOW UNDESIRABLE IT IS TO HAVE RETROACTIVE EFFECTIVE 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Other Items Recommending Approval (TAC Action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9440" y="410760"/>
            <a:ext cx="8445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of ROS Recommended Voting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790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April 24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403200" y="1533600"/>
            <a:ext cx="84931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Evaluate the early release of HASL to SCED under ORDC and coordinate solutions with ERCOT &amp; W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OS Referred to PDCWG; open meetings have occur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pril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: ERCOT provided Non-Spinning Service Deployment Procedures - Releasing HASL DRAFT Procedure to facilitate review and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Bill Blevins &amp; John Dumas discussing at WMS and 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Coordinate with ERCOT the need to add/clarify resource temperature limits in RARF to improve forecasting of Wind Resources during icing and cold weather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OS Referred to RDWG; ERCOT discussions unde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Evaluate concerns that ERCOT is having to bring RUC units earlier than required because of unit start-up failures; Need to review ERCOT Operating Procedures for RUCing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eferred to OWG/CM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oint Workshop – March 23, 2014; ERCOT fielded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ore discussion at next CMWG meeting (Joint meeting w/ OW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79440" y="410760"/>
            <a:ext cx="8445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of ROS Open Action Items to TAC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7953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April 24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hatfiel</cp:lastModifiedBy>
  <cp:lastPrinted>2013-01-30T23:16:36Z</cp:lastPrinted>
  <dcterms:modified xsi:type="dcterms:W3CDTF">2014-04-15T18:46:14Z</dcterms:modified>
  <cp:revision>391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</Properties>
</file>