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102E-E329-457E-9FD1-66F0623F9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1CF7-2CC9-4DF8-A58E-DF2760A4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772040" y="651492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7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6692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pd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568 /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l-Time Reserve Price Adder Based on Operating Reserve Demand Curve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37160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ice Ayson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ril 24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568 Projec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762120"/>
            <a:ext cx="86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- May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nternal Testing is in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Notice with draft XSD’s, ICCP Points and new Bill Determinants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C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workshops held in A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additional workshop is scheduled for May 1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Settlements staff  provided training on ORDC settlement implementation details at 4-19-2014 CSWG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1,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4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200160" y="685800"/>
            <a:ext cx="8742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bee, Nathan</dc:creator>
  <dc:description/>
  <dc:language>en-US</dc:language>
  <cp:lastModifiedBy>Ayson, Janice</cp:lastModifiedBy>
  <cp:lastPrinted>2014-04-23T20:19:58Z</cp:lastPrinted>
  <dcterms:modified xsi:type="dcterms:W3CDTF">2014-04-23T20:40:27Z</dcterms:modified>
  <cp:revision>503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371C9162F4A5D4CA058994F575CD4A4</vt:lpwstr>
  </property>
  <property fmtid="{D5CDD505-2E9C-101B-9397-08002B2CF9AE}" pid="3" name="Information Classification">
    <vt:lpwstr>ERCOT Limited</vt:lpwstr>
  </property>
</Properties>
</file>