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1F77-AB7B-4A9B-A927-697C2380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C5B-9994-4D63-8DBD-3408E8F6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69E-7A27-4109-897E-F63EB6D71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536D-B9AF-4CC1-84D5-C0CAE18D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0B0E-1C63-41AB-BAEB-1B14BCCE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266117-7294-45F0-8FBA-EA5E44C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BDA89-71C3-44E4-B272-D82591C0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4DDF9-8F87-4FD9-978F-8D0C812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1854A-7010-45F1-945A-A8A8C98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4D9F9-DF38-44F6-9453-474D2C5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00678-78B0-49FD-A18F-61BD447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1A6C66-3E5B-41AC-9F8A-1F11EDAB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3E0BA7-9AB1-476E-8718-4B0F1D4C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35648-CAA8-48C0-8B3C-083C5012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2E07-1205-404B-87F8-FDC79BBB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D1E9-DB9E-4B4F-BA5C-4E82F04F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02E-6DC3-40C0-B61A-7822FC45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924-6CBB-4BD9-92CF-C699303A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7BA2-D1DE-484B-8E05-A935D9F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452B-CC73-4F39-A906-5F7D397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77A9-AFCC-4143-9E0C-5343982A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164B-C7CB-46E6-ABA2-DBCDC7E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CEE-86CE-469E-8B92-D5172DE7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B3E7-7ADD-49BB-9A46-7B8023E1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AFF-D824-4A3F-9097-8CE43BE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E457-36A4-4E5E-B3E2-8BBDCCB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6990-F93C-4766-BD74-CA292A2B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9B72-430A-4A4D-A587-F69ACFAE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0FD1-4934-4740-B27D-7FEF39C9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6DC4-6550-46ED-9AE3-7E41FB0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2E32A-75FA-402B-B96C-603B476E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E87DF-3401-4331-9EFB-54DEEF98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F9489-87AB-4F35-8378-D2C91CF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16D0-7A2C-4ADC-9DC6-BBABEF48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C0079-56B3-4A2E-A78B-6007ED7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15E1C-9322-43A2-A427-4701CDE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D4DA0-BF33-4C6C-83C1-A35F734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BE011-C936-4B02-BBA4-7025D73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10087-45FA-4DF6-BAFA-1F90F4F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6AD94-4111-4AAF-BF80-A7FA924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D98D4-C580-4D28-84D7-DE5BE544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D319F-E2ED-4A99-856D-8933206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FCDB7-96A3-4383-BC55-4FC5B346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0C23C-B25A-4CD4-AF4A-39B0530D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3FC2-CB4F-4C28-A12D-DD0CC40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8EA37-7951-4114-88B1-821B501D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628CA-4F6C-4067-BE25-CEBD3979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32A12-11E0-42AD-8935-DF8C957E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7BC78-274B-414E-B75E-6EDCB792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A5B30-8EAD-4399-84A8-A36A2497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3748B-0009-4F05-B6BF-887E4C8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247F4-71CC-480D-9EDD-9FD286B3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34AC3-7D6D-49E9-876B-39133AF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35B1A-5002-4336-BF09-3BB7FF4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C50C5-7029-428E-9E23-A0B06E65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85A4-961E-41FB-812A-811EF16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D9F7D-860A-43D8-B9CE-F0362739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C8508-20FE-4F39-BA2E-2D3AB519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B895D-86A9-42FE-9526-50C17087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39847-ACBF-413A-9B9C-B275AC57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8C850-8568-46F7-8ADE-34B72E1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B87D4-A9AD-491E-A2F7-248246E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98DA2-2B3F-4B55-9A35-4887EB4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000BE-CC24-4ACE-BFA3-9AE7F1A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43A3B-0EBE-407C-90B9-EEA7B37A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8EC6E-D6D2-4112-A74E-AECF1EE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1F60-367D-42C4-A2BD-BF5F1E7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D36CD-FF51-4192-825B-AFFD7BC1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785D4-1166-40E1-872E-5B573A30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9D3A2-1F2E-4118-9977-F904515E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14CEB-2388-4FFE-9518-B4330ACA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79788-3AF4-4355-A15A-B242FAEF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795C3-DB4A-427F-8702-6DB3F82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CB27D-D767-498E-97A1-5E8C7940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D29BF-C900-4879-A6D5-3349B14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BDB84-A8F4-464A-84EE-E121235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A4121-A1B5-4EEB-B469-483E216B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F979-E81F-4507-9442-648D60A5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19A00-8F15-40B7-B46C-1A8B12A4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778B3-3623-4557-BB32-43D975F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75CDE-3BC7-424E-AE24-16D46E0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F27EE-79BE-4C59-8943-4D64056D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054AD-F2F5-44A5-B010-CBA79073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C3F04-6FE3-489E-847A-7441524D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BDAD0-773B-46F9-83EF-A13A7634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1E9B8F-AA98-4EFA-8B0E-E4053135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6220E-C110-445E-B1B7-E1C0E567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0107EF-EE6B-481B-AA07-31ABB77C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8676-E07A-4803-BE18-E34D4337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9E2A6-ABB5-455A-A0B5-8BF4AF6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F65B7-D0D0-4E4B-AE36-583A85A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75252-2DF0-4292-B68C-9327EC1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E9D20-5B43-4555-9B6D-F3002887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413CE-86B7-4E51-AA38-364A956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357D7-80CE-4963-AE00-88B7F43F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68916-34B4-4D9D-98A0-3769A755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26865-F5DB-4533-8F7E-F774C52C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68CD2D-45B1-484C-8412-B8637EDE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190AE-4DA8-4CD1-AD2D-1AFD51F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81F-0660-45DA-A0DA-0972CCEE9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EC44-8106-425C-B84A-82770436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196B-245A-40FD-8253-D752D236D8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1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MS Update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E05-C50D-4343-B34B-4B4D162DCA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172C-B41A-4F1E-882D-145F873908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46C-ACEB-4DFE-86C5-428EABF9CE3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E82E-0A22-4166-9DE8-1443B75367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F3AF-69C7-4611-824B-764E05F3F64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33EB-30D1-4DA0-872C-8B693645ED2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8B77-0DE4-4C7D-88A6-A7975FA306F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63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MGRR120  Recommend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3996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MGRR12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Sharyland Updates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Vote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updates Sharyland business processes and contact information to support the Sharyland transition to competition and proposes non-substantive administrative changes to correct title references and acronym usag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04/01/14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RMS unanimously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pproved RMGRR120 language changes and its implementation with an Urgent Statu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’s Impact Analysis refl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project required.  This Retail Market Guide Revision Request (RMGRR) can take effect upon the Technical Advisory Committee (TAC) approval.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 impacts to Staffing, Computer Systems or Business Functions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ith the April 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TAC Approval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allow these process changes to be available to the Competitive Market effective of May 1, 2014, which synchronizes with Sharyland Utilities’ transition effective date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978-0DE4-4B2B-B15B-89B8FB949FF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RCOT’s Unplanned IT System Outag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COT’s Infrastructure Failure occurred on Tuesday (3/11) beginning at 9:27AM affected numerous market systems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ration of Outage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1,688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in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 following services were restored at ERCOT’s alternate data center between 03/12 and 03/14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tail Transaction Process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ervice Requests &amp; Settlement Dispu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rket Participant ID Management (MPI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rket Information System (MIS) Retai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RCOT.c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rkeTrak AP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rkeTrak GU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light Testing Environment (Market Flight 0214 in progres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rid Operations IT systems were not affect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9E1-E3C3-466F-BE46-56331237A1D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RCOT’s Unplanned IT System Outag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y 6, 2014 following RM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 a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orkshop will be conducted to Review ERCOT’s Current Disaster Recovery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end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line of events from March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ystem Ou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view of ERCOT’s Disaster Recovery Capability &amp; Proces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is ERCOT’s Governance Process during outag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- time frames outside the market noti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time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current Workaround Processes suffici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very Process and Plan – resort back to p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1C0-07C7-4963-BD9A-762FF4CC2A9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haryland Transition Update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6091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Stage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haryland’s Customers would Select a REP during February 1- April 13, 2014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etitive REPs were allowed to sign-up Sharyland Customers and submit Move-In transactions during this timeframe requesting the Customer’s May 2014 meter read date as the initial transition to competition requested date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Stag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For Sharyland’s Customers that Did NOT Select a REP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rom April 14-1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 Sharyland will determine which custom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ave not chosen a Competitive REP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will randomly assign those customers to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ault REP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s was identified in the PUCT Orde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ault REPs will submit their Move-I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or their assigned Customer’s ESI IDs between April 17 and 27, 2014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other Competitive REPs will hold all MVIs received between April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hrough April 2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12BA-AD9F-4049-B8A2-386AAAA660F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haryland Transition Update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R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and Final Stage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ginning April 28, 2014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ce all Customers will have either selected Competitive Retailer or were assigned a Provider by default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 Sharyland receives a Move-In from the Competitive REP with a May date as defined in the SU Transition Taskforce documentation,  the initial Default REP’s Move-In will be rejected as unexecutable and Sharyland will execute the Competitive REP’s Move-In for the May 2014 Scheduled Meter Read Date allowing Customer’s Choice of REP to prevai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haryland Utilities Transition Numbers (4/18/14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E7F6-79B8-4A80-AFD8-BFFEA1B6629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"/>
          <p:cNvPicPr/>
          <p:nvPr/>
        </p:nvPicPr>
        <p:blipFill>
          <a:blip r:embed="rId1"/>
          <a:stretch/>
        </p:blipFill>
        <p:spPr>
          <a:xfrm>
            <a:off x="1523880" y="51055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4 RMS Approved Goal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ign Retail Market Subcommittee (RMS) Goals with TAC goals and the strategic vision of the ERCOT Board of Director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tain market rules that support Retail Market processes that are consistent with PURA and PU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the appropriate incorporation of load particip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e and Implement Retail Market Enhancement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ilitate market enhancements necessary to leverage the capabilities of Advanced Metering Systems in the Retail market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tain market rules that support open access to the ERCOT Retail marke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nue to work with ERCOT to develop Protocols and other market improvements that support increased data transparency and data availability to the marke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nue to work with ERCOT to ensure appropriate credit and collateral rules exist or are creat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981E-3720-4C03-9752-4A2527E3BDA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4 RMS Approved Goal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9072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ccessfully implement Project (PR) 010_03 MarkeTrak Phase III Enhancements via System Change Request (SCR756) Part B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Board approved, support all phases of SCR 776, Retail Data Transport Upgrade to NAESB EDM v2.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oject Planning,  Project Execution,  Market Testing an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rket Education &amp; Commun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lete review of current Flight Testing and scripts in an effort to find opportunities for improvements and efficiencies for future Market test flight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ccessfully implement Sharyland Utilities (SU) transition to competi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set the following taskforc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rkeTrak Task Force, if all Phase III Enhancements (SCR756) are successfully implemented and plan is developed to transition all MarkeTrak Taskforce responsibilities to the Texas Data Transport Working Grou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haryland Transition Taskforce, if all transition to competition tasks have been successfully implemented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D76E-2FA3-470D-AC40-8B1FF9908E7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Picture 5" descr="MCj04344110000[1]"/>
          <p:cNvPicPr/>
          <p:nvPr/>
        </p:nvPicPr>
        <p:blipFill>
          <a:blip r:embed="rId1"/>
          <a:stretch/>
        </p:blipFill>
        <p:spPr>
          <a:xfrm>
            <a:off x="2286000" y="1219320"/>
            <a:ext cx="5334120" cy="4038480"/>
          </a:xfrm>
          <a:prstGeom prst="rect">
            <a:avLst/>
          </a:prstGeom>
          <a:ln w="0">
            <a:noFill/>
          </a:ln>
        </p:spPr>
      </p:pic>
      <p:sp>
        <p:nvSpPr>
          <p:cNvPr id="461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04D-E422-478D-A44B-B2428C73B25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4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4-04-22T02:48:55Z</dcterms:modified>
  <cp:revision>514</cp:revision>
  <dc:subject/>
  <dc:title>Instructions</dc:title>
</cp:coreProperties>
</file>