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6922-C0B7-47AB-AC0A-1632A703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1B32-60D7-402E-B6F8-4F4483DB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1FAA-B691-4A7C-9885-94A2925D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37F1-3175-4760-A252-CF1B2EF6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CC25-3F7F-4580-8E93-F8A915E9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AB9F-0159-439F-A0D6-978754A7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29B6-15CC-4D09-B480-D2B8ECD1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F222-E1B4-4C45-A4A5-6EC89890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D1BB-97A3-4149-8A26-F94799A4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4EE1-87DE-4D13-9F35-4340A578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257F-19DC-4E3F-BA5D-F74F06C8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9C7B-08F9-460A-8C1C-04E60889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8C65-8823-486A-A2B7-D2BEC51838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9F94-DA5E-4310-BE63-B6268E7E0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merging Technologies Working Group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pdate to W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ril 09,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C245-A29F-4BDE-AFBB-16C12EA39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ubtitle 2"/>
          <p:cNvSpPr/>
          <p:nvPr/>
        </p:nvSpPr>
        <p:spPr>
          <a:xfrm>
            <a:off x="563400" y="3597120"/>
            <a:ext cx="80773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date on NPRR 5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lar Forecasting: Draft NP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xt ETWG Me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.  Update on NPRR 58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09680" y="1371600"/>
            <a:ext cx="8353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 12/17/13, NPRR588 was pos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 1/15/14, ERCOT comments were pos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 1/16/14, PRS considered NPRR588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 2/3/14, a second set of ERCOT comments were pos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 2/6/14, WMS comments were pos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 2/13/14, PRS again considered NPNRR58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March 1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mbria"/>
                <a:ea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 PRS Me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gend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-285480">
              <a:buClr>
                <a:srgbClr val="000000"/>
              </a:buClr>
              <a:buFont typeface="Arial"/>
              <a:buChar char="–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http://www.ercot.com/calendar/2014/03/20140318-P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On 3/18/14, PRS voted to table NPRR588 for one month and asked ERCOT staff to consider whether cost saving implementation options were possi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ill be back up for consideration at tomorrow’s PRS (10AP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traight Connector 4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08AD-7064-4C4A-BDD3-B5ADD3AF4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.  Solar Forecasting: Draft NPR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E DRAFT NPRR DOC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rt-Term PhotoVoltaic Power Forecast (STPP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otoVoltaic Generation Resource Production Potential (PVGRP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ION 3.13 Renewable Production Potential Foreca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2.3  PV-Powered Generation Resource Production Potent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1)  ERCOT shall produce and update hourly a Short-Term PhotoVoltaic Power Forecast (STPPF) that provides a rolling 48-hour hourly forecast of solar production potential for each PhotoVoltaic Generation Resource (PVGR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7.4  RUC Make-Whole Char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7.4.1.1  Capacity Shortfall Ratio Sh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3.1  Activities for the Adjustment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E665-D7C1-4C15-AD4C-BA1BB5727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4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2280" y="2743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.  Next ETWG Meeting April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dates on NPRR 588 and new NPR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ssible) Presentation by PV Forecast vendors to discuss best practices and telemetry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items, TB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F454-F12C-47FD-BFEB-7B57BE041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4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2280" y="2743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END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08FD-3AA4-497F-B586-3C29595F9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4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2280" y="2743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ested WMS Mo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tion to direct ETWG to file draft NPRR on PVGR forecasting, as presented at 9APR2014 WMS mee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tion does not convey any endorsement of the text, or merits of the draft NPR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0F27-61F7-4C53-8B79-B60B1810D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4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3:39:14Z</dcterms:created>
  <dc:creator>Chad Blevins</dc:creator>
  <dc:description/>
  <dc:language>en-US</dc:language>
  <cp:lastModifiedBy>Chad Blevins</cp:lastModifiedBy>
  <dcterms:modified xsi:type="dcterms:W3CDTF">2014-04-01T16:57:22Z</dcterms:modified>
  <cp:revision>47</cp:revision>
  <dc:subject/>
  <dc:title>ETWG Update to WMS</dc:title>
</cp:coreProperties>
</file>