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DCC-F138-4E45-8641-6913989AC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9F2B-BAF9-4261-9725-A403BBC0A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1BBC-E5B1-460F-B47D-6B7AC20B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92F7-F817-4356-8930-81039E6C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0E1-345E-48A1-9938-FACC080F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77B9-98FA-498E-A348-5689A8562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A812-B272-432D-9567-A06E07B87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1FD9-4DB4-4CBB-A057-EB4BAC31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0276-BA22-42FF-9E0F-8B4A6634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673-0A15-48BD-927E-0218F10A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B7B-6D45-4E1B-ABCC-FBA29BC8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E32-8CAA-438A-89F5-73D4D8FC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AAE-CB39-4FC9-9020-81164C44F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D8A9-601D-4D16-8E5F-80FD8967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BE66-0900-45C7-B7B8-9A2DF7CA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6A65-E9FF-4769-8020-302A618E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BE4D-79F5-4E2F-95B0-0AA4156B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10D7-7712-4219-A597-DAE43B7E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BE04-EBEB-4CE4-95DC-F7D523B0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DF5F5-1B5A-4E30-8428-227D47D72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EF3C4-961F-4FA7-A8AA-F34C525F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172AC-F607-4958-A447-53AEEBE0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D0A0B-B113-4D03-B03D-FA1690CF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CB81F-C5FE-46FD-BC66-B6433F81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BBC9-8471-4985-B4F2-42289C8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0450-5391-4667-9357-BA1EA23B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644EE-0D8D-486E-ADDF-C050C022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63D42-A3A4-4E5D-812C-10BF7A4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90A9D-0980-48FB-9595-B7B94C1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A2FF1-5068-4647-AC75-E3C6DF18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6745B-EA50-48AB-B212-EF702F5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FD0DB-B4BA-4CEF-9E03-C7DDD5682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9E49-C9EA-4517-8C02-055DE9EC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D95E-6902-453E-9DD2-9B6C95E7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B569-2639-4DEF-BFE1-22B1D9EE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AD92-90E0-404E-A046-D879760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BB92-BB9A-4626-912E-46890A2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C429-D433-404C-8581-1FC1B5C2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07B-3C44-4491-BF22-473153A4D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154-1F2A-40C9-8204-0E39C4598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79A-1411-47C1-94FB-346620F2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4B17-C32C-4C0F-B0C8-0FE2A8917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5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42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"/>
          <p:cNvSpPr/>
          <p:nvPr/>
        </p:nvSpPr>
        <p:spPr>
          <a:xfrm>
            <a:off x="1382760" y="1811160"/>
            <a:ext cx="5850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WG Update to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rell Sum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09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280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ing identific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RCOT to provide spreadsheets to each TDSP with EPS meters for compilation of dat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01040" indent="-452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on March 27,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DSP to complete information &amp; return to ERC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metry poin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wer plant control ro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y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S Meter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Mapping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79000" y="1142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pping requires a direct one to one correlation between a telemetry point and an EPS Me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will compare historical data from mapped telemetry points to EPS meter data to evaluate the accuracy of telemetry poi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telemetry data will only be used when EPS Meter data is un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Mapping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metry points telemetered to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TDSP ICCP name assigned to the telemetry point in the ERCOT Network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to translate the ICCP name to the SCADA point name in ERCOT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can pull data directly &amp; create 15 minute integrated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SP data not telemetered to ERC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will need to be in a 15 minute integrat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Mapping -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80000"/>
              </a:lnSpc>
              <a:spcBef>
                <a:spcPts val="13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80000"/>
              </a:lnSpc>
              <a:spcBef>
                <a:spcPts val="13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Direction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47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"/>
          <p:cNvSpPr/>
          <p:nvPr/>
        </p:nvSpPr>
        <p:spPr>
          <a:xfrm>
            <a:off x="1382760" y="2386080"/>
            <a:ext cx="585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GRR 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Regarding EPS Meter Repairs, Related Notice Deadlines and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 A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dditional option for TDSP to use voice communications with the ERCOT Meter Data Acquisition System (MDAS) Group to provide confirmation of repairs that are external to an EPS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 C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updated timeframe the MDAS Group will use for issuing not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timeframes in which data is supplied to ERCOT by a Transmission and/or Distribution System Provider (TDSP) in the event of a prolonged communications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 C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additional notice type of “six-hour” notice to accommodate a shortened Settlement timeline to resolve communications issues with ERCOT-Polled Settlement (EPS) Meters in support of Real-Time Market (RTM)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es the conditions ERCOT will follow in cancelling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 6,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WG reviewed SMOGRR 014 and provided com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, 2014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MWG recommendation report &amp; impact analysis for SMOGRR 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act analysis shows no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WG consensus to forward SMOGRR014 &amp; impact analysis to WMS with request for WMS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WG Request to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rove SMOGRR014 and forward SMOGRR 014 &amp; the associated impact analysis to TAC with recommendation for approv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68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"/>
          <p:cNvSpPr/>
          <p:nvPr/>
        </p:nvSpPr>
        <p:spPr>
          <a:xfrm>
            <a:off x="1143000" y="2057400"/>
            <a:ext cx="6629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WG Proof of Concep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ing of Telemetry points to EPS Meter Points to aid in the estimation process for missing EPS Met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9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79000" y="11426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WG discussion on how data could be estimated if EPS Meter data is not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of of Concept: Can a one to one relationship be mapped between EPS meters and a telemetry point for data estimation purpo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mited scope of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fined process &amp; decided to move forward with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Mapping -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1-30T14:56:04Z</cp:lastPrinted>
  <dcterms:modified xsi:type="dcterms:W3CDTF">2014-04-02T15:18:23Z</dcterms:modified>
  <cp:revision>122</cp:revision>
  <dc:subject/>
  <dc:title>Instructions</dc:title>
</cp:coreProperties>
</file>