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2955A-E888-4186-A33A-211A485D4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5EFC-4AA1-4BAA-81CD-6E653B52E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6E181-8CB6-48F4-B9FC-E2ADB90CF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2836D-817E-47E8-8794-4B27C7BC7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CD721-1793-429C-947C-7A834742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4E8EF-4A37-404F-8895-1D0E054E4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DA990-D201-4B6D-BC19-A513A546A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E9AD4-6E54-44A8-A6F0-30566B201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F10F3-D29C-4D3B-80E7-B65AA4532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CEAFA-B9E2-4DEA-B747-D2E3A4B9A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C94A5-9A91-43DE-A6A9-9ED663798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B3C1-F000-4554-AED9-69CD9AFFB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0FB8-E35E-4338-A013-0680A1D755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CWG Update to WM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pril 9,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CMRR-VC for Cancellation of RUC Committed Resources </a:t>
            </a:r>
            <a:endParaRPr b="0" lang="en-US" sz="4400" spc="-1" strike="noStrike">
              <a:solidFill>
                <a:srgbClr val="000000"/>
              </a:solidFill>
              <a:latin typeface="Calibri"/>
            </a:endParaRPr>
          </a:p>
        </p:txBody>
      </p:sp>
      <p:sp>
        <p:nvSpPr>
          <p:cNvPr id="44" name=""/>
          <p:cNvSpPr txBox="1"/>
          <p:nvPr/>
        </p:nvSpPr>
        <p:spPr>
          <a:xfrm>
            <a:off x="457200" y="1904760"/>
            <a:ext cx="8229600" cy="4267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graph (3) of Nodal Protocol Section 5.6.4. regarding Cancellation of a RUC Commitment states:</a:t>
            </a:r>
            <a:endParaRPr b="0" lang="en-US" sz="2800" spc="-1" strike="noStrike">
              <a:solidFill>
                <a:srgbClr val="000000"/>
              </a:solidFill>
              <a:latin typeface="Calibri"/>
            </a:endParaRPr>
          </a:p>
          <a:p>
            <a:pPr lvl="1" marL="74304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 The process for determining the verifiable actual costs for a RUC cancellation must be developed by ERCOT, approved by the appropriate TAC subcommittee, and posted to the MIS Secure Area within one Business Day after initial approval and after each approved change.</a:t>
            </a:r>
            <a:endParaRPr b="0" lang="en-US" sz="25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rpose of the proposed VCMRR is to document ERCOT’s process for calculating payments for RUC-Committed Resources that have received a RUC Cancellation, as required abov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t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Time Mitigation during Exceptional Fuel Cost Events</a:t>
            </a:r>
            <a:endParaRPr b="0" lang="en-US" sz="4400" spc="-1" strike="noStrike">
              <a:solidFill>
                <a:srgbClr val="000000"/>
              </a:solidFill>
              <a:latin typeface="Calibri"/>
            </a:endParaRPr>
          </a:p>
        </p:txBody>
      </p:sp>
      <p:sp>
        <p:nvSpPr>
          <p:cNvPr id="46" name=""/>
          <p:cNvSpPr txBox="1"/>
          <p:nvPr/>
        </p:nvSpPr>
        <p:spPr>
          <a:xfrm>
            <a:off x="228600" y="1904760"/>
            <a:ext cx="861048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Resources were mitigated  in real-time to below their actual cost due to large differences between FIP and the actual spot gas price during February and March 2014</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ual spot price on certain days was significantly different than the previous day price used for 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 Texas spot gas prices were much higher than the Houston Ship Channel price used for FI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Time Mitigation during Exceptional Fuel Cost Events</a:t>
            </a:r>
            <a:endParaRPr b="0" lang="en-US" sz="4400" spc="-1" strike="noStrike">
              <a:solidFill>
                <a:srgbClr val="000000"/>
              </a:solidFill>
              <a:latin typeface="Calibri"/>
            </a:endParaRPr>
          </a:p>
        </p:txBody>
      </p:sp>
      <p:sp>
        <p:nvSpPr>
          <p:cNvPr id="48" name=""/>
          <p:cNvSpPr txBox="1"/>
          <p:nvPr/>
        </p:nvSpPr>
        <p:spPr>
          <a:xfrm>
            <a:off x="228600" y="1904760"/>
            <a:ext cx="8610480" cy="46479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ussed Possible Solutions</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tlement dispute process</a:t>
            </a:r>
            <a:endParaRPr b="0" lang="en-US" sz="36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rns with uplift and who pay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 to exceptional events and infrequent use </a:t>
            </a:r>
            <a:endParaRPr b="0" lang="en-US" sz="28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nges to FIP</a:t>
            </a:r>
            <a:endParaRPr b="0" lang="en-US" sz="36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er of HSC or Waha, or Resource specific</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rns with FIP timing </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require significant system chang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Time Mitigation during Exceptional Fuel Cost Events</a:t>
            </a:r>
            <a:endParaRPr b="0" lang="en-US" sz="4400" spc="-1" strike="noStrike">
              <a:solidFill>
                <a:srgbClr val="000000"/>
              </a:solidFill>
              <a:latin typeface="Calibri"/>
            </a:endParaRPr>
          </a:p>
        </p:txBody>
      </p:sp>
      <p:sp>
        <p:nvSpPr>
          <p:cNvPr id="50" name=""/>
          <p:cNvSpPr txBox="1"/>
          <p:nvPr/>
        </p:nvSpPr>
        <p:spPr>
          <a:xfrm>
            <a:off x="380520" y="1752120"/>
            <a:ext cx="845820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CWG discussion narrowed to the following:</a:t>
            </a:r>
            <a:endParaRPr b="0" lang="en-US" sz="32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ttlement solution</a:t>
            </a:r>
            <a:endParaRPr b="0" lang="en-US" sz="29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mergency Energy Settlement approach</a:t>
            </a:r>
            <a:endParaRPr b="0" lang="en-US" sz="24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quires dispute and ERCOT capability to calculate (ERCOT does something similar today for LDL overrides)</a:t>
            </a:r>
            <a:endParaRPr b="0" lang="en-US" sz="25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 threshold to limit to exceptional events and infrequent use</a:t>
            </a:r>
            <a:endParaRPr b="0" lang="en-US" sz="24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hanges to FIP</a:t>
            </a:r>
            <a:endParaRPr b="0" lang="en-US" sz="29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more market-based solu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to address FIP timing issu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of HSC or Waha may better reflect ERCOT-wide marginal gas cost under current gas marke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day/intraday gas purchases still an iss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Update</a:t>
            </a:r>
            <a:endParaRPr b="0" lang="en-US" sz="4400" spc="-1" strike="noStrike">
              <a:solidFill>
                <a:srgbClr val="000000"/>
              </a:solidFill>
              <a:latin typeface="Calibri"/>
            </a:endParaRPr>
          </a:p>
        </p:txBody>
      </p:sp>
      <p:sp>
        <p:nvSpPr>
          <p:cNvPr id="52" name=""/>
          <p:cNvSpPr txBox="1"/>
          <p:nvPr/>
        </p:nvSpPr>
        <p:spPr>
          <a:xfrm>
            <a:off x="457200" y="1219320"/>
            <a:ext cx="82296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andy Whitman Index</a:t>
            </a:r>
            <a:r>
              <a:rPr b="0" lang="en-US" sz="3200" spc="-1" strike="noStrike">
                <a:solidFill>
                  <a:srgbClr val="000000"/>
                </a:solidFill>
                <a:latin typeface="Calibri"/>
              </a:rPr>
              <a:t> – continue using average of Steam Production Plant and Other Production Plant indices to escalate VC O&amp;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Mitigated Offer Caps for QSGRs and CCGR Power Augmentation</a:t>
            </a:r>
            <a:r>
              <a:rPr b="0" lang="en-US" sz="3200" spc="-1" strike="noStrike">
                <a:solidFill>
                  <a:srgbClr val="000000"/>
                </a:solidFill>
                <a:latin typeface="Calibri"/>
              </a:rPr>
              <a:t>– ERCOT working on analysis of QSG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Verifiable Costs for New Technologies </a:t>
            </a:r>
            <a:r>
              <a:rPr b="0" lang="en-US" sz="3200" spc="-1" strike="noStrike">
                <a:solidFill>
                  <a:srgbClr val="000000"/>
                </a:solidFill>
                <a:latin typeface="Calibri"/>
              </a:rPr>
              <a:t>– investigate verifiable costs for CAES upon resolution of NPRR56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endix - Real-Time Mitigation during Exceptional Fuel Cost Events</a:t>
            </a:r>
            <a:endParaRPr b="0" lang="en-US" sz="4400" spc="-1" strike="noStrike">
              <a:solidFill>
                <a:srgbClr val="000000"/>
              </a:solidFill>
              <a:latin typeface="Calibri"/>
            </a:endParaRPr>
          </a:p>
        </p:txBody>
      </p:sp>
      <p:sp>
        <p:nvSpPr>
          <p:cNvPr id="54" name=""/>
          <p:cNvSpPr txBox="1"/>
          <p:nvPr/>
        </p:nvSpPr>
        <p:spPr>
          <a:xfrm>
            <a:off x="380520" y="1752120"/>
            <a:ext cx="8458200" cy="4876920"/>
          </a:xfrm>
          <a:prstGeom prst="rect">
            <a:avLst/>
          </a:prstGeom>
          <a:noFill/>
          <a:ln w="0">
            <a:noFill/>
          </a:ln>
        </p:spPr>
        <p:txBody>
          <a:bodyPr anchor="t">
            <a:normAutofit/>
          </a:bodyPr>
          <a:p>
            <a:pPr marL="365040" indent="-282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mergency Energy Settlement Approach</a:t>
            </a:r>
            <a:endParaRPr b="0" lang="en-US" sz="3200" spc="-1" strike="noStrike">
              <a:solidFill>
                <a:srgbClr val="000000"/>
              </a:solidFill>
              <a:latin typeface="Calibri"/>
            </a:endParaRPr>
          </a:p>
          <a:p>
            <a:pPr marL="365040" indent="-282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ergency Energy Volume-</a:t>
            </a:r>
            <a:endParaRPr b="0" lang="en-US" sz="2600" spc="-1" strike="noStrike">
              <a:solidFill>
                <a:srgbClr val="000000"/>
              </a:solidFill>
              <a:latin typeface="Calibri"/>
            </a:endParaRPr>
          </a:p>
          <a:p>
            <a:pPr lvl="1" marL="765000" indent="-282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 (BP, RTMG) (minimum of Base Point or metered output)</a:t>
            </a:r>
            <a:endParaRPr b="0" lang="en-US" sz="2200" spc="-1" strike="noStrike">
              <a:solidFill>
                <a:srgbClr val="000000"/>
              </a:solidFill>
              <a:latin typeface="Calibri"/>
            </a:endParaRPr>
          </a:p>
          <a:p>
            <a:pPr marL="365040" indent="-282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rent Settlement Price- </a:t>
            </a:r>
            <a:endParaRPr b="0" lang="en-US" sz="2600" spc="-1" strike="noStrike">
              <a:solidFill>
                <a:srgbClr val="000000"/>
              </a:solidFill>
              <a:latin typeface="Calibri"/>
            </a:endParaRPr>
          </a:p>
          <a:p>
            <a:pPr lvl="1" marL="765000" indent="-282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X (0, EMREPR – RTSPP) (maximum of 0 or Emergency Energy Price minus Real Time Settlement Point Price)</a:t>
            </a:r>
            <a:endParaRPr b="0" lang="en-US" sz="2200" spc="-1" strike="noStrike">
              <a:solidFill>
                <a:srgbClr val="000000"/>
              </a:solidFill>
              <a:latin typeface="Calibri"/>
            </a:endParaRPr>
          </a:p>
          <a:p>
            <a:pPr lvl="1" marL="765000" indent="-282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ual solution would replace EMREPR with the appropriate MOC price recalculated at verified FIP (spot price paid for fuel during event)</a:t>
            </a:r>
            <a:endParaRPr b="0" lang="en-US" sz="2200" spc="-1" strike="noStrike">
              <a:solidFill>
                <a:srgbClr val="000000"/>
              </a:solidFill>
              <a:latin typeface="Calibri"/>
            </a:endParaRPr>
          </a:p>
          <a:p>
            <a:pPr marL="365040" indent="-282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dispute and ERCOT capability to calculate (ERCOT does something similar today for LDL overrid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01:58:48Z</dcterms:created>
  <dc:creator>Luminant</dc:creator>
  <dc:description/>
  <dc:language>en-US</dc:language>
  <cp:lastModifiedBy>ptvinson</cp:lastModifiedBy>
  <dcterms:modified xsi:type="dcterms:W3CDTF">2014-04-07T19:14:13Z</dcterms:modified>
  <cp:revision>53</cp:revision>
  <dc:subject/>
  <dc:title>QMWG Update to WMS</dc:title>
</cp:coreProperties>
</file>