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CC64-C588-4C7A-A1C2-70F0C53D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2209-C108-4DAB-8D02-177ECF8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FA55-0CB5-4BF8-BDBF-B8FC7D88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4C95-49D2-4BB0-AF90-ABDDEC04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5FF4-9549-4D27-B687-62A7FACC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36F2-1C29-468D-B67E-9157CF58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7576-4F05-4FF0-BEA5-3E56B0E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F56C-5425-4DBA-BAF0-CA62F14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560B-524B-4279-899A-0E14779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D576-6A67-4EA8-AEDD-2FA7AA3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9D48-0D14-494C-94C6-CC49CA80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4329-C00B-4F9B-A36D-B82CC95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3FBB-B5F8-4EA9-997B-FE5FC9BA8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C97-DD5D-4E7E-B2AB-3DA7FACC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6829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UC Make-Whole Payme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Resources with PPAs and RUC Cancellation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343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o Gonzál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9,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UC for Resources with PPA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04920" y="838080"/>
            <a:ext cx="8534160" cy="44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 5.6.1 Section (8)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hall produce a report each April that provides the percentag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C Make-Whole Pay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sources with PPAs during the 12 months of the previous calendar year. 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report shall be based on the final Settlements and include the total number of Resources that used a PPA for their most recent verifiable cost submission that was approved by ERCOT.  ERCOT shall present the results of this study to the appropriate Technical Advisory Committee (TAC) subcommitt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:  Nothing t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UC Cancell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4920" y="838080"/>
            <a:ext cx="853416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 5.7.3 Section (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COT shall produce a report each April that provides the percentage of the RUC Decommitment Payment Amounts that are a result of RUC cancellations during the 12 months of the previous calenda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report shall be based on the Final Settlements.  ERCOT shall present the results of this study to the appropriate Technical Advisory Committee (TAC) subcommitt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:  Nothing to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tocol Requir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28600" y="800280"/>
            <a:ext cx="85345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at since the start of the nodal market no Resource has been approved for verifiable costs under a Power Purchase Agreement (PPA) or received a RUC Cancellation, should W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requirement to report RMWPs* percentages  annu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Should RCWG create an NPRR to remove these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404280" y="571500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MWPs = RUC Make-Whole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Ino</dc:creator>
  <dc:description/>
  <dc:language>en-US</dc:language>
  <cp:lastModifiedBy>Gonzalez, Ino</cp:lastModifiedBy>
  <dcterms:modified xsi:type="dcterms:W3CDTF">2014-04-08T15:44:12Z</dcterms:modified>
  <cp:revision>493</cp:revision>
  <dc:subject/>
  <dc:title>Instructions</dc:title>
</cp:coreProperties>
</file>