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20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21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A35FBA2-C595-4A6A-846E-D28E8300B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3B594B5-4EB9-4292-AE3B-9E58DBF9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470C257-5861-4E91-BA36-3A21CD6ED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9DE9F1E-FB46-454D-85E8-5FE671110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AED-4164-443D-874A-AC069945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860-9620-4E06-82D3-98DAEC5D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007-269A-4A5E-940F-D6D3CFF2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248-CCA1-48D2-8B82-1ECBBA25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F68A-8469-42C4-B15F-C41EC007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7F6E-1F2F-4E5B-9132-7B31CEC1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1B17-7905-4B0B-A7D1-87AA59EB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3858-302D-4117-B17C-655811E4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AB6B-7E29-4610-9345-6083F0FA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6A63-90E7-44AE-8B7F-2E533655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B7F4-5F4E-4A70-99A9-3C2D30CD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FD7-FD6A-4FEA-AE49-87BA6F67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6E40-9940-47C5-9D29-08D5DA29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4FD0-7CFE-4DEE-9E6E-CAE1D4D1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6BF1-2BAC-45AF-8C3C-C1E73C84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4E68-B823-42C7-BA36-7F939E5C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4A6D-D6E5-4787-889B-2B7F94ED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D496-C8C3-497F-A141-CF8DA44C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6A8E-F284-4AAA-A684-440E2F8F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A738-22B2-49C9-B401-2D16355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1948-3CBA-4C9D-A6D2-784EB975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F92B-18CB-4F68-8E69-D46348A8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78D-848E-4C3D-84F3-56E73104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794F7-D6B8-469E-89EB-B9C7B35F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5BCF-2CEA-4283-94FD-9B7FE18D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6EB7-04D2-43D9-B585-645A426A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BE8F-43CE-4AEE-9C1A-E9ECF525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B429-C0EE-43E8-BB0C-CCC07246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CAA0-7F58-4E35-8FFF-73F1E772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CED6-8B60-4159-A573-ECB2BA1E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F6AD5-62C2-4BA1-9B52-9109D5C1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4D45-203F-4DCD-A2DB-90E58BB3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EC04-903E-42D0-A8D8-8C956989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2C2-F12E-490D-81CB-66CB1AB3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8FA9F-BDB3-48D4-8098-79C6E1BE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E48C-D36C-40A4-956A-CB884242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5EEEB-F799-4C77-B7F4-105902E8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0009-B200-4EB3-A2FA-6653275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311A-09CD-41DF-B7B3-177C71B8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B755-73F0-4526-8DD7-7BACAAAB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57EC7-2C66-4721-BAB8-89251D5F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9E81-1672-422E-A7C6-76207576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522E-F5D2-4DF6-89D5-0E1ED6BC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128ED-2D99-4DEC-B456-51D70E26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5B9-90D0-4A44-9DAA-A1480025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B3C5-BAB3-404B-A452-E71FC596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7FE7-9CCE-448D-B541-979134E9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C84CF-DD6D-453A-B87A-3B6E5B3F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7C302-0910-4357-9698-24BB6002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6F14B-0D1C-407B-B9EF-50EE6545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5A1B-FA52-4A3B-97F3-FDAD9B74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4B8B-9B0E-452A-9C85-A1109E1A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CCCB-B0B6-407C-BD98-9D50602C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8D19-698D-40BF-B0CF-1C11E0DA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B7EC-A606-4244-A904-DE5B735D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885-0CFD-4B0A-95E2-0838776E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DCBB3-EE28-4680-AF1C-222441F2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4073A-4A0D-4BF2-8BE1-04E2E188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2434-5F65-4AA4-925F-AECFB7F4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27FCE-F055-4DB0-8042-7A1BD6C3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765A6-11D7-432D-A951-B8A9694F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B355B-C055-436F-9FCC-FCACE005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D1FCC-6A15-40B5-A055-48E89B69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F5FFB-E2B8-45BE-B3AF-F250C5A1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8EF53-D23F-4029-B6E9-771EE73F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E0693-2F1D-4791-8E88-1F3F037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EE0-B046-480C-89BC-C495ACD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A9EF1-F652-45DB-8F4E-4741824E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B8759-02AF-4BF7-80F6-F99DCF68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0C4A2-4C39-42B3-9386-3D33DA8C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E81-2EBF-47DD-B220-25CDBDDC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AE7-271A-4B27-B5C7-C9901E97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rcRect l="0" t="0" r="38640" b="0"/>
          <a:stretch/>
        </p:blipFill>
        <p:spPr>
          <a:xfrm>
            <a:off x="6058080" y="0"/>
            <a:ext cx="3085920" cy="135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3694-CAC3-4CF3-AC51-DED600A0A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314280" y="22860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64ED-5811-4050-B52A-250C056DC0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2"/>
          <a:srcRect l="0" t="0" r="38640" b="0"/>
          <a:stretch/>
        </p:blipFill>
        <p:spPr>
          <a:xfrm>
            <a:off x="6058080" y="0"/>
            <a:ext cx="3085920" cy="1359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314280" y="22860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1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2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5044-854D-4B16-9729-B523CEA0E5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11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ight Triangle 12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DBF7-9A22-4290-BB9D-F49C9CAC66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ight Triangle 11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ight Triangle 12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4664-7CD8-4F51-9E46-FC7F78587F90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ight Triangle 11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2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02E6-EA07-4251-8352-BD4B7BD250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Rockwell"/>
              </a:rPr>
              <a:t>TDTWG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Rockwell"/>
              </a:rPr>
              <a:t>UPDATE TO RMS</a:t>
            </a:r>
            <a:endParaRPr b="0" lang="en-US" sz="6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5B7C-80CB-44AB-B6EE-6FCDEA7E4DD7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5105520" y="566424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1,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6553080" y="6172200"/>
            <a:ext cx="2133720" cy="476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1BE7-D7A8-4DA2-A45A-9D97AEB2435D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0880" y="1331640"/>
            <a:ext cx="83822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Reviewed ERCOT System Outages and failures </a:t>
            </a:r>
            <a:endParaRPr b="1" lang="en-US" sz="2800" spc="-1" strike="noStrike">
              <a:solidFill>
                <a:srgbClr val="000000"/>
              </a:solidFill>
              <a:latin typeface="Rockwel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ERCOT presented the monthly Incident Report</a:t>
            </a:r>
            <a:endParaRPr b="1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4" marL="108576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Rockwell"/>
              </a:rPr>
              <a:t>Planned/Unplanned Outages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1409760" indent="-6094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Planned outage performed Feb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Rockwel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&amp; 23rd 2014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2" marL="1409760" indent="-6094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638360" indent="-6094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2" marL="1409760" indent="-6094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3" marL="1638360" indent="-6094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2" marL="1409760" indent="-6094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51814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2. ERCOT presented Service Availability</a:t>
            </a:r>
            <a:endParaRPr b="1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2" marL="399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200240" indent="-34308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MarkeTrak performance was stable for month of Feb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3" marL="1200240" indent="-34308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SCR 756 enhancement project should help to alleviate performance issues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200240" indent="-34308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ERCOT asked MPs to provide feedback on what system they are currently using to check for compatibility with ERCOT’s systems</a:t>
            </a: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 lvl="3" marL="1200240" indent="-34308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Rockwel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Rockwel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FD22-6C26-49D6-8E04-3417400D7AAD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3. Reviewed 2014 SLA</a:t>
            </a:r>
            <a:endParaRPr b="1" lang="en-US" sz="2800" spc="-1" strike="noStrike">
              <a:solidFill>
                <a:srgbClr val="000000"/>
              </a:solidFill>
              <a:latin typeface="Rockwel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TDTWG/ERCOT continue to review and add language regarding market call notices</a:t>
            </a:r>
            <a:endParaRPr b="1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3" marL="630360" indent="-16380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Draft language to the SLA to include System Degradation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3" marL="630360" indent="-16380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Draft process on notification to market                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2" marL="9144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1.  Did market receive enough time prior to call  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2" marL="9144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2. Will a pre-notification or post notification be sent  </a:t>
            </a: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TDTWG/ERCOT to review over next scheduled meetings</a:t>
            </a:r>
            <a:endParaRPr b="1" lang="en-US" sz="2400" spc="-1" strike="noStrike">
              <a:solidFill>
                <a:srgbClr val="000000"/>
              </a:solidFill>
              <a:latin typeface="Rockwel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343080" indent="-343080">
              <a:spcBef>
                <a:spcPts val="300"/>
              </a:spcBef>
              <a:buClr>
                <a:srgbClr val="f96a1b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5804-3BA0-4CA3-B5ED-521D4667CD8C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8600" indent="-168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.  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Discussions continue regarding NAESB      version update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800280" indent="-34308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DTWG continues to work on updating the guide to show mutually agreed elements to the market.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800280" indent="-34308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DTWG continues to work on reducing the IA dollar amounts and look for savings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800280" indent="-34308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Documents continue to be posted to TDTWG page on ERCOT website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800280" indent="-34308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8002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800280" indent="-34308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8002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E06A-22EE-456B-873A-86E87BC4C569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5.  TDTWG discussed NPRR 555 (Load Resource Participation in Security-Constrained Economic Dispatch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4" marL="1486080" indent="-34308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Issue was tabled for further discussion and request made to take action and attempt to get other working groups/committees to ‘buy-in’ the NAESB upgrade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8A2B-2AD3-4641-9BF1-BDB5487219FC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ADHOC Items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RCOT briefly provided an update on Registration of Load Serving Entities-New Load serving type called External LSEs (ELSE)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2" marL="1028880" indent="-34308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How is ERCOT going to register those ESIIDs?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2" marL="1028880" indent="-343080">
              <a:spcBef>
                <a:spcPts val="300"/>
              </a:spcBef>
              <a:buClr>
                <a:srgbClr val="f96a1b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What file type will be used?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4572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09D3-E42D-4441-89B5-5424DA31AE10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ockwell"/>
              </a:rPr>
              <a:t>QUESTION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826A-5DAD-4CA2-B0D1-02D681CEB0EE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3" descr="C:\Documents and Settings\dtucker\Local Settings\Temporary Internet Files\Content.IE5\GSGFCOFS\MC900441930[1].wmf"/>
          <p:cNvPicPr/>
          <p:nvPr/>
        </p:nvPicPr>
        <p:blipFill>
          <a:blip r:embed="rId1"/>
          <a:stretch/>
        </p:blipFill>
        <p:spPr>
          <a:xfrm>
            <a:off x="3583080" y="2475000"/>
            <a:ext cx="197784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AEP</cp:lastModifiedBy>
  <cp:lastPrinted>2002-09-24T18:27:58Z</cp:lastPrinted>
  <dcterms:modified xsi:type="dcterms:W3CDTF">2014-03-26T18:02:32Z</dcterms:modified>
  <cp:revision>797</cp:revision>
  <dc:subject/>
  <dc:title>PowerPoint Presentation</dc:title>
</cp:coreProperties>
</file>