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F4ED-CB87-43C4-998D-04938B4E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9F5B-05A2-4670-A27E-D0091B50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BF37-B75D-4214-8BB0-8325A9B8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031F-832A-4093-B009-E934EB59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17E4-D54B-4821-89E5-FC39F56B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CB27-F59D-4FC4-B1CB-136ACD35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802A-B263-4A49-B296-16CC9F6D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5E54-5245-4DCC-B52B-904BF2A4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6A0D-677D-48E1-BACA-C3798972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E7F3-B0A8-4EAD-AB74-5E30084D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BB26-7296-42B9-AFD4-2077EAE0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42C0-87A1-47DC-84DB-59CEA06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4241-2B42-4491-838F-6E923E9EE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125A-90E0-4220-AB5D-76B5C2EAD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12484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PS MARCH 2014 UPDATE TO RMS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              4/1/20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ny Marsh,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 570 Reduce RTM Settlement Timeline from 7 to 5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: OD + 6 Initial settlement started with 1/1/2014 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and COPS had standing agenda item to monitor the reduction and report any impacts on ERCOT or 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analyzed limited Final settlement data available and did not notice any variance due to reduction in timeline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ported that they did not observe any impact on their processes and everything is going smoothly on their side with phase 1, OD+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PS/CSWG member raised any issue on their side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arch 17, 2014 meeting COPS unanimously endorsed transition to phase 2 for OD +5 with 5/1/2014 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recommended to TAC transition to phase 2, OD + 5 Initial settlement and OD +55 Final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 570 Reduce RTM Settlement Timeline Phase 2: OD + 5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and COPS will continue to monitor the reduction and report any impacts on ERCOT or 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WG will continue to analyze Final settlement data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will continue to monitor developments in MWG/WMS regar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OGRR014 Communications Regarding EPS Meter Repairs, and Related Notice Deadlines and Clar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metry-to-EPS meter mapping proof of 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will report back to RMS the status of OD + 5 at May/June TAC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LED APRIL COPS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OPS MEETING IS ON  MAY 14 WEDNESDAY, 20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2133720" y="1884240"/>
            <a:ext cx="4343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Clifton, Suzy</dc:creator>
  <dc:description/>
  <dc:language>en-US</dc:language>
  <cp:lastModifiedBy>Clifton, Suzy</cp:lastModifiedBy>
  <dcterms:modified xsi:type="dcterms:W3CDTF">2014-03-28T19:09:32Z</dcterms:modified>
  <cp:revision>910</cp:revision>
  <dc:subject/>
  <dc:title>Instructions</dc:title>
</cp:coreProperties>
</file>