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40E5-2C41-41CF-9D0D-39455B2E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0592-6AC8-4546-BE8F-96C02C55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E119-2EEF-4565-BBB8-F1FA452F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331C-2801-4279-A25A-FE201562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44B9-7D78-43A4-A609-1E4EF2D4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0D13-6E01-4932-9C39-7B0C07F5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3C00-E892-4A33-A8D5-512A7092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4AB4-FB11-40B8-B1D0-B8B25DFF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E660-F94D-4B7E-A3B4-C08C1629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BBC7-5305-437B-BC21-CEE074A4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2212-311D-4D65-BA42-52B71293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962E-23DD-48B0-9E53-5C98354E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377F-C289-4A5A-880D-3C33CB744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lution Days: 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lid Inadvertent/Rescission Issues by Closed D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hart 3" descr=""/>
          <p:cNvPicPr/>
          <p:nvPr/>
        </p:nvPicPr>
        <p:blipFill>
          <a:blip r:embed="rId1"/>
          <a:stretch/>
        </p:blipFill>
        <p:spPr>
          <a:xfrm>
            <a:off x="152280" y="2664000"/>
            <a:ext cx="8820360" cy="352872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2286000" y="22273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NOTE: March 2014 data is March 1 – 30 on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 Count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lid Inadvertent Issues by Mon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Issue Count" descr=""/>
          <p:cNvPicPr/>
          <p:nvPr/>
        </p:nvPicPr>
        <p:blipFill>
          <a:blip r:embed="rId1"/>
          <a:stretch/>
        </p:blipFill>
        <p:spPr>
          <a:xfrm>
            <a:off x="225360" y="2060640"/>
            <a:ext cx="8766360" cy="407808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2362320" y="16765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NOTE: March 2014 data is March 1 – 30 on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advertent/Rescission Issue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centage of Enroll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hart 4" descr=""/>
          <p:cNvPicPr/>
          <p:nvPr/>
        </p:nvPicPr>
        <p:blipFill>
          <a:blip r:embed="rId1"/>
          <a:stretch/>
        </p:blipFill>
        <p:spPr>
          <a:xfrm>
            <a:off x="225360" y="2133720"/>
            <a:ext cx="8594640" cy="41148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2362320" y="17524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NOTE: March 2014 data is March 1 – 30 on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18:41:46Z</dcterms:created>
  <dc:creator>Michelsen, David</dc:creator>
  <dc:description/>
  <dc:language>en-US</dc:language>
  <cp:lastModifiedBy>Yockey, Paul</cp:lastModifiedBy>
  <dcterms:modified xsi:type="dcterms:W3CDTF">2014-03-31T17:51:41Z</dcterms:modified>
  <cp:revision>83</cp:revision>
  <dc:subject/>
  <dc:title>PowerPoint Presentation</dc:title>
</cp:coreProperties>
</file>