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dt" idx="9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ftr" idx="9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 type="sldNum" idx="9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74F0-CDD1-4D27-9447-CB61AD18F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819-B568-45D5-AC6E-9A8BCBD1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043-1F7D-49CF-84F9-7D4FD671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1B2-249F-4AC6-A697-C8C7A81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1F23F-21EE-4A8A-9337-B02B0A90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A35FB-5ED6-4886-B432-DAFD7E2B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356CA-E7FD-45BC-8479-F6E7411D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56D0E-B569-44E8-BB0A-9B357177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055F8-2A72-46DD-B17E-DF36D2C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4E69-6BC0-4614-B26C-6DEBD63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88344-08E5-4303-9E25-3B679732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19B37-3F6E-404A-8914-BFB12572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A92DF-BECA-4864-9A9C-709D3F6B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627-DA90-4AFE-914C-DE076196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11A-B8D1-4CB9-8CEF-2C40898D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BBC22-632F-4127-929E-325D065B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DBDA9-7A48-4DC9-BFFC-5BDD0E6E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DAEA1-6A41-4282-A983-76F68161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81E49-963B-4042-8277-02A72347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D4184-0B77-4819-A1CD-81A98779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E13D9-C5F1-4460-B2E7-C40AC34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25EE1-FBFA-48EE-94AF-0045DF6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7DFDC-F59F-4FF8-ACBD-DA8E9B80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72110-BCEF-4290-AB83-4E46F82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6360C-D258-435D-97EF-8F2137B7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0155E-7DC3-4CBB-B07F-F47FB05C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BC0F0-8990-46D2-B3C9-D59F0E23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DFE1B-A9A3-42DF-8CBC-503F94F5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45E3-CE55-454A-850F-BE444BCE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2E6E3-954F-4A96-83B8-E83B39DA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BECA9-911A-41B3-BB1A-872F5AF0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14E05-8E49-4E7B-A956-1C62459F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07812-6DA6-4E70-9D84-63629E4C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178C0-AAFF-4EE4-BBB9-2B9F2A6D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A1D8A-1767-4279-B11B-7794E68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ED84D-073C-43D8-979B-45684E01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A9AB-6B0A-4510-8AB5-6872046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622C2-F6D8-406A-A35D-2F077EF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92CF9-496F-41F4-8EAD-0F39F469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46987-0500-4285-8C61-D955B4B2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0C5CC-ABD1-4771-81B0-DEBC50AE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522AA-1401-49EC-854A-283808A1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21DAA-F4FC-4045-BFAC-4191236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AE07C-AC5C-42E4-B044-FCC343E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90B1F-7398-4C94-8965-14705F41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D2E91-6313-43ED-BC46-D70CD2B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00C45-DB43-4F75-A636-CE92B20F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AF9A9-9032-4B38-9915-0C9E632A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E24D0-FAD6-4069-8A7F-0CE68A9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0982C-49AB-4A12-BCD3-8EC61A5A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16781-9189-4A95-B93B-7D7A100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4170D-12D4-453E-8E31-998A597E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237EC-F83E-408D-8EEA-1E3065A5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B153E-12FC-4E99-A24F-0E16C42F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E6838-A5B0-4CFD-AAF3-B4258E89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86919-ACAE-4860-B24C-F4699478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3C742-A5CA-4993-8289-B2B6BB63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923F3-9052-42EF-B2E6-8D058D44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6999E-1B69-44BF-881E-72ABEFC2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46BE8-554A-4845-9969-8CB0DD9A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0D530-7947-44C9-A38E-2A4EF4DD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421DA-8BDF-4FC7-8D55-AA4A704A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98BB8-6319-4486-B955-4F9A8B5B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4619B-A994-451C-906D-82B6ADD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8B8B8-98C5-4D67-B5EA-BE067FC0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A5367-0BC5-4E51-931F-7ABAA8DB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B3BED-40FF-4C3A-9459-DD32AB1C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1583E-ED53-459E-8DBC-2421C1AB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A8BF2-68BB-497B-8E73-059C85D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A33F1-4D2A-4D15-A17B-A8E7375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70F39-A69D-4DAE-9AE2-003AAE15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AFBC3-1A9C-41D0-9A72-65321AAA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CB36C-B06B-4DB7-98EE-B8D558A7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C0699-A921-490F-B280-D12B1B5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A053D-4C80-4A82-841D-857C591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700EB-6E76-44A5-8F8D-9E553A8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EB904-326E-4531-BFEC-A432424C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3053F-AC62-4904-8642-242F0954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10F58-A3E2-4690-92D3-5460D897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C9C59-B997-441B-8E10-06FF2CB0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00236-2CEC-4745-88F2-58AA9744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506B4-DAC5-493F-AF18-475DB69A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16E83-FF18-40CA-889A-C7A5111B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FA6A9-1B57-4821-8197-22F6F88F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3BB69-8A6A-4055-83B1-E99AE47E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86A3B-A568-4D68-B987-43515A1B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74C7E-E859-4CA4-B3BB-66B70097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23E09-0490-4CB0-82B3-056FF42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1B2E3-5C2F-4951-BAAE-3BCAC9AC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9F810-6CCC-431F-9B87-096335F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B420E-9D73-4920-A305-FF50F531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78CD6-7783-48CB-80CD-028984BE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7CE46-39F5-46EA-A5D8-51B1ED45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D4098-9A82-4745-89B5-ACB72427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C0250-4425-4864-8972-172E9A16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BCDA7-62E0-481F-988E-0CD0000B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1CD70-ECEF-4975-A794-F319845C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5A525-0B77-4EDB-A13D-3906CC31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F1E18-B735-4E98-9CFC-03291C4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E6796-11FD-4500-ABF5-60352490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54E71-F9AB-4CD2-A5D1-65162194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4E0-5045-4EAB-91EA-D1A53A00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A459E-39B5-4326-B15B-F8791708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2441E-ADC7-4FAE-B57B-BBA3F9F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EC9F7-DD14-4795-BBE4-6112F04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F889E-62A1-4493-9F10-DFC1798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DB467-8FB3-4337-8DE9-8C7FB83E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BA668-8612-49DA-8089-39948205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1DAC7-393E-4600-800A-1A9ECE6C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45710-B82F-46F8-9942-7FE8E5B7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C6275-363F-43EE-830D-8C9E59BA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40AAF-DD02-4C71-9BCE-8EAD8B37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F1E16-65A3-4A3C-A098-72C81A0B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864B8-486F-4573-A04E-F4DAFA93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12DC8-FA74-4A30-8A94-6D8C01C1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401BA-E9E0-4BE5-87E4-7B5ACDC8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6F753-AF3A-4D2F-BB5C-5A1E55F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CE20E-D18E-422F-814C-5F93EA1C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78948-EA8D-49FD-931E-08F75FD9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8F32C-0EE4-45DE-9EB2-5A69A6FA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F1811-C884-40F2-8716-4CC8D46D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0ED12-A88D-476C-A679-E0D46056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8571C-64D5-4076-9AFB-29AFDF2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3CF7F-6501-4F3A-9C51-2183972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A5366-989B-4B54-A5EA-08EC23D9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160BE-02B8-47EE-AB96-0828E6B7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4FEA6-2433-4F33-B911-FAA1DEA2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BFDD02-B92A-472A-9A94-E75ABE6A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057B7-412A-45A0-8C4A-0A2A0D2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F049F-D92F-4D97-AE4D-E7F3F34D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B4482-74BA-4390-B45B-8477695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63B10-710C-4D35-BE44-88BAA5E7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FDFBD-49EF-417B-8ED5-47172F4D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BA47A-783B-4C41-B0A8-080EF814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9EE84-C40C-4667-95FA-6AC6541A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430D1-1E74-4C20-B851-0CFAC6E7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B7171-EF24-4F31-B7B3-98FC00FF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E1F02A-3016-4D33-9A03-A2F82F9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8B600-C659-4AF5-AD7F-5BA52821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E31736-B5C8-474B-A76F-629E372D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AFCAF-AE32-4EFC-85BD-E90E7898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AD368A-48D8-4196-B90B-96A69D61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BC7186-A6B1-4CC0-B74A-519112D9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7C2AB-D7DF-42FE-B659-40625F7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E3FE61-FCFC-4525-A004-70BECAD0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8EFC72-9582-4B93-BC71-E0121067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47EBA-C25D-4F35-B1E0-45E91886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7D25AA-D047-476D-B82C-387C7A84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100B5-C306-4CD4-AFD8-2D4205A5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2E096F-6142-4843-ADAA-61F29495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B617F9-31B7-48BB-8B0B-E845BC3A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8603552-D9BE-440D-8C78-C68765B5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10429D-BAFE-4521-BAE1-9C935E1D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B20665-482B-4460-805E-5E87E2D6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62651CD-4F24-4AFE-B6F7-1838C853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70D240-5B7D-420B-ACDF-37CBF7A5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F449D-37B9-446C-A914-25ABD640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E68E7E9-0603-4FA0-AAC7-E13E923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43ED7E-2CA0-49DB-87EC-0D6592C0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E7902F-1CF7-42A8-BE66-98DCECB9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233630-386D-48C3-9650-DE85C901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4ED8061-7935-41B1-9CB5-F2B81A83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23436BC-A3BB-45B6-BF63-F49F6E98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DF4C0B6-C21F-4874-A877-EF461284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36C0A7-20A1-4EBB-8148-3E812FFC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A34736-13DF-47DC-8FAF-3FA18002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7145955-005F-493A-A2F2-62CCC3A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8E720-7A9A-422B-991D-F23502C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CC28279-62C5-42F5-A34C-B6842A13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976023-41CC-481E-8F1B-238B52D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4FD4BC7-0407-4151-9A11-1E35EB52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31F3D9A-5651-4F3E-8764-3389C77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053436-2D20-4D3E-A057-61A69B98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D494BCB-4417-42C6-A2DC-2377CAAD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31A184-B589-4F2A-BFE5-2BF2B67A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523561-073B-4D61-9119-587109FC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2A48DE-2FA4-43CD-82D2-CF5DBE2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CBC2F4B-B836-4B74-8C9E-BA840169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5E13C-4433-4DD4-8533-5B56AAC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666474D-3FBB-4C8A-BB8D-A041FD74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4F3A4E-1CB0-4945-BF15-441669CA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759F9C-D4F2-44F9-9176-2FA9F87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E99A91-D646-4109-BAD1-DD8F133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7FB3841-DAF1-4EC1-BA67-89320DB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A0A2A1-78C9-4F4D-8D5C-D7667BA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D92A99-F538-4918-A5D2-5BFC3929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E7E683-FD45-451D-989B-A912E4A8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CA13A1-2A75-4195-BDB3-8C5D2E23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968099-BAF9-40BC-9AE6-C2EFDC63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9EE735-84A4-4CF6-814C-33F2A46F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C248FDF-D773-4B4F-9A7C-BB733DBE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99BD69E-E877-459D-936F-4DBEE277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B909C2-84A8-4B8B-9136-736F2773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F25DCB-CF16-45E1-B8CF-39306F9B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48494B-8D09-4F02-B1BD-C92525DB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3DC573-B586-4591-9006-9CBC77C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5A6192-CB19-4EAE-8751-6273381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31A5A1A-E7F1-4608-B659-2B652BA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D839FD5-2722-4E4D-B22C-1FD00D65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9817D90-AF43-4D2F-8009-FE77DEA4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C5B-0CF9-488E-8103-B3A59110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8B88E-CBDC-4A65-9C8A-0EE424C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318DC45-548F-4D89-8839-3A6F1A1C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DF151F-8357-41D9-87A1-5A52277E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28B77F-0596-4FBC-8620-D665C86F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98F852-5F00-4F59-9F74-470B1ED2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DFEC75C-2E51-4C23-8E65-3ED07389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C71BB86-DBE1-4813-AAEB-449B5C26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44B3A77-8E72-4CEC-83B4-AF331B1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E0C1E1-9697-42FF-A3FB-BF441C8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60720D-517B-45F0-8438-D5772036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29D65B-EA0E-4C22-9080-140CEAFB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F79BD-B514-4A43-B416-1419EB03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76521D-1D3E-4901-8536-D4A52E92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538C7E-49BE-420D-BDFF-F27BDEDF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AF4819-9BF8-4FA8-94B1-8B2610AC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74CFBAD-B779-42A0-8732-CDF7513B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6A10F94-0CF7-4C48-9B06-47B3A352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531FFB-6B11-4182-A3E4-7676885F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3B56392-1793-4F05-81D1-BCE17946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2909589-9F4C-4C68-A492-02777D83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8557591-A12E-4379-852C-251A5C4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F4054BB-D51D-4FD8-B25B-373A928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84EA8-FD24-4EF1-B473-1C0CAAFF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685AA3-53F4-4655-A413-38001B8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BC1EE14-6679-4440-8B03-B935D088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D7212B7-2774-427D-9B9F-4DB51457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82226B5-1D4A-4AEB-A6B6-65EC1DFD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62025D-7472-4B6B-8CA5-85FFBEEA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FB2D359-988A-4F2D-AA5B-4AA96203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E0E206-5095-449F-9F4C-3C058DF0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77EDAB-0DDD-4F79-9F6A-B3F8F07C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03BFB84-D30C-4514-A602-03B8B2AB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91EDAC4-4D92-4382-8242-6AFBC315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743C0-58E1-43B0-A01E-12474C83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FA4A786-B276-43E7-844A-267A559E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79A916-83CF-4FAE-88FB-35A65A4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A1E173D-433D-433F-975A-E10E2FBD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094F915-83A1-430A-B79F-042AE2D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B9AE05-822E-4914-B6C1-89C77E22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254654-0DF4-4D4E-B125-45D890D8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E029669-0647-497E-976D-0CE78E59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3DFF036-985B-4B5E-AE24-AB486DBF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72CCE18-8EA9-4602-8F2C-4B5EE942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A6108A9-97CA-493F-9BB2-E4EE3FF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796E7-9F32-465D-9313-7E95BCA7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AF632F4-E9B8-482F-B562-BDCBF604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E6BE641-3407-4AE6-A68A-822CE555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5B42588-636A-4AB6-AF0B-65B0FA07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F33996B-81F6-41CE-A082-E392B4D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5199B62-33C0-4A98-8703-3203D10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A230CB2-C10D-4E23-83A4-3A120AB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85F9322-2842-4539-A444-AFC235E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AC4B3EC-A2FA-4CDF-BE69-2496189F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9BE22F-B20D-4074-9FD0-55EEE8C1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9AFE13-516D-4AA4-8C99-F5D4F73F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2B8A0-34CF-48AA-A991-AAD1C426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4D8304A-0EFE-4CBE-BBCA-2385ED02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760D8F2-9798-4CF5-B7C5-3EFC346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C97C9ED-8856-4CD0-83A8-E0043012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B7E946-D6B5-4B2D-85F0-DA866A3F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3618FCC-2222-4BC9-A97E-C7DCBD90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FFDDE19-22C5-4203-B5CA-1BC8AB45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D1EEBED-32F8-4883-8169-38BCF82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FF5808-FF97-4F25-8B3E-B5783AC5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80FEE83-1D30-4A11-B2A4-85E129E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3822146-8F59-4577-B29A-5D445CAA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9F6C5-275A-4A26-B16A-67AEA2B0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501714E-99F8-49C1-986B-413D4C84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E6DC556-DB97-4AB5-996F-95CD0716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4D84B26-CE28-4AEE-9EB9-691EAAB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80441E7-DA6B-4F85-8A38-44C2B8D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BD7D99B-E11C-4243-8B99-2A1B1EB6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7F78723-33F7-4545-890B-30E8C671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6FAD724-B93E-4D8A-B387-70309D97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2A67811-F3B1-4905-9539-7AEF1D4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8BED3DA-6208-42F2-9B08-B5E57EB3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E627930-934B-4F63-A561-6DB7D833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78A3-6DAF-4444-A486-89585EE9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A65ABC8-D530-494F-8064-F3560100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9C5D6FA-AEF2-415D-B020-4C6866ED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7BB100A-96A2-4FEA-960F-B9FD631D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23E9-46BD-43DC-A0C8-F55EDAC1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0354-8827-43A1-8B51-37BE5CA1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829-5A27-4BEA-A00E-CA670EA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42AE-02DE-423E-8547-15D370DD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0631C-6B3C-4264-B2DB-E083A6F1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F0B7-3997-412C-B5B0-DFEAC689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53A3-3BEC-491A-BE21-94D7CC3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073D-B221-4C00-B795-40CAAD5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791E-1A64-4C54-941C-DCE989E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355B-489E-48EF-8CDD-A5AB2AFE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7CE95-F056-452E-B15C-CAA461B2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4BD6-F869-4336-906E-79C66C9C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B671A-04F6-455B-9DAF-433EBF54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E5E-6AD8-4627-BD2C-A419AFC6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FA2C-56FF-4A78-97AA-2FA7619A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5E0C-7775-46F1-88D6-B1E5F710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C21B-D578-4434-92AC-646BA19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96D05-1E37-4C45-B433-874726D4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D1DA-0BEA-4E8B-BF35-1496BFBF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1D211-7611-4DF8-B40D-5016553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8A9DA-1DAC-4E91-99E7-8C6ADCCA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0F846-CCFA-4A62-9D8F-57BE0EB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3704-50D1-4345-B8C7-8497D15E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546D0-8B22-4D3E-A67F-BA631A61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034-B588-40F6-A2FF-4CF780A0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48511-1DD2-4DA5-A97B-B43FFD0F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CFF0-907B-44AE-8E62-38DCE9A5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B20C-0786-487F-A114-ED5F3758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6D8E-2FA0-4022-BAEB-7389AC1A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1BA4F-CC37-44E6-AD25-8A1A9935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449F-090F-4B7A-AB03-D78F3029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D02EB-87BB-4D23-BA19-42B893F7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08E1-FB4A-4661-B38B-8434D8D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ED651-C03F-4330-ADAF-160144C9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9C5B-72A5-410A-961A-886ECF4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E6E-49D3-476B-8E2B-56ACA627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AE63-5393-4601-A7CF-D32B7FAB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933D-B58C-4361-AFDE-7A10FBCF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BCB8-41CA-48E3-98B9-89EDF860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482F1-ED09-4822-B399-E6EF49CE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50682-2FB1-42B2-AF46-84FCBFD1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ADC1E-FD09-4AF6-AC50-E0BA10FF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06A5E-FC81-445C-8917-42CB6A16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1C8E-20D8-41E7-A9CE-5E04D9A5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626D-A8C3-42D3-AC76-848C9786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B52CE-D432-47A3-BEBB-65753EB8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B6E-F5DB-415C-BFFC-3CA25995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0609-093C-4083-8DD2-1B9063AD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DDD4F-4E05-471E-BFCA-8AF909B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3C5C-F497-4A9A-99E4-2F1FD581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BC409-36CD-4946-91BB-BBBB84B3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284D-5841-4BCE-BDF9-2D5EB48B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8AFA-AC7A-48D4-86B6-11050A79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3B195-F6EE-4AD9-BCFB-970A5AF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8F2D-2892-40F0-98D4-226BC748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6B95-45C1-4DC2-BC4B-E925ACC3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2583-21D2-4D6A-A0D7-16B3796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437-8041-4CF0-A155-258314F1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65B4F-51E0-4A14-BAD6-1C48D28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8C0BE-7810-4A05-AFAB-8FD9E6A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5FE2-020F-4256-A51F-4FA9D308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022C6-9DC2-424F-ADE1-F80B3B0C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CF5F0-2CFF-4AAB-99D9-94AF5AC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14E7-2303-42FE-B617-371A91D9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57CE3-2162-4C2F-B0B6-53C3C7E0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CE34D-4E1D-4DCC-9297-9C30EEE5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AEEE6-EBC8-425D-858D-4CA8DC72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95255-02EE-4640-9701-1EBFE77C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66A6-1F2F-4CFF-A948-6F814BA8A378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E9D6-8728-4710-B381-81A4C9D95FD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E83F-9CAE-476A-BC03-F5599A5A9C58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BB58-B0C0-4A86-A3BA-99982028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A2A7-CC88-4000-AB1D-E182BFDF5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dt" idx="3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6189-D16D-4F2D-8E24-23C614670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19D3-F4A0-4C26-B70E-401CB24D6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1616-7AF2-45E6-B64F-E01A6E7E6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4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dt" idx="3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E05A-1763-4FE4-ACFA-BC575D9BA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A744-F32C-40EA-90A3-D0D03422A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110C-3C0A-44E9-839D-8932C31A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dt" idx="3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C218-411E-4066-AE82-488D2B473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73D8-AF9B-4111-BC2F-B4F8D2D35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1628-4B04-43A8-BEC3-03F09806C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dt" idx="4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7728-6267-40DB-A052-495001CB8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692B-E096-4680-804F-4AFFA597F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239F-07E7-4CA1-B9EE-E5E4BD6F2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dt" idx="4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0EF5-C732-4B3C-B8D5-560E8DC79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BAA-41B2-4216-8B59-C00A2B86D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0138-EAD2-4443-AE8A-6394EAAB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dt" idx="4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8886-1B05-456F-A9F3-A68617A1C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ED32-7256-4D80-BE59-52A13C2C0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F755-857F-4C2D-B4E7-84E28A7F0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9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dt" idx="5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EC5C-EC11-4BE4-92BC-942D8C06D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7B51-AF36-4ADB-9273-F1EECB02A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7370-D2C9-4277-AA89-4C7A9BFFF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5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dt" idx="5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9570-D56C-4D49-99E3-C04875EF2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1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5099-447B-4177-818F-D2BE3C73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37B7-D401-4468-95DF-9ED20880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dt" idx="5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3A2E-1098-4EAC-A9F6-4835D177A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CE4C-0806-432E-BC89-81840366F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97CD-7482-4DDA-960B-525AAA4AB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17B-3030-47EF-8C26-9EF50B9BB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6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857C-7293-4D48-A3CE-BEF0B425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DEB7-8C4E-460E-999F-B7DA25395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dt" idx="5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5BA2-00E2-4F17-895D-2250C4249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11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4D9-2A58-4AFD-8457-F04C1E733DAE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C522-4F2E-4EBD-A9CC-411B818E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F7E5-9E99-41BD-8264-8FB3D7159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dt" idx="6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2984-E1F8-445D-8387-E6400ADFB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BABA-152C-490B-B72B-CF87387D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C817-EEA2-435B-848B-90B0AB859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6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dt" idx="6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6776-B027-4286-BAFC-CF7F50154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4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563A-EB85-4B3C-82FF-62B86B34E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3A54-63F2-4D4A-B8E5-7B35C0343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69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dt" idx="7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5846-B867-41AB-A658-426BB8450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B541-944A-47EA-82D5-0D16C0745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D4F1-F2BE-4106-92BF-5F159907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dt" idx="7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2E6A-A33D-4D05-9F30-AAD119BF2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B168-D1C7-41E1-8981-7709F561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882B-A557-4BF9-AD62-D509F7A45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7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dt" idx="7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115-AFBB-4CA4-9002-97580E746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BEC-CC88-4277-BA7D-FE1FD0B5F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919F-368A-40A3-AB53-4D438BD96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7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dt" idx="7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0E10-9092-458C-9DAB-D9382F5B2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BAEF-02A5-42C2-87FD-E218AC7AC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sldNum" idx="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E8C-969D-4DF0-BEFD-B82F04EB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1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dt" idx="8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1F18-F690-4E09-B685-101357820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B1C0-4EF4-47A0-A40C-82BD7CDA1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sldNum" idx="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47F3-273B-47CB-B3D4-0636B8FE2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84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dt" idx="8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39BA-1C2C-4F6C-B9AF-22D69517E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A177-89C4-444E-B3AB-4B539F422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dt" idx="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798C-4FFA-479A-86EC-17B2B2E47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ADFE-630D-4372-A018-3E94A1242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3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6614-7162-4530-B7FA-3B55733C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67E-A385-4299-AA53-E20BB360B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ftr" idx="8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 type="dt" idx="8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08FF-6EED-403D-9D39-B039223EE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7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0A0C-A6B5-4A13-AAF4-C5F98E35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sldNum" idx="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E92-177A-4B18-BF14-206B507AB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9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dt" idx="9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C0F1-038F-4A5E-ADEF-6734050BA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6024-B24D-4DB9-AF96-A4D6AD1BE5A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1A1-F4C1-4B15-BB28-2267F37C3F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CC1F-42AC-466A-A4AE-2F1D2044CF6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0E4A-C065-40E6-9541-940D388386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CA19-A30A-466D-A34E-C1F9FA7CD99C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6CCF-1688-4923-904D-DC6271F5DC4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5C5A-0F1C-420E-AE5B-6CB96F00CB6E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393-50A7-4460-90A1-664EDEA17CC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058-DC11-48C9-95A7-D75642452124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E3D-794F-4E04-B0C1-E23261FDEBF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AF55-60BA-4BF2-9A27-CDDC16B2D611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D3FA-BBC7-43BE-901B-8E95A492E17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Title 1" descr=""/>
          <p:cNvPicPr/>
          <p:nvPr/>
        </p:nvPicPr>
        <p:blipFill>
          <a:blip r:embed="rId1"/>
          <a:stretch/>
        </p:blipFill>
        <p:spPr>
          <a:xfrm>
            <a:off x="2438280" y="2432160"/>
            <a:ext cx="6553440" cy="2084400"/>
          </a:xfrm>
          <a:prstGeom prst="rect">
            <a:avLst/>
          </a:prstGeom>
          <a:ln w="0">
            <a:noFill/>
          </a:ln>
        </p:spPr>
      </p:pic>
      <p:sp>
        <p:nvSpPr>
          <p:cNvPr id="143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1E8E-5955-4B77-BEA3-DDD1CCC84E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EP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approx.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99% complete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1,017,845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 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02.28.2014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1" marL="613080" indent="-22896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eployment Plan schedu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21320" indent="-15300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88,212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eters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21320" indent="-15300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51,571  meters 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21320" indent="-15300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 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79,329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meters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– 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21320" indent="-15300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3 –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278,280  meter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364B-C090-442F-AE74-FDB174CA391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436" name=""/>
          <p:cNvSpPr txBox="1"/>
          <p:nvPr/>
        </p:nvSpPr>
        <p:spPr>
          <a:xfrm>
            <a:off x="45684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TNMP-  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approx. 58% complete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rbel"/>
              </a:rPr>
              <a:t>Installed:  </a:t>
            </a:r>
            <a:r>
              <a:rPr b="1" lang="en-US" sz="4100" spc="-1" strike="noStrike">
                <a:solidFill>
                  <a:srgbClr val="ff0000"/>
                </a:solidFill>
                <a:latin typeface="Corbel"/>
              </a:rPr>
              <a:t>133,937 </a:t>
            </a:r>
            <a:r>
              <a:rPr b="0" lang="en-US" sz="4100" spc="-1" strike="noStrike">
                <a:solidFill>
                  <a:srgbClr val="000000"/>
                </a:solidFill>
                <a:latin typeface="Corbel"/>
              </a:rPr>
              <a:t> as of </a:t>
            </a:r>
            <a:r>
              <a:rPr b="1" lang="en-US" sz="4100" spc="-1" strike="noStrike">
                <a:solidFill>
                  <a:srgbClr val="000000"/>
                </a:solidFill>
                <a:latin typeface="Corbel"/>
              </a:rPr>
              <a:t>02.28.2014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Gulf Coast       </a:t>
            </a: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omplete i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Q4 2013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Lewisville   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Q1 2014 -    Q3 2014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North Texas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4 2014 -    Q3 2015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Central Texas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3 2015 -    Q1 2016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774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West Texas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2 2016 -    Q3 2016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9304-62F5-49EE-A8AA-306CB241D7D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Title 1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 txBox="1"/>
          <p:nvPr/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orbel"/>
              </a:rPr>
              <a:t>Oncor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100% complete</a:t>
            </a:r>
            <a:r>
              <a:rPr b="1" lang="en-US" sz="47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47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Installed: </a:t>
            </a:r>
            <a:r>
              <a:rPr b="1" lang="en-US" sz="3800" spc="-1" strike="noStrike">
                <a:solidFill>
                  <a:srgbClr val="ff0000"/>
                </a:solidFill>
                <a:latin typeface="Corbel"/>
              </a:rPr>
              <a:t>3,262,864 </a:t>
            </a:r>
            <a:r>
              <a:rPr b="0" lang="en-US" sz="3800" spc="-1" strike="noStrike">
                <a:solidFill>
                  <a:srgbClr val="000000"/>
                </a:solidFill>
                <a:latin typeface="Corbel"/>
              </a:rPr>
              <a:t>as of </a:t>
            </a: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12.31.2012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9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Deployment Plan: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0 –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29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1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02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82160" indent="-162360">
              <a:spcBef>
                <a:spcPts val="7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2012 –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902,000  meters –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55E-F94D-4AA8-9E31-34F8763D82A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"/>
          <p:cNvSpPr/>
          <p:nvPr/>
        </p:nvSpPr>
        <p:spPr>
          <a:xfrm>
            <a:off x="609480" y="61214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95400" indent="-182520">
              <a:lnSpc>
                <a:spcPct val="100000"/>
              </a:lnSpc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Deployment Complete as of  12/31/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Title 1" descr=""/>
          <p:cNvPicPr/>
          <p:nvPr/>
        </p:nvPicPr>
        <p:blipFill>
          <a:blip r:embed="rId1"/>
          <a:stretch/>
        </p:blipFill>
        <p:spPr>
          <a:xfrm>
            <a:off x="304920" y="16524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rbel"/>
              </a:rPr>
              <a:t>CNP – </a:t>
            </a:r>
            <a:r>
              <a:rPr b="1" lang="en-US" sz="4000" spc="-1" strike="noStrike">
                <a:solidFill>
                  <a:srgbClr val="ff0000"/>
                </a:solidFill>
                <a:latin typeface="Corbel"/>
              </a:rPr>
              <a:t>100% complete</a:t>
            </a:r>
            <a:r>
              <a:rPr b="1" lang="en-US" sz="37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en-US" sz="3700" spc="-1" strike="noStrike">
                <a:solidFill>
                  <a:srgbClr val="ffff00"/>
                </a:solidFill>
                <a:latin typeface="Corbel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Installed: </a:t>
            </a:r>
            <a:r>
              <a:rPr b="1" lang="en-US" sz="3500" spc="-1" strike="noStrike">
                <a:solidFill>
                  <a:srgbClr val="ff0000"/>
                </a:solidFill>
                <a:latin typeface="Corbel"/>
              </a:rPr>
              <a:t>2,283,012</a:t>
            </a:r>
            <a:r>
              <a:rPr b="1" lang="en-US" sz="35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as of </a:t>
            </a: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07.31.2012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ployment Plan: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0 –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756,684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1 –  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960,327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2012 –  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373,423 meters – 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Complete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094400" indent="-164160">
              <a:spcBef>
                <a:spcPts val="751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164160">
              <a:spcBef>
                <a:spcPts val="825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rbel"/>
              </a:rPr>
              <a:t>Deployment Complete as of  7/31/2012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FE2B-A986-40C6-8EFD-CB901E6D095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1446" name="Content Placeholder 2" descr=""/>
          <p:cNvPicPr/>
          <p:nvPr/>
        </p:nvPicPr>
        <p:blipFill>
          <a:blip r:embed="rId2"/>
          <a:stretch/>
        </p:blipFill>
        <p:spPr>
          <a:xfrm>
            <a:off x="304920" y="129852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1447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B397-EBFB-43C0-9138-7706DE3BC08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8443800">
            <a:off x="6598800" y="3602160"/>
            <a:ext cx="2638440" cy="327960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3515600">
            <a:off x="226080" y="3845520"/>
            <a:ext cx="2867040" cy="35514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2011200">
            <a:off x="6840000" y="900000"/>
            <a:ext cx="2157480" cy="255924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2" descr="C:\Documents and Settings\00015621\Local Settings\Temporary Internet Files\Content.IE5\4H9UELBM\MC900093373[1].wmf"/>
          <p:cNvPicPr/>
          <p:nvPr/>
        </p:nvPicPr>
        <p:blipFill>
          <a:blip r:embed="rId6"/>
          <a:stretch/>
        </p:blipFill>
        <p:spPr>
          <a:xfrm rot="3060600">
            <a:off x="221040" y="792720"/>
            <a:ext cx="1987560" cy="29926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2" descr="C:\Documents and Settings\00015621\Local Settings\Temporary Internet Files\Content.IE5\4H9UELBM\MC900093373[1].wmf"/>
          <p:cNvPicPr/>
          <p:nvPr/>
        </p:nvPicPr>
        <p:blipFill>
          <a:blip r:embed="rId7"/>
          <a:stretch/>
        </p:blipFill>
        <p:spPr>
          <a:xfrm>
            <a:off x="3581280" y="4262400"/>
            <a:ext cx="2401920" cy="255276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2" descr="C:\Documents and Settings\00015621\Local Settings\Temporary Internet Files\Content.IE5\4H9UELBM\MC900093373[1].wmf"/>
          <p:cNvPicPr/>
          <p:nvPr/>
        </p:nvPicPr>
        <p:blipFill>
          <a:blip r:embed="rId8"/>
          <a:stretch/>
        </p:blipFill>
        <p:spPr>
          <a:xfrm rot="10800000">
            <a:off x="3427560" y="1490760"/>
            <a:ext cx="24192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itle 6" descr=""/>
          <p:cNvPicPr/>
          <p:nvPr/>
        </p:nvPicPr>
        <p:blipFill>
          <a:blip r:embed="rId1"/>
          <a:stretch/>
        </p:blipFill>
        <p:spPr>
          <a:xfrm>
            <a:off x="609480" y="231840"/>
            <a:ext cx="8382240" cy="113976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2" descr="C:\Documents and Settings\00015621\Local Settings\Temporary Internet Files\Content.IE5\UZYJAF85\MCj04344110000[1].wmf"/>
          <p:cNvPicPr/>
          <p:nvPr/>
        </p:nvPicPr>
        <p:blipFill>
          <a:blip r:embed="rId2"/>
          <a:stretch/>
        </p:blipFill>
        <p:spPr>
          <a:xfrm>
            <a:off x="1828800" y="1905120"/>
            <a:ext cx="4724280" cy="4267080"/>
          </a:xfrm>
          <a:prstGeom prst="rect">
            <a:avLst/>
          </a:prstGeom>
          <a:ln w="0">
            <a:noFill/>
          </a:ln>
        </p:spPr>
      </p:pic>
      <p:sp>
        <p:nvSpPr>
          <p:cNvPr id="145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0F3F-A63A-484E-8919-035F0C70B3B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0:03:56Z</dcterms:created>
  <dc:creator>00015621</dc:creator>
  <dc:description/>
  <dc:language>en-US</dc:language>
  <cp:lastModifiedBy>Scott, Kathy D.</cp:lastModifiedBy>
  <dcterms:modified xsi:type="dcterms:W3CDTF">2014-03-21T23:45:13Z</dcterms:modified>
  <cp:revision>242</cp:revision>
  <dc:subject/>
  <dc:title>MARS Task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829819991</vt:lpwstr>
  </property>
</Properties>
</file>