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014F-F905-4E46-B2E6-1124697DD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4890-4CB1-49F9-9731-2C929617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A0A0-406F-4D9C-A266-336411E74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8A5F-D984-454F-888D-AA54CF048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9850-1D00-442E-8599-B14A9124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D13D-1425-483C-80A3-85333DE4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317B-9E30-450A-A137-4280C34C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3FD9-50E2-4609-961A-DD073071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1744-E518-4E94-8D60-18A8CAE0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CDFB-3FBF-4C56-BE46-D188C595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AE35-9889-49AC-A7DB-E89E0E6B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B923-1D64-45D6-A650-C3FDAF93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7B9E-030D-4A16-B94A-2233A9917A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" y="1552680"/>
          <a:ext cx="8153280" cy="1266840"/>
        </p:xfrm>
        <a:graphic>
          <a:graphicData uri="http://schemas.openxmlformats.org/drawingml/2006/table">
            <a:tbl>
              <a:tblPr/>
              <a:tblGrid>
                <a:gridCol w="3251160"/>
                <a:gridCol w="3251160"/>
                <a:gridCol w="1650960"/>
              </a:tblGrid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MISE_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R_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52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ge Non-Resident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ge Non-Resident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4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ident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ident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7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2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 Non-Resident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 Non-Resident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2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4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,9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2" name="Title 1"/>
          <p:cNvSpPr/>
          <p:nvPr/>
        </p:nvSpPr>
        <p:spPr>
          <a:xfrm>
            <a:off x="685800" y="457200"/>
            <a:ext cx="77724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ESI ID Stats – Sharyland Util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57200" y="2971800"/>
          <a:ext cx="8153280" cy="3395520"/>
        </p:xfrm>
        <a:graphic>
          <a:graphicData uri="http://schemas.openxmlformats.org/drawingml/2006/table">
            <a:tbl>
              <a:tblPr/>
              <a:tblGrid>
                <a:gridCol w="401760"/>
                <a:gridCol w="1298520"/>
                <a:gridCol w="2806560"/>
                <a:gridCol w="2806920"/>
                <a:gridCol w="839520"/>
              </a:tblGrid>
              <a:tr h="270000"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a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MISE_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R_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02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ge Non-Resident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ge Non-Resident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02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ident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ident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8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02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 Non-Resident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 Non-Resident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9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20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ge Non-Resident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ge Non-Resident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02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ident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ident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7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02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 Non-Resident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 Non-Resident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0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02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ident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ident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06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 Non-Resident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 Non-Resident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02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ident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ident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02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 Non-Resident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 Non-Resident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02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ge Non-Resident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ge Non-Resident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0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,9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itle 1"/>
          <p:cNvSpPr/>
          <p:nvPr/>
        </p:nvSpPr>
        <p:spPr>
          <a:xfrm>
            <a:off x="685800" y="457200"/>
            <a:ext cx="77724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Order Stats – 3/28/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5800" y="3124080"/>
          <a:ext cx="7696080" cy="2934000"/>
        </p:xfrm>
        <a:graphic>
          <a:graphicData uri="http://schemas.openxmlformats.org/drawingml/2006/table">
            <a:tbl>
              <a:tblPr/>
              <a:tblGrid>
                <a:gridCol w="1790640"/>
                <a:gridCol w="1789200"/>
                <a:gridCol w="1790640"/>
                <a:gridCol w="1789200"/>
                <a:gridCol w="536400"/>
              </a:tblGrid>
              <a:tr h="266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der Ty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MISE_TY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R_TY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6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ve 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cel Pe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ident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ident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6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ve 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cell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ge Non-Resident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ge Non-Resident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6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ve 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cell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ident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ident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6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ve 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cell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 Non-Resident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 Non-Resident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6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ve 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Revie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ident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ident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6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ve 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Revie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 Non-Resident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 Non-Resident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6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ve 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edul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ge Non-Resident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ge Non-Resident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6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ve 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edul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ident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ident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9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6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ve 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edul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 Non-Resident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 Non-Resident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6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6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685800" y="1600200"/>
          <a:ext cx="7696080" cy="838080"/>
        </p:xfrm>
        <a:graphic>
          <a:graphicData uri="http://schemas.openxmlformats.org/drawingml/2006/table">
            <a:tbl>
              <a:tblPr/>
              <a:tblGrid>
                <a:gridCol w="909720"/>
                <a:gridCol w="974520"/>
                <a:gridCol w="858960"/>
                <a:gridCol w="1738440"/>
                <a:gridCol w="892080"/>
                <a:gridCol w="1560600"/>
                <a:gridCol w="761760"/>
              </a:tblGrid>
              <a:tr h="419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_Revie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edul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alid_Dt_Requ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cell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_Open_Or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4190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,9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,9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18" descr=""/>
          <p:cNvPicPr/>
          <p:nvPr/>
        </p:nvPicPr>
        <p:blipFill>
          <a:blip r:embed="rId1"/>
          <a:stretch/>
        </p:blipFill>
        <p:spPr>
          <a:xfrm>
            <a:off x="122400" y="609480"/>
            <a:ext cx="883908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15:44:23Z</dcterms:created>
  <dc:creator>Michelsen, David</dc:creator>
  <dc:description/>
  <dc:language>en-US</dc:language>
  <cp:lastModifiedBy>Connel, Seth</cp:lastModifiedBy>
  <dcterms:modified xsi:type="dcterms:W3CDTF">2014-03-28T15:47:46Z</dcterms:modified>
  <cp:revision>9</cp:revision>
  <dc:subject/>
  <dc:title>PowerPoint Presentation</dc:title>
</cp:coreProperties>
</file>