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989-ED3A-4AEE-A898-0281B3EE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E92-4457-4174-A989-7296AA0E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114-3902-4480-8293-C5D7D596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32D-4B20-4C4A-81D8-1B42B7E7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967-FFDB-447A-AA05-C06375A7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F41-4FB9-4304-9037-C6E3893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2CD-4D8A-41AE-96C6-E689C85E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D49-10A2-4E33-91F6-0227C14A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1CE-5FB7-438D-941D-8E959CD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797-FAFC-4EF7-AFAA-A4836DE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710-372F-4A06-9A05-5F6E8AE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70E-A150-4943-8A9B-300FFFD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229-057F-40B8-AD30-329B15932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F Report to T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port of RATF meetings he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roughout March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Adequacy Task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dershi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ndy Morris – Ch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zanne Bertin – Vice Ch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sion Matr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ive for recommended language (NPRR/OB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s Hel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ch 3, 19, 20, and 2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D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C meets March 27, PUC meets March 2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Adequacy Task Fo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mited Scope as directed by PU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at price reversal and the effects on ORDC from ERS Deployments, Load RRS Deployments, and RUC (0 – LSL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rther changes of scope must be directed by T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sion to RUC floors to higher than $1000/MW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ase of the HAS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 do with RMR resources?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 do with firm load she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COT Augmented ORDC Proposa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4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Goal at TAC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te on the issues considered “ripe” after the month of RATF mee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S price revers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RRS price revers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appropriate venue for the open t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S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ropos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ract out ERS from Rs when ERS is deployed  in order to remove effect of deployment from reserve cal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estimated ERS deployment to demand and then perform pricing run (Three-Step SC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of the Proposals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 on ERS Proposal 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tract out ERS from Rs when ERS is deployed  in order to remove effect of deployment from reserve calcul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ket Impact - Prevents price reduction to ORDC due to deployment of 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Schedu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*does not subject ERS to clawback or pay ERS the adder, not in the AS Imbal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 RRS- Three Option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hing option: ORDC already addresses the effect of Load  RRS deployments in reserve calc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ract out Load RRS from Rs when deployed for price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estimated Load RRS deployment to demand and then perform pricing run (Three-Step SC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C (0 – LS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Options at RA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ear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Options including ERCOT’s Proposal for an Augmented OR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ipe for a Vote at T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Published Matrix for further discussion if TAC chooses to proc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9:27:45Z</dcterms:created>
  <dc:creator>Morris, Sandra</dc:creator>
  <dc:description/>
  <dc:language>en-US</dc:language>
  <cp:lastModifiedBy>Albracht, Brittney</cp:lastModifiedBy>
  <dcterms:modified xsi:type="dcterms:W3CDTF">2014-03-26T14:23:01Z</dcterms:modified>
  <cp:revision>9</cp:revision>
  <dc:subject/>
  <dc:title>RATF Report to WMS</dc:title>
</cp:coreProperties>
</file>