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5766-B719-452A-9947-A28C81F4F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C303-5B65-45CB-80FC-CC857C6D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772040" y="6514920"/>
            <a:ext cx="121932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7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66920"/>
            <a:ext cx="7362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pd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568 /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l-Time Reserve Price Adder Based on Operating Reserve Demand Curve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371600" y="414036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ice Ayson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h 27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PRR568 Project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762120"/>
            <a:ext cx="86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In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ed NPRR591 As-Built Clarification &amp; Corrections Related to NPRR5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ed NPRR598 Clarify Inputs to PRC &amp; OR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of Test Plans and Scripts In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- May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nternal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C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day 4/7 Houston at CenterPoint Tower Audito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dnesday 4/16 DFW at Garland Fire Administration 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ay 4/18 Austin at ERCOT Austin + Web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1,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ch 27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200160" y="685800"/>
            <a:ext cx="87422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bee, Nathan</dc:creator>
  <dc:description/>
  <dc:language>en-US</dc:language>
  <cp:lastModifiedBy>Ayson, Janice</cp:lastModifiedBy>
  <dcterms:modified xsi:type="dcterms:W3CDTF">2014-03-26T13:37:29Z</dcterms:modified>
  <cp:revision>493</cp:revision>
  <dc:subject/>
  <dc:title>Instructions</dc:title>
</cp:coreProperties>
</file>