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C6E7-49A0-4BA4-B681-9F647442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ADA1-1096-40BA-BFDD-9CB628D9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6A01-8DE6-4F91-9249-E9C5ADCE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31B4-A2E8-41FB-983C-891B2998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6E67-DDD3-42A4-A796-DDD3A188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58C2-5167-42BF-A597-E8D18DB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9F94-4A80-4D20-828F-AB1D61D9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377F-A44A-4257-9B98-8182DA2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B174-6D4D-4D25-BABE-09AB72EB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72E3-4FE6-435C-9DDE-736B896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8422-2615-4654-9D6C-ACC573D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6B16-8140-4D63-8D96-FBA35D0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27A-23F7-4682-BD39-3EFE5CE19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2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1A8-4941-467A-ACFF-C5A293CF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/12/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962000"/>
            <a:ext cx="79246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inal Report on Fast Responding Regulation Service (FRRS) Pilot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27th, 201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nal Cos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B01-D4AB-4888-85E4-58D211CF56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762120"/>
          <a:ext cx="8915400" cy="5411520"/>
        </p:xfrm>
        <a:graphic>
          <a:graphicData uri="http://schemas.openxmlformats.org/drawingml/2006/table">
            <a:tbl>
              <a:tblPr/>
              <a:tblGrid>
                <a:gridCol w="1676520"/>
                <a:gridCol w="2057400"/>
                <a:gridCol w="2286000"/>
                <a:gridCol w="1676160"/>
                <a:gridCol w="1219320"/>
              </a:tblGrid>
              <a:tr h="331560">
                <a:tc gridSpan="2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al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l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0480">
                <a:tc gridSpan="2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FRRS Payments (UP and Dow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,907,681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,781,291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0800">
                <a:tc rowSpan="1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R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al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l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b 25 - 28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0,183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7,61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25.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ch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58,13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39,681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1.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il 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57,402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54,135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2.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y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71,071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60,598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6.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ne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66,055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55,912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6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y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18,33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09,445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7.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gust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81,81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67,821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7.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ptem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29,126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20,557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6.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to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24,30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12,829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9.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em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03,418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96,75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6.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91,18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84,671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7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nuary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14,997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09,405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bruary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35,605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34,676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,861,615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,754,100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nal Cost FRRS-Dow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6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8BC-A05A-45DD-9FC6-57A0D6B058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914400"/>
          <a:ext cx="8610480" cy="5359320"/>
        </p:xfrm>
        <a:graphic>
          <a:graphicData uri="http://schemas.openxmlformats.org/drawingml/2006/table">
            <a:tbl>
              <a:tblPr/>
              <a:tblGrid>
                <a:gridCol w="1952640"/>
                <a:gridCol w="2179800"/>
                <a:gridCol w="2179440"/>
                <a:gridCol w="1362240"/>
                <a:gridCol w="936360"/>
              </a:tblGrid>
              <a:tr h="3128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0000">
                <a:tc rowSpan="1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R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al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l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b 25 - 28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,057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2,206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27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ch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1,319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18,184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1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il 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4,267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,302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22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y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,81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2,593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ne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2,84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865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69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y 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766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37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95.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gust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ptem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to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em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nuary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bruary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46,065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$27,190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40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ost Pilo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581 became effective on Operating Day 3-1-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can offer in and participate in Regulation and follow a Fast Responding Regulation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continues to benefit from Resources providing FR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ncillary Service Team (FAST) continues to work on improving Ancillary Services.  (Definition of services, procurement, deployment and settlement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22E0-9B20-4B67-9728-6DD8EBA8E8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RRS Pilot Overview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3, 2013: Board Appro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5, 2013: First day of Pi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6, 2013: ERCOT Board approves request to extend the FRRS pilot to February 28, 201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8, 2014 Pilot project 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Resources participated in the pi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854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 1 was a nominal 36 MW battery in Winkler/Ector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854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 2 was a nominal 1 MW battery in Harris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854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 3 was a nominal 0.1 MW fleet Electric Vehicle Charging Station in Tarrant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813B-99F9-498F-9754-EEEDF4E409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 of Finding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oduction of FRRS improves ERCOT’s ability to arrest frequency decay during unit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RS Pilot Resources generally followed ERCOT FRRS deployments  and responded automatically using local frequency detecting techniques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eployed, FRRS reduces the rate of change of frequency and regulation deployed to conventional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lower quantities offered for FRRS-down and an overall lower performance for FRRS-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A56-4082-4CCE-B23C-5A85C183BA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RS 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02E-24C1-4096-AD50-A93CDCD105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990720"/>
          <a:ext cx="8305920" cy="5397480"/>
        </p:xfrm>
        <a:graphic>
          <a:graphicData uri="http://schemas.openxmlformats.org/drawingml/2006/table">
            <a:tbl>
              <a:tblPr/>
              <a:tblGrid>
                <a:gridCol w="2557440"/>
                <a:gridCol w="2855880"/>
                <a:gridCol w="2892600"/>
              </a:tblGrid>
              <a:tr h="490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RS Performance by Mon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RS-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RS-D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b 25 - 28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ch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il 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y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ne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y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gust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ptember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tober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ember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nuary 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bruary 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of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RS 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04D-ED8F-4E4E-822E-F0914BEADA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8380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RRS Performa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23C-CBC5-4F0E-8278-FD39C4C023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tect and Respond (60 cycles) to low Frequenc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15400" cy="53337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1C7-31E6-463E-896D-86F754BC73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te of Change of Frequency (RoCoF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Date Placeholder 8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7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9E48-0F0A-4A2C-9F2D-46CF04A7D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te of Change of Regulation-Up Deploy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Date Placeholder 7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/26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D40-31CE-4DE3-8B77-BF6183F2B7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sandip sharma</dc:creator>
  <dc:description/>
  <dc:language>en-US</dc:language>
  <cp:lastModifiedBy>ERCOT</cp:lastModifiedBy>
  <cp:lastPrinted>2012-06-12T21:37:56Z</cp:lastPrinted>
  <dcterms:modified xsi:type="dcterms:W3CDTF">2014-03-25T21:39:16Z</dcterms:modified>
  <cp:revision>445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</Properties>
</file>