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02148-CDD8-4590-A490-B081CEF30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AF368-AC2F-451A-80C0-E7BA61FFB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798-6969-4333-AA3D-BF633780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094-73A8-4E39-916C-13BBE1D9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6E8ED-CE72-4388-8639-F0D7853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ED318-CE2C-45EF-8029-C055B0A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E777E-9FB8-44E8-92BB-A356467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20126-7C91-4428-A268-339BD4D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D69B7-0D66-45DA-86C1-543A2E2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E21A31-C0D9-4278-BBFA-0A10A91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6C66F8-EAE0-4FAA-A221-C0B3B00F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87F1EC-9A76-48C0-950A-EFDC5234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EAF5D-AC0A-4C6C-8469-12C152A6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4D07D-8E06-4C6A-ABA5-32846DF7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15E-CF19-4305-9606-91D7A6A6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0D588-687C-4ED8-9D22-1799BD7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C7A94-4C9F-4B29-B87B-0D97203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05E6C-259A-48E9-AB0B-18468124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66B87-8088-45C6-99C3-6A28A57C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9C2C8-A125-45DC-850E-51DAE9A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D0217-86EE-4098-BB5F-72A60C4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7763F-871F-4D43-AC48-FE2EB51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1F5DF-9E8A-4613-B96E-132CEB2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62628-8CA6-43A9-BA4F-A57117E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E622A-D274-428C-AB7D-1C56588B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EC3-51CB-4A19-937D-401B0906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93B76-9146-4C9B-9F68-7F43098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89AE3F-5EA5-44AD-B5B7-CFE2F836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0EF852-B7CD-4036-9EA7-383E343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BDEA0-E666-4733-9BA1-7DA5ECC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B8594B-FC27-420B-8E44-6C17C30C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E0FB10-0B8C-4847-A0AF-8121B9A5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60FEB7-C6E7-43A3-A128-A79F9900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CAD11-7094-4361-9D58-A0F4DF8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2AB3B-FABC-447F-908D-E9E580F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56892-0B40-4DEC-8456-17448798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094B-45EA-475D-BC15-F8AE10A0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1ACD0-D2E9-4F24-9B9B-037F0A07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76A85-F656-4C6E-B9D1-C5C62FA4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20413F-3C84-4136-A85C-6D946784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2AD5-63BE-429E-A418-6F839631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DE0-C4B6-4801-943D-582593D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C479-966A-4F89-A890-EB2D47A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F65-6494-4DAA-88B1-128F997C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2A5-65C1-4981-942C-20CFB88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2540-6B77-4701-830B-03C420C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04E-3BA1-4AC0-B049-5D47E75E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6F11-4844-4421-AAF4-66853E8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6746-48FE-4801-AEF6-130C7E4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5A05-5F9E-49BA-83EE-C2B7C21F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0B21-3232-42A6-BDFC-7E7D923B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C8B-0C99-421C-8995-D4AB6560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155-35DE-434C-A314-CF33A41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51E-260B-4CD9-89B3-4B7A272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1E756-2A8E-4DCC-8A9E-0A8C3117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B45-73FA-42C2-B8F1-35A75F1E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A1445-07ED-4A94-9996-796AE12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DE77F-2E7F-4B94-8642-7958C125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4FD12-8A7F-49A3-99CF-FBF0E984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6B71D-E53B-49F1-BCC2-70DC50D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8B044-30A9-4685-8FBF-AD51B02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4F5EE-9DCF-473D-A309-6BAEF812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398DB-5A29-4A52-8BCF-D290777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B5BC5-9989-496D-972B-78CECCD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7244B-6001-43A4-B6EB-5DD13AF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4A6C7-F3F8-463A-95FE-A43AE64C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28C-28AE-4C8F-9BB8-230CF6E0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C3CE6-0976-465E-B6DF-956C3574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A3F4D-824D-4B71-8496-108C3F9C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CE672-806B-4F5E-86EF-7158F9AD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7948E-CD99-4B15-BFCC-9E05FA2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824C4-290D-4CF3-8CF1-93C9F29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62DE96-D5FA-4DA5-BCE9-1BD8767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9E273-0158-4909-8681-CA6EC2A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91233-71D2-4621-8989-75CFBDD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F5F2A-4714-473B-99F8-F2C38D1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414E5-7597-4ED6-9411-0C1A0EC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7E6-5319-4369-B0F5-FA3A029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E81A4-7784-43F1-B827-AB58080E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15D24-4F44-4E4A-8644-60E6A197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64F9C-76CC-4AC6-BC48-DC8AFB77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55A83-1889-4969-8682-F66E8D81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8FD08-625D-4A92-B806-6E998F4D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EA155-15D2-4486-8E7F-5BC800A4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F06090-8A79-4092-8937-039965D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41F6B-F3C8-4ECF-8E3C-16E020CD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52C13-2617-4723-A64D-87587169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A71C22-3480-48C1-99F3-DEFB325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04B-8BAD-47A2-A2B2-E47C8BC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12B2E-4894-4328-8817-2A22DE8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EE2A7-9205-4A37-B796-00E5CD1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E7207-0F07-49C7-A11B-FFE4E854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B6DAB-AEF8-4566-B566-3E2E32ED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EFD1A-AC00-43A5-8658-93D0B74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84B0C-D520-4111-886B-522989E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4BC0B6-A549-4AB7-AAD2-6533861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A34C1-641D-45DE-82E2-577C3714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3800F-30C4-4948-85F1-A599C8F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3930F-2EBA-4738-A808-52EF2C5B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58C-E4D0-493C-8844-B4AD3F8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D094F-AFB8-4695-BB3C-8834EBC1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1D00A5-FFA0-4E99-BACF-266118A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7DB990-2AA4-403A-9ED3-70B6551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F4F2D8-BB24-4338-A69F-59F9069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0A4E2-3EC4-4C9B-AFC4-7AADBFB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213AB1-CEFE-46CD-B521-AFA6494C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3FAA3-3E7F-4457-81A8-1AD0E1F8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D785F-078E-4DAC-9071-F47A1A6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56841-E8A6-45CE-899B-8E2C2F69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D535F-3DDF-407F-BC11-CA102E2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4B6FB-8ED8-4CAB-8333-14E176A9F6E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6F009-5207-4A35-A1DE-C90469561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C48D3-E4FB-4902-B0CD-C3178B8CD51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849B7-5204-454B-9A7E-340B22C6A4C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5C26B-A37D-4FF2-AF00-6BE700CD065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765DC-7F72-4A91-802F-10E8FD3C01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97334-1D46-4402-9F3E-F3CC3ADFC04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294F0-466E-4312-A3D5-B36CDC1893D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AB262-BDB7-49EA-953C-7933B9DFE89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AF76F-5955-423B-8316-EFAE4406FAF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44265-3149-475D-A83D-3A6954474D4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8655E-05C7-47EC-9409-E9A25BFEFB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7EBB3-E2CA-40FC-8FFC-FBA12A8A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7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D4079-5C4F-4363-BA03-D5F0BEE3438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249EA-6B0C-4E83-9035-B271E8249A0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9FFEB-4B87-4CD5-A99D-0E8FF32E732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207DC-AD1C-43CA-AD1C-55C9B2B00F8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65D3F-A8BD-4537-96A8-FCF33B8E0F2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3CF0C-5587-47E0-83E3-C21DBBA0C4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82065-656D-4B63-B560-8ABE7BC907B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270AC-77C1-4FB4-B339-53DC60130D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67D7E-1EF1-4163-9DE0-1A7115842BA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55B62-49FE-4AB2-AD72-A031F877ACD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788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403200" y="1609560"/>
            <a:ext cx="84931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rch 6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xt ROS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pril 3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evision Requests Recommended for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Other Items Recommending Approval (TAC Action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Recommended Vo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790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403200" y="1562040"/>
            <a:ext cx="849312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PRR593 - Clarification of Generis Transmission Limit Post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eferred from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unanimously recommende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onfirmation of 2014 WG/TF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unanimously approved new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OGRR034 - Rescind Telemetry Performance Calculation Ex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eferred from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DSWG recommended no need for addition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hair (Hatfield) communicated ROS’s continued support of NOGRR to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TF (Synchrophasor Task Force) Name Change - Revised Name/Scope Document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ame conflicts with existing T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ew name – PMTF (Phasor Measurement Task Force) unanimously 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w ROS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eview generation resources that are limited by transmission - Assigned to PL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Effort in early stages; undergoing scop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Other ROS Busines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3"/>
          <p:cNvSpPr/>
          <p:nvPr/>
        </p:nvSpPr>
        <p:spPr>
          <a:xfrm>
            <a:off x="403200" y="1533600"/>
            <a:ext cx="84931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Evaluate the early release of HASL to SCED under ORDC and coordinate solutions with ERCOT &amp; W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Referred to PDCWG; ongoing agenda topic; open meetings have occur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 further progress to report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oordinate with ERCOT the need to add/clarify resource temperature limits in RARF to improve forecasting of Wind Resources during icing and cold weather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OS Referred to RDWG; discussions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 further progress to report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Evaluate concerns that ERCOT is having to bring RUC units earlier than required because of unit start-up failures; Need to review ERCOT Operating Procedures for RUCing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eferred to OWG/CM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oint Workshop – March 23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o further progress to report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79440" y="410760"/>
            <a:ext cx="8445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of ROS Open Action Items to TAC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609480" y="6248520"/>
            <a:ext cx="795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March 27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03-20T14:58:09Z</dcterms:modified>
  <cp:revision>21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