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65AB-D9F2-4440-AA3F-5EB3ACC5A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7731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5971-9116-49F4-8501-3C3FD81E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7731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0000" y="37731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380C-9416-4F1F-A887-346D148DA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65840" y="106668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02720" y="106668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7731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65840" y="37731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02720" y="37731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A75D-67B8-4BE4-9AB1-E53D60C57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600" y="179280"/>
            <a:ext cx="86868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37731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02E8-B7C2-41A5-B139-C828D3A7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0000" y="37731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37731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37731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37731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0000" y="37731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65840" y="106668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02720" y="106668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37731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65840" y="37731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02720" y="37731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DAB8-900F-451E-8286-4946FACF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5CEB-D476-4B41-9242-3279785F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4A34-D084-4A4E-AD04-03874E81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600" y="179280"/>
            <a:ext cx="86868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D561-4A0E-4109-88BE-2A9A2EEA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7731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2392-0AA0-4705-828E-1280A224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0000" y="37731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7F50-D691-40C6-A074-C659660B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7731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692D-4B43-4660-88BB-28AEEA0F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5469a2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14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8" descr="logo_C"/>
          <p:cNvPicPr/>
          <p:nvPr/>
        </p:nvPicPr>
        <p:blipFill>
          <a:blip r:embed="rId2"/>
          <a:stretch/>
        </p:blipFill>
        <p:spPr>
          <a:xfrm>
            <a:off x="41400" y="6434280"/>
            <a:ext cx="761760" cy="360360"/>
          </a:xfrm>
          <a:prstGeom prst="rect">
            <a:avLst/>
          </a:prstGeom>
          <a:ln w="0">
            <a:noFill/>
          </a:ln>
        </p:spPr>
      </p:pic>
      <p:sp>
        <p:nvSpPr>
          <p:cNvPr id="5" name="Line 11"/>
          <p:cNvSpPr/>
          <p:nvPr/>
        </p:nvSpPr>
        <p:spPr>
          <a:xfrm>
            <a:off x="892080" y="6512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866520" y="6451560"/>
            <a:ext cx="99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6324480" y="6446880"/>
            <a:ext cx="28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0-Minute ERS Pilot Final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4343400" y="646596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2471-06AC-474B-9899-4ABB634E2F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"/>
          <p:cNvGrpSpPr/>
          <p:nvPr/>
        </p:nvGrpSpPr>
        <p:grpSpPr>
          <a:xfrm>
            <a:off x="0" y="0"/>
            <a:ext cx="9144000" cy="838080"/>
            <a:chOff x="0" y="0"/>
            <a:chExt cx="9144000" cy="838080"/>
          </a:xfrm>
        </p:grpSpPr>
        <p:sp>
          <p:nvSpPr>
            <p:cNvPr id="47" name="Rectangle 13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solidFill>
              <a:srgbClr val="5469a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14"/>
            <p:cNvSpPr/>
            <p:nvPr/>
          </p:nvSpPr>
          <p:spPr>
            <a:xfrm>
              <a:off x="0" y="838080"/>
              <a:ext cx="91440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18" descr="http://ep.ercot.com/cc/Photos%20for%20ERCOT%20Presentations/ERCOT%20Logos/ERCOT%202x1%20Logo%20with%20Transparent%20Background.gif"/>
            <p:cNvPicPr/>
            <p:nvPr/>
          </p:nvPicPr>
          <p:blipFill>
            <a:blip r:embed="rId2"/>
            <a:stretch/>
          </p:blipFill>
          <p:spPr>
            <a:xfrm>
              <a:off x="152280" y="152280"/>
              <a:ext cx="1371600" cy="53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22860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1752120"/>
            <a:ext cx="6477120" cy="124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mand Integration Update to DSW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838080" y="198108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30-Minute Emergency Response Serv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lot Project Final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1295280" y="48769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 Patterson, ERC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ch 27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0-Minute ERS Pilot Project Capacity Procure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Date Placeholder 2"/>
          <p:cNvSpPr/>
          <p:nvPr/>
        </p:nvSpPr>
        <p:spPr>
          <a:xfrm>
            <a:off x="866880" y="645156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3C24-7763-4A85-88EE-C01C7B075A5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4343400" y="646596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39FE-7339-4EEE-B68E-293FD441E66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6324480" y="6446880"/>
            <a:ext cx="28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30-Minute ERS Pilot Final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52280" y="922320"/>
            <a:ext cx="891540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0-Minute ERS Pilot Project Cost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Date Placeholder 2"/>
          <p:cNvSpPr/>
          <p:nvPr/>
        </p:nvSpPr>
        <p:spPr>
          <a:xfrm>
            <a:off x="866880" y="645156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62EB-F31B-40B1-ADC7-8C2B6743CD5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4343400" y="646596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B901-EF4F-4D75-9AF5-4E7FC7EC7EE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6324480" y="6446880"/>
            <a:ext cx="28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30-Minute ERS Pilot Final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6201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anuary 6, 2014 ERS Deployment Timeli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Date Placeholder 2"/>
          <p:cNvSpPr/>
          <p:nvPr/>
        </p:nvSpPr>
        <p:spPr>
          <a:xfrm>
            <a:off x="866880" y="645156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CE25-E4BC-458A-A593-87DEB2438FF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6324480" y="6446880"/>
            <a:ext cx="28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30-Minute ERS Pilot Final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4343400" y="646596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BB7E-CE30-41BC-84F5-26EE9CB43BA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295200" y="1447920"/>
            <a:ext cx="85154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anuary 6, 2014 Deployment Even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Date Placeholder 2"/>
          <p:cNvSpPr/>
          <p:nvPr/>
        </p:nvSpPr>
        <p:spPr>
          <a:xfrm>
            <a:off x="866880" y="645156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7AF9-9772-476B-A3E6-07FC2BBB1B0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343400" y="646596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DDFF-CD75-4F6D-B618-4D39CB7ADC9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6324480" y="6446880"/>
            <a:ext cx="28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30-Minute ERS Pilot Final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076960" cy="41162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546120" y="525924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 is based on 15-minute interval dat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is based on a prorated obligation for the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ial interval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(11.57 minutes) therefore prorated obligation for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ial interval w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6.11 MW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Patterson, Mark</dc:creator>
  <dc:description/>
  <dc:language>en-US</dc:language>
  <cp:lastModifiedBy>Patterson, Mark</cp:lastModifiedBy>
  <dcterms:modified xsi:type="dcterms:W3CDTF">2014-03-24T15:48:49Z</dcterms:modified>
  <cp:revision>137</cp:revision>
  <dc:subject/>
  <dc:title>Instructions</dc:title>
</cp:coreProperties>
</file>