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EA99-FA2D-4579-AD99-F03A4B52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E447-EB00-40F2-BE76-E103FF56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6378-55FC-4D60-9212-0C643DF4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F249-FA9D-405A-B9EE-95FE96D7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9182-EDBC-440A-9D95-923D6C9A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54D2-998D-4421-ADDE-DF48AE73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C3B0-9AA8-4E67-9E9C-A61079BD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4E63-7D5A-46F9-825E-5FF61FAE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A2F5-BA6A-476C-A985-0CF15EDF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6AB6-E0F5-4871-A98A-46E5C8C5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1E559-0DD8-4277-A45E-18AD8ADC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EB3C-FFAC-4849-8B93-2490F5C0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7B06-87AF-44BE-9D9F-149890C04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EE56-6036-416E-8551-0DDF22E9D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812484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PS MARCH 2014 UPDATE TO TA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                3/27/20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arika Basaran,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ony Marsh, Vice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 570 Reduce RTM Settlement Timeline from 7 to 5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1: OD + 6 Initial settlement started with 1/1/2014 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WG and COPS had standing agenda item to monitor the reduction and report any impacts on ERCOT or 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WG analyzed limited Final settlement data available and did not notice any variance due to reduction in timeline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reported that they did not observe any impact on their processes and everything is going smoothly on their side with phase 1, OD+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PS/CSWG member raised any issue on their side 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March 17, 2014 meeting COPS unanimously endorsed transition to phase 2 for OD +5 with 5/1/2014 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herefore COPS recommends to TAC transition to phase 2, OD + 5 Initial settlement and OD +55 Final sett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 570 Reduce RTM Settlement Timeline Phase 2: OD + 5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WG and COPS will continue to monitor the reduction and report any impacts on ERCOT or 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WG will continue to analyze Final settlement data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will continue to monitor developments in MWG/WMS regar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OGRR014 Communications Regarding EPS Meter Repairs, and Related Notice Deadlines and Clar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metry-to-EPS meter mapping proof of  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will report back to TAC the status of OD + 5 at May/June TAC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92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LLED APRIL COPS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COPS MEETING IS ON  MAY 14 WEDNESDAY, 20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2133720" y="1884240"/>
            <a:ext cx="43434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saranh</cp:lastModifiedBy>
  <dcterms:modified xsi:type="dcterms:W3CDTF">2014-03-25T20:04:51Z</dcterms:modified>
  <cp:revision>907</cp:revision>
  <dc:subject/>
  <dc:title>Instructions</dc:title>
</cp:coreProperties>
</file>