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77A-8A9B-4DBC-8D31-E49BA7C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B5B-DBFA-4145-8975-5982F95C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2F4-1A9B-45D5-B967-0656EFF9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2A2-56D3-4575-BDBC-D60F511A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1792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ADC-8DA2-4458-ADC9-8B0D7F63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584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71E-FAE0-4D73-A915-51100DFF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063-79BB-4E00-AF3E-1785A80C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471-B0F6-487B-8A45-EAD01D9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1792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620-A80A-4847-BBF8-7C61556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72D-0713-4588-9277-E5CF027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6E1-751B-4658-87D6-69F64A0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A85-2BAD-4469-9B4F-683E638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_C"/>
          <p:cNvPicPr/>
          <p:nvPr/>
        </p:nvPicPr>
        <p:blipFill>
          <a:blip r:embed="rId2"/>
          <a:stretch/>
        </p:blipFill>
        <p:spPr>
          <a:xfrm>
            <a:off x="41400" y="6434280"/>
            <a:ext cx="761760" cy="360360"/>
          </a:xfrm>
          <a:prstGeom prst="rect">
            <a:avLst/>
          </a:prstGeom>
          <a:ln w="0">
            <a:noFill/>
          </a:ln>
        </p:spPr>
      </p:pic>
      <p:sp>
        <p:nvSpPr>
          <p:cNvPr id="5" name="Line 11"/>
          <p:cNvSpPr/>
          <p:nvPr/>
        </p:nvSpPr>
        <p:spPr>
          <a:xfrm>
            <a:off x="892080" y="6512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652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226-0CD9-47DF-9F08-65D97A0DA2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8000640" y="644688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516-CAE3-4C6F-94AA-4886CD8C5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47" name="Rectangle 13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5469a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4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8" descr="http://ep.ercot.com/cc/Photos%20for%20ERCOT%20Presentations/ERCOT%20Logos/ERCOT%202x1%20Logo%20with%20Transparent%20Background.gif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1371600" cy="53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mand Integration Update to DSW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1447920"/>
            <a:ext cx="708660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Emergency Responsive Service (ERS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the Public Utility Commission of Texas for the 2013 ERS Program Ye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o. 2770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spension 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A102-5A9C-4E1C-BDB4-C90CE5C1CED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108-401A-4F12-97CE-BC7D05D1FB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04920" y="990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S Resources suspended during the 2013 program year due to availability failures, two consecutive load test failures, or event fail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533520" y="480060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ded Resources may regain eligibility only after submitting a corrective action plan and successfully completing a load-shed test administered by 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858960" y="1676520"/>
            <a:ext cx="742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ttlement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415A-2FD6-46AF-992F-29F2FAE3EAB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351-C9C1-4B4C-9A23-7394BA88C2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33520" y="582300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*Adjustments may be made for the following reasons:  availability, event performance, disputes, data corr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924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mand Integration Update to DSW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990720" y="1447920"/>
            <a:ext cx="708660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13 Results by Standard Contrac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-May 2013 Standard Contract Ter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F876-B611-4627-A07C-0A57433F586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0949-434A-4E36-BE3D-AEB1143916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5" descr=""/>
          <p:cNvPicPr/>
          <p:nvPr/>
        </p:nvPicPr>
        <p:blipFill>
          <a:blip r:embed="rId1"/>
          <a:stretch/>
        </p:blipFill>
        <p:spPr>
          <a:xfrm>
            <a:off x="141120" y="1066680"/>
            <a:ext cx="8871120" cy="29815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80880" y="45165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Adjusted Cost for this Standard Contract Term: $ 9,617,304.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-September 2013 Standard Contract Ter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E4FD-A87C-444E-89EF-844B6B3DE6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228-DEB5-432D-8445-A409E34E91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33520" y="4495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Adjusted Cost for this Standard Contract Term: $ 12,042,160.8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5" descr=""/>
          <p:cNvPicPr/>
          <p:nvPr/>
        </p:nvPicPr>
        <p:blipFill>
          <a:blip r:embed="rId1"/>
          <a:stretch/>
        </p:blipFill>
        <p:spPr>
          <a:xfrm>
            <a:off x="136440" y="1143000"/>
            <a:ext cx="88711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ctober 2013-January 2014 Standard Contract Ter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35D8-98A0-45FA-8006-D4531B2C04C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FD70-F69D-49FF-89A4-008450FFEB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5" descr=""/>
          <p:cNvPicPr/>
          <p:nvPr/>
        </p:nvPicPr>
        <p:blipFill>
          <a:blip r:embed="rId1"/>
          <a:stretch/>
        </p:blipFill>
        <p:spPr>
          <a:xfrm>
            <a:off x="135000" y="1066680"/>
            <a:ext cx="8870760" cy="29084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533520" y="43545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Projected Cost for this Standard Contract Term: $ 12,744,451.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mand Integration Update to DSW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990720" y="1447920"/>
            <a:ext cx="708660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mmary for January 6, 2014 EEA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6, 2014 EEA Even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79F6-7076-4792-ABE3-3A1CCF4B009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7620120" y="644688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4CD1-6942-4BF7-A910-F98926FAD9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781200" y="1273320"/>
            <a:ext cx="75816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eet Level Performance for 1/6/2014 Ev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5BC5-036E-4EC3-8928-7FF0D7125DE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8001000" y="644688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582-D5EA-47F7-A3CE-9F8DB4A8C0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57200" y="5627520"/>
            <a:ext cx="854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 is based on 15-minute interval dat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is based on a prorated obligation for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al interval and one full interva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Resource had prescheduled unavailability from HE0900 - 1600 on the day of the event (14.6 MW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92468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A23C-5139-49C5-9AFA-F1B61AB6233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4C3-0DDE-403F-86EC-13FAC89D1E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914400" y="2133720"/>
            <a:ext cx="7391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533520" y="1521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is provided for informational purposes only.  Procurement and settlement data are subject to re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AB07-71AE-4F98-9521-C75ABA4BBFD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7467480" y="644688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C60-320F-444C-8229-054B696367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ment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(MW) offered and proc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&amp; Average Size of ERS-10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Individual Sites Participating in ERS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pensions Due to Availability or Load Test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procurement results by Standard Contract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et Level Summary for January 6, 2014 EEA Ev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ndard Contract Terms &amp; Time Perio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5E6-D2F9-4F4F-9004-3BEFB0DCBA5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7467480" y="644688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D7C3-418F-4565-95A8-635378D979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9684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RS is procured 3 times annually for 4-month Standard Contract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through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through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through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icipants may offer to provide ERS for one or more Time Period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1:  8AM to 1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2:  1PM to 4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3:  4PM to 8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Business Hours:  All othe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Except ERCOT Holiday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 Periods are designed to allow flexibility for customers during    traditional business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 Periods have been in effect in current form since 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ne-September 2008 EILS Contract 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" y="179280"/>
            <a:ext cx="898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-10 Capacity Procurement Trends  (Business Hours 1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5DE8-A755-4845-81D8-CD2049FD112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7391520" y="6446880"/>
            <a:ext cx="175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339-3045-43D4-8C29-7224E38FAF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54000" y="762120"/>
            <a:ext cx="903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-10 Capacity Procurement Trends (Business Hours 2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76C0-E1D5-4A19-9425-1B14177F8EA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E0A-BB36-41B3-92F1-4DF43ACCD2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-10 Capacity Procurement Trends (Business Hours 3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098-419C-48E7-ACF5-E42446C6706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FA63-8D6D-4AB9-9A14-D52D335D97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-10 Capacity Procurement Trends (Non-Business Hours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9DE-AF0C-416D-AD9A-321BE811239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4D0-1AA1-40CC-9AAE-3877ED1309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urement Trends (number &amp; avg. size of Resource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9B6-FADD-40E2-9D75-5F8CB5AF15A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CEED-87FC-42B5-9173-8C5C362D33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15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mulative Individual Sites Particip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6EA7-C416-48AA-9CF0-3B926C98D98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29D-9757-4FEF-9754-2A83A8C377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47600" y="762120"/>
            <a:ext cx="88390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tterson, Mark</dc:creator>
  <dc:description/>
  <dc:language>en-US</dc:language>
  <cp:lastModifiedBy>Patterson, Mark</cp:lastModifiedBy>
  <cp:lastPrinted>2014-03-13T13:22:04Z</cp:lastPrinted>
  <dcterms:modified xsi:type="dcterms:W3CDTF">2014-03-25T15:08:39Z</dcterms:modified>
  <cp:revision>191</cp:revision>
  <dc:subject/>
  <dc:title>Instructions</dc:title>
</cp:coreProperties>
</file>