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DB6F201-71AE-4657-A5A3-8E5C875944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98AF9F0-2159-40A0-BD15-0A2B1D4F0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4E092F1-31BC-47AB-8E99-387FBEBE13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1D22FC5-C665-4144-849F-E6B0C18C9C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D42EC02-9722-4504-9761-5A96E6E59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70C7448-00BE-493B-A417-887E21B2556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AF8DAE-54F1-460F-B3E6-A238EEBE28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9D46274-0AB4-41A0-9B4B-B8DDFAD235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BA7239-F1A1-4B30-A718-0EF84FFA951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F3980F-E1D7-426A-8C6D-7311CECA34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0341759-9652-48CD-9809-CEB2CE8AA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8A26EDA-323B-4D0C-9C43-3641D070FA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DE5D18E-378F-42FB-9C77-4C16176E97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BB3055-0AB9-4E87-B4A3-D1CD1123EAD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C23399-AF53-44A2-AFE5-E2BF13E445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0C11084-3AE3-489C-AF11-026E43B75D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DC1CE67-41ED-4893-9910-D1F570DF132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6D37059-D8C9-49E9-8C87-8E87FB54555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9C00202-655F-40CD-BE67-7DC5210995F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6073532-DA45-4D6B-B326-590C91DCEC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D1765BA-E569-421B-B960-CBE0C29A586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FD6011-BD0C-4973-A33F-58FCE26B7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9ED662-22AB-4254-9D09-A98B5DE1A8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18409DC-FE1C-4ED7-8856-C31B362C35F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F59CF5-F7B7-4B15-99E5-54536C39108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0387300-C4DB-4ADD-AE7F-6480C58233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2EBFBA0-07A2-4BF6-A8CE-D62671EDCA6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05A3D7-6030-4FB7-AD56-15B4D9A747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C2C645-3E45-4BC9-876F-544F931E095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B922664-B2B7-4B93-8A71-62C9D7ADE6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B8882E2-DBC6-4BCC-ACA7-F46DE8846B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7660068-2F4F-41ED-AE4E-5C9B622D0A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E253C6E-7573-424C-BA19-4291442FEB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C15D0E1-5777-487F-B233-4006284CE8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834E2F-C39A-40E3-862A-C3EAFE68B7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09CEB4-4D30-49B8-A3B8-94B6F7FBDD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CDA6-F77F-4F0F-88D3-012F5DE754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95327-A107-42C0-A0C8-B854AEC0F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DAF0C-4934-4D9E-871A-5D6AA1E8757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54D32-C5F2-45C8-BD0C-D7163CCBE5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72679-1121-430B-865C-CBF46A0BB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828800" y="3495240"/>
            <a:ext cx="6477120" cy="121932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17/2014</a:t>
            </a:r>
            <a:endParaRPr b="1" lang="en-US" sz="2000" spc="-1" strike="noStrike">
              <a:solidFill>
                <a:srgbClr val="000000"/>
              </a:solidFill>
              <a:latin typeface="Arial"/>
            </a:endParaRPr>
          </a:p>
        </p:txBody>
      </p:sp>
      <p:sp>
        <p:nvSpPr>
          <p:cNvPr id="253" name="PlaceHolder 2"/>
          <p:cNvSpPr>
            <a:spLocks noGrp="1"/>
          </p:cNvSpPr>
          <p:nvPr>
            <p:ph type="title"/>
          </p:nvPr>
        </p:nvSpPr>
        <p:spPr>
          <a:xfrm>
            <a:off x="761760" y="2209320"/>
            <a:ext cx="838188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Black"/>
              </a:rPr>
              <a:t>TAC FEBRUARY 27, 2014 Meeting Update</a:t>
            </a:r>
            <a:br>
              <a:rPr sz="2400"/>
            </a:br>
            <a:br>
              <a:rPr sz="2400"/>
            </a:br>
            <a:r>
              <a:rPr b="0" lang="en-US" sz="2400" spc="-1" strike="noStrike">
                <a:solidFill>
                  <a:srgbClr val="000000"/>
                </a:solidFill>
                <a:latin typeface="Arial Black"/>
              </a:rPr>
              <a:t> to Commercial Operations Subcommittee </a:t>
            </a:r>
            <a:br>
              <a:rPr sz="2400"/>
            </a:br>
            <a:br>
              <a:rPr sz="2400"/>
            </a:br>
            <a:br>
              <a:rPr sz="2400"/>
            </a:br>
            <a:br>
              <a:rPr sz="2400"/>
            </a:br>
            <a:r>
              <a:rPr b="0" lang="en-US" sz="2400" spc="-1" strike="noStrike">
                <a:solidFill>
                  <a:srgbClr val="000000"/>
                </a:solidFill>
                <a:latin typeface="Arial Black"/>
              </a:rPr>
              <a:t>	</a:t>
            </a:r>
            <a:br>
              <a:rPr sz="2400"/>
            </a:br>
            <a:br>
              <a:rPr sz="1800"/>
            </a:b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NPRRs &amp; RRs &amp; OBDs Approved</a:t>
            </a:r>
            <a:br>
              <a:rPr sz="2900"/>
            </a:br>
            <a:endParaRPr b="0" lang="en-US" sz="32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B165-03B3-4E5E-BD42-3B5F5CBC0B9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457200" y="1371240"/>
            <a:ext cx="8229600" cy="5715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533, Clarification of PCRR Eligibility Requirements – URGEN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584, Alignment with TAC Procedures to Shorten the Appeals Timelin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586, Align Credit Lock for CRR Auctions with Transaction Submission Deadline</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598, Clarify Inputs to PRC and ORDC – Urgent</a:t>
            </a:r>
            <a:endParaRPr b="0" lang="en-US" sz="1400" spc="-1" strike="noStrike">
              <a:solidFill>
                <a:srgbClr val="000000"/>
              </a:solidFill>
              <a:latin typeface="Calibri"/>
            </a:endParaRPr>
          </a:p>
          <a:p>
            <a:pPr lvl="2" marL="74304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visions to Methodology for Implementing Operating Reserve Demand Curve (ORDC) to Calculate Real-Time Reserve Price Adder – Approved with ERCOT comments</a:t>
            </a:r>
            <a:endParaRPr b="0" lang="en-US" sz="1000" spc="-1" strike="noStrike">
              <a:solidFill>
                <a:srgbClr val="000000"/>
              </a:solidFill>
              <a:latin typeface="Calibri"/>
            </a:endParaRPr>
          </a:p>
          <a:p>
            <a:pPr lvl="2" marL="74304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tion to Other Binding Documents List - Methodology for Implementing Operating Reserve Demand Curve (ORDC) to Calculate Real-Time Reserve Price Adder </a:t>
            </a: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R779, Increase to the CRR Auction Transaction Limi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ice of PRS Rejection</a:t>
            </a:r>
            <a:endParaRPr b="0" lang="en-US" sz="1400" spc="-1" strike="noStrike">
              <a:solidFill>
                <a:srgbClr val="000000"/>
              </a:solidFill>
              <a:latin typeface="Calibri"/>
            </a:endParaRPr>
          </a:p>
          <a:p>
            <a:pPr lvl="2" marL="74304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PRR574, Removal of Offer Curve Flexibility for DAM-Committed Resources</a:t>
            </a:r>
            <a:endParaRPr b="0" lang="en-US" sz="1000" spc="-1" strike="noStrike">
              <a:solidFill>
                <a:srgbClr val="000000"/>
              </a:solidFill>
              <a:latin typeface="Calibri"/>
            </a:endParaRPr>
          </a:p>
          <a:p>
            <a:pPr lvl="2" marL="74304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PRR582, Refinements to Testing ERS (TAC assigned the subject of all generation testing and its impact on the market to WMS)</a:t>
            </a:r>
            <a:endParaRPr b="0" lang="en-US" sz="1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GRR127, Synchronization with NPRR564, Thirty-Minute Emergency Response Service (ERS) and Other ERS Revision</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NPRRs &amp; RRs &amp; OBDs Approved</a:t>
            </a:r>
            <a:br>
              <a:rPr sz="2900"/>
            </a:br>
            <a:endParaRPr b="0" lang="en-US" sz="32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390B-B8E5-4A28-B7A0-CB486F9159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
          <p:cNvSpPr txBox="1"/>
          <p:nvPr/>
        </p:nvSpPr>
        <p:spPr>
          <a:xfrm>
            <a:off x="457200" y="1706400"/>
            <a:ext cx="8229600" cy="482760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2 Credit Parameter – Multiplier for URTA per 16.11.4.1 reduced from </a:t>
            </a:r>
            <a:r>
              <a:rPr b="0" lang="en-US" sz="1600" spc="-1" strike="noStrike" u="sng">
                <a:solidFill>
                  <a:srgbClr val="ff0000"/>
                </a:solidFill>
                <a:uFillTx/>
                <a:latin typeface="Calibri"/>
              </a:rPr>
              <a:t>10 to 9</a:t>
            </a:r>
            <a:endParaRPr b="0" lang="en-US" sz="16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he RTM timeline reduction, at its January 22, 2014 meeting the CWG/MCWG recommended reducing the M2 multiplier </a:t>
            </a:r>
            <a:r>
              <a:rPr b="1" lang="en-US" sz="1200" spc="-1" strike="noStrike" u="sng">
                <a:solidFill>
                  <a:srgbClr val="ff0000"/>
                </a:solidFill>
                <a:uFillTx/>
                <a:latin typeface="Calibri"/>
              </a:rPr>
              <a:t>from 10 to 9</a:t>
            </a:r>
            <a:r>
              <a:rPr b="0" lang="en-US" sz="1200" spc="-1" strike="noStrike">
                <a:solidFill>
                  <a:srgbClr val="000000"/>
                </a:solidFill>
                <a:latin typeface="Calibri"/>
              </a:rPr>
              <a:t>, effective on the first day of the month following ERCOT Board approval, but no sooner than May 1, 2014.</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WG/MCWG will review the operational impacts of the shortened RTM timeline prior to making a determination as to whether additional reductions in M2 are warranted.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Rectangle 6"/>
          <p:cNvSpPr/>
          <p:nvPr/>
        </p:nvSpPr>
        <p:spPr>
          <a:xfrm>
            <a:off x="1143000" y="3733920"/>
            <a:ext cx="6324480" cy="2014200"/>
          </a:xfrm>
          <a:prstGeom prst="rect">
            <a:avLst/>
          </a:prstGeom>
          <a:solidFill>
            <a:srgbClr val="f2f2f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2 = 10   </a:t>
            </a:r>
            <a:r>
              <a:rPr b="0" i="1" lang="en-US" sz="1800" spc="-1" strike="noStrike">
                <a:solidFill>
                  <a:srgbClr val="000000"/>
                </a:solidFill>
                <a:latin typeface="Calibri"/>
              </a:rPr>
              <a:t>Multiplier for URTA.  </a:t>
            </a:r>
            <a:r>
              <a:rPr b="0" lang="en-US" sz="1800" spc="-1" strike="noStrike">
                <a:solidFill>
                  <a:srgbClr val="000000"/>
                </a:solidFill>
                <a:latin typeface="Calibri"/>
              </a:rPr>
              <a:t>Provides for unbilled historical activity based on historical activity.  Revisions to the multiplier will be recommended by TAC and approved by the ERCOT Board.  ERCOT shall update the multiplier value on the first day of the month following ERCOT Board approval unless otherwise directed by the ERCOT Board.  ERCOT shall provide notice to Market Participants prior to implementation of the revised valu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Other Items of Interest to COPS</a:t>
            </a:r>
            <a:br>
              <a:rPr sz="2900"/>
            </a:br>
            <a:endParaRPr b="0" lang="en-US" sz="3200" spc="-1" strike="noStrike">
              <a:solidFill>
                <a:srgbClr val="000000"/>
              </a:solidFill>
              <a:latin typeface="Calibri"/>
            </a:endParaRPr>
          </a:p>
        </p:txBody>
      </p:sp>
      <p:sp>
        <p:nvSpPr>
          <p:cNvPr id="2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EB89-A97F-4F0D-8590-48AED8327A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263" name=""/>
          <p:cNvGraphicFramePr/>
          <p:nvPr/>
        </p:nvGraphicFramePr>
        <p:xfrm>
          <a:off x="762120" y="1981080"/>
          <a:ext cx="7162560" cy="1096920"/>
        </p:xfrm>
        <a:graphic>
          <a:graphicData uri="http://schemas.openxmlformats.org/drawingml/2006/table">
            <a:tbl>
              <a:tblPr/>
              <a:tblGrid>
                <a:gridCol w="436320"/>
                <a:gridCol w="6726240"/>
              </a:tblGrid>
              <a:tr h="1097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COT Board Updat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ittee Education on Project Priority List and Discussion of Business Case/Cost Benefit Analysis Process and Project Funding- Betty Day (ERCOT)   http://ercot.com/calendar/2014/02/20140227-TAC</a:t>
                      </a:r>
                      <a:endParaRPr b="0" lang="en-US" sz="1800" spc="-1" strike="noStrike">
                        <a:solidFill>
                          <a:srgbClr val="000000"/>
                        </a:solidFill>
                        <a:latin typeface="Arial"/>
                      </a:endParaRPr>
                    </a:p>
                  </a:txBody>
                  <a:tcPr anchor="t">
                    <a:lnL>
                      <a:noFill/>
                    </a:lnL>
                    <a:lnR>
                      <a:noFill/>
                    </a:lnR>
                    <a:lnT>
                      <a:noFill/>
                    </a:lnT>
                    <a:lnB>
                      <a:noFill/>
                    </a:lnB>
                    <a:noFill/>
                  </a:tcPr>
                </a:tc>
              </a:tr>
            </a:tbl>
          </a:graphicData>
        </a:graphic>
      </p:graphicFrame>
      <p:sp>
        <p:nvSpPr>
          <p:cNvPr id="264" name="Rectangle 9"/>
          <p:cNvSpPr/>
          <p:nvPr/>
        </p:nvSpPr>
        <p:spPr>
          <a:xfrm>
            <a:off x="2286000" y="335268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C chair requested that members  pay more attention to develop the business cases for higher cost NPRRs/SCRs and/or controversial ones.</a:t>
            </a:r>
            <a:endParaRPr b="0" lang="en-US" sz="1800" spc="-1" strike="noStrike">
              <a:solidFill>
                <a:srgbClr val="000000"/>
              </a:solidFill>
              <a:latin typeface="Arial"/>
            </a:endParaRPr>
          </a:p>
        </p:txBody>
      </p:sp>
      <p:pic>
        <p:nvPicPr>
          <p:cNvPr id="265" name="Object 3" descr=""/>
          <p:cNvPicPr/>
          <p:nvPr/>
        </p:nvPicPr>
        <p:blipFill>
          <a:blip r:embed="rId1"/>
          <a:stretch/>
        </p:blipFill>
        <p:spPr>
          <a:xfrm>
            <a:off x="2368440" y="3314880"/>
            <a:ext cx="440532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br>
              <a:rPr sz="1400"/>
            </a:br>
            <a:br>
              <a:rPr sz="1400"/>
            </a:br>
            <a:br>
              <a:rPr sz="1400"/>
            </a:br>
            <a:r>
              <a:rPr b="1" lang="en-US" sz="3200" spc="-1" strike="noStrike">
                <a:solidFill>
                  <a:srgbClr val="000000"/>
                </a:solidFill>
                <a:latin typeface="Calibri"/>
              </a:rPr>
              <a:t> </a:t>
            </a:r>
            <a:r>
              <a:rPr b="1" lang="en-US" sz="3200" spc="-1" strike="noStrike">
                <a:solidFill>
                  <a:srgbClr val="000000"/>
                </a:solidFill>
                <a:latin typeface="Calibri"/>
              </a:rPr>
              <a:t>QUESTIONS</a:t>
            </a:r>
            <a:br>
              <a:rPr sz="3200"/>
            </a:br>
            <a:endParaRPr b="0" lang="en-US" sz="3200" spc="-1" strike="noStrike">
              <a:solidFill>
                <a:srgbClr val="000000"/>
              </a:solidFill>
              <a:latin typeface="Calibri"/>
            </a:endParaRPr>
          </a:p>
        </p:txBody>
      </p:sp>
      <p:sp>
        <p:nvSpPr>
          <p:cNvPr id="267" name=""/>
          <p:cNvSpPr txBox="1"/>
          <p:nvPr/>
        </p:nvSpPr>
        <p:spPr>
          <a:xfrm>
            <a:off x="457200" y="1706400"/>
            <a:ext cx="8229600" cy="482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8" name="Picture 7" descr="C:\Documents and Settings\basaranh\Local Settings\Temporary Internet Files\Content.IE5\90TK9MLR\MC900434403[1].wmf"/>
          <p:cNvPicPr/>
          <p:nvPr/>
        </p:nvPicPr>
        <p:blipFill>
          <a:blip r:embed="rId1"/>
          <a:stretch/>
        </p:blipFill>
        <p:spPr>
          <a:xfrm>
            <a:off x="2666880" y="1447920"/>
            <a:ext cx="41148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BIG MAMA</cp:lastModifiedBy>
  <dcterms:modified xsi:type="dcterms:W3CDTF">2014-03-17T02:08:48Z</dcterms:modified>
  <cp:revision>702</cp:revision>
  <dc:subject/>
  <dc:title>Instructions</dc:title>
</cp:coreProperties>
</file>