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1A07-7A51-412C-935B-8CE2E8476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851B-3C28-4B77-B520-DD43D27C73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538A-D21E-46D2-9F2F-88FB6382B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E615-2C21-4164-B50B-0E735DE20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1EA9-5347-4C86-A761-5E56AD90A6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5CAA-7CE8-47D7-846B-690B67E6C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FFB7-CF9F-400C-B419-36251315D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7ADC-23EE-4C77-AF8F-3CC7DEBB3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1F57-CCA4-4343-9F7B-1C3279D04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3892-F6C3-4985-A3BC-8A34EB388E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74C8-3782-4D32-8120-E98084DE2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F9E8-40ED-44ED-A600-15B2C32BA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2FFD9-FB3A-499F-B6D9-E0F65ADF9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910DB-E831-46E6-9B79-C1685FA3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659E7-E694-476F-8769-247E62962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2D2CE-0F7B-4A56-8FA3-ABBB4ABCE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F31AE-511D-46CB-996B-C2B08111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AD5EA-5D6E-4FF2-8FF8-D692A402BE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52613-7A34-4E48-8940-95230153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19878-6FF5-48E1-AA98-13842224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C3DAF4-F784-44F8-B9D8-44C19993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047EE-140B-44E4-904F-8D6E4291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3E227-F535-4E21-8A01-143B139F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62217-7FE5-4192-8DE4-ECE32DF4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6C754-5F8E-466D-A796-6E73C680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72A64-7DD7-4289-84D4-38766F1B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A34551-BA57-46FA-A6B7-DDB3C6D3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DD182-FA7E-4B50-9C1A-75A73B64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F7D31-33D8-45A3-8E2E-C8F1AA42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3E8CE-674C-48D7-943C-E29D07C00DF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5949A-5811-41A5-A497-2E2016AA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BCB2B-0780-446C-8797-4E654D31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EB218-84F3-49CD-93CF-89F54EA8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48A89-5ED5-4190-8F1E-9A6F7145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ED31E-2E9B-473D-917F-99DE0F55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2E4E6-402A-4032-88F4-971A5F14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086A-7107-463F-886E-ADC5D3F93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6D2E-129B-4A49-BAB5-181F6169C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3241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ebruary 5,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62481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FE56-3022-454E-8BBC-BE950FEEE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7DB7-DF1E-404A-B590-27B46D668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dt" idx="5"/>
          </p:nvPr>
        </p:nvSpPr>
        <p:spPr>
          <a:xfrm>
            <a:off x="63241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ebruary 21, 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13"/>
          <p:cNvGrpSpPr/>
          <p:nvPr/>
        </p:nvGrpSpPr>
        <p:grpSpPr>
          <a:xfrm>
            <a:off x="542880" y="422280"/>
            <a:ext cx="7728120" cy="1922400"/>
            <a:chOff x="542880" y="422280"/>
            <a:chExt cx="7728120" cy="1922400"/>
          </a:xfrm>
        </p:grpSpPr>
        <p:pic>
          <p:nvPicPr>
            <p:cNvPr id="142" name="Picture 8" descr="ERCOT cmyk-01.png"/>
            <p:cNvPicPr/>
            <p:nvPr/>
          </p:nvPicPr>
          <p:blipFill>
            <a:blip r:embed="rId1"/>
            <a:stretch/>
          </p:blipFill>
          <p:spPr>
            <a:xfrm>
              <a:off x="542880" y="422280"/>
              <a:ext cx="245772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Box 9"/>
            <p:cNvSpPr/>
            <p:nvPr/>
          </p:nvSpPr>
          <p:spPr>
            <a:xfrm>
              <a:off x="726840" y="2006280"/>
              <a:ext cx="754416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Straight Connector 12"/>
            <p:cNvSpPr/>
            <p:nvPr/>
          </p:nvSpPr>
          <p:spPr>
            <a:xfrm flipV="1">
              <a:off x="726840" y="1728360"/>
              <a:ext cx="628668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Box 1"/>
          <p:cNvSpPr/>
          <p:nvPr/>
        </p:nvSpPr>
        <p:spPr>
          <a:xfrm>
            <a:off x="1382760" y="1811160"/>
            <a:ext cx="585000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 on SMOGRR 014 &amp; Proof of Concept for Telemetry to EPS Meter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Tu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17/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17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560" y="114300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57200" indent="-45720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DSP data provided thru mapping that is not telemetered to ERC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ata will need to be in a 15 minute integrated forma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part of this 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RCOT will compare historical data from mapped telemetry points to EPS meter data to evaluate the accuracy of telemetry point dat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52280" y="152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elemetry to EPS Meter Proof of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17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04560" y="114300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457200" indent="-45720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one or two points per TDSP  participating in the proof of concep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is not a one to one mapping for existing generation telemetry points to EPS meters for all locations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itial effort is to identify points where a one to one mapping can be establish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52280" y="152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elemetry to EPS Meter Proof of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13"/>
          <p:cNvGrpSpPr/>
          <p:nvPr/>
        </p:nvGrpSpPr>
        <p:grpSpPr>
          <a:xfrm>
            <a:off x="542880" y="422280"/>
            <a:ext cx="7728120" cy="1922400"/>
            <a:chOff x="542880" y="422280"/>
            <a:chExt cx="7728120" cy="1922400"/>
          </a:xfrm>
        </p:grpSpPr>
        <p:pic>
          <p:nvPicPr>
            <p:cNvPr id="147" name="Picture 8" descr="ERCOT cmyk-01.png"/>
            <p:cNvPicPr/>
            <p:nvPr/>
          </p:nvPicPr>
          <p:blipFill>
            <a:blip r:embed="rId1"/>
            <a:stretch/>
          </p:blipFill>
          <p:spPr>
            <a:xfrm>
              <a:off x="542880" y="422280"/>
              <a:ext cx="245772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Box 9"/>
            <p:cNvSpPr/>
            <p:nvPr/>
          </p:nvSpPr>
          <p:spPr>
            <a:xfrm>
              <a:off x="726840" y="2006280"/>
              <a:ext cx="754416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Straight Connector 12"/>
            <p:cNvSpPr/>
            <p:nvPr/>
          </p:nvSpPr>
          <p:spPr>
            <a:xfrm flipV="1">
              <a:off x="726840" y="1728360"/>
              <a:ext cx="628668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Box 1"/>
          <p:cNvSpPr/>
          <p:nvPr/>
        </p:nvSpPr>
        <p:spPr>
          <a:xfrm>
            <a:off x="1382760" y="2386080"/>
            <a:ext cx="5850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OGRR 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s Regarding EPS Meter Repairs, Related Notice Deadlines and Clar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17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17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560" y="114300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ndix A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additional option for TDSP to use voice communications with the ERCOT Meter Data Acquisition System (MDAS) Group to provide confirmation of repairs that are external to an EPS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52280" y="152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MOGRR 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17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04560" y="1066320"/>
            <a:ext cx="82803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ndix C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s updated timeframe the MDAS Group will use for issuing not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s timeframes in which data is supplied to ERCOT by a Transmission and/or Distribution System Provider (TDSP) in the event of a prolonged communications fail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52280" y="152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MOGRR 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17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04560" y="1066320"/>
            <a:ext cx="82803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ndix C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s additional notice type of “six-hour” notice to accommodate a shortened Settlement timeline to resolve communications issues with ERCOT-Polled Settlement (EPS) Meters in support of Real-Time Market (RTM)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es the conditions ERCOT will follow in cancelling no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52280" y="152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MOGRR 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17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560" y="114300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ch  6,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WG reviewed SMOGRR 014 and provided comm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rch 20, 2014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EX scheduled for MWG review of impact analysis for SMOGRR 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52280" y="152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MOGRR 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13"/>
          <p:cNvGrpSpPr/>
          <p:nvPr/>
        </p:nvGrpSpPr>
        <p:grpSpPr>
          <a:xfrm>
            <a:off x="542880" y="422280"/>
            <a:ext cx="7728120" cy="1922400"/>
            <a:chOff x="542880" y="422280"/>
            <a:chExt cx="7728120" cy="1922400"/>
          </a:xfrm>
        </p:grpSpPr>
        <p:pic>
          <p:nvPicPr>
            <p:cNvPr id="165" name="Picture 8" descr="ERCOT cmyk-01.png"/>
            <p:cNvPicPr/>
            <p:nvPr/>
          </p:nvPicPr>
          <p:blipFill>
            <a:blip r:embed="rId1"/>
            <a:stretch/>
          </p:blipFill>
          <p:spPr>
            <a:xfrm>
              <a:off x="542880" y="422280"/>
              <a:ext cx="245772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Box 9"/>
            <p:cNvSpPr/>
            <p:nvPr/>
          </p:nvSpPr>
          <p:spPr>
            <a:xfrm>
              <a:off x="726840" y="2006280"/>
              <a:ext cx="754416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Straight Connector 12"/>
            <p:cNvSpPr/>
            <p:nvPr/>
          </p:nvSpPr>
          <p:spPr>
            <a:xfrm flipV="1">
              <a:off x="726840" y="1728360"/>
              <a:ext cx="628668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TextBox 1"/>
          <p:cNvSpPr/>
          <p:nvPr/>
        </p:nvSpPr>
        <p:spPr>
          <a:xfrm>
            <a:off x="1382760" y="2386080"/>
            <a:ext cx="5850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WG Proof of Concept Eff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of Telemetry points to EPS Meter Points to aid in the estimation process for missing EPS Mete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17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17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79000" y="1142640"/>
            <a:ext cx="82803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lvl="1"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ussion on how data could be estimated if EPS Meter data is not availa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of of Concept: Can EPS meters be mapped to a telemetry point for data estimation purpos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44784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telemetry data would not be used, except when EPS Meter data is unavaila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39880" indent="-44784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s mapping requires a direct one to one correlation to an EPS Met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52280" y="152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elemetry to EPS Meter Proof of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17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560" y="114300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ping identificati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te name, DP meter ID, DP Project number, EPS Meter R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lemetry points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wer plant control ro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ying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45720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isting telemetry points submitted to ERC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14360" indent="-45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s TDSP name assigned to the telemetry point in the ERCOT Network 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52280" y="152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elemetry to EPS Meter Proof of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Albracht, Brittney</dc:creator>
  <dc:description/>
  <dc:language>en-US</dc:language>
  <cp:lastModifiedBy>Tucker, Donald</cp:lastModifiedBy>
  <cp:lastPrinted>2014-01-30T14:56:04Z</cp:lastPrinted>
  <dcterms:modified xsi:type="dcterms:W3CDTF">2014-03-13T14:08:48Z</dcterms:modified>
  <cp:revision>112</cp:revision>
  <dc:subject/>
  <dc:title>Instructions</dc:title>
</cp:coreProperties>
</file>