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AEC5-8E56-47A6-A755-D8FF333DE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6DB9-3EB5-486F-9B0A-04B23E068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8F14-B11F-4FD4-9A88-25108ABA0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6256-08F2-4E30-9AEA-C45E360D0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ED2F-17D6-40DA-846E-FCB9CF5DC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3D02-420D-4C2B-83FB-B7C497CE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D3C6-6575-45FA-8991-A89C81BB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28CB-85E0-4EA0-B64B-A322EB53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ADAE5-1935-49BC-B973-C7B41440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588C-8E50-4654-AF01-5FA62CB5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38875-E7A9-431D-97C6-47238C55B5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720778-6358-457B-9E4D-097628AC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E6E38-F1D5-4692-A1FE-980A7D29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40733-FD59-49CD-859A-7625BCED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2B589-5BD1-438C-AB9C-E32CFB10E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DE01-85BD-417D-BDEE-91CC1D5F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77A56-2794-4286-9CE1-CA4EB558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DEE62-2286-43FD-AE0A-D7576443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A4E7D-8816-432D-96ED-049CC8D1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6EF4F-1D19-4341-A93D-7C8890F9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94DCB-D749-4CA4-BA82-73CB2F43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1040D-EFB9-4675-A881-5F58E59D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C8354-C5F4-4364-A8ED-0993C50BC9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5C98-F3C6-43EB-BF5A-E192C460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E78F-1BD0-423F-8F76-D3E00ABC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54CAE-071D-43F0-B925-95F08D1F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9AF03-224A-4D80-81A7-10FEF5CF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8ECA-27A0-45AF-A5E3-F9130F8C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880B-A66B-469A-B130-0E52B6B9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DE80-3F96-400A-9282-878C7CC0D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40F2-E283-4BCB-A207-4C2E55D56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417B-1799-48C5-AD72-30CB1E9E6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28AD-DAFD-4153-AE90-6009FBCD2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dt" idx="5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ebruary 21, 20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142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TextBox 1"/>
          <p:cNvSpPr/>
          <p:nvPr/>
        </p:nvSpPr>
        <p:spPr>
          <a:xfrm>
            <a:off x="1382760" y="2262240"/>
            <a:ext cx="585000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PRR 59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rnal Load Serving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Tu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WG/WMS/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26  &amp; 3/5  &amp; 3/17 -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21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alyst for NPRR Ti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ration connections to CREZ lin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ditions where back feed load needs transmission system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nor DSP certificated service area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dentified op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CT service area excep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ation of DSP in ERCOT to serve the load connected to the ERCOT Transmiss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PRR 5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21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04560" y="1066320"/>
            <a:ext cx="8280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SE Registra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mics NOIE registration proces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ation as an 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mittal of an ELSE Meter Point Registr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PRR 5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21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28036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699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SE Sett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mics competitive Load sett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69920" indent="-1699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included in AML for the 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ed Transmission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igned U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d in 4CP calculations &amp; matr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d in ancillary service obl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d in ERO fee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SE Retail Sales for REC Program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lf reported, as applicable, using current defined processes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52280" y="15228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PRR 5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lbracht, Brittney</dc:creator>
  <dc:description/>
  <dc:language>en-US</dc:language>
  <cp:lastModifiedBy>Tucker, Donald</cp:lastModifiedBy>
  <cp:lastPrinted>2014-01-30T14:56:04Z</cp:lastPrinted>
  <dcterms:modified xsi:type="dcterms:W3CDTF">2014-02-21T20:30:04Z</dcterms:modified>
  <cp:revision>102</cp:revision>
  <dc:subject/>
  <dc:title>Instructions</dc:title>
</cp:coreProperties>
</file>