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435-8F7C-4D63-91E4-B0D2DF73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9D4F-556A-4B16-AF4C-D6092A72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8906-F62C-4664-A630-2DCA6AB7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7FA-1BFA-4098-BD26-EC6C44C9C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752-6C17-4222-AA4D-D7457115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B56-9A5D-4B11-B198-743386C6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B57-9FB9-4F91-A76B-AA781B65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7E7-7C61-4792-8D65-ADA7C852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A79-7570-44D1-840F-A915444C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ACD9-592A-40C8-9EA3-AB2353CD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3EBA-ECFB-44AC-AD64-716210FA7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5F9-F93E-4FEB-AE72-BA4B20F9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4" name="TextBox 7"/>
          <p:cNvSpPr/>
          <p:nvPr/>
        </p:nvSpPr>
        <p:spPr>
          <a:xfrm>
            <a:off x="1085760" y="6010200"/>
            <a:ext cx="686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: August 15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EF783B-5CCD-46F8-BD31-02E8DC2F5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64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B6F07-639C-4B4D-8906-E7F1BCAF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ftr" idx="1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D3B1B-3ED0-44D0-B408-AE37E784C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085760" y="6010200"/>
            <a:ext cx="686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: August 15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18766-D660-48D6-AD6B-D324A8CFB4F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1085760" y="6010200"/>
            <a:ext cx="686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: August 15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3F8ED-2441-46E5-BEB3-EEB1143A1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085760" y="6010200"/>
            <a:ext cx="686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: August 15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901DFC-7490-42B9-8A54-844B3B55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4" name="TextBox 7"/>
          <p:cNvSpPr/>
          <p:nvPr/>
        </p:nvSpPr>
        <p:spPr>
          <a:xfrm>
            <a:off x="1085760" y="6010200"/>
            <a:ext cx="686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: August 15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37B62-C3B0-48CC-9B89-83297CEB6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7"/>
          <p:cNvSpPr/>
          <p:nvPr/>
        </p:nvSpPr>
        <p:spPr>
          <a:xfrm>
            <a:off x="1085760" y="6010200"/>
            <a:ext cx="686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: August 15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52B15-7602-4B7E-A766-DD199D570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2" name="TextBox 7"/>
          <p:cNvSpPr/>
          <p:nvPr/>
        </p:nvSpPr>
        <p:spPr>
          <a:xfrm>
            <a:off x="1085760" y="6010200"/>
            <a:ext cx="686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: August 15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AE41E-5784-4AF8-A0CB-00FF63BE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-33480" y="-138240"/>
            <a:ext cx="9210960" cy="71344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7"/>
          <p:cNvSpPr/>
          <p:nvPr/>
        </p:nvSpPr>
        <p:spPr>
          <a:xfrm>
            <a:off x="1085760" y="6010200"/>
            <a:ext cx="686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S: August 15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50F5A2-28E2-4D3F-B63C-EFF4509ED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llo I'm a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79440" y="82872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S Meeting: August 15,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ff Bi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Transmission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7 Generation Deliverabilit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79440" y="828720"/>
            <a:ext cx="471312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t the April 2013 meeting ROS requested that ERCOT analyze transmission constraints that may affect generation deliverabi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problem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nsmission constraints may prohibit a generator from being able to deliver their full output under certain 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s is generally considered an acceptable way to operate a power system since it would be inefficient to build a transmission system to allow for all generators to deliver full output for all condi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s long as there is other generation on the system that can make up for the curtailed generation this is not a proble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wever, at peak conditions when resource adequacy is low it may be necessary to plan for all generation to be able to reach full outpu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hat is the extent of this problem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5111640" y="1924200"/>
            <a:ext cx="372744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79440" y="82872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ransmission constraints that could potentially limit power transfer from each generation site to the rest of the ERCO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generators with shared transfer limiters to determine if all units can inject into the system at full MW output without overloading the shared constraint post-contingency (excluding groups which are primarily made up of wind, hydro or strictly self-serve un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most limiting transmission constraint is overloaded post-contingency, determine the minimum generation curtailment needed to relieve the over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ology for Calculating Non-deliverable Gen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379440" y="828720"/>
            <a:ext cx="82296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l 2017 summer case from the 2012 5YT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W and SE cases used based on location of the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gency defin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RC B and double circuit contingency definitions submitted by SS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ngle 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ing th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MW output of the injection group (all units that share a transmission constraint) to 100% of install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the load in the case by the same MW value (distributed throughout the syst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ing Non-deliverable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e the most limiting contingency that causes a thermal over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the minimum curtailment necessary to relieve the overload by scaling down the units with the largest shift f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ology for Calculating Non-deliverable Gen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: 2017 summer peak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3880" y="1987560"/>
          <a:ext cx="6096240" cy="2662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eliverable Gen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Affected Pl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Gas and Co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ccd4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b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9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e Use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12240">
                      <a:solidFill>
                        <a:srgbClr val="056bb8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12240">
                      <a:solidFill>
                        <a:srgbClr val="056bb8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5760">
                      <a:solidFill>
                        <a:srgbClr val="056bb8"/>
                      </a:solidFill>
                    </a:lnT>
                    <a:lnB w="12240">
                      <a:solidFill>
                        <a:srgbClr val="056bb8"/>
                      </a:solidFill>
                    </a:lnB>
                    <a:solidFill>
                      <a:srgbClr val="ccd4e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1224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5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1224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56bb8"/>
                      </a:solidFill>
                    </a:lnL>
                    <a:lnR w="5760">
                      <a:solidFill>
                        <a:srgbClr val="056bb8"/>
                      </a:solidFill>
                    </a:lnR>
                    <a:lnT w="12240">
                      <a:solidFill>
                        <a:srgbClr val="056bb8"/>
                      </a:solidFill>
                    </a:lnT>
                    <a:lnB w="5760">
                      <a:solidFill>
                        <a:srgbClr val="056bb8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79080" y="179280"/>
            <a:ext cx="8459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sgarza</cp:lastModifiedBy>
  <cp:lastPrinted>2013-01-30T23:16:36Z</cp:lastPrinted>
  <dcterms:modified xsi:type="dcterms:W3CDTF">2014-02-21T18:08:24Z</dcterms:modified>
  <cp:revision>147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</Properties>
</file>