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2F35-891A-4446-A2A2-8338A51CB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4044-AB1C-4E36-8BB7-E688E292A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E762-31CF-4335-AC28-A029959CF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663C-FBA2-4C33-8011-F670750C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0759-C29B-4F3D-8238-12E3F226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6B12-3C04-4D80-9586-39185F73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B679-205C-4F2B-9CE5-109D1D03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169C-541B-4466-AB37-39113DBC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CB76-A2DC-4293-B3D9-16040A3E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79D1-FC46-42A0-9358-82FC0B0B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2A7CA-BDAC-48EA-882D-31B154036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EABDB-7453-480B-A528-5C3C4B34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712AB-5DA7-4429-B5BE-56289C89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A25CD-29E4-45FF-BD0E-ADDD2C0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5BC20-D422-4938-9ABB-53A99500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B688-5A7A-4163-A3C5-2DC15047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2B6FE-DF24-484C-B8DD-B98F36A3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A2AE3-E343-473E-B145-E5A986A9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DC7A8-8A59-4587-8B3A-ABA2AD36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6F8F8-584B-47D2-BFB1-0D9CBBA6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B9F24-63A4-447C-A524-E5B043ED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F8C1B-16A8-4CA0-B0D6-81E23A58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F6D3A-1FD2-426C-B4DB-229918CE6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4920-3617-462D-A3BF-C99BFA25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6DDE-E648-422D-8843-12C99322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357F-5D35-44B4-9CA8-776063AF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C0D5-B94A-4FBC-901C-E605AD31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1F12-2C74-45E8-A3A2-7DCA355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A980-3180-4C4D-99ED-E37CB3A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51EE-5977-411F-80F5-4900566DE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8ACE-8FA8-499A-9CE2-F48BF67D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32F8-0D9C-4872-8D23-E98ADDB8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E364-FA24-4793-9072-BE1220A6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5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142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1"/>
          <p:cNvSpPr/>
          <p:nvPr/>
        </p:nvSpPr>
        <p:spPr>
          <a:xfrm>
            <a:off x="1382760" y="2262240"/>
            <a:ext cx="5850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RR 5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Load Serving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Tu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WG/WMS/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6  &amp; 3/5  &amp; 3/17 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alyst for NPRR Ti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tion connections to CREZ lin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ditions where back feed load needs transmission system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nor DSP certificated service area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ied o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CT service area excep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tion of DSP in ERCOT to serve the load connected to the ERCOT Transmiss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 5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 Registra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mics NOIE registration proc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tion as an 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mittal of an ELSE Meter Point 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 5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2803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69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mics competitive Load sett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69920" indent="-169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included in AML for the 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ed Transmission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ed U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d in 4CP calculations &amp;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d in ancillary service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d in ERO fe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 Retail Sales for REC Progra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lf reported, as applicable, using current defined processe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 5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Tucker, Donald</cp:lastModifiedBy>
  <cp:lastPrinted>2014-01-30T14:56:04Z</cp:lastPrinted>
  <dcterms:modified xsi:type="dcterms:W3CDTF">2014-02-21T20:30:04Z</dcterms:modified>
  <cp:revision>102</cp:revision>
  <dc:subject/>
  <dc:title>Instructions</dc:title>
</cp:coreProperties>
</file>