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B1FE2-669D-4D7D-8E6B-BD65E04BB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0A441-E0DD-404F-A9CA-37BE19CA9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EC61A-8677-435F-91B1-E54122CFE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D28CF-872C-4F13-BEAA-E8013023E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149BF-FAF2-4E46-A5CF-E410C6CB4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0590C-C838-4B6A-AD8F-D3CAC4D6B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FB38A-669B-47BF-8E5D-59C6D943E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AD4D8-6681-4875-A34B-8A3F82988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7A2D3-C1B5-4752-9380-ECC9CFAD2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2D5AB-B6CB-4877-97DC-9F06E13EE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41CC9-C65B-4D7C-8DAE-3D476BEF8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12720-7DF5-48DD-A9F6-D5132DFE9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0B8CA-9DF8-4770-B9BE-5B3A0C899E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CWG Update to W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4953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Paul Vins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March 5, 201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andy Whitman Inde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1430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viewing Handy Whitman Index cost parameters used to escalate VC O&amp;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urrently using the average of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team Production Plant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nd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ther Production Plan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which include the following item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Steam Production Plant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Total Steam Production Plant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tructures &amp; Improvements-Indoor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tructures &amp; Improvements- Semi-Outdoor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Boiler Plant Equipment- Coal-Fired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Boiler Plant Equipment- Gas-Fired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Boiler Plant Piping Install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urbogenerator Unit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Accessory Electrical Equipment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Misc. Power Plant Equipment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Other Production Plant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otal Other Production Plant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Fuel Holders, Producers &amp; Accessori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Gas Turbogenerators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eneral Upda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219320"/>
            <a:ext cx="82296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Mitigated Offer Caps for QSGRs and CCGR Power Augmentatio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– ERCOT preparing analysis of QSG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Generic Resource Costs for New Technologie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– verifiable costs for CA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Fuel Recovery Discussion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– FIP and cost recovery issues related to Feb 6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gas price ev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05T01:58:48Z</dcterms:created>
  <dc:creator>Luminant</dc:creator>
  <dc:description/>
  <dc:language>en-US</dc:language>
  <cp:lastModifiedBy>ptvinson</cp:lastModifiedBy>
  <dcterms:modified xsi:type="dcterms:W3CDTF">2014-02-27T18:31:43Z</dcterms:modified>
  <cp:revision>21</cp:revision>
  <dc:subject/>
  <dc:title>QMWG Update to WMS</dc:title>
</cp:coreProperties>
</file>