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76B-1194-4A5B-BFBF-B673401E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D30-73EA-44DD-9EED-D4CDDD37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B2F-528B-4B8A-9A3C-9096EFC4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0FD-3B34-4D5B-8194-13006D6A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D30-9299-4C6F-B349-26491332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F94-BF46-40B9-8651-F04C07CF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5CF-E2FC-47AE-8394-FE17FCC6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9F7-4408-4E0B-9D71-13E5D53C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F57-2760-4E70-A4FC-C660E0CE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D7D-586F-4478-80A8-6729164C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1EB-7172-4219-85C4-838C477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4DE-3283-4F1D-8EE7-9D0B73F2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BB8F-3B3E-4A47-9207-8278EDE0C4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F3DE-F203-44A3-B41E-E44AE9600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4/02/20140213-PR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erging Technologies Working Grou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date to W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ch 05,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86BA-DF5C-4E5C-AD94-91CB8E1DD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563400" y="3597120"/>
            <a:ext cx="8077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on NPRR 5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ar Forecasting: Protocol Revision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ar Forecasting: RFP Process and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ETWG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  Update on NPRR 5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09680" y="1371600"/>
            <a:ext cx="8353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12/17/13, NPRR588 was pos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1/15/14, ERCOT comments were pos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1/16/14, PRS considered NPRR58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2/3/14, a second set of ERCOT comments were pos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2/6/14, WMS comments were pos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2/13/14, PRS again considered NPNRR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4f81bd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mbria"/>
                <a:ea typeface="Times New Roman"/>
              </a:rPr>
              <a:t>February 13</a:t>
            </a:r>
            <a:r>
              <a:rPr b="1" lang="en-US" sz="2800" spc="-1" strike="noStrike" baseline="30000">
                <a:solidFill>
                  <a:srgbClr val="4f81bd"/>
                </a:solidFill>
                <a:latin typeface="Cambria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4f81bd"/>
                </a:solidFill>
                <a:latin typeface="Cambria"/>
                <a:ea typeface="Times New Roman"/>
              </a:rPr>
              <a:t> PRS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genda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http://www.ercot.com/calendar/2014/02/20140213-P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n 2/13/14, PRS voted to recommend approval of NPRR588 as amended by the 2/6/14 WMS comments.  There was one abstention from the Consumer Market Segment.  All Market Segments were present for the vo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1A45-E108-4841-A996-09DCADB76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.  Solar Forecasting: Protocol Revisions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-Term Photovoltaic Power Forecast (STPP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Voltaic Generation Resource Production Potential (PVGR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ION 3.13 Renewable Production Potential Forec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.3  PV-Powered Generation Resource Production 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)  ERCOT shall produce and update hourly a Short-Term Photovoltaic Power Forecast (STPPF) that provides a rolling 48-hour hourly forecast of solar production potential for each PhotoVoltaic Generation Resource (PVG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7.4  RUC Make-Whole Char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7.4.1.1  Capacity Shortfall Ratio 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3.1  Activities for the Adjustment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0429-D357-426A-A9A3-B9D883815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. Solar Forecasting: RFP Process and Tim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8872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Staff are proposing possibly releasing the RFP by this su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 to the release of the RFP, ERCOT staff has requested that the ETWG arrange a Workshop on PV Foreca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cover best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-ISO exper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FP Scope of Work, Technical Requirements , etc will be topics on Spring ETWG Agen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799B-42B1-45F3-AA10-D1AAC50DF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.  Next ETWG Meeting March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on and consideration of PV forecasting NPRR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ssible) Presentation on existing treatment of PV assets by Resource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items, T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0EF3-2008-46A2-954E-982946B46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9D5F-484F-4667-85CE-96B6B1E4A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ested WMS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5B5B-55B9-4ACA-B3A2-39EAC603C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3:39:14Z</dcterms:created>
  <dc:creator>Chad Blevins</dc:creator>
  <dc:description/>
  <dc:language>en-US</dc:language>
  <cp:lastModifiedBy>Chad Blevins</cp:lastModifiedBy>
  <dcterms:modified xsi:type="dcterms:W3CDTF">2014-03-04T20:21:56Z</dcterms:modified>
  <cp:revision>44</cp:revision>
  <dc:subject/>
  <dc:title>ETWG Update to WMS</dc:title>
</cp:coreProperties>
</file>