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dt" idx="9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ftr" idx="9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 type="sldNum" idx="9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6358-F1AF-4DBF-8C3A-6288C0FB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50D-CFA4-4641-830B-672A9250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B9C-BA8B-4ECE-81C5-42456822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62F-4D38-4047-8210-F7D9C93A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F443-B846-45FA-9FA9-1C4364D2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54DB2-1D0E-46AE-9DD2-C974BC5C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26651-7D03-49A2-B801-102AA472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D0716-0ACD-418D-875A-975351AD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DFDB6-89FA-40E2-AC77-6ECF5C8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AD5A5-87B4-456B-A1E4-26B2D60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3F5F7-D59F-404C-91BB-3B145047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DD8DB-A796-48AF-9B54-08496DA0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E8FF1-26FD-4573-8E4B-F11540A2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A1D-6D26-4726-9660-65E6BCC7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6D9-E12A-41EE-BB64-BCA79C1D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B4E5E-92F6-48F6-8C49-D9923117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69002-B7FB-48C5-9886-D0DCB509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3C43B-D64D-4D8B-B4BD-8A037A59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1C023-DADD-4D7A-A8A7-0F8A58AF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83FFE-C315-492A-BA6F-6FC1DD2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BA883-CDA0-457E-AD28-C4866600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B01D4-554C-49E4-82D4-2CAC998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1112E-0EEB-4E29-8170-37392F10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F29DC-BCE9-4549-ABF8-728C5C7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56461-1185-4D69-8E48-03F01700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13EEE-FE23-492F-A08F-9760A089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26D6C-7544-44C6-A83D-1108D84F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F0E5E-4FBC-4752-89C0-328DCD72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E2194-80D9-4AE8-BD81-164DEECF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AAF4F-D8C4-4693-9B85-75BFC43A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EE5D5-7355-4786-B2F9-051174C7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EE40A-4CC5-40BE-ADE9-CD7275F2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25B9B-F5A1-4521-8A72-835E531B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2548-757D-4426-A2D5-CC83513B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07936-C96A-4678-911B-8D52066B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75468-BDE2-4BE2-B38B-8D78A120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889BF-C183-4981-B29A-2BA96DD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8A5B8-D7AD-4792-A026-4FB79F4B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BE330-486F-493E-B86E-6D699095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FE4D-BD37-4D7A-8769-E24A8A70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5DBB3-591A-486E-838A-876F6D4C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FC583-3F02-4735-A8D6-23FBA048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359BB-06C0-41E1-BE75-FAF2A45D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FDB48-20BF-454F-B6C0-577D7973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BF1D8-4012-43DF-92BF-DEC5E535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C00E3-AD51-4D28-839D-217341D1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2BACA-908B-4A19-9EEF-9BBF5E47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6DF4F-0678-4C8D-A038-921147A1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18FFE-6CD8-4E54-8C1B-27A40EA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8D31D-F9BB-4AF3-8F9E-37A52D56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7DC9C-E142-45DC-A082-19588A5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257CD-376C-4073-9558-69061F03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F6539-90B8-4B86-9011-B50EEA32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6735A-97A3-41AC-ADE3-BA129B96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04128-74C0-47C7-A9AF-C7CCCA2C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16064-BF89-4A69-A4E5-97C758F8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E6AA7-2DD2-44AA-91A8-3C96F0C0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CB62D-886B-4FAE-A771-90746DC9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29417-9860-419A-9A40-1B7D9E9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F6D93-6EF3-4FC0-A57E-C31D388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8DD93-422D-4AD9-9AD6-AA4AD3E5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1EC1C-8B85-484E-A611-8932A82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B7F53-3D4E-4261-9646-D3C5D2A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0FBEC-6DD5-4180-932C-CF7CDEA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C87E2-5701-4737-B411-D41746D9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6B2F2-80E3-47BD-8893-436F7B6D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85924-5354-402F-8208-6FC19911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CEFC4-9445-4D0E-931E-BFAC8E7F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3993C-0EF7-4892-A1F1-C4B13627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AC532-E943-4036-ABB5-C75D4C7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C3D5E-CAC0-47BD-8D17-81AB9D01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2E03D-5E0B-440F-84EF-83C47249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ACC06-3D4F-45A8-A799-65F388E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7628D-05F3-4040-A192-BD2EB1A8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B0638-B1E9-4FB1-9B7D-E355257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AF303-81A2-49D6-82BF-329FB62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CA408-4340-4FF5-A1E8-7B412BA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9F2BA-361F-483B-A18D-2EB75CEC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CBB29-C95F-4DF0-8A91-8FA56CAF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7EF5E-3804-44A7-A5E3-68BB8268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117CD-BD51-459E-BC0E-15CBFD54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14D51-A520-428B-817B-02E97B15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79620-F1CF-4AB8-9DEC-BFD950D2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D1778-B44E-4E55-9E55-18CE8611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545B1-24DB-40BF-B303-717A0A36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0BAD0-E349-47BB-ACBE-BCFFA5E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09FD1-1459-445A-833F-7EBC44D4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4A21F-4723-4EFD-9E7C-AEDF4AE7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60D66-FE18-4AD4-BE49-680066B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94749-C66E-4E37-ABE1-97FAEA0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FC5D0-6DB3-4F4E-8294-E0AE29E9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1F7B4-86FB-4CE3-9219-6BA75AA8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B461B-C1B8-4936-A45A-521E13C3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A8FDF-29F4-433F-9947-6981EF3E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6E5C7-8515-4260-B415-F1C9D870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FBEF0-D89E-411D-A94B-52B67C37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5163B-AB8F-405D-90E7-BE533FFE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0CAD7-273E-4004-A409-17D5FBFF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F65B1-04A9-40D4-B146-1C8C2E4C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B903B-9012-405F-870C-B6FCBD06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53A92-F636-4CA3-8395-D8F4EA6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364-8AF8-4ADB-9EF0-A7D60F8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0F78C-75FC-4AAD-BC9F-60AA552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0AEFA-3108-4EDB-B10F-4A71847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DEBB0-0177-4B8A-A22B-9426416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241E8-7C06-40A8-912E-37825646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EC19F-2F50-4E20-A39B-1EF08A53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C769B-92CE-4A32-8C66-3603EC61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2331B-D78F-4AEE-AC6F-999AEFC8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20CD1-5A27-49D7-A007-809FD83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C2840-C714-4F6A-AB12-3DE7511B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5B361-1EDF-49A4-AFFB-5CFC083D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74962-E28E-4BEB-8E90-3590568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2C600-5619-445F-A27E-5C3B5D4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DF08A-83D9-4E8A-840E-77B0211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5B3E8-F632-4336-97D5-F345A7C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B4CB1-2B61-4177-A105-5E2030B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7D9A2-87A6-4F14-B2EE-4543850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0D6F0-3677-4D14-A41D-B6A3B587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A96BB-13BA-4C7C-ADCD-454EC683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074D6-509B-457E-9C44-160A6A74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357E1-2AC8-48DE-84FB-B738C079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6F88E-937E-4823-91D4-41719172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39287-8A96-4BD9-9157-F5C0DED0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FE54F-A614-4C6A-9D11-202C4BA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CFDD4-6E3F-40F9-B053-6FB67B28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0471E-ECDE-4EB2-8440-EA55F560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4CEC4A-2152-4BB7-AC2B-2BE02986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6CBB3-70CA-4DE8-B026-99ECFBF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8828C-0503-4CAB-AD33-53E5AE0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4D4BE-DB87-4F9F-96BD-BD8AEA6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8B2F0-F78C-4A03-A8BD-786217E3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4A02ED-CC6C-4FF8-B004-E7477C9D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96178F-3A19-44D8-AD39-4E2D4C12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D8676-5BD8-4303-A5F8-1BE0098A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BC7B5-FD8C-4095-8566-3A2E667A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6FD83-7EAA-47EC-AB60-0173E578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0C945-9A84-48C2-A2B4-62FA1EE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3702A-9AD0-4013-8B53-F0E05414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73E0AF-63E8-426B-AF65-E40C8E0E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BD14F-D79D-44E5-ACC7-0D34AAEE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A40B3-7AFE-40B7-A768-05605F3A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16EBB-7904-4B6C-8552-04C904F5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396DB-0680-4FD4-8724-24B19E5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80CC2-4DAB-4887-9A8B-F66D6AC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36266-82F7-41E5-940C-AE85C484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73180-AB43-4528-8279-3275B7F0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8255E-34B2-45CD-B6E3-C3E4F73B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B8333-9F4F-4CE6-B4C2-487292F2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04DC23-47DD-4AE4-8DC3-567D261E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E554EE-536B-460B-99A7-4C586EF4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67AA12-BE8A-4C55-B625-788D4BC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9BB119-E384-4214-A3A5-E1EAAB8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E53542-1568-4D56-ABC5-5101659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D5EC11A-A12E-413A-AAB4-077040C3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FF7F92-DB5D-4E29-9273-431A986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AFC06-8140-4A72-8DFE-48A2BE05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4FF1E4-5CF2-479D-A548-E9C9FC48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7E4B9B1-1B90-4EAE-9DDF-72D6FEE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FD813F-3672-4BC2-9A62-22E619EA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5528CD-07E8-478D-A5E9-5BF72901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1C3E30-95A8-4BC0-B3A9-72356B53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E21ED5-9B29-4E7B-A838-CE14A066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034702F-8F08-4140-912F-BA12594C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D3D6E4-D687-4368-BC56-9AD6BCD4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516CA4-D409-4DCE-8AFE-0425F66F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5D774F7-0048-49B2-8FC8-F6C1F02B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84EBA-AB13-415B-951A-79B8080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53DC986-F120-4B63-A6A1-A262452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76AE64-595D-4422-9C2F-07F9E7B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727363-80B3-42E9-91FE-E79A215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DE4AFC-3CF6-4513-A49E-04255042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9120E0-8799-432A-9713-EEF22AA9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13D6F20-14F2-4360-82C8-98F72B1B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BCF3DD-92E6-408E-AA93-47256E88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40CE11-467C-46CC-B932-3F7C1F2B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63E4C8-1491-4CAE-BB36-7E3B8D9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3D30AB-BE23-48E6-8707-BA2B98A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56868-B0BD-4BBC-A99B-87E226EA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EED946-ADAB-4ABC-B14D-362F75C4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5C8D55-86BC-41FB-8877-7C7B8943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D506BE0-8EF2-4258-8EF8-BE4653AD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73E52D-E1BE-471F-9E4B-D3EC54B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8A7385-F6F4-4B75-BF44-5C07A312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0A1DB6-FE6D-4072-B930-79E732DF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C0CF393-353A-4286-88F8-183C15C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7DA4CF-0EE1-4C1E-AAAC-81200545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6E787B-CAE9-4278-8304-AB309AEC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03E200-C0B2-4C83-99A7-E7126AF4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57500-53E5-4699-A768-BAF6DAE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A80A119-BF67-4532-9FB7-5D693083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5312D8B-E1AE-49EA-B54E-E1671055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31105E-EBFE-4271-8D58-6C2A887B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420B91-C94B-4D41-AFCB-E42BCCD2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A6FFFA-36F7-4218-B500-47ED2278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82B728-D7D0-46C9-97A1-AC827F32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893C69-CF6A-4756-91DD-E736C58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4DF9800-AF9C-48EB-8816-81205F6C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816603D-6264-4CAD-A4FB-6604BC78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4280AFE-459C-45CF-A266-78230D13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363-DFE0-4097-B768-5E9ED73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A049E-125B-48F1-B441-E3ADA365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CDE23A-61C1-4E5F-82C4-E278EBC9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B4CDAC-53D3-4CF2-AA82-265FC303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F4545D-C0BB-4EF7-BAC2-97CFFCD0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5642DD-A2F5-4B2B-B391-9B613F1F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C7B06F-5122-45B0-AC02-7A60A85B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2FE9A5-C036-4595-AAC0-C0D1664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6FB1ACE-F463-402E-974D-7062304F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3C3F92-CEB6-4716-BE96-7A154DA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29856FF-0227-4CA0-8D79-35872B3D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15D812E-3B4B-401C-B102-45748A4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C127B-BE24-4E11-AC6E-CC9F1EA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BA9A5C-38EC-4CCD-B362-3D74CA36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783D96-8801-4BF0-AF49-09B8C397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6033B8-FEE3-4D69-AF39-40A52B40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4F201C2-63BC-4984-A863-F080FE5A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13C49B5-FB6E-41A5-BC75-7BF580A2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CB5CE5-D01E-404F-8999-0380FD6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40D415-EFA6-42D7-9731-70A2022C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4E4E6E-7A88-4862-86F0-A69F3CC9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34F08C9-36C9-43D0-B8EA-F117698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2D4DF7-E648-4EA5-88CA-49E53D4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5B9C8-3B47-4F4F-855B-8C9906BE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31F8EDC-6921-4AFD-A605-6CD330F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860265-1FAA-4934-89F4-98D743C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77871F-39A0-4BEC-84BD-505BEE0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5BFC830-39AA-4A47-A824-3799ED3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120A95-FABA-4614-8048-C35F22E5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461781-C8DB-4F33-86F5-0C90376F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BD68BB6-E19F-4593-BB1F-85D9F6BA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5A3EE3C-4A76-46D6-AC7B-A1731E0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657A4F-BCFB-4E1A-87DD-B2DFAD06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B9D3D4-14D8-4427-91D5-5D470AF4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818D7-A0A5-4797-A8A5-C4172BA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40077FA-35C9-41BB-BD51-84F2C609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5C7D211-8A58-4E70-90CB-A9E2082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E29DB90-3B27-4704-8B72-9DE32F9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8A1E79F-AC5C-44A9-B0EE-B685BE6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3ECAE18-55CC-40DC-9E7E-8A1B69A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6266A81-FAA3-4D24-852E-212CFA7F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1D58E2-2403-4F17-BF4F-48EDB3C3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DF80D07-3304-4902-B7F1-1CB54220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7FBADB6-3030-453C-9233-8FE210B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7CEA2AA-480A-4E09-9392-2C3D72FB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3755C-5EDC-4EDE-896E-923BC440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A95087C-5682-4EAF-9A7D-7A452A6E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940DA61-DFAF-4264-A529-78314A0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1F57BCB-66CE-41F5-A7A6-9366ADD1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7411FF8-D2B0-4FA7-965A-FCB8B0EB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3EDF162-AEFB-4863-A15E-854C7962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0B2956-9F58-4833-917A-B2B3743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3DD107-3DE0-46CB-B0C2-5D906445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A69308-B086-4E1C-8768-C02DB196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7D42DC-E31F-4E7E-AF11-D8E81674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EA1B42-F223-4436-830F-A188EF09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85558-3AE0-4F9F-B80E-1D7AC9F8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686509E-2808-4CDE-A405-154F55D9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C0F7A3-A55D-44C0-9219-60E0ED2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1D8633-0831-48D8-B3ED-445B9B7A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FA57610-9822-4382-B8C2-BAE8FC98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E26B640-2CF1-4AE9-978B-ED0964D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D43E75-CDA3-4F9E-AF84-8A3B785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D6E4BB6-B51E-44D0-B1A4-D844589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588C56-399E-45B7-BBA4-BAC5324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88021BD-2660-40A2-9999-1DD79D5B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6DE6F36-4F97-4ABE-9D62-A25411B7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00C8E-2465-4A45-8D76-8806F684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0861998-8A2F-43F4-9770-0AD76B49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94112DA-C643-4553-8828-A5E8AAA1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69FCC09-A337-4201-B252-673A69B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3D21EA4-CB89-457D-B407-120BE3C3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4367708-16C2-42BB-8197-93FC61E7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EC15532-D9BE-4570-9109-D09A163A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A943144-7118-452B-A8F4-AC721C54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D6494A-35D5-48F1-95E5-0ED06C8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59E9D14-A8B0-4733-8A90-4672E18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FBD1B49-E00C-418F-A259-6B2C5BB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3D17F-7475-4958-BDFC-1A8A22F4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CC9848B-437A-4DEF-A013-AFB9C998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FAFA42D-F0E2-4EAA-9553-AF33CE86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2BF970B-D496-4CD9-A610-B6FD138A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D3E5-8848-4D6A-906B-12AA6D46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451B-41EB-43F0-BFBB-6C9AAD93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AD5-4286-4B95-92C5-F7E5EFE0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33ADB-7502-48D5-9E46-F04DD73C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8F15-4BEA-4695-A436-9C51FC85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68AE-A756-432B-A595-17751CCB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625E-1F4C-41D5-9C02-EFCBAD07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6505-7A2F-468E-995A-45DE5454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A7CF-2B5C-4BD0-9655-3B7C9C1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CCD0-F656-4CBA-A072-46994791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0C3D-57F3-43F6-B101-17605BD6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26F2-E288-42F4-94A6-6A47DB71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EE4C-26F0-4853-9832-E87F96F9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C58-A205-473C-891E-21E1C39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437E-4AC2-46B6-B654-253D387E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6DD7-9C67-4CE3-91D5-FF4C529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09EBF-D3E7-4655-8A1B-59BD7B7A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F366-1541-48E6-9729-EB75382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C78D-9F6F-4A8B-AE56-94311EF2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B50F-DD10-4F47-9BEA-31A5A1B1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B239-6BD0-4F25-9D59-A58E29B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538F1-ED10-4E27-BD68-25120CB9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57041-4F5D-4E7E-909D-E50E148E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990B-CDDE-4848-8193-AF1643E2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AAB-3725-4C1B-A7A1-1032B6CC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F81C-06BA-4351-BC3D-6B57EF7F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D3CCE-1284-4EAE-8E12-B696FFAF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1D9EA-31D6-4358-A151-F85AA51C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BBD6-7756-4306-9654-0C37421B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2134-1AEC-4E5B-B8CB-8336EA14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2D205-FADE-4787-A6F7-62A96C7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7ED0D-68DF-499B-A808-97AB312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76D30-CF19-4E08-8BB9-39E36CC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1035-9A12-4CEA-A9F8-2D81005C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8436-56A2-48EC-9831-4878E004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342-DCD0-483A-9FD1-995BFDFE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25FFE-DE02-4AF1-9C6A-0D2795A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8CCA-138F-4B3C-B976-A9DEA33C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23F1-03AC-4CE4-822D-2CE31753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AD3B-61D9-43E0-9F6F-CC263D83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4DBE-4318-44A6-8A3E-F9B9D2C4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EE1E-E738-48E0-8124-8BC3AFE6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21B3B-43C1-4C3A-B024-1E3B7F44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94FC-61A0-4F1C-AFA3-CEA14FD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0C70-59ED-46A0-890A-1951732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05ACF-8705-4B01-99DF-4481AFC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E86-A7B1-4CEF-85F6-06F7157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7CD5-9F5D-40BC-B8B8-495C6DB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1065A-7C53-4695-8752-761C3FDB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CA764-FA07-4AAE-AF8B-0DD1934C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E303B-01D9-45AB-BF2D-A7A6BF30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0579C-625B-419E-8D5B-B364A141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0B48C-B23F-4F14-A862-CFE55DF2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7D2C-B484-412A-9181-44FCABB1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805E-651D-49A5-87D1-FCBCCBD6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21A0-2EC4-42E6-9975-504F6C5D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4259-0A76-4E68-AF72-873110B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889-B1CF-4238-9B2C-62967FA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0893-8D4A-4973-AE63-A14319D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5763A-55FB-4FD3-A402-5D1B754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65BF5-F53F-424F-86D2-8745B802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C544-23D1-4A3F-9A93-F54AFC2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816C6-9EAA-441F-90EA-4F437CE0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A458-FAB2-49BF-AA78-73B696C2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501ED-FB9E-4C54-973F-20E5CBED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49E77-AF01-4175-BA6B-8E71C555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4F7B1-6228-4E7C-88BA-6428F706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B76C8-98A0-4C22-A9F6-C1CE237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38F4-B64C-4CCA-979D-6FF779591B5B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EC2-5C33-4B70-8B31-82309E4A12F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F02-D4CB-43F8-ACFF-97E508376885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0543-58C0-4C28-B030-A626AE20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7DD5-EBAC-46F9-8315-0ECF0557F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dt" idx="3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B2CD-2A6C-4E2F-8173-80D788999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71FE-F4E9-48A0-8BA2-6A58FEB65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8156-156C-479E-AFD7-C506E32A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dt" idx="3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6768-9AFF-42B1-9476-7BE3C9C36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37D-CF4B-4BE2-B224-4559BEC20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0927-3BEF-45FC-A016-30D5F8260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dt" idx="3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1DB1-3C23-48E4-9983-5C68F8108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8D33-3818-44C1-B149-41A4EC4FB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8C7-4D84-4DB5-95F2-6374304E4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dt" idx="4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8E2-4ED2-4DD3-B3F6-8333EBAE6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743-8111-49C6-80BF-A99D6C2AA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F55-3012-4C47-A4DB-AFB0A6AA2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dt" idx="4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2F3B-D631-49C1-A684-CC48028C0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F99C-2EBF-4508-AF4E-7B7B897B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E3D-266B-40B5-A361-5132DA9E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dt" idx="4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AF75-6AF2-43C5-9137-5AEEE8259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738-F348-422B-B519-731677E31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A81B-B80B-4CA2-9B72-79A86C95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9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dt" idx="5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2707-A755-4EDA-957A-AFE6175AF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0DD-795F-4D45-AB1E-37B2CACB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818C-0687-4416-8BF3-27E2AF00B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5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dt" idx="5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91D-BD2F-4049-9B61-D2673AC65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1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ADC6-75AE-475B-A6DE-59BE1ACB0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39D3-76FB-4F59-93F6-521C932FE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dt" idx="5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DEFD-5EB8-421B-B0C4-76DEC5DB8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95DA-3AF6-4930-8866-E3E8F6AEB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AF71-A55E-425B-B584-8636F8F30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C3FC-DF05-4C32-AF41-5AC286B7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3F48-3EDF-4276-8A8A-EDA16830B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98EA-1288-4FBC-AAA4-9C417E4E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dt" idx="5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F9C-AFCE-449C-90E5-3B275C2A6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BCCA-1372-483C-B78F-EA1ABFF5624F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0759-4647-4C0E-82BC-C43599F8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814-9E57-4A1A-A984-F15632CD6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dt" idx="6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D020-4CA7-46A8-9332-39121F1D5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DFB0-65C5-47ED-91FD-41E6255D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F80-D492-4A0D-8519-B2269EE5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6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dt" idx="6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6356-0A56-4445-AC5D-DD2C374B3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B34-B12B-4309-AFAA-7324CFF22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79AE-006F-4C9A-A846-42043410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69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dt" idx="7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7214-BA68-4F30-A581-03FCB7A95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5580-338D-44EF-9DBF-227384E9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D3B9-6BEA-4F7A-989D-22694FF61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dt" idx="7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142A-9178-4FD2-AE67-1F87276BF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43FA-F282-4544-AC48-DA1BBCD2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6C8-CF05-4920-8CDD-879509D4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7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dt" idx="7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EA2D-9334-4E59-B49A-8FD588A41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7073-2DB6-4E07-9A52-F24BDE54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3D73-9643-487D-B473-5D5270A6A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7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dt" idx="7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F2D-04A0-4A8F-B274-66F562AB3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CE75-1C22-4F5E-AD02-5C2F762D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B71-04AE-4156-A228-102BEA83D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1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dt" idx="8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2FE-122C-43FB-BA4F-29E6AFDC6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47F4-8615-4188-8797-C38B3214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C73-EB52-4185-BC58-0A37C68E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8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dt" idx="8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EC10-C53E-44FC-82FE-B047379C5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4586-982B-4774-A12C-798EE2BE2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CD67-47E1-4886-AD77-EC0F394E9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8E2A-4CEC-4DE9-A1CC-50BC0E6EE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3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27F2-EB16-4DB7-A067-592ED8911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50E6-55C9-4EBA-9685-9ED52B77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8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dt" idx="8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10EA-9DED-481A-A634-7838DE3DD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5CE1-2E5A-4463-8F6C-D9A69998C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26D2-0016-41B3-9B48-677D638A5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9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dt" idx="9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CFBE-7D5C-4BC8-901E-2CC7E5990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3441-4C8E-49E9-9622-9C7822BD7CE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ACF7-9320-48D4-8D0C-A8BA744C5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366-59FC-470B-A270-C4B76E5A151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E413-963E-4AB5-9950-6F59F0EC3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F2F5-F40D-40BB-AEF6-F101DAA3A897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6C78-2CD7-4834-8F48-7CAAB7B706D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D8E9-07D0-4804-9D82-3CF628405197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B026-F5A5-44EC-8523-7F87C547637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3CFA-9EF1-460A-8620-65BF2191679E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BA26-59DA-4B06-B3E8-413B2496477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C9E5-AFB1-4CD9-A575-B776569E1DC6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0243-156D-45A5-8CDA-07065B5A9D3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Title 1" descr=""/>
          <p:cNvPicPr/>
          <p:nvPr/>
        </p:nvPicPr>
        <p:blipFill>
          <a:blip r:embed="rId1"/>
          <a:stretch/>
        </p:blipFill>
        <p:spPr>
          <a:xfrm>
            <a:off x="2438280" y="2432160"/>
            <a:ext cx="6553440" cy="2084400"/>
          </a:xfrm>
          <a:prstGeom prst="rect">
            <a:avLst/>
          </a:prstGeom>
          <a:ln w="0">
            <a:noFill/>
          </a:ln>
        </p:spPr>
      </p:pic>
      <p:sp>
        <p:nvSpPr>
          <p:cNvPr id="143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1105-9485-46A2-8956-ADD75E1943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EP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approx.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98.5% complete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1,010,158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01.31.2014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1" marL="613080" indent="-22896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eployment Plan schedu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88,212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51,571  meters 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9,329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3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8,280  meter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7E94-521E-45C2-8277-3056397B187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 txBox="1"/>
          <p:nvPr/>
        </p:nvSpPr>
        <p:spPr>
          <a:xfrm>
            <a:off x="45684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TNMP-  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approx. 57% complete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4100" spc="-1" strike="noStrike">
                <a:solidFill>
                  <a:srgbClr val="ff0000"/>
                </a:solidFill>
                <a:latin typeface="Corbel"/>
              </a:rPr>
              <a:t>129,988</a:t>
            </a: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4100" spc="-1" strike="noStrike">
                <a:solidFill>
                  <a:srgbClr val="000000"/>
                </a:solidFill>
                <a:latin typeface="Corbel"/>
              </a:rPr>
              <a:t>01.31.2014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Gulf Coast       </a:t>
            </a: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omplete i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4 2013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Lewisville   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1 2014 -    Q3 2014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North Texas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4 2014 -    Q3 2015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Central Texas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3 2015 -    Q1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West Texas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2 2016 -    Q3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D362-384C-4229-B8CB-A400C7BF413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Title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 txBox="1"/>
          <p:nvPr/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rbel"/>
              </a:rPr>
              <a:t>Oncor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100% complete</a:t>
            </a:r>
            <a:r>
              <a:rPr b="1" lang="en-US" sz="47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7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3,262,864 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12.31.2012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9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eployment Plan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29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98D7-D5FB-4A81-8FBC-399207C681E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"/>
          <p:cNvSpPr/>
          <p:nvPr/>
        </p:nvSpPr>
        <p:spPr>
          <a:xfrm>
            <a:off x="609480" y="61214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95400" indent="-182520">
              <a:lnSpc>
                <a:spcPct val="100000"/>
              </a:lnSpc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Deployment Complete as of  12/31/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Title 1" descr=""/>
          <p:cNvPicPr/>
          <p:nvPr/>
        </p:nvPicPr>
        <p:blipFill>
          <a:blip r:embed="rId1"/>
          <a:stretch/>
        </p:blipFill>
        <p:spPr>
          <a:xfrm>
            <a:off x="30492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rbel"/>
              </a:rPr>
              <a:t>CNP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100% complete</a:t>
            </a:r>
            <a:r>
              <a:rPr b="1" lang="en-US" sz="37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en-US" sz="37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500" spc="-1" strike="noStrike">
                <a:solidFill>
                  <a:srgbClr val="ff0000"/>
                </a:solidFill>
                <a:latin typeface="Corbel"/>
              </a:rPr>
              <a:t>2,283,012</a:t>
            </a:r>
            <a:r>
              <a:rPr b="1" lang="en-US" sz="35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07.31.2012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ployment Plan: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756,684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960,327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373,423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164160">
              <a:spcBef>
                <a:spcPts val="825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rbel"/>
              </a:rPr>
              <a:t>Deployment Complete as of  7/31/2012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4CC5-E626-44CF-A26D-4071F0DC625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1446" name="Content Placeholder 2" descr=""/>
          <p:cNvPicPr/>
          <p:nvPr/>
        </p:nvPicPr>
        <p:blipFill>
          <a:blip r:embed="rId2"/>
          <a:stretch/>
        </p:blipFill>
        <p:spPr>
          <a:xfrm>
            <a:off x="304920" y="129852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1447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F11-A0B8-4288-B5E0-34505C94364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8443800">
            <a:off x="6598800" y="3602160"/>
            <a:ext cx="2638440" cy="327960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3515600">
            <a:off x="226080" y="3845520"/>
            <a:ext cx="2867040" cy="35514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2011200">
            <a:off x="6840000" y="900000"/>
            <a:ext cx="2157480" cy="255924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2" descr="C:\Documents and Settings\00015621\Local Settings\Temporary Internet Files\Content.IE5\4H9UELBM\MC900093373[1].wmf"/>
          <p:cNvPicPr/>
          <p:nvPr/>
        </p:nvPicPr>
        <p:blipFill>
          <a:blip r:embed="rId6"/>
          <a:stretch/>
        </p:blipFill>
        <p:spPr>
          <a:xfrm rot="3060600">
            <a:off x="221040" y="792720"/>
            <a:ext cx="1987560" cy="29926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2" descr="C:\Documents and Settings\00015621\Local Settings\Temporary Internet Files\Content.IE5\4H9UELBM\MC900093373[1].wmf"/>
          <p:cNvPicPr/>
          <p:nvPr/>
        </p:nvPicPr>
        <p:blipFill>
          <a:blip r:embed="rId7"/>
          <a:stretch/>
        </p:blipFill>
        <p:spPr>
          <a:xfrm>
            <a:off x="3581280" y="4262400"/>
            <a:ext cx="2401920" cy="255276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2" descr="C:\Documents and Settings\00015621\Local Settings\Temporary Internet Files\Content.IE5\4H9UELBM\MC900093373[1].wmf"/>
          <p:cNvPicPr/>
          <p:nvPr/>
        </p:nvPicPr>
        <p:blipFill>
          <a:blip r:embed="rId8"/>
          <a:stretch/>
        </p:blipFill>
        <p:spPr>
          <a:xfrm rot="10800000">
            <a:off x="3427560" y="1490760"/>
            <a:ext cx="24192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itle 6" descr=""/>
          <p:cNvPicPr/>
          <p:nvPr/>
        </p:nvPicPr>
        <p:blipFill>
          <a:blip r:embed="rId1"/>
          <a:stretch/>
        </p:blipFill>
        <p:spPr>
          <a:xfrm>
            <a:off x="609480" y="231840"/>
            <a:ext cx="8382240" cy="113976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2" descr="C:\Documents and Settings\00015621\Local Settings\Temporary Internet Files\Content.IE5\UZYJAF85\MCj04344110000[1].wmf"/>
          <p:cNvPicPr/>
          <p:nvPr/>
        </p:nvPicPr>
        <p:blipFill>
          <a:blip r:embed="rId2"/>
          <a:stretch/>
        </p:blipFill>
        <p:spPr>
          <a:xfrm>
            <a:off x="1828800" y="190512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14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E9E5-6243-4C7F-8179-D35FC3E252C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0:03:56Z</dcterms:created>
  <dc:creator>00015621</dc:creator>
  <dc:description/>
  <dc:language>en-US</dc:language>
  <cp:lastModifiedBy>Scott, Kathy D.</cp:lastModifiedBy>
  <dcterms:modified xsi:type="dcterms:W3CDTF">2014-02-20T19:31:28Z</dcterms:modified>
  <cp:revision>241</cp:revision>
  <dc:subject/>
  <dc:title>MARS Tas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829819991</vt:lpwstr>
  </property>
</Properties>
</file>