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D7E0-DAA4-4B87-9757-17C09761A0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D6F7-74E4-4471-A9EB-41433FBD4D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84B6-F301-498F-8FDF-439F428D54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DC44-336D-4811-8F43-4C3F57D67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22E7-A0A0-4351-848A-69CF2E42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4A26-6FD5-467D-B58A-4F6DABE60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BC78-1DF0-4949-B2FA-E369E4E0A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0C5B-4DBD-4F92-85A3-2EA6279A0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31FB-BC55-4D8D-8BCF-95FBE285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5DBD-FB7B-401B-95E2-B26B39CB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7E9E-3F6B-4593-BE50-C0C4B308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ADA1-0A5C-43E5-9085-D4B340EF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40B8-C993-4487-9916-7E7876AC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5C3C-FF0F-41A3-A59A-A942432E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291B-BD5C-4B05-A35F-76487A59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B53C-A85C-46F9-994B-2FAE1FD2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27FF-BB91-4B6D-A803-E16D206A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E170-9E83-4284-B17C-924CC348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0DD8-8627-4E13-B0F3-57F0F75C7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BEC9-DDCF-48C8-A66C-F4DBB7D4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F9B27-C268-46EA-BFC4-DDF2FED4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C179D-DD40-45F8-AEE0-4A4DB59D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955B0-1EC5-4C13-9130-FCA7A05C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320A3-6130-4F39-ABDF-153AAB4C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85AFB-A227-45AB-88E1-A3DB2695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6DBF-DB7B-49AF-ABCF-1BA2FCD3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9B06E-6D91-4072-BE5E-1B3F7975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765E1-3F30-4015-8085-113A50E1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ED22F-60A1-4962-A2B8-71E1D79C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D49F8-42C9-4559-B79F-4700AD2C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D56CA-C16A-4464-BFAA-D32BC45E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E4C01-EF90-4473-B40C-124BE9B21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BA04F-696A-488B-9F91-A12062C0F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21DF3-68FD-4187-80C5-136955E9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14CFE-5E40-41E2-B1E6-2DCF04CA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990FA-0497-4130-850C-F2068494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19C2-A0CC-428F-9A08-185E33F7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D4EBD-E1CD-4356-B293-F0B1820C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9E062-A98F-4934-8E5B-DB2C48D5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B2296-1AC2-4F61-A849-AEE75B13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5E7BB-B56B-41F1-BD29-2FB39137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270F3-3459-43EF-B821-09A14C47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F76AC-7254-4089-B157-8C464C7C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86AF0-5A62-4999-B404-AC3CE671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34330-2FA0-418C-960D-EA5EE5053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0D674-4984-4C9E-98FC-FE0F5CEF0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4EE46-CA26-47C7-96FC-04FA8B34C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6DA6-E39A-4861-8F17-3432560D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BDCDD-2BBE-4CEE-998B-BE98FCC4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98D98-ABD7-4D61-BD92-D8BA8E0F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52C7B-AC37-43FB-B177-D320719A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E1900-1765-4537-85EB-4183A7D0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77CDC-5AF8-49A1-9673-3DD8FD05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E463C-C02B-4DE7-AB50-6BD2321C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AC7FC-2E7E-4FAD-B802-71DF0F73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809C4-E845-4DBE-B86C-E3D7AA5C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9042D-8910-41F0-A140-5BCECB1A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C9C65-D60D-431B-A132-345069F73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6B9F-27DE-494B-8560-6BE52828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39533-82CE-4607-AB4D-317209D32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F028-D844-41BC-B130-C5A07E0B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FC3B-D2DD-4496-A2F1-ED0DA571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4441-53EE-4AB6-B4DB-95BEBD5F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C61C-569F-4C77-A747-B0F37E198DBD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DC43-AE4E-497C-91C9-A0D49999D04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437E-4D3B-40E0-BE17-E8CBC84A4179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C281-438D-4ADE-9935-8447C480B05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5D7C-E9A7-4D2E-B980-145C95F6837D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3E61-797D-4C89-9AB2-FBB05533E77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93C8-B522-43BC-ADB1-EDA76EEAB647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75BE-C25C-463B-A8B3-CDC242C385D7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0F0D-19B6-4A5A-A093-90BFC837B0D7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218B-1BD5-481E-9D6C-1BE2E5FF79B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s/board/tac/rms/sttf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rcot.webex.com/" TargetMode="External"/><Relationship Id="rId2" Type="http://schemas.openxmlformats.org/officeDocument/2006/relationships/hyperlink" Target="http://ercot.webex.com/" TargetMode="External"/><Relationship Id="rId3" Type="http://schemas.openxmlformats.org/officeDocument/2006/relationships/hyperlink" Target="http://ercot.webex.com/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HARYLAND TRANSI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TASKFORCE (STTF) UPDA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171840" y="5791320"/>
            <a:ext cx="2590920" cy="48096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anklin Gothic Book"/>
                <a:ea typeface="Tunga"/>
              </a:rPr>
              <a:t>UPDATE TO RMS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anklin Gothic Book"/>
                <a:ea typeface="Tunga"/>
              </a:rPr>
              <a:t>MARCH 4, 2014 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9D8D-A0A0-4A36-B62C-97A1F47C2B8D}" type="slidenum"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151920" y="7632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95640" indent="-38664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ranklin Gothic Book"/>
              </a:rPr>
              <a:t>Transition Progress Report: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735480" indent="-33948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PUCT approved Sharyland Utilities’ Standard Tariff effective  5/1/14 for production go-liv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735480" indent="-33948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r Sharyland Service territory CR offers have started to appear on the PUCT Power to Choose websit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735480" indent="-33948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As of February 13, 2014: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0320" indent="-1713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haryland had successfully scheduled 255 MVIs.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0320" indent="-1713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haryland continued to have a number of MVIs submitted for times other than the May Monthly Meter Read  (MMR) Cycle, for example some MVIs are being submitted for February. 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All MVIs must have a valid MMR cycle read date in May.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0320" indent="-1713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NOTE: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 May Cycles 1 &amp; 2 are actually in April.  Therefore, Cycles 1 &amp; 2, CRs will need to submit their cycle readings for a late May MMR Cycle.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735480" indent="-33948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735480" indent="-33948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95640" indent="-38664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CBDF-23EB-4BE5-B78C-0209D7925FA8}" type="slidenum"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228240" y="1519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2" marL="377640" indent="-15372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Sharyland Utilities (SU) Market activities: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592200" indent="-15372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CR Workshop held on February 18-19, 2014 was well attended by Market Participants and ERCOT.  A lot of questions about Sharyland Transition Project and new SU Tariff revealed there is a lot of market interest.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592200" indent="-15372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592200" indent="-15372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Educational Public Forum Meetings scheduled: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07120" indent="-16272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U mailed Public Notice on January 30, 2014 to their current customers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07120" indent="-16272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PUCT Staff will be in attendance along with 8 CRs that have reserved a booth for the following meeting dates/times and locations: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07120" indent="-16272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February 24, 2014 – Stanton               3:30 PM – 7:30 PM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07120" indent="-16272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February 25, 2014 – Colorado City      3:30 PM – 7:30 PM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07120" indent="-16272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February 27, 2014 – Brady                   3:30 PM – 7:30 PM   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07120" indent="-16272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arch 3, 2014 – Midland                      3:30 PM – 7:30 PM  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07120" indent="-16272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arch 6, 2014 – Celeste                       3:30 PM – 7:30 PM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07120" indent="-16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592200" indent="-153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77640" indent="-15372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07120" indent="-16272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DC8C-AA2F-4C8C-B963-EE024F2F4332}" type="slidenum"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22240" y="609480"/>
            <a:ext cx="78645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267120" indent="-25992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STTF will continue to provide updates to our Frequently Asked Questions (FAQs) narrative.  February 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Franklin Gothic Book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 updates: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573480" indent="-14904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How actual NEW Move-Ins will be handled during the go-live transition period?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781560" indent="-15732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SU Response: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781560" indent="-15732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If new MVI – Last Name should be different than that of current customer on file with SU if energized – SU representatives will contact CR via telephone  to ensure New MVI Customer and Date of Meter Readin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781560" indent="-15732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New MVI requiring Permit – SU representatives will contact CR via telephon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573480" indent="-14904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How Lite-Up Customers will be handled by SU?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781560" indent="-15732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SU Response:  SU will apply the same practice as all other TDSPs in Competitive Market. 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781560" indent="-15732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75200" indent="-25992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Key Documents and FAQs for this project are located on </a:t>
            </a:r>
            <a:r>
              <a:rPr b="1" i="1" lang="en-US" sz="1800" spc="-1" strike="noStrike">
                <a:solidFill>
                  <a:srgbClr val="000000"/>
                </a:solidFill>
                <a:latin typeface="Franklin Gothic Book"/>
              </a:rPr>
              <a:t>ERCOT.com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573480" indent="-14904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Franklin Gothic Book"/>
              </a:rPr>
              <a:t>Sharyland Transition Taskforce  (STTF) </a:t>
            </a:r>
            <a:r>
              <a:rPr b="1" lang="en-US" sz="1800" spc="-1" strike="noStrike">
                <a:solidFill>
                  <a:srgbClr val="ff0000"/>
                </a:solidFill>
                <a:latin typeface="Franklin Gothic Book"/>
              </a:rPr>
              <a:t>main page under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781560" indent="-15732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Franklin Gothic Book"/>
              </a:rPr>
              <a:t>Key Documents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:  </a:t>
            </a:r>
            <a:r>
              <a:rPr b="0" lang="en-US" sz="1800" spc="-1" strike="noStrike" u="sng">
                <a:solidFill>
                  <a:srgbClr val="5f5f5f"/>
                </a:solidFill>
                <a:uFillTx/>
                <a:latin typeface="Franklin Gothic Book"/>
                <a:hlinkClick r:id="rId1"/>
              </a:rPr>
              <a:t>http://www.ercot.com/committees/board/tac/rms/sttf/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781560" indent="-15732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267120" indent="-259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D6F2-682E-4A5E-80D0-001A19B66340}" type="slidenum"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160" y="3049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93760" indent="-28584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Next STTF Meeting: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522360" indent="-28584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Today  following  RMS (March 4, 2014) :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979560" indent="-28584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1:00 PM – 4:00 PM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t ERCOT Met Center Conference Room 206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979560" indent="-28584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979560" indent="-28584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WebEx  Reserved :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979560" indent="-28584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f5f5f"/>
                </a:solidFill>
                <a:uFillTx/>
                <a:latin typeface="Franklin Gothic Book"/>
                <a:hlinkClick r:id="rId1"/>
              </a:rPr>
              <a:t> </a:t>
            </a:r>
            <a:r>
              <a:rPr b="0" lang="en-US" sz="1800" spc="-1" strike="noStrike" u="sng">
                <a:solidFill>
                  <a:srgbClr val="5f5f5f"/>
                </a:solidFill>
                <a:uFillTx/>
                <a:latin typeface="Franklin Gothic Book"/>
                <a:hlinkClick r:id="rId2"/>
              </a:rPr>
              <a:t>http</a:t>
            </a:r>
            <a:r>
              <a:rPr b="0" lang="en-US" sz="1800" spc="-1" strike="noStrike" u="sng">
                <a:solidFill>
                  <a:srgbClr val="5f5f5f"/>
                </a:solidFill>
                <a:uFillTx/>
                <a:latin typeface="Franklin Gothic Book"/>
                <a:hlinkClick r:id="rId3"/>
              </a:rPr>
              <a:t>://ercot.webex.com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979560" indent="-28584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Meeting Number:   653 206 970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979560" indent="-28584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Meeting Password:  Sttf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979560" indent="-28584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udio Dial-In: 1.877.668.4493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979560" indent="-28584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FC80-2CB5-45B4-BFC5-0B90B8FF2CF6}" type="slidenum"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4" name="Picture 5" descr="MCj04344110000[1]"/>
          <p:cNvPicPr/>
          <p:nvPr/>
        </p:nvPicPr>
        <p:blipFill>
          <a:blip r:embed="rId1"/>
          <a:stretch/>
        </p:blipFill>
        <p:spPr>
          <a:xfrm>
            <a:off x="2057400" y="838080"/>
            <a:ext cx="5029200" cy="4038840"/>
          </a:xfrm>
          <a:prstGeom prst="rect">
            <a:avLst/>
          </a:prstGeom>
          <a:ln w="0">
            <a:noFill/>
          </a:ln>
        </p:spPr>
      </p:pic>
      <p:sp>
        <p:nvSpPr>
          <p:cNvPr id="235" name="Slide Number Placeholder 2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3AC5-FB27-41D9-A546-80F482964D99}" type="slidenum"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8T15:54:21Z</dcterms:created>
  <dc:creator>00015621</dc:creator>
  <dc:description/>
  <dc:language>en-US</dc:language>
  <cp:lastModifiedBy>Scott, Kathy D.</cp:lastModifiedBy>
  <dcterms:modified xsi:type="dcterms:W3CDTF">2014-02-21T20:53:32Z</dcterms:modified>
  <cp:revision>150</cp:revision>
  <dc:subject/>
  <dc:title>Sharyland Transition Taskforce (STTF)</dc:title>
</cp:coreProperties>
</file>