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10FC-FAB4-455E-B22E-1E6F7D01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7BBD-E23D-4F3C-AEC9-B8AB897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0DA8-0C55-40EB-8A74-DFCA0C16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96B0-36C9-43CC-80DC-D373A411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18DD-E7D9-4A62-B4F7-D6025E3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6686-42A4-4A9F-8EBB-8987C850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07A5-5ECF-4D79-AF1B-48EB635C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55B4-F8ED-488E-BD82-95C7EDE6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4C1F-9A07-4BBD-B62E-6EED0691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9FBD-1BA4-49F2-8086-EB51362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56F0-C1AD-4D80-8991-CF60D27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258-FB54-45BF-B0A3-CBBED402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7DB3-596C-4FE0-9DA3-A43D8DBF2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D1E-405C-4CB3-B98F-61E428E50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FEBRUARY 2014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2/27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ny Marsh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 LEAD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ika Basaran, Austin Energy  (Municipal) 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y Marsh, MAMO Enterprises (IPM)  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32220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DISCUSSION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70 Reduce RTM Settlement Timelin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ported that they did not observe any impact on their processes and everything is going smoothly on their side with phase 1, OD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PS member raised any significant issue on their side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Ps noticed slight increase in the use of profiles in their data however did not qua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ata for OD + 6 not available yet to 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continues to monitor market wide data comparing Initial and final settlement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have this topic as an agenda item in its March 17 meeting and will make a final recommendation to TAC for phase 2 ,OD+5 days, at March TA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DISCUSSION ITEM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92 Meter Repair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ign meter data submittal process better with NPRR 570 RTM OD +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epair time notice from 12 hrs to 6 hours for T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rsed by MWG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GR014 also submitted and in the stakehold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language to submit estimated data when EPS data is not available for generation and 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OPS members encouraged to follow SMOGR014 in their shop since it may impact data used in their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&amp; CSWG MEETING IS ON  MARCH17, MONDAY,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: 9:3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1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4-02-25T21:29:03Z</dcterms:modified>
  <cp:revision>879</cp:revision>
  <dc:subject/>
  <dc:title>Instructions</dc:title>
</cp:coreProperties>
</file>