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B9FB-425C-4D6E-9251-7014B5C7F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FEB5-815F-4D0D-B0B6-663EE6B15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CB9D-1C9A-4CB8-9885-BB4A27818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4E87-67E0-43A4-B192-B5C60370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15DF-C8B2-484F-83C0-87E2D566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FA89-88A6-4659-8BE3-A4602931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81D4-DA8E-4727-A227-1AB44287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702B-7C53-4DE6-8654-FB6A4137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7886-806E-447E-B73B-499DB1BA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3FAA-3724-4D32-AD95-BA3A7582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74A5-71F6-46D0-8D6D-3EC366C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091C-2A76-41C7-8EFA-4FB00CA8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36F2-F921-4C50-A2C7-D13AE234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1EF4-78B4-4251-B2A2-F527A98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3934-650B-4E24-953D-1183A70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EB4F-252C-4619-8953-B52D7CD9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1E8C-F1E8-4005-8214-5D2090773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50C1-5D21-4139-B16E-6AD6F19B9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96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"/>
          <p:cNvSpPr/>
          <p:nvPr/>
        </p:nvSpPr>
        <p:spPr>
          <a:xfrm>
            <a:off x="1382760" y="2262240"/>
            <a:ext cx="5850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WG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rell Sum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5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280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s to prior Meter Working Group leadership for 7 years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tie Disanto - S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Rollins - LC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 59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for WMS to provide comments as recommended by the MWG and endorse NPRR 592, with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WG update to WMS – February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280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51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Groups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et of MWG discussing items for future consideration by the M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51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ng of current transformer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clarity in the Settlement Metering Operating Guide language for determining connected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excel worksheet to support the calculation of connected burden when the metering configuration utilizes parallel current transform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51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potential event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clarity in the Settlement Metering Operating Guide language for the threshold that would trigger this event for consistent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of concept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dentifying a one to one relationship between EPS meters and a telemetry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51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estimation for settlements if data from an EPS meter is 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WG update to WMS – February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Tucker, Donald</cp:lastModifiedBy>
  <cp:lastPrinted>2014-01-30T14:56:04Z</cp:lastPrinted>
  <dcterms:modified xsi:type="dcterms:W3CDTF">2014-01-30T17:25:36Z</dcterms:modified>
  <cp:revision>90</cp:revision>
  <dc:subject/>
  <dc:title>Instructions</dc:title>
</cp:coreProperties>
</file>