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AA56-21BA-4FA3-93E6-58BD4FD8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6DC4-28C4-42FB-BEB9-3A3220E0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E0C1-4561-4F27-B736-4E00356F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5C49-B5E5-42A0-993D-E220C818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ED51-4AE5-4E8D-A1B6-8B0F746C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BCE5-A8B3-454A-953C-9F9C4ED7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C2E3-E960-44EE-8127-71A47D3E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612E-AA0E-4AB8-A2BA-2127CA77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DBBC-84CC-44D0-B172-EDDCAD48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4A9A-A385-472D-B266-7383E1A6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7C3A-3497-4A8A-89D1-5A38A1F1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A462-D089-4E34-B397-09AC272F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8AD0-A7ED-42B2-9CCA-E21E45B52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80E7-3E9C-46B7-A3C1-860F72DCD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2803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gestion Management Working Group (CM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: Marguerite Wagner, Edison Mission / Vice Chair: Kris Dixit, EDF Tr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and Side Working Group (DS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: Tim Carter, Constellation / Vice Chair: Suzanne Bertin, EnerN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erging Technologies Working Group (ET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: Chad Blevins, The Butler Firm / Vice Chair: Hugo Mena, EPE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ion Adequacy Task Force (GAT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: Brandon Whittle, Stratu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 Credit Working Group (MC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: Lorretto Martin, LCRA / Vice Chair: Josephine Wan, Austi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ering Working Group (M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: Darrell Sumbera, CenterPoint Energy/ Vice Chair:  Harvey Scheffler, CP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 Scheduling Entity Managers Working Group (QM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: Sherry Looney, Luminant / Vice Ch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urce Adequacy Task Force (RAT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: / Vice Ch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urce Cost Working Group (RC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: Paul Vinson, CPS Energy  /  Vice Chair: Jim Galvin, L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4 WMS Working Group/Task Force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Albracht, Brittney</cp:lastModifiedBy>
  <dcterms:modified xsi:type="dcterms:W3CDTF">2014-01-29T19:02:24Z</dcterms:modified>
  <cp:revision>82</cp:revision>
  <dc:subject/>
  <dc:title>Instructions</dc:title>
</cp:coreProperties>
</file>