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BBD-9527-425F-A115-299081A9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BEE-02E1-4E10-8635-8250E74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BD3-1A57-469F-8757-F27F1397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0D8-24ED-43EB-9850-A174C505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A2E-994A-45A9-90F0-E711BF6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94A-D9D0-43B8-8311-DE9AD65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A7C9-310D-4D81-B757-9840E251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ADF3-BA33-490D-A441-6E6CF6F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C334-AE61-4DEA-ADBF-4CF0131E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317-1D07-48D7-8267-F8A05129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D06-0D86-47CA-B5B5-D37A2DB7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4B9-D5EF-476F-B080-1388D881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80C-482F-4818-B33D-905519BE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5E9-796C-4000-B141-EEA736A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DC97-DB6B-49FF-BB4B-7E14D9CD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6F0-A39F-4021-A704-48A6E4EC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53B6-3DE8-4FCE-86CE-20E72EF9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B50-E091-4242-AC79-EF460D2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FBD-3B87-406E-8B36-D3229C0A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4F7-0641-4695-B63B-D4C93D9D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34F-0A47-4EE2-8C7E-EC3437D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4AC-9076-4B6D-B0B3-60BEAECE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9B6-5A2F-42AA-B9E7-59F82BD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DD1-642D-478F-BEC0-CD5A257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89C9-FE30-48B7-9FF8-CD63F2C1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455D-7933-4B1B-A38C-A2EAF57D27C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CWG Update to W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bruary 5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EBBF-C019-4CFD-BED7-6C4227613D1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 Updat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da Items for 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d Offer Caps (M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ick Start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Au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838-8697-48AB-9DA2-178A1642BDF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igated Offer C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guidance:  Do we need two separate MOCs for Quick Start Resources and Resources employing power augmentation techniq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ick Start Resources – min energy and startup included in MOC. Do we need a second MOC when the resource is not operating as a quick start un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 with power augmentation – Do we need a second MOC when resources are employing power augment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two MOCs for the applicable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Quick Starts, ERCOT will select the MOC based on resource mode (quick start or no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Resources with power augmentation, QSE representing the Resource would telemeter a flag to indicate if it is operating with or without power augmentation. ERCOT would select the applicable MOC based on the fl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351-7569-4DA1-99EF-9D95BADEF02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4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guidance: Do we need to develop cost estimat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in 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722-7A51-4CFE-B1A3-1F8A7C606B7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20:14:57Z</dcterms:created>
  <dc:creator>jbevill</dc:creator>
  <dc:description/>
  <dc:language>en-US</dc:language>
  <cp:lastModifiedBy>ptvinson</cp:lastModifiedBy>
  <cp:lastPrinted>2013-07-08T13:44:23Z</cp:lastPrinted>
  <dcterms:modified xsi:type="dcterms:W3CDTF">2014-01-31T15:05:51Z</dcterms:modified>
  <cp:revision>173</cp:revision>
  <dc:subject/>
  <dc:title>Slide 1</dc:title>
</cp:coreProperties>
</file>