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348B-9458-4983-802D-603855795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40A5-3160-4F10-9289-B6C3C67E1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772040" y="6514920"/>
            <a:ext cx="121932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vember 7,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7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66920"/>
            <a:ext cx="73627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pd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568 /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l-Time Reserve Price Adder Based on Operating Reserve Demand Curve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371600" y="4140360"/>
            <a:ext cx="6400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 Robinson,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uary 28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PRR568 Project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762120"/>
            <a:ext cx="86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– April 20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Unde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of Test Plans and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- May 20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nternal Te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Readiness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7772400" y="6515280"/>
            <a:ext cx="1219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2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uary 28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-23760" y="685800"/>
            <a:ext cx="91724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bee, Nathan</dc:creator>
  <dc:description/>
  <dc:language>en-US</dc:language>
  <cp:lastModifiedBy>Robinson, Jeff</cp:lastModifiedBy>
  <dcterms:modified xsi:type="dcterms:W3CDTF">2014-01-22T15:50:13Z</dcterms:modified>
  <cp:revision>479</cp:revision>
  <dc:subject/>
  <dc:title>Instructions</dc:title>
</cp:coreProperties>
</file>