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B469-0A1C-4E3D-9A9B-6FC6F36B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96DB-609A-48FD-B6EC-9EFA76E3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E48A-53FD-4EA2-83D3-3EB9F115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37F5-8A42-456B-A18D-CD61DBE1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72D2-D0AE-4DF3-8A54-8F34979B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FB23-5DA1-4357-9C3C-E02DB7CE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D80B-A45D-41C2-B2B6-24374094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48FB-4AF2-466B-B7B5-A509A87F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A055-AF53-4BF3-B96B-062BBD7C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E132-F4EE-48E8-B111-83A076F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84E4-9DA3-4880-9004-9E5603F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E166-D601-465C-87A1-1D1C747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17A5-4DE4-4986-8CF3-6D05E663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342C-5119-48CA-863B-0484389B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28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Revision Subcommittee (P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John Varnell, Tenaska Pow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Chris Lyons, Exel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 Market Subcommittee (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Kathy Scott, CenterPoin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Rob Bevill, Reliant Energy Power Supp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Bill Hatfield, Lower Colorado River Auth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Dana Showalter, E.ON Climate and Renew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sale Market Subcommittee (W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Seth Cochran, DC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Bob Helton, GDF Suez Energy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hair: TBD - February 12, 2014 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ice Chair: TBD - February 12, 2014 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15080" y="1522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4 TAC Subcommitte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Albracht, Brittney</cp:lastModifiedBy>
  <dcterms:modified xsi:type="dcterms:W3CDTF">2014-01-21T20:52:46Z</dcterms:modified>
  <cp:revision>74</cp:revision>
  <dc:subject/>
  <dc:title>Instructions</dc:title>
</cp:coreProperties>
</file>