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E563D-3295-4559-BD33-3817BC26B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FC27F-9655-4627-BE93-17090CAB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2BAF7-FF2F-466B-9533-A6CD71FE5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97BD4-374F-44C0-A077-2B1F7DE45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B3F66-E717-43CB-9815-FE066D98E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15D25-66CC-4269-9F62-CB108B5AD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0E5FF-3A35-4436-8983-200A85A2D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1D2D2-0B45-4BCE-9497-7D288F6A6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F967F-1DC1-487B-ADFB-3CBD4F419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4BB5F-D659-42AA-AE28-03F92682A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E0DB5-543B-4C09-8887-F4C8EF1B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2626-1802-41BE-AFA2-E86F273F0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27614-9FD6-40B4-87EB-F2C80033A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21BC9-23B0-44B9-9E58-A97ABD1E4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A2A11-B62B-4B2D-88A1-5A57A4527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40583-9B3B-44FC-B435-8DFE0FCA4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1B943-1E42-48E5-8D5D-668705D1F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0CA45-A2E3-4DBE-8C27-DE37A49F8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F8AF-CFB7-48E3-A040-7FE80A5CC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92CF2-B613-4847-AAE7-6702F544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99DE-9061-4339-8B31-808556C4D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6408-52CD-477F-9572-56E7A95A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5639D-30D3-4534-8330-63B5E398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383D-9964-4421-8D03-5FE3C712B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3108-72EB-4248-8084-75AF60E89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6ABF-4081-4C1E-86D7-EB0E66F0C75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CWG Update to WMS</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ember 11, 2013</a:t>
            </a:r>
            <a:endParaRPr b="0" lang="en-US" sz="3000" spc="-1" strike="noStrike">
              <a:solidFill>
                <a:srgbClr val="000000"/>
              </a:solidFill>
              <a:latin typeface="Arial"/>
            </a:endParaRPr>
          </a:p>
        </p:txBody>
      </p:sp>
      <p:sp>
        <p:nvSpPr>
          <p:cNvPr id="92" name="Slide Number Placeholder 1"/>
          <p:cNvSpPr/>
          <p:nvPr/>
        </p:nvSpPr>
        <p:spPr>
          <a:xfrm>
            <a:off x="2209680" y="6248520"/>
            <a:ext cx="12193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2242-B57D-43CB-AF27-13E753FF958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eneral Update</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94" name="PlaceHolder 2"/>
          <p:cNvSpPr>
            <a:spLocks noGrp="1"/>
          </p:cNvSpPr>
          <p:nvPr>
            <p:ph/>
          </p:nvPr>
        </p:nvSpPr>
        <p:spPr>
          <a:xfrm>
            <a:off x="1371240" y="2133360"/>
            <a:ext cx="7010280" cy="144756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 Items for Today:</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der NPRR 485-(vo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 of RCWG</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7686-1537-473E-8C1E-E242DFDBD13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97" name="PlaceHolder 2"/>
          <p:cNvSpPr>
            <a:spLocks noGrp="1"/>
          </p:cNvSpPr>
          <p:nvPr>
            <p:ph/>
          </p:nvPr>
        </p:nvSpPr>
        <p:spPr>
          <a:xfrm>
            <a:off x="837720" y="2361960"/>
            <a:ext cx="7620120" cy="3429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guidance:  Mitigated fuel costs are intended to allow resources to be compensated for its total fuel cost, through a 12 month rolling average, updated and reviewed by ERCOT staff quarterly</a:t>
            </a: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MRR-01 has been developed to incorporate procedure to include fuel adder.</a:t>
            </a: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discussed and incorporated at RCWG:</a:t>
            </a:r>
            <a:endParaRPr b="0" lang="en-US" sz="18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fuel adder is established, the Resource Entity cannot switch back to the generic 50 cents. </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otal fuel price” means total volumes purchased, not the burn volumes and not the net of sales.</a:t>
            </a:r>
            <a:endParaRPr b="0" lang="en-US" sz="16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1986-A693-460F-87E5-994BAB88CF9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100" name="PlaceHolder 2"/>
          <p:cNvSpPr>
            <a:spLocks noGrp="1"/>
          </p:cNvSpPr>
          <p:nvPr>
            <p:ph/>
          </p:nvPr>
        </p:nvSpPr>
        <p:spPr>
          <a:xfrm>
            <a:off x="762120" y="1371240"/>
            <a:ext cx="7619760" cy="52578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8600-17D2-4AF8-8512-24E271D51DC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graphicFrame>
        <p:nvGraphicFramePr>
          <p:cNvPr id="102" name=""/>
          <p:cNvGraphicFramePr/>
          <p:nvPr/>
        </p:nvGraphicFramePr>
        <p:xfrm>
          <a:off x="990720" y="2133720"/>
          <a:ext cx="7010280" cy="3840120"/>
        </p:xfrm>
        <a:graphic>
          <a:graphicData uri="http://schemas.openxmlformats.org/drawingml/2006/table">
            <a:tbl>
              <a:tblPr/>
              <a:tblGrid>
                <a:gridCol w="7010280"/>
              </a:tblGrid>
              <a:tr h="384012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place paragraph above upon implementation of NPRR 485</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Filing Entities may elect to submit an actual fuel adder ($/MMBtu) for each Resource for verification by ERCOT.  For any Filing Entity that submits actual verifiable costs the fuel adder will default to $0.50/MMBtu until the Filing Entity establishes an actual fuel adder in those verifiable costs and the Filing Entity </a:t>
                      </a:r>
                      <a:r>
                        <a:rPr b="0" lang="en-US" sz="1200" spc="-1" strike="noStrike">
                          <a:solidFill>
                            <a:srgbClr val="ff0000"/>
                          </a:solidFill>
                          <a:latin typeface="Arial"/>
                        </a:rPr>
                        <a:t>must continue to provide actual fuel cost as prescribed in section B below</a:t>
                      </a:r>
                      <a:r>
                        <a:rPr b="0" lang="en-US" sz="1200" spc="-1" strike="noStrike">
                          <a:solidFill>
                            <a:srgbClr val="336666"/>
                          </a:solidFill>
                          <a:latin typeface="Arial"/>
                        </a:rPr>
                        <a:t>.  The fuel adder  is included in the value of X (VOX) as described in Appendix 6, Calculation and Application of Proxy Heat Rate and the Value of X.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  Any Filling Entity that submits an actual fuel adder, on a seasonal basis, must provide documentation that establishes the historical costs for fuel, including transportation, spot fuel, and any additional verifiable cost associated with fuel contracts that can be easily differentiated from the standard commodity cost of fuel and clearly attributable to the Resource for the period.  The fuel adder for a rolling 12-month period is the difference between the Filing Entity’s average fuel price paid (including all fees) during the period and FIP.  The Filing Entity shall provide rolling 12-month supporting data to verify </a:t>
                      </a:r>
                      <a:r>
                        <a:rPr b="0" lang="en-US" sz="1200" spc="-1" strike="noStrike">
                          <a:solidFill>
                            <a:srgbClr val="ff0000"/>
                          </a:solidFill>
                          <a:latin typeface="Arial"/>
                        </a:rPr>
                        <a:t>total fuel price for all purchased volumes to support the actual Resource fuel consumption.</a:t>
                      </a:r>
                      <a:r>
                        <a:rPr b="0" lang="en-US" sz="1200" spc="-1" strike="noStrike">
                          <a:solidFill>
                            <a:srgbClr val="336666"/>
                          </a:solidFill>
                          <a:latin typeface="Arial"/>
                        </a:rPr>
                        <a:t>  Data to support these costs should include, but are not limited to, accounting ledger entries, invoices, and copies of fuel contracts.  In addition, the actual costs used to calculate the fuel adder may include, but are not limited to, the following categories: transportation, deliveries, storage, injection, withdrawal, imbalance, and minimum requirements fees.  Other costs not described herein may be included and approved by ERCOT.</a:t>
                      </a:r>
                      <a:endParaRPr b="0" lang="en-US" sz="1200" spc="-1" strike="noStrike">
                        <a:solidFill>
                          <a:srgbClr val="336666"/>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20:14:57Z</dcterms:created>
  <dc:creator>jbevill</dc:creator>
  <dc:description/>
  <dc:language>en-US</dc:language>
  <cp:lastModifiedBy>Setup</cp:lastModifiedBy>
  <cp:lastPrinted>2013-07-08T13:44:23Z</cp:lastPrinted>
  <dcterms:modified xsi:type="dcterms:W3CDTF">2013-12-04T22:17:36Z</dcterms:modified>
  <cp:revision>144</cp:revision>
  <dc:subject/>
  <dc:title>Slide 1</dc:title>
</cp:coreProperties>
</file>